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A1E-3843-43FC-9A68-4C8C584D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887-57AC-447D-B6FD-4CB1CDF9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BCD-AFE0-4FF9-BC8C-6044E443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50B-DFE2-47B6-992E-6BE020FE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F54-F425-43F7-911B-F5DB10C1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3BA-710C-468B-BA46-66AFED41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D0A-CA5A-402C-A0B0-E530AE0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ABE-1C82-4B41-9BB9-D546357C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762-9DDA-43C4-9E1E-94CB27D2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D3B-6CAD-4A9B-8DE7-5E78E263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50A-2A58-4FE2-AB25-3675030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8A5-2944-4500-B5D8-7E659859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A5E2-1799-4B00-835F-9AF13D684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Курить – здоровью вредить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95200" y="907560"/>
            <a:ext cx="52484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258920" y="4221000"/>
            <a:ext cx="5248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30560" y="4149720"/>
            <a:ext cx="691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Здоровье – не всё, но всё бе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здоровья ничто. Сок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ассивное ку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3754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детей из семей, где родители курят дома, чаще болеют в раннем детстве, пропускают школу и вообще получают меньший запас здоровья на будущую жи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ение родителей на 20-80% увеличивает риск заболевания дыхательной системы, тормозит рост легких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пассив курение"/>
          <p:cNvPicPr/>
          <p:nvPr/>
        </p:nvPicPr>
        <p:blipFill>
          <a:blip r:embed="rId1"/>
          <a:stretch/>
        </p:blipFill>
        <p:spPr>
          <a:xfrm>
            <a:off x="4500720" y="476280"/>
            <a:ext cx="48654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курить – плох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не курить – хорош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не курить"/>
          <p:cNvPicPr/>
          <p:nvPr/>
        </p:nvPicPr>
        <p:blipFill>
          <a:blip r:embed="rId1"/>
          <a:stretch/>
        </p:blipFill>
        <p:spPr>
          <a:xfrm>
            <a:off x="6227640" y="76500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ИМПТОМЫ ПРИ ОТРАВЛЕНИИ НИКОТИНО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6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шн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люновы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дление пуль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руднение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жение зра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лодеют кон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тройства сл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тройства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доро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KurenieVred"/>
          <p:cNvPicPr/>
          <p:nvPr/>
        </p:nvPicPr>
        <p:blipFill>
          <a:blip r:embed="rId1"/>
          <a:stretch/>
        </p:blipFill>
        <p:spPr>
          <a:xfrm>
            <a:off x="6473880" y="1700280"/>
            <a:ext cx="26701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СЛЕ ПАРАЛИЧА ДЫХАНИЯ И ОСТАНОВКИ СЕРДЦА  НАСТУПАЕТ 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СМЕР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nn01"/>
          <p:cNvPicPr/>
          <p:nvPr/>
        </p:nvPicPr>
        <p:blipFill>
          <a:blip r:embed="rId1"/>
          <a:stretch/>
        </p:blipFill>
        <p:spPr>
          <a:xfrm>
            <a:off x="1619280" y="2214720"/>
            <a:ext cx="6192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ffffff"/>
                </a:solidFill>
                <a:latin typeface="Times New Roman"/>
              </a:rPr>
              <a:t>Курящая во время беременности женщина подвергает  своего ребёнка смертельной опасност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746150_20050411155437"/>
          <p:cNvPicPr/>
          <p:nvPr/>
        </p:nvPicPr>
        <p:blipFill>
          <a:blip r:embed="rId1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 выбираю жизнь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55614"/>
          <p:cNvPicPr/>
          <p:nvPr/>
        </p:nvPicPr>
        <p:blipFill>
          <a:blip r:embed="rId1"/>
          <a:stretch/>
        </p:blipFill>
        <p:spPr>
          <a:xfrm>
            <a:off x="971640" y="2009880"/>
            <a:ext cx="72723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роха-сын пришел к отцу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И спросила кроха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- Если я курить начну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Это очень плох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.А. Оганова «Кроха-сын и отец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395280" y="189000"/>
          <a:ext cx="154296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15429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0"/>
            <a:ext cx="835164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от некоторые заболевания, наиболее характерные для табакокурения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в бронхах - хронический бронхит курильщик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слизистая оболочка пищевода истончена, повышенно раним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в желудке - хронический гастрит курильщика или язв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слизистая оболочка толстого кишечника тоже изменена, нарушена его моторика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мелкие артерии, артериолы - повышенно возбудимы, склонны к спазмам...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расстроена работа потовых 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альных желёз кожи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волосы истончены, секутся 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ыпадают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и др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5580000" y="4757760"/>
          <a:ext cx="356400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4757760"/>
                    <a:ext cx="35640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Бросить курить легко - я сам 100 раз бросал" (Марк Тве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12 годам сигареты пробуют уже 30% россиян, к 13 годам - 47%, к 14 - 55%, к 15 - 65%, к 16 - 78%, к 17 - 8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ою первую сигарету мальчики выкуривают в возрасте до 10 лет, девочки - в 13-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15 годам каждый десятый курящий подросток уже стра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овой зависим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ag170205-smoke"/>
          <p:cNvPicPr/>
          <p:nvPr/>
        </p:nvPicPr>
        <p:blipFill>
          <a:blip r:embed="rId1"/>
          <a:stretch/>
        </p:blipFill>
        <p:spPr>
          <a:xfrm>
            <a:off x="6443640" y="4824360"/>
            <a:ext cx="27003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 мнению меди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сигарета сокращает жизнь на 15 м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пачка сигарет – на 5 ч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т, кто курит 1 год, теряет 3 месяца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курит 4 года – теряет 1 год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курит 20 лет – 5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курит 40 лет – 10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25784_3"/>
          <p:cNvPicPr/>
          <p:nvPr/>
        </p:nvPicPr>
        <p:blipFill>
          <a:blip r:embed="rId1"/>
          <a:stretch/>
        </p:blipFill>
        <p:spPr>
          <a:xfrm>
            <a:off x="5940360" y="4416480"/>
            <a:ext cx="32036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9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рязнённость табачного дыма значительно выше – в 4,25 раза- загрязнённости выхлопных газов автомобил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248 раз - отработанного газа кухонной горелки, более чем в 1000(!) раз выдыхаемого человеком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куривании пачки сигарет в день курильщики фактически дышат воздухом, загрязнённость которого в 600-1200 раз превы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апля никотина убивает таракана"/>
          <p:cNvPicPr/>
          <p:nvPr/>
        </p:nvPicPr>
        <p:blipFill>
          <a:blip r:embed="rId1"/>
          <a:stretch/>
        </p:blipFill>
        <p:spPr>
          <a:xfrm>
            <a:off x="5435640" y="4038480"/>
            <a:ext cx="3708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е курят около 50% мужчин и 25% женщин. Под влиянием этого фактора в силе устоять только 1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ие считают курение привычкой, полагая, что это только вопрос волевого усилия. Курение это не прост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ычка, а такж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ённая форм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котической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41014"/>
          <p:cNvPicPr/>
          <p:nvPr/>
        </p:nvPicPr>
        <p:blipFill>
          <a:blip r:embed="rId1"/>
          <a:stretch/>
        </p:blipFill>
        <p:spPr>
          <a:xfrm>
            <a:off x="0" y="3576600"/>
            <a:ext cx="43560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ИКОТИН УБИВАЕТ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562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0001 гр – ВОРОБ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04-0,005 гр – ЛОЩ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00001 гр – ЛЯГУ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01-0,08 гр -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nikotin600"/>
          <p:cNvPicPr/>
          <p:nvPr/>
        </p:nvPicPr>
        <p:blipFill>
          <a:blip r:embed="rId1"/>
          <a:stretch/>
        </p:blipFill>
        <p:spPr>
          <a:xfrm>
            <a:off x="2050920" y="2637000"/>
            <a:ext cx="42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1:39:22Z</dcterms:created>
  <dc:creator>User</dc:creator>
  <dc:description/>
  <dc:language>en-US</dc:language>
  <cp:lastModifiedBy>София</cp:lastModifiedBy>
  <dcterms:modified xsi:type="dcterms:W3CDTF">2012-10-08T23:50:03Z</dcterms:modified>
  <cp:revision>6</cp:revision>
  <dc:subject/>
  <dc:title>Слайд 1</dc:title>
</cp:coreProperties>
</file>