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5D6-404C-4393-A97F-182B0771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3B2-79B1-454F-BEF9-61F36C6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1E-64FA-40C0-9EA4-DE890D1D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F0B-75A8-4369-851C-AA84C02B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75B-883B-4D13-9241-4BF16734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A3D-9207-47DF-B27A-AB4D2C0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7DE-4BE3-488B-A5FE-A9B91FD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567-3777-4E5F-8D70-48A64B5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858-6B25-4B04-BA80-B410D84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D1F-E286-4D1E-9B0D-4F02A3F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509-0B67-4915-8A29-1073CE0A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17A-5B87-49F6-A67F-2DDCDBF1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65D-ED60-40F5-B512-09629CA87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Курить – здоровью вредить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95200" y="907560"/>
            <a:ext cx="52484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258920" y="4221000"/>
            <a:ext cx="5248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30560" y="4149720"/>
            <a:ext cx="691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 – не всё, но всё б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я ничто. 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ссивное ку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из семей, где родители курят дома, чаще болеют в раннем детстве, пропускают школу и вообще получают меньший запас здоровья на будущую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ение родителей на 20-80% увеличивает риск заболевания дыхательной системы, тормозит рост легких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пассив курение"/>
          <p:cNvPicPr/>
          <p:nvPr/>
        </p:nvPicPr>
        <p:blipFill>
          <a:blip r:embed="rId1"/>
          <a:stretch/>
        </p:blipFill>
        <p:spPr>
          <a:xfrm>
            <a:off x="4500720" y="476280"/>
            <a:ext cx="4865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курить – плох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 курить – хорош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е курить"/>
          <p:cNvPicPr/>
          <p:nvPr/>
        </p:nvPicPr>
        <p:blipFill>
          <a:blip r:embed="rId1"/>
          <a:stretch/>
        </p:blipFill>
        <p:spPr>
          <a:xfrm>
            <a:off x="6227640" y="765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МПТОМЫ ПРИ ОТРАВЛЕНИИ НИКОТИНО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6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юновы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дление пу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руднени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жение зра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лодеют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ор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KurenieVred"/>
          <p:cNvPicPr/>
          <p:nvPr/>
        </p:nvPicPr>
        <p:blipFill>
          <a:blip r:embed="rId1"/>
          <a:stretch/>
        </p:blipFill>
        <p:spPr>
          <a:xfrm>
            <a:off x="6473880" y="1700280"/>
            <a:ext cx="2670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СЛЕ ПАРАЛИЧА ДЫХАНИЯ И ОСТАНОВКИ СЕРДЦА  НАСТУПАЕТ 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МЕР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n01"/>
          <p:cNvPicPr/>
          <p:nvPr/>
        </p:nvPicPr>
        <p:blipFill>
          <a:blip r:embed="rId1"/>
          <a:stretch/>
        </p:blipFill>
        <p:spPr>
          <a:xfrm>
            <a:off x="1619280" y="2214720"/>
            <a:ext cx="6192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Times New Roman"/>
              </a:rPr>
              <a:t>Курящая во время беременности женщина подвергает  своего ребёнка смертельной опасност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46150_20050411155437"/>
          <p:cNvPicPr/>
          <p:nvPr/>
        </p:nvPicPr>
        <p:blipFill>
          <a:blip r:embed="rId1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 выбираю жизн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55614"/>
          <p:cNvPicPr/>
          <p:nvPr/>
        </p:nvPicPr>
        <p:blipFill>
          <a:blip r:embed="rId1"/>
          <a:stretch/>
        </p:blipFill>
        <p:spPr>
          <a:xfrm>
            <a:off x="971640" y="200988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оха-сын пришел к отц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И спросила кроха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- Если я курить начн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то очень плох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.А. Оганова «Кроха-сын и отец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395280" y="189000"/>
          <a:ext cx="15429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15429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т некоторые заболевания, наиболее характерные для табакокурения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бронхах - хронический бронхит курильщ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пищевода истончена, повышенно раним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желудке - хронический гастрит курильщика или язв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толстого кишечника тоже изменена, нарушена его мотор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мелкие артерии, артериолы - повышенно возбудимы, склонны к спазмам..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расстроена работа потовых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альных желёз кожи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олосы истончены, секутся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ыпадают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и др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580000" y="4757760"/>
          <a:ext cx="356400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757760"/>
                    <a:ext cx="35640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Бросить курить легко - я сам 100 раз бросал" (Марк Тв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12 годам сигареты пробуют уже 30% россиян, к 13 годам - 47%, к 14 - 55%, к 15 - 65%, к 16 - 78%, к 17 - 8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ю первую сигарету мальчики выкуривают в возрасте до 10 лет, девочки - в 13-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15 годам каждый десятый курящий подросток уже стр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овой зависим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ag170205-smoke"/>
          <p:cNvPicPr/>
          <p:nvPr/>
        </p:nvPicPr>
        <p:blipFill>
          <a:blip r:embed="rId1"/>
          <a:stretch/>
        </p:blipFill>
        <p:spPr>
          <a:xfrm>
            <a:off x="6443640" y="4824360"/>
            <a:ext cx="2700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 мнению мед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сигарета сокращает жизнь на 15 м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ачка сигарет – на 5 ч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, кто курит 1 год, теряет 3 месяц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4 года – теряет 1 год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20 лет – 5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40 лет – 1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25784_3"/>
          <p:cNvPicPr/>
          <p:nvPr/>
        </p:nvPicPr>
        <p:blipFill>
          <a:blip r:embed="rId1"/>
          <a:stretch/>
        </p:blipFill>
        <p:spPr>
          <a:xfrm>
            <a:off x="5940360" y="4416480"/>
            <a:ext cx="3203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язнённость табачного дыма значительно выше – в 4,25 раза- загрязнённости выхлопных газов автомоби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248 раз - отработанного газа кухонной горелки, более чем в 1000(!) раз выдыхаемого человеком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куривании пачки сигарет в день курильщики фактически дышат воздухом, загрязнённость которого в 600-1200 раз превы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пля никотина убивает таракана"/>
          <p:cNvPicPr/>
          <p:nvPr/>
        </p:nvPicPr>
        <p:blipFill>
          <a:blip r:embed="rId1"/>
          <a:stretch/>
        </p:blipFill>
        <p:spPr>
          <a:xfrm>
            <a:off x="5435640" y="4038480"/>
            <a:ext cx="370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е курят около 50% мужчин и 25% женщин. Под влиянием этого фактора в силе устоять только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считают курение привычкой, полагая, что это только вопрос волевого усилия. Курение это не прост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ычка, а такж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ая форм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ческо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1014"/>
          <p:cNvPicPr/>
          <p:nvPr/>
        </p:nvPicPr>
        <p:blipFill>
          <a:blip r:embed="rId1"/>
          <a:stretch/>
        </p:blipFill>
        <p:spPr>
          <a:xfrm>
            <a:off x="0" y="3576600"/>
            <a:ext cx="4356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ИКОТИН УБИВАЕ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62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1 гр – ВОРОБ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4-0,005 гр – 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01 гр – ЛЯГ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1-0,08 гр -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ikotin600"/>
          <p:cNvPicPr/>
          <p:nvPr/>
        </p:nvPicPr>
        <p:blipFill>
          <a:blip r:embed="rId1"/>
          <a:stretch/>
        </p:blipFill>
        <p:spPr>
          <a:xfrm>
            <a:off x="2050920" y="2637000"/>
            <a:ext cx="42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39:22Z</dcterms:created>
  <dc:creator>User</dc:creator>
  <dc:description/>
  <dc:language>en-US</dc:language>
  <cp:lastModifiedBy>София</cp:lastModifiedBy>
  <dcterms:modified xsi:type="dcterms:W3CDTF">2012-10-08T23:50:03Z</dcterms:modified>
  <cp:revision>6</cp:revision>
  <dc:subject/>
  <dc:title>Слайд 1</dc:title>
</cp:coreProperties>
</file>