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707-1446-4251-9088-9F19A4DE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3AC-EC7D-486C-9CD8-346D845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C53-F92E-46A0-B9E1-BBACEC07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1B4-480A-45F2-9546-324D151A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C4C7-62FF-4055-9ED6-FC410989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9C51-661A-4D60-9612-7AE0E9DB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991E-5C6D-4A98-A187-F015ABE7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083D-2DE0-4E03-8865-F7112FC4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12FE-DB0E-423B-93E6-87D74A8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A5C6-2E79-4E3C-93B2-72687DFE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A277-6BD2-4BE6-8BE4-29F12A54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319-C8BC-4D70-9156-189057E1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9CF2-B1E8-4022-B481-2DA4A9F1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5A4-3A5E-4E13-AA27-5D15669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D21-8016-40A7-939B-BAE6646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3D3E-3038-4B52-9A3B-2FCE659E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E2D5-443C-4E40-94FD-051EF7D2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5F6-F1AC-463E-A637-0EE4887D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119-07CF-44A7-9E80-9676A890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FF9-C648-436F-8FEF-9D71CB6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4CF-7613-4278-B215-788EE637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149-EA47-4C64-B2B6-72D6356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8E9-653D-4A3A-A9FD-9C32135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748-8AE6-4A31-A138-AE862F2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9DE7-CB0D-4225-985F-3368D8BD4D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F87-7B8A-4084-ADCD-DAB369A2BF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slide" Target="slide21.xml"/><Relationship Id="rId9" Type="http://schemas.openxmlformats.org/officeDocument/2006/relationships/image" Target="../media/image4.png"/><Relationship Id="rId10" Type="http://schemas.openxmlformats.org/officeDocument/2006/relationships/slide" Target="slide27.xml"/><Relationship Id="rId11" Type="http://schemas.openxmlformats.org/officeDocument/2006/relationships/image" Target="../media/image4.png"/><Relationship Id="rId12" Type="http://schemas.openxmlformats.org/officeDocument/2006/relationships/slide" Target="slide33.xml"/><Relationship Id="rId13" Type="http://schemas.openxmlformats.org/officeDocument/2006/relationships/image" Target="../media/image4.png"/><Relationship Id="rId14" Type="http://schemas.openxmlformats.org/officeDocument/2006/relationships/slide" Target="slide39.xml"/><Relationship Id="rId15" Type="http://schemas.openxmlformats.org/officeDocument/2006/relationships/image" Target="../media/image4.png"/><Relationship Id="rId16" Type="http://schemas.openxmlformats.org/officeDocument/2006/relationships/slide" Target="slide45.xml"/><Relationship Id="rId17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тературная игр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Кто хочет стать отличником?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.С.Пушкин «Капитанская дочка» (8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 Жданова Н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Что такое «гвардия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ямая оса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дый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альные, отборные вой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ртия горде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Кого Пугачёв сделал комендантом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нё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ко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обород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 У кого была спрятана Марья Ивановна во время штурма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Пала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попад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вель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Шваб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Как называлась крепость, которую захватили бунтовщики перед тем, как напасть на Белогорскую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жнеоз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оз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хнеоз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Наперсниками Пугачёва бы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384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йор Черноусов и Егор Птицы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йтенант Синеглазов и Карп Ор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рал Белобородов и Афанасий Соко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нерал Большеносов и Артемий Попуга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) Сколько взрослых детей было у Андрея Петровича и Авдотьи Васильевны Гринёвых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С кем Петруша познакомился, приехав в Симбирск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И.И.Зури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.П.Зуе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В.В.Зоно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С.С.Задо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Кто передал Петру Гринёву из Белогорской крепости письмо Маши с мольбою о помощ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719520"/>
            <a:ext cx="403848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л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3719520"/>
            <a:ext cx="403848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пад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я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Что увидели Гринёв с Савельичем, приблизившись к Оренбург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пу бежен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пу колод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пу зев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до бар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берите № биле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№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№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№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№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№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6" action="ppaction://hlinksldjump"/>
              </a:rPr>
              <a:t>№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) До какого офицерского звания дослужился Пётр Гринёв в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пор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йтен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рж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й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Что Гринёвы выписали из Москвы вместе с годовым запасом вина и прованского масл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рзого коб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роного ко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 та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ье Боп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Назовите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лавную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слабость мосье Бопр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в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азартным игр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прекрасному п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бездел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Что было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формальным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водом для дуэли Швабрина и Гринё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енка, сочинённая Гринёв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вная зап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совой платок Ма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ухи, ходившие по креп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Чью голову привезли вместе с письмом в Белогорскую крепость бунтовщи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г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 Ю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  Аг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то привязывал верёвку к виселице, на которой был повешен капитан Мирон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обор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ко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веченный башки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Из чего Петруша делал воздушного зме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обо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географической ка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просты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туалетной бума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В какой полк, ещё не рождённым, был записан Пётр Гринё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тр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Ива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емё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ображ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За что, по выражению комендантши, Швабрин был переведён в Белогорскую креп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конокра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казнокра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смертоуби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самоуби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Как звали комендантш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силис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силиса Ег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н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на Ег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) К кому на квартиру определила комендантша Петра Гринёва в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орфирию Телег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Игнату Повозк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Семёну Кузо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Ефиму Колесо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Что подарил Петруша Гринёв Пугачёву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глава «Вожатый»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рковую шап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бровые рукав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ячий тул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гаре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Что такое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елобить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которое подал Пугачёву Савельич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д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) Кто выбежал за ворота Белогорской крепости навстречу войску Пугачёва вместе с Иваном Игнатьичем и коменданто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нё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аб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л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ендант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Кто такие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инвалид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служившие в Белогорской креп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422080"/>
            <a:ext cx="403848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фицеры, награждённые орденами и меда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щики, прислуживающие своим господ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8320" y="2422080"/>
            <a:ext cx="403848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еннослужащие, состарившиеся на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леки, получившие увечья на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Первыми гвардейскими полками на Руси бы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овский и Семё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овский и Петр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тровский и Преображ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 Семёновский и Преображ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Эпиграф «Капитанской дочки»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ракам закон не пис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реги честь смол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Сколько зим, сколько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Стёжки-доро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) За что Савельич был пожалован в дядьки Петру Гринёв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горд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трезв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примерн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смирное п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Кто стал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ричиной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нения Петруши на дуэли со Швабрины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енд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ендант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вель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) Как звали Савельич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п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тон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тём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фанасий Саве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К чему приговорили Петра Гринёва «за измену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азание плетьми на площ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фискация иму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сылка в Сибирь на вечное пос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торжные работы на рудн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то из русских поэтов упоминается героями «Капитанской дочки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яземский и Жу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яземский и Сумаро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мароков и Тредиа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диаковский и Ломоно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Чему, по мнению отца, мог научиться Петруша, служа в Петербург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тать да повесни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грать да выпи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нцевать да бездельни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ываться и модни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О чём просил отец Петруши Андрея Карловича в своём письме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ыпать Петрушу своими милост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ести Петрушу в офицерское общ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енить Петрушу на богатой нев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ржать Петрушу в ежовых рукавиц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 Какого цвета была английская собачка у императриц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л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ятнис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ё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) Назовите прозвище Афанасия Соколова (Хлопуши)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ое у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ые нозд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ые н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ваное 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) Сколько лет провел Швабрин в Белогорской крепости на момент приезда туда Гринё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3430080"/>
            <a:ext cx="40384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ак предложил действовать против мятежников директор таможн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туп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орон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3574800"/>
            <a:ext cx="40384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куп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ак не действ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 В чьём отряде встретил Гринёв окончание Пугачёвского бун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Прива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у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  Кочк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Где располагалась Следственная комиссия, учреждённая по делу Пугачё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а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ренбур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3358800"/>
            <a:ext cx="4038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тербур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Как Пётр Гринёв, от лица которого ведётся повествование, сам называет жанр своего произведени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чественная ис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ейственные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3502080"/>
            <a:ext cx="4038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и воспоми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ография Пугачё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лет №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1:09:10Z</dcterms:created>
  <dc:creator>Windows</dc:creator>
  <dc:description/>
  <dc:language>en-US</dc:language>
  <cp:lastModifiedBy>Windows</cp:lastModifiedBy>
  <dcterms:modified xsi:type="dcterms:W3CDTF">2007-02-11T14:27:59Z</dcterms:modified>
  <cp:revision>2</cp:revision>
  <dc:subject/>
  <dc:title>Литературная игра «Кто хочет стать отличником?»</dc:title>
</cp:coreProperties>
</file>