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DD2-F372-4AD4-8278-ACA8EC17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FF1-E62D-4300-B7A3-956E2685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9BF-B75C-4D91-8D9C-17A6A4BF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86A-8D9E-4C68-9ADF-319CB576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1D36-0341-4224-96FB-6709F900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6CCA-DD1B-4A7C-B582-8DBE4CB8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079C-3EAE-4C95-A3E8-F5B39425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FE5C-2A6F-40B5-9C35-F262ECC0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AFD4-1F04-490F-855D-F5998CEA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2587-98DF-48ED-B774-998217D0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B607-1E7F-4050-B121-1D792846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461-D125-4DDA-B915-F578FFF1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AD0B-98FF-420F-895A-9D2B43C5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45AA-323E-4B31-9DB7-8BE3AB71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952F-A824-4C70-9AF9-4DDEFEB2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6A33-70B8-49E5-8AC2-04367AB3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D6E3-3973-4D40-B636-F80ED626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5BF-9433-4CEA-96AF-F25921A7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B31-8C01-4D8D-B64E-95C32C46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F7C-F265-4A19-8ABC-7D79FD05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3E3-EA3F-420F-9F0A-466B8663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DA3-58C9-4BBB-BE50-CD3AF728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488-CDE6-44C1-9D87-44A9B79B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11D-0B38-4E2B-91F8-0E797383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1070-B768-4F6E-B3E1-1C8E96CD7F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0F09-A879-436A-BC57-8A4420D625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slide" Target="slide21.xml"/><Relationship Id="rId9" Type="http://schemas.openxmlformats.org/officeDocument/2006/relationships/image" Target="../media/image4.png"/><Relationship Id="rId10" Type="http://schemas.openxmlformats.org/officeDocument/2006/relationships/slide" Target="slide27.xml"/><Relationship Id="rId11" Type="http://schemas.openxmlformats.org/officeDocument/2006/relationships/image" Target="../media/image4.png"/><Relationship Id="rId12" Type="http://schemas.openxmlformats.org/officeDocument/2006/relationships/slide" Target="slide33.xml"/><Relationship Id="rId13" Type="http://schemas.openxmlformats.org/officeDocument/2006/relationships/image" Target="../media/image4.png"/><Relationship Id="rId14" Type="http://schemas.openxmlformats.org/officeDocument/2006/relationships/slide" Target="slide39.xml"/><Relationship Id="rId15" Type="http://schemas.openxmlformats.org/officeDocument/2006/relationships/image" Target="../media/image4.png"/><Relationship Id="rId16" Type="http://schemas.openxmlformats.org/officeDocument/2006/relationships/slide" Target="slide45.xml"/><Relationship Id="rId17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итературная игра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«Кто хочет стать отличником?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.С.Пушкин «Капитанская дочка» (8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: Жданова Н.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) Что такое «гвардия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3430080"/>
            <a:ext cx="403848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ямая оса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рдый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3430080"/>
            <a:ext cx="403848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ециальные, отборные вой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артия гордец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) Кого Пугачёв сделал комендантом Белогорской крепост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инё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ваб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ко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лобород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) У кого была спрятана Марья Ивановна во время штурма крепост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Пала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попад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Савельич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Шваб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) Как называлась крепость, которую захватили бунтовщики перед тем, как напасть на Белогорскую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жнеозёр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еозёр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хнеозёр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) Наперсниками Пугачёва был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3848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йор Черноусов и Егор Птицы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йтенант Синеглазов и Карп Ор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прал Белобородов и Афанасий Соко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нерал Большеносов и Артемий Попуга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илет №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) Сколько взрослых детей было у Андрея Петровича и Авдотьи Васильевны Гринёвых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ты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) С кем Петруша познакомился, приехав в Симбирск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И.И.Зури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П.П.Зуев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В.В.Зонов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С.С.Задов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) Кто передал Петру Гринёву из Белогорской крепости письмо Маши с мольбою о помощ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3719520"/>
            <a:ext cx="4038480" cy="24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ваб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ла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3719520"/>
            <a:ext cx="4038480" cy="24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пад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ряд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) Что увидели Гринёв с Савельичем, приблизившись к Оренбург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лпу беженц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лпу колод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лпу зев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адо бара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берите № биле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№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4" action="ppaction://hlinksldjump"/>
              </a:rPr>
              <a:t>№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6" action="ppaction://hlinksldjump"/>
              </a:rPr>
              <a:t>№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8" action="ppaction://hlinksldjump"/>
              </a:rPr>
              <a:t>№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10" action="ppaction://hlinksldjump"/>
              </a:rPr>
              <a:t>№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12" action="ppaction://hlinksldjump"/>
              </a:rPr>
              <a:t>№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14" action="ppaction://hlinksldjump"/>
              </a:rPr>
              <a:t>№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16" action="ppaction://hlinksldjump"/>
              </a:rPr>
              <a:t>№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) До какого офицерского звания дослужился Пётр Гринёв в Белогорской крепост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порщ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йтен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рж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й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илет №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) Что Гринёвы выписали из Москвы вместе с годовым запасом вина и прованского масл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рзого кобе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роного ко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 та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сье Боп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) Назовите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главную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слабость мосье Бопр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асть к ви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асть к азартным игр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асть к прекрасному по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асть к бездел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) Что было </a:t>
            </a: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формальным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водом для дуэли Швабрина и Гринёв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646080"/>
            <a:ext cx="4038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сенка, сочинённая Гринёв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бовная зап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3646080"/>
            <a:ext cx="4038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совой платок Ма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лухи, ходившие по креп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) Чью голову привезли вместе с письмом в Белогорскую крепость бунтовщик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ур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гн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 Юл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  Агл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) Кто привязывал верёвку к виселице, на которой был повешен капитан Миронов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ваб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обор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ко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веченный башкире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илет №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) Из чего Петруша делал воздушного зме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 обо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 географической кар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 просты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 туалетной бума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) В какой полк, ещё не рождённым, был записан Пётр Гринёв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етр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Иван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Семён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реображе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илет №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) За что, по выражению комендантши, Швабрин был переведён в Белогорскую крепост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конокра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казнокра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смертоубий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самоубий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) Как звали комендантш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асилиса Пет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асилиса Его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на Пет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на Его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) К кому на квартиру определила комендантша Петра Гринёва в Белогорской крепост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Порфирию Телеги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Игнату Повозки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Семёну Кузо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Ефиму Колесо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илет №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)Что подарил Петруша Гринёв Пугачёву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глава «Вожатый»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рковую шап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бровые рукав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ячий тулу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гаре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) Что такое </a:t>
            </a: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челобить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, которое подал Пугачёву Савельич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ш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зя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де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) Кто выбежал за ворота Белогорской крепости навстречу войску Пугачёва вместе с Иваном Игнатьичем и коменданто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инё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ваб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л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ендант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) Кто такие </a:t>
            </a: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инвалиды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, служившие в Белогорской крепост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422080"/>
            <a:ext cx="403848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фицеры, награждённые орденами и медал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нщики, прислуживающие своим господ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8320" y="2422080"/>
            <a:ext cx="403848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еннослужащие, состарившиеся на служб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леки, получившие увечья на вой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) Первыми гвардейскими полками на Руси был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овский и Семён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овский и Петр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тровский и Преображе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 Семёновский и Преображе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илет №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) Эпиграф «Капитанской дочки»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уракам закон не пис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реги честь смол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Сколько зим, сколько 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Стёжки-дорож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) За что Савельич был пожалован в дядьки Петру Гринёв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гордое по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трезвое по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примерное по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смирное по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) Кто стал </a:t>
            </a: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причиной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нения Петруши на дуэли со Швабриным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менд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ендант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вель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) Как звали Савельич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рхип Савель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тон Савель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ртём Савель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фанасий Савель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) К чему приговорили Петра Гринёва «за измену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казание плетьми на площа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фискация иму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сылка в Сибирь на вечное посе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торжные работы на рудн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) Кто из русских поэтов упоминается героями «Капитанской дочки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яземский и Жук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яземский и Сумаро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мароков и Тредиак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едиаковский и Ломоно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илет №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) Чему, по мнению отца, мог научиться Петруша, служа в Петербург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тать да повеснич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грать да выпи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нцевать да бездельнич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делываться и моднич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) О чём просил отец Петруши Андрея Карловича в своём письме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ыпать Петрушу своими милост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вести Петрушу в офицерское общ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енить Петрушу на богатой нев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ржать Петрушу в ежовых рукавиц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) Какого цвета была английская собачка у императриц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л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але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ятнист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ёр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) Назовите прозвище Афанасия Соколова (Хлопуши)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ваное ух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ваные нозд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ваные но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ваное серд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) Сколько лет провел Швабрин в Белогорской крепости на момент приезда туда Гринёв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430080"/>
            <a:ext cx="403848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3430080"/>
            <a:ext cx="403848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4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) Как предложил действовать против мятежников директор таможн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ступа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орони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купа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ак не действ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) В чьём отряде встретил Гринёв окончание Пугачёвского бунт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3358800"/>
            <a:ext cx="403848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 Прива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3358800"/>
            <a:ext cx="403848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у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  Кочк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) Где располагалась Следственная комиссия, учреждённая по делу Пугачёв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3358800"/>
            <a:ext cx="403848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Ка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Оренбург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3358800"/>
            <a:ext cx="403848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етербург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ер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) Как Пётр Гринёв, от лица которого ведётся повествование, сам называет жанр своего произведени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ечественная ис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мейственные запи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и воспомин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иография Пугачё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илет №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11:09:10Z</dcterms:created>
  <dc:creator>Windows</dc:creator>
  <dc:description/>
  <dc:language>en-US</dc:language>
  <cp:lastModifiedBy>Windows</cp:lastModifiedBy>
  <dcterms:modified xsi:type="dcterms:W3CDTF">2007-02-11T14:27:59Z</dcterms:modified>
  <cp:revision>2</cp:revision>
  <dc:subject/>
  <dc:title>Литературная игра «Кто хочет стать отличником?»</dc:title>
</cp:coreProperties>
</file>