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19.png" ContentType="image/png"/>
  <Override PartName="/ppt/media/image3.jpeg" ContentType="image/jpeg"/>
  <Override PartName="/ppt/media/image24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26B-27FB-4C3F-8649-14DD4EDD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C37C-40EE-4E32-8A5C-7086D2B8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6C9-6067-4E4C-AE46-440A2117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258-DC0A-442A-A3B9-E16BFCFE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53E-CAB6-4621-9C58-D086B68D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43A-517F-4824-8F92-3BA54262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361-5BAD-4E99-9B53-1E2EB6B6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92B-8E3B-496C-B219-919AB1C1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592-1B97-46CF-9B8F-25FD496A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13D-D0A9-4A7A-B60B-DFF8D108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BD5F-C973-42A1-9596-6CF479C8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818-D93D-4CB7-8D42-59E01316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7F83-9476-4861-A8FC-90C42AA92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etskiy-sait.ru/origami/photo/lyaguha-10-!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0"/>
            <a:ext cx="80773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Impact"/>
              </a:rPr>
              <a:t>ЛЯГУ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32767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362680" y="837360"/>
            <a:ext cx="56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пять перегибаем бумагу по второй диагон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3280" y="3885480"/>
            <a:ext cx="82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Сгибаем бумагу так, чтобы две части вошли между сгибами в серед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400800" y="44956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40960" y="5942880"/>
            <a:ext cx="53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Поворачиваем бумагу прямым углом от себ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62520" y="35812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4240" y="2590200"/>
            <a:ext cx="70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Отворачиваем верхние "крылышки" к середине, друг к друг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7400" y="5562000"/>
            <a:ext cx="78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Теперь эти же "крылышки" сгибаем пополам от середины в сто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205740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19040" y="495360"/>
            <a:ext cx="182880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17840" y="1218600"/>
            <a:ext cx="52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Переворачиваем работу на другую стор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86400" y="31240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8680" y="5409360"/>
            <a:ext cx="80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"Крылышки", оказавшиеся сверху, сгибаем к верхнему прямому угл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90920" y="1721880"/>
            <a:ext cx="1003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Получившиеся маленькие "крылышки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гибаем к средней полосе изделия с одной стороны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160" y="4799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... и с друг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15320" y="1294920"/>
            <a:ext cx="58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От прямого угла загибаем на себя концы бум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илось место, где мы по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исуем глазки нашей лягуш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01280" y="5333400"/>
            <a:ext cx="73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Переворачиваем изделие на другую сторону "ножками" к себ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19880" y="190440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Загибаем "ножки" от себ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29560" y="4647600"/>
            <a:ext cx="37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 Еще раз загибаем, но к себ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46440" y="1447200"/>
            <a:ext cx="44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. Переворачиваем лягушку на живо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05320" y="533340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 Рисуем гла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9000" y="838080"/>
            <a:ext cx="787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. Чтобы лягушка прыгала, надо легонько нажимать на сгиб на спин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не давить на н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как бы скользящим движением пальца провести по спинке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47242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овет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лягушку можно разрисовать           разноцветными ручк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фломастер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делать из разноцветной бумаги.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90920" y="28195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38080" y="1447920"/>
            <a:ext cx="771552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ЛЯГУШКИ-КВАКУ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РУДОВА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ЛЯГ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53337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Стеклянна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ляг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1541520"/>
            <a:ext cx="49528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Леопардова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ляг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43200" y="2101680"/>
            <a:ext cx="38098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ОРАНЖЕВО-СИНЯ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5120" y="1859040"/>
            <a:ext cx="556236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«ЦАРЕВНА-ЛЯГУШ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2949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1da"/>
                </a:solidFill>
                <a:latin typeface="Arial"/>
              </a:rPr>
              <a:t>ВЕСЁЛА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1da"/>
                </a:solidFill>
                <a:latin typeface="Arial"/>
              </a:rPr>
              <a:t>ЛЯГ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Оригами Лягуш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50532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629400" y="1523880"/>
            <a:ext cx="1866960" cy="1843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09480" y="1523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3428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Берем лист бумаг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400800" y="16765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411160" y="3656880"/>
            <a:ext cx="33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Перегибаем по диагон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124080" y="4038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360" y="6095160"/>
            <a:ext cx="38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Лишний край бумаги отреза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ckYouBill</cp:lastModifiedBy>
  <dcterms:modified xsi:type="dcterms:W3CDTF">2011-11-09T19:34:4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