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E7A7-CCE9-4E56-BAB6-E3E23AF3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493-21D3-468F-B83E-D5D5B4DD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C1E2-7FAC-4FD6-B807-B10D1ED4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5E12-FCD8-4C86-9823-49821D70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D08-01B1-40E6-8061-9E5E9A8C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6134-EFEA-4043-AE6E-3674C184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B5E-850E-4254-A4BA-F5850515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180-009A-49EC-B35D-108DCB47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175B-A1FE-4489-9560-03FACE43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7A0-0163-471E-9436-8A493856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9C8D-F060-47CB-8BED-64072C06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B25-E942-4709-8065-413D2533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999B-6A01-470A-80A8-E0581FB15B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с окружают деревья и цветы. Многие девушки с удовольствием ухаживают за комнатными растениями, радуясь каждому новому подаренному горшочку. Другие любят замысловатые букеты, состоящие из цветов и конф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3" descr="http://elflowers.com.ua/images/morfeoshow/____________-8202/big/kotik-iz-cvetov.jpg"/>
          <p:cNvPicPr/>
          <p:nvPr/>
        </p:nvPicPr>
        <p:blipFill>
          <a:blip r:embed="rId1"/>
          <a:stretch/>
        </p:blipFill>
        <p:spPr>
          <a:xfrm>
            <a:off x="1571760" y="2133720"/>
            <a:ext cx="5968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915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Такой оригинальный подарок может сотворить флорист. Флорист — это представитель творческой профессии, который занимается декором. Он может цветами оформить любой предмет: комнату, офис, бокал, браслет и не только. 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3" descr="http://www.proflowers.ru/pic/newuploadedfoto3/Irina_Treneva_11.jpg"/>
          <p:cNvPicPr/>
          <p:nvPr/>
        </p:nvPicPr>
        <p:blipFill>
          <a:blip r:embed="rId1"/>
          <a:stretch/>
        </p:blipFill>
        <p:spPr>
          <a:xfrm>
            <a:off x="1547640" y="2349360"/>
            <a:ext cx="58327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Флористика как искусство начало своё шествие по миру с Древнего Египта. Профессионалы ещё 5000 лет до н. э. украшали дома богатых людей цветами. Первые венки из цветов сплели гре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3151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147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Флорист – профессия красивая, интересная и необычайно творческа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3" descr="http://www.tcvet.ru/ckfinder/userfiles/images/florist2.jpg"/>
          <p:cNvPicPr/>
          <p:nvPr/>
        </p:nvPicPr>
        <p:blipFill>
          <a:blip r:embed="rId1"/>
          <a:stretch/>
        </p:blipFill>
        <p:spPr>
          <a:xfrm>
            <a:off x="1116000" y="1916280"/>
            <a:ext cx="665316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1471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едь для составления букетов, композиций, а иногда и целых декораций недостаточно одной любви к цветам, нужно иметь богатую фантазию, талант, безупречный вкус и багаж необходимых зна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3" descr="http://www.plantopedia.ru/upload/floristic/shkola_floristiki/2010/09/Mixt/floristika4.jpg"/>
          <p:cNvPicPr/>
          <p:nvPr/>
        </p:nvPicPr>
        <p:blipFill>
          <a:blip r:embed="rId1"/>
          <a:stretch/>
        </p:blipFill>
        <p:spPr>
          <a:xfrm>
            <a:off x="2071800" y="2143080"/>
            <a:ext cx="51656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50752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сегодня загрустила,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ула печали утолит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с тебя наполнит тайной силой,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дсолнух – солнцем озарит!</a:t>
            </a:r>
            <a:br>
              <a:rPr sz="24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иный зев обозначает славу,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ьки – доверие и кров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омашке нагадаешь правду,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а щедро дарит нам любовь..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же цветов прекрасных, ярких!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тайн они в себе хранят?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их будет больше – нежных, жарких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нам дарят все цветы подряд!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стантин Бальмонт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43120" y="2367000"/>
            <a:ext cx="413856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Пользователь</cp:lastModifiedBy>
  <dcterms:modified xsi:type="dcterms:W3CDTF">2013-03-23T10:36:59Z</dcterms:modified>
  <cp:revision>27</cp:revision>
  <dc:subject/>
  <dc:title>Презентация PowerPoint</dc:title>
</cp:coreProperties>
</file>