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BD7-CDA5-4177-9E37-CCA52A5E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5FC-4775-4783-9237-C6C39837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06BB-5049-4E47-856C-B0FE48BB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A31-CF77-4D9A-871D-C44B8AA9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C63-5D58-48F6-9598-7282F045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56EA-30E0-43A7-A1D0-EDFBB3BC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E196-69FE-4DA0-96AB-15098971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DE5-BF10-4916-ACDA-7C1F1F26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ECF-139A-47C0-944C-6D7F3E16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EB6-33E1-4785-89DB-5F942150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2CE-7150-49DA-9945-AD7EB0CC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358-4B42-4375-921A-24302CC4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A45F-D009-4A85-935C-6E67F1BBC4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с окружают деревья и цветы. Многие девушки с удовольствием ухаживают за комнатными растениями, радуясь каждому новому подаренному горшочку. Другие любят замысловатые букеты, состоящие из цветов и конф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3" descr="http://elflowers.com.ua/images/morfeoshow/____________-8202/big/kotik-iz-cvetov.jpg"/>
          <p:cNvPicPr/>
          <p:nvPr/>
        </p:nvPicPr>
        <p:blipFill>
          <a:blip r:embed="rId1"/>
          <a:stretch/>
        </p:blipFill>
        <p:spPr>
          <a:xfrm>
            <a:off x="1571760" y="2133720"/>
            <a:ext cx="5968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915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акой оригинальный подарок может сотворить флорист. Флорист — это представитель творческой профессии, который занимается декором. Он может цветами оформить любой предмет: комнату, офис, бокал, браслет и не только. 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3" descr="http://www.proflowers.ru/pic/newuploadedfoto3/Irina_Treneva_11.jpg"/>
          <p:cNvPicPr/>
          <p:nvPr/>
        </p:nvPicPr>
        <p:blipFill>
          <a:blip r:embed="rId1"/>
          <a:stretch/>
        </p:blipFill>
        <p:spPr>
          <a:xfrm>
            <a:off x="1547640" y="2349360"/>
            <a:ext cx="58327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лористика как искусство начало своё шествие по миру с Древнего Египта. Профессионалы ещё 5000 лет до н. э. украшали дома богатых людей цветами. Первые венки из цветов сплели гре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3151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147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лорист – профессия красивая, интересная и необычайно творческа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3" descr="http://www.tcvet.ru/ckfinder/userfiles/images/florist2.jpg"/>
          <p:cNvPicPr/>
          <p:nvPr/>
        </p:nvPicPr>
        <p:blipFill>
          <a:blip r:embed="rId1"/>
          <a:stretch/>
        </p:blipFill>
        <p:spPr>
          <a:xfrm>
            <a:off x="1116000" y="1916280"/>
            <a:ext cx="665316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1471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едь для составления букетов, композиций, а иногда и целых декораций недостаточно одной любви к цветам, нужно иметь богатую фантазию, талант, безупречный вкус и багаж необходимых зна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http://www.plantopedia.ru/upload/floristic/shkola_floristiki/2010/09/Mixt/floristika4.jpg"/>
          <p:cNvPicPr/>
          <p:nvPr/>
        </p:nvPicPr>
        <p:blipFill>
          <a:blip r:embed="rId1"/>
          <a:stretch/>
        </p:blipFill>
        <p:spPr>
          <a:xfrm>
            <a:off x="2071800" y="2143080"/>
            <a:ext cx="51656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50752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сегодня загрустила,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ула печали утолит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с тебя наполнит тайной силой,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дсолнух – солнцем озарит!</a:t>
            </a:r>
            <a:br>
              <a:rPr sz="24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иный зев обозначает славу,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ьки – доверие и кров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машке нагадаешь правду,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а щедро дарит нам любовь..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же цветов прекрасных, ярких!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тайн они в себе хранят?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их будет больше – нежных, жарких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нам дарят все цветы подряд!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стантин Бальмонт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43120" y="2367000"/>
            <a:ext cx="413856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Пользователь</cp:lastModifiedBy>
  <dcterms:modified xsi:type="dcterms:W3CDTF">2013-03-23T10:36:59Z</dcterms:modified>
  <cp:revision>27</cp:revision>
  <dc:subject/>
  <dc:title>Презентация PowerPoint</dc:title>
</cp:coreProperties>
</file>