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8767-B311-47EE-BF23-F773D8243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522-104F-4CA0-8EB6-3363D3B7C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47CA-3559-4CF0-B10E-D451EBDD0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69C-7A89-4E78-AADF-9D1B7DA02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A104-296E-46DD-94CB-C34DFAC63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BDEE-D277-4E5E-91FE-D53D588B6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52E4-BC5B-4C63-AB6A-0CEC80B0C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BAC-70ED-4DE9-86CB-AC44F683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ED1-0299-4944-ABDC-94F2CB4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FCE-E51C-4621-98E0-9179EF0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DB4-F50D-4849-BDE4-6387C373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DC8-1F18-47E9-B265-3D228D2D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D2C-1156-4D7A-9040-BA4A6B0F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C70-EC3D-4947-90E4-C414251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25A-566C-46F4-B9AD-F7794A65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842-A71D-4E6F-A906-F80F42B1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6F2-63A3-4F6C-A816-E40280F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3DF-787D-4764-A252-C68F179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917-5AD9-4859-B612-2D162E7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A62-1968-4BAC-8850-68670C1F3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86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5838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организации процесса обучения: традиции и инновац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OurNewSchool"/>
          <p:cNvPicPr/>
          <p:nvPr/>
        </p:nvPicPr>
        <p:blipFill>
          <a:blip r:embed="rId2"/>
          <a:stretch/>
        </p:blipFill>
        <p:spPr>
          <a:xfrm>
            <a:off x="7010280" y="533520"/>
            <a:ext cx="1981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Найти значение выражений: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4   7+3   10+3   9+2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ир налил во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 в б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. Л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лила во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 в ве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457200" y="533520"/>
            <a:ext cx="1371600" cy="1904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7391520" y="3352680"/>
            <a:ext cx="1371600" cy="1905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267080" y="2971800"/>
            <a:ext cx="2210040" cy="3048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  <a:ea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5105520" y="533520"/>
            <a:ext cx="1371600" cy="1904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2057400" y="4343400"/>
            <a:ext cx="1371600" cy="1905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057400" y="1828800"/>
            <a:ext cx="1371600" cy="1905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911666.jpg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4.Объяснение нов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ам объясняет новый материал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4.Поиск решения проблем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т материал для наблюдения и систему вопросов. Новое знание обучающиеся получают в результате самостоятельн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5.  Первичное за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обучающимися нового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5. Первичное закрепление с проговари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воения детьми нового способа действий при решении задач с их проговариванием во внешне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6.  Самостоятельная рабо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качества и уровня З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426"/>
                </a:solidFill>
                <a:latin typeface="Arial"/>
              </a:rPr>
              <a:t>6.   Самостоятельная работа с самопроверкой  ( взаимо проверк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амостоятельного выполнения каждым обучающимся заданий на новый способ действ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самопроверки обучающимися своих решений по этало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для кажд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 возможности выявления причин ошибок и их ис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7.  Обобщение и систематизац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обучающихся по переводу отдельных знаний и умений в целостные системы внутри учебного предмета и межкурс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7.  Включение нового знания в систему знаний и повто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нового знания в систему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 и закрепление ранее изученного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8.Итог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8. Рефлексия учебной деятельности на у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обучающимися своей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езультатов своей деятельности и все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Вопросы для рефлекс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акую задачу стави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далось ли решить поставленную задач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м способ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получили результа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нужно сделать ещё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де можно применить новое зн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на уроке у вас хорошо получило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д чем ещё надо поработ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86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762120"/>
            <a:ext cx="8640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етодологической    основ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ГОС НОО является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Основная идея его состоит в том, что новые знания не даются в готовом виде. Дети  «открывают»  их  сами  в процессе самостоятельной исследователь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Домашнее задание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язательная часть – посильную для каждого ребёнка на вариативной основе и с творческим компонен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обязательная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9.Информация о домашнем задании, инструктаж по его выпол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домашнего зад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аж по его выпол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Информация о домашнем задании входит в этап рефлексии учеб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язательный этап урок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17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:\Мои док_На_D\ирина николаевна\материалы для оформления слайдов\школная\умный умный филин 2.bmp"/>
          <p:cNvPicPr/>
          <p:nvPr/>
        </p:nvPicPr>
        <p:blipFill>
          <a:blip r:embed="rId1"/>
          <a:stretch/>
        </p:blipFill>
        <p:spPr>
          <a:xfrm>
            <a:off x="785880" y="30718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2895480" y="914400"/>
            <a:ext cx="5639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62673"/>
                </a:solidFill>
                <a:latin typeface="Comic Sans MS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62673"/>
                </a:solidFill>
                <a:latin typeface="Comic Sans MS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62673"/>
                </a:solidFill>
                <a:latin typeface="Comic Sans MS"/>
              </a:rPr>
              <a:t>ВНИМА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86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304920"/>
            <a:ext cx="8640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Типы уроков по новым стандар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изучения и первичного закрепления знаний (УИПЗ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закреплений знаний и выработка умений (УЗЗВ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комплексного использования знаний (УКИ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обобщения и систематизации знаний (УОС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проверки, оценки и контроля знаний (УПОК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57400"/>
            <a:ext cx="3733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54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Орг.момен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ка готовности обучающихся к у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057400"/>
            <a:ext cx="4041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54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Создание эмоц. настроя. Введение в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мотивация      (самоопределение)   обучающихся к  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5740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2. Проверка выполнения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2. Актуализация и фиксация затруднений 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подготовки и мотивации  к изучению материала, необходимого для «открытия нового знан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 затруднения в деятельности каждого обучаю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" y="419076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2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2+2+2+2+2+2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3+3+3+3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4+4+4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6+6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685800" cy="749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3"/>
          <a:stretch/>
        </p:blipFill>
        <p:spPr>
          <a:xfrm>
            <a:off x="4495680" y="914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"/>
          <p:cNvPicPr/>
          <p:nvPr/>
        </p:nvPicPr>
        <p:blipFill>
          <a:blip r:embed="rId5"/>
          <a:stretch/>
        </p:blipFill>
        <p:spPr>
          <a:xfrm>
            <a:off x="838080" y="2362320"/>
            <a:ext cx="762120" cy="6728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"/>
          <p:cNvPicPr/>
          <p:nvPr/>
        </p:nvPicPr>
        <p:blipFill>
          <a:blip r:embed="rId6"/>
          <a:stretch/>
        </p:blipFill>
        <p:spPr>
          <a:xfrm>
            <a:off x="2057400" y="2362320"/>
            <a:ext cx="685800" cy="672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"/>
          <p:cNvPicPr/>
          <p:nvPr/>
        </p:nvPicPr>
        <p:blipFill>
          <a:blip r:embed="rId7"/>
          <a:stretch/>
        </p:blipFill>
        <p:spPr>
          <a:xfrm>
            <a:off x="3276720" y="914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4" descr=""/>
          <p:cNvPicPr/>
          <p:nvPr/>
        </p:nvPicPr>
        <p:blipFill>
          <a:blip r:embed="rId8"/>
          <a:stretch/>
        </p:blipFill>
        <p:spPr>
          <a:xfrm>
            <a:off x="7543800" y="914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"/>
          <p:cNvPicPr/>
          <p:nvPr/>
        </p:nvPicPr>
        <p:blipFill>
          <a:blip r:embed="rId9"/>
          <a:stretch/>
        </p:blipFill>
        <p:spPr>
          <a:xfrm>
            <a:off x="6095880" y="23623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6" descr=""/>
          <p:cNvPicPr/>
          <p:nvPr/>
        </p:nvPicPr>
        <p:blipFill>
          <a:blip r:embed="rId10"/>
          <a:stretch/>
        </p:blipFill>
        <p:spPr>
          <a:xfrm>
            <a:off x="3733920" y="23623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7" descr=""/>
          <p:cNvPicPr/>
          <p:nvPr/>
        </p:nvPicPr>
        <p:blipFill>
          <a:blip r:embed="rId11"/>
          <a:stretch/>
        </p:blipFill>
        <p:spPr>
          <a:xfrm>
            <a:off x="7162920" y="2362320"/>
            <a:ext cx="676080" cy="7491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8" descr=""/>
          <p:cNvPicPr/>
          <p:nvPr/>
        </p:nvPicPr>
        <p:blipFill>
          <a:blip r:embed="rId12"/>
          <a:stretch/>
        </p:blipFill>
        <p:spPr>
          <a:xfrm>
            <a:off x="4952880" y="2362320"/>
            <a:ext cx="6858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52680" y="16765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 весёлых медвеж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у на урок спеш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ля счёта по 3 ши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ли наши м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ть они забы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ши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ащ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1" descr="0009-036-A-v-etom-domike-zhili-tri-medvedja.png"/>
          <p:cNvPicPr/>
          <p:nvPr/>
        </p:nvPicPr>
        <p:blipFill>
          <a:blip r:embed="rId1"/>
          <a:stretch/>
        </p:blipFill>
        <p:spPr>
          <a:xfrm>
            <a:off x="457200" y="1981080"/>
            <a:ext cx="286236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3. Сообщения темы и целей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3. Созд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ситуации, в результате которого обучающиеся самостоятельно выдвинут цели урока в виде вопросов или гипот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Приёмы создания проблемной ситу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побуждающий ди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подводящий ди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6"/>
          <p:cNvCxnSpPr/>
          <p:nvPr/>
        </p:nvCxnSpPr>
        <p:spPr>
          <a:xfrm flipH="1">
            <a:off x="2666160" y="2057040"/>
            <a:ext cx="1143720" cy="1220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21"/>
          <p:cNvCxnSpPr/>
          <p:nvPr/>
        </p:nvCxnSpPr>
        <p:spPr>
          <a:xfrm>
            <a:off x="5028120" y="2057400"/>
            <a:ext cx="114372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ъ</cp:lastModifiedBy>
  <dcterms:modified xsi:type="dcterms:W3CDTF">2013-01-06T22:37:59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