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9D7-30F0-4DF5-8966-464B1723B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6799-0C4B-4359-937B-505BDD32A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8D83-AC03-4C07-9F8A-2D93F721B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B44B-8934-4938-8DED-482E1597D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F7D-1CFB-4C58-B913-82C1D1055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4352-4881-49EE-BA9B-B47071570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19E-3F2A-489A-A248-6FAC60478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A60-5669-4B09-99D5-EC3F4CF3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694-2352-4CF4-A22B-A8DFE5E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28-6249-434B-843D-C2DD9A9C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389-F6FB-424A-8810-B8F9610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12E-79C8-4305-81C9-CA3EB88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4C7-9567-4831-AA73-C71A89D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EAF-465F-4034-B6B2-1DF60BD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771-C755-47EE-AE1E-94A68FD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A7A-21C8-4AF8-A0C5-797CAB3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AF9-1055-4E7C-ABA3-3FEC5AF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044-42ED-4380-A8D5-9F9D45B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D45-B5B8-499C-8EC3-DFE9881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093B-1986-4078-B24C-923FD391A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5838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организации процесса обучения: традиции и иннова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OurNewSchool"/>
          <p:cNvPicPr/>
          <p:nvPr/>
        </p:nvPicPr>
        <p:blipFill>
          <a:blip r:embed="rId2"/>
          <a:stretch/>
        </p:blipFill>
        <p:spPr>
          <a:xfrm>
            <a:off x="7010280" y="533520"/>
            <a:ext cx="1981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Найти значение выражений: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4   7+3   10+3   9+2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ир налил во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 в б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. Л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лила во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 в ве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457200" y="533520"/>
            <a:ext cx="137160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7391520" y="335268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67080" y="2971800"/>
            <a:ext cx="2210040" cy="3048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  <a:ea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105520" y="533520"/>
            <a:ext cx="137160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057400" y="434340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057400" y="1828800"/>
            <a:ext cx="137160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911666.jpg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4.Объяснение нов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объясняет новый материал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4.Поиск решения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материал для наблюдения и систему вопросов. Новое знание обучающиеся получают в результате самостоятель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5.  Первичное 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обучающимися нового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5. Первичное закрепление с проговари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воения детьми нового способа действий при решении задач с их проговариванием во внешне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6.  Самостоятельная рабо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качества и уровня З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426"/>
                </a:solidFill>
                <a:latin typeface="Arial"/>
              </a:rPr>
              <a:t>6.   Самостоятельная работа с самопроверкой  ( взаимо проверк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го выполнения каждым обучающимся заданий на новый способ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самопроверки обучающимися своих решений по этало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для кажд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 возможности выявления причин ошибок и их ис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7.  Обобщение и системат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обучающихся по переводу отдельных знаний и умений в целостные системы внутри учебного предмета и межкурс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7.  Включение нового знания в систему знаний и повт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нового знания в систему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и закрепление ранее изученного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8.Итог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8. Рефлексия учебной деятельности на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бучающимися своей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езультатов своей деятельности и все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Вопросы для рефлекс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акую задачу стави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далось ли решить поставленную задач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м способ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получили результа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нужно сделать ещё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де можно применить новое зн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на уроке у вас хорошо получи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 чем ещё надо поработ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762120"/>
            <a:ext cx="8640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етодологической    осн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ГОС НОО является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Основная идея его состоит в том, что новые знания не даются в готовом виде. Дети  «открывают»  их  сами  в процессе самостоятельной исследователь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Домашнее задание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язательная часть – посильную для каждого ребёнка на вариативной основе и с творческим компонен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язательная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9.Информация о домашнем задании, инструктаж по его выпол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домашнего зад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 по его выпол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Информация о домашнем задании входит в этап рефлексии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язательный этап урок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7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1"/>
          <a:stretch/>
        </p:blipFill>
        <p:spPr>
          <a:xfrm>
            <a:off x="785880" y="30718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2895480" y="914400"/>
            <a:ext cx="5639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ВНИМ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86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304920"/>
            <a:ext cx="8640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Типы уроков по новым стандар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изучения и первичного закрепления знаний (УИ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закреплений знаний и выработка умений (УЗЗВ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комплексного использования знаний (УКИ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обобщения и систематизации знаний (УОС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рок проверки, оценки и контроля знаний (УПОК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57400"/>
            <a:ext cx="3733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4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Орг.моме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ка готовности обучающихся к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057400"/>
            <a:ext cx="4041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4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Создание эмоц. настроя. Введение в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мотивация      (самоопределение)   обучающихся к  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574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2. Проверка выполнения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2. Актуализация и фиксация затруднений 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подготовки и мотивации  к изучению материала, необходимого для «открытия нового знан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 затруднения в деятельности каждого обучаю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" y="419076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2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2+2+2+2+2+2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3+3+3+3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4+4+4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6+6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685800" cy="749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3"/>
          <a:stretch/>
        </p:blipFill>
        <p:spPr>
          <a:xfrm>
            <a:off x="449568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5"/>
          <a:stretch/>
        </p:blipFill>
        <p:spPr>
          <a:xfrm>
            <a:off x="838080" y="2362320"/>
            <a:ext cx="762120" cy="672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"/>
          <p:cNvPicPr/>
          <p:nvPr/>
        </p:nvPicPr>
        <p:blipFill>
          <a:blip r:embed="rId6"/>
          <a:stretch/>
        </p:blipFill>
        <p:spPr>
          <a:xfrm>
            <a:off x="2057400" y="2362320"/>
            <a:ext cx="685800" cy="672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"/>
          <p:cNvPicPr/>
          <p:nvPr/>
        </p:nvPicPr>
        <p:blipFill>
          <a:blip r:embed="rId7"/>
          <a:stretch/>
        </p:blipFill>
        <p:spPr>
          <a:xfrm>
            <a:off x="3276720" y="914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"/>
          <p:cNvPicPr/>
          <p:nvPr/>
        </p:nvPicPr>
        <p:blipFill>
          <a:blip r:embed="rId8"/>
          <a:stretch/>
        </p:blipFill>
        <p:spPr>
          <a:xfrm>
            <a:off x="7543800" y="914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"/>
          <p:cNvPicPr/>
          <p:nvPr/>
        </p:nvPicPr>
        <p:blipFill>
          <a:blip r:embed="rId9"/>
          <a:stretch/>
        </p:blipFill>
        <p:spPr>
          <a:xfrm>
            <a:off x="6095880" y="23623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"/>
          <p:cNvPicPr/>
          <p:nvPr/>
        </p:nvPicPr>
        <p:blipFill>
          <a:blip r:embed="rId10"/>
          <a:stretch/>
        </p:blipFill>
        <p:spPr>
          <a:xfrm>
            <a:off x="3733920" y="23623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"/>
          <p:cNvPicPr/>
          <p:nvPr/>
        </p:nvPicPr>
        <p:blipFill>
          <a:blip r:embed="rId11"/>
          <a:stretch/>
        </p:blipFill>
        <p:spPr>
          <a:xfrm>
            <a:off x="7162920" y="2362320"/>
            <a:ext cx="676080" cy="749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8" descr=""/>
          <p:cNvPicPr/>
          <p:nvPr/>
        </p:nvPicPr>
        <p:blipFill>
          <a:blip r:embed="rId12"/>
          <a:stretch/>
        </p:blipFill>
        <p:spPr>
          <a:xfrm>
            <a:off x="4952880" y="2362320"/>
            <a:ext cx="685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680" y="16765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 весёлых медвеж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на урок спеш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счёта по 3 ш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ли наши м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ть они забы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ши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ащ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1" descr="0009-036-A-v-etom-domike-zhili-tri-medvedja.png"/>
          <p:cNvPicPr/>
          <p:nvPr/>
        </p:nvPicPr>
        <p:blipFill>
          <a:blip r:embed="rId1"/>
          <a:stretch/>
        </p:blipFill>
        <p:spPr>
          <a:xfrm>
            <a:off x="457200" y="1981080"/>
            <a:ext cx="286236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Тради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574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3. Сообщения темы и целей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520" y="10663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Урок в рамках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0574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Arial"/>
              </a:rPr>
              <a:t>3. 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, в результате которого обучающиеся самостоятельно выдвинут цели урока в виде вопросов или гипот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426"/>
                </a:solidFill>
                <a:uFillTx/>
                <a:latin typeface="Times New Roman"/>
                <a:ea typeface="Times New Roman"/>
              </a:rPr>
              <a:t>Приёмы создания проблемной ситу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побуждающий 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подводящий 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6"/>
          <p:cNvCxnSpPr/>
          <p:nvPr/>
        </p:nvCxnSpPr>
        <p:spPr>
          <a:xfrm flipH="1">
            <a:off x="2666160" y="2057040"/>
            <a:ext cx="1143720" cy="1220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21"/>
          <p:cNvCxnSpPr/>
          <p:nvPr/>
        </p:nvCxnSpPr>
        <p:spPr>
          <a:xfrm>
            <a:off x="5028120" y="2057400"/>
            <a:ext cx="114372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ъ</cp:lastModifiedBy>
  <dcterms:modified xsi:type="dcterms:W3CDTF">2013-01-06T22:37:59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