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F27-318C-4612-BD80-55C66617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BD3-C97B-44D2-973F-8115AC5C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510-0A59-4368-9B98-AC727A62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798-88A3-479F-BCB9-61DBD1A3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C0B1-FC67-4A07-83B5-1C6B13A3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4AE5-85C4-4395-BCEE-0F9BC3BA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DB8-205C-43FC-ADEC-D72DC38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8FF9-BCF5-423D-904D-C3C012E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DE20-DCA7-4CAE-A05A-1852F939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EAFE-F0D2-4500-8C8D-3AA3B58F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5994-52BA-409F-A2D0-3472867B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E51-CA8B-4BB7-BBCC-BF1B6045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2F0F-ABEB-4AD6-8132-595C18E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8EFF-190C-436E-BC79-2EED586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A95F-83D7-4BB5-A1AC-EC4BC318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DAF4-D62F-41AF-BFD4-9479BAD5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06AE-1A35-4CD2-B107-DEB6701F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E52-B0DE-4343-88C7-FCE4F726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4CC-2D50-43F3-88FC-EAD69247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D36-D89F-4559-B0AE-F119BCFF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C82-0409-479A-A67A-EE08569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400-18EA-4D9E-A48F-019A72A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F40-E977-452E-99F6-B0E7BE82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CE4-CF5C-43D6-B827-F7C6B442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B448-AA67-4C91-AC44-325DB6C74F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026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0" name="Rectangle 1027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Rectangle 1028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2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F81A-45EE-46B1-A09C-2EF3F62E774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visitka/vizitka.doc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7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eb00b"/>
                </a:solidFill>
                <a:latin typeface="Times New Roman"/>
              </a:rPr>
              <a:t>        </a:t>
            </a:r>
            <a:r>
              <a:rPr b="1" i="1" lang="ru-RU" sz="6000" spc="-1" strike="noStrike">
                <a:solidFill>
                  <a:srgbClr val="eeb00b"/>
                </a:solidFill>
                <a:latin typeface="Times New Roman"/>
              </a:rPr>
              <a:t>ПРОЕКТ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-500040" y="1428840"/>
            <a:ext cx="8110440" cy="29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о питаешьс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–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учше бегаеш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929040" y="4734000"/>
            <a:ext cx="3733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втор: Пестрикова Т.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тель физической культуры МБОУ «Новогеоргиевская СОШ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ритерии оценивания презентаци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65B6-A029-4557-B7E3-250535CF0A6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2049480"/>
          <a:ext cx="7191360" cy="4240080"/>
        </p:xfrm>
        <a:graphic>
          <a:graphicData uri="http://schemas.openxmlformats.org/drawingml/2006/table">
            <a:tbl>
              <a:tblPr/>
              <a:tblGrid>
                <a:gridCol w="4977000"/>
                <a:gridCol w="1320840"/>
                <a:gridCol w="893520"/>
              </a:tblGrid>
              <a:tr h="48420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ЗДАНИЕ СЛАЙДОВ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симальное количество баллов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енка учителя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итульный слайд с заголовком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Минимальное количество – 10 слайдов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пользование дополнительных эффектов </a:t>
                      </a: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werPoint</a:t>
                      </a: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(смена слайдов, звук, графики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иблиография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пользование эффектов анимации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ставка таблиц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ыводы, обоснованные с научной точки зрения, основанные на данных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Грамотное создание и сохранение документов в папке рабочих материалов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екст хорошо написан и сформированные идеи ясно изложены и структурированы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лайды представлены в логической последовательности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расивое оформление презентации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eaeaea"/>
                          </a:solidFill>
                          <a:latin typeface="Calibri"/>
                        </a:rPr>
                        <a:t>ОБЩИЕ БАЛЛЫ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кончательная оценка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AFA6-B826-4E39-9332-D23B896FB94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571680" y="357120"/>
            <a:ext cx="8358120" cy="16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мире спорта ещ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ного интерес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2133720"/>
            <a:ext cx="54104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b00b"/>
                </a:solidFill>
                <a:latin typeface="Times New Roman"/>
              </a:rPr>
              <a:t>Многое мы будем рассматривать на тренировках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905120" y="55627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0b5b"/>
                </a:solidFill>
                <a:latin typeface="Times New Roman"/>
              </a:rPr>
              <a:t>До встречи на тренировке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CB3A-3B5D-4982-8F6F-8BE5AB99081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29040" y="609480"/>
            <a:ext cx="4335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УЧАСТНИКИ ПРОЕКТА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еники 10-11 класс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физической культур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765160" y="2590920"/>
            <a:ext cx="4133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ВРЕМЯ ПРОВЕДЕНИ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Послеурочное врем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010840" y="4572000"/>
            <a:ext cx="41446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МЕСТО ПРОВЕДЕНИ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портивный за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Компьютерный клас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AutoShape 5">
            <a:hlinkClick r:id="" action="ppaction://hlinkshowjump?jump=nextslide"/>
          </p:cNvPr>
          <p:cNvSpPr/>
          <p:nvPr/>
        </p:nvSpPr>
        <p:spPr>
          <a:xfrm>
            <a:off x="824400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5753" y="3794"/>
                </a:moveTo>
                <a:lnTo>
                  <a:pt x="19766" y="10800"/>
                </a:lnTo>
                <a:lnTo>
                  <a:pt x="5753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6CF-FECE-48DF-96A2-3E0E6EBD66A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Цели и задачи проек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идактические цел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ривлечение старших школьников к теоретической работе с младшим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 Ознакомление учеников с основными принципами правильного питания легкоатлетов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Методические задач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 научить обрабатывать, обобщать  и применять в тренировочном процессе полученную информацию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  научить применять новые компьютерные технолог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Picture 4" descr="nature03"/>
          <p:cNvPicPr/>
          <p:nvPr/>
        </p:nvPicPr>
        <p:blipFill>
          <a:blip r:embed="rId1"/>
          <a:stretch/>
        </p:blipFill>
        <p:spPr>
          <a:xfrm>
            <a:off x="8001000" y="3049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7983-40FC-4A5A-84C6-F9BB458CF57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9984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Times New Roman"/>
              </a:rPr>
              <a:t>Учебный план проекта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Презентация проект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Осознание проблемы и формулировка                    основополагающего вопрос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Формулировка проблемных вопрос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оздание групп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Поиск материала (библиотека, Интернет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оздание презентации, буклет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Формулировка вывод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Оценка результат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AutoShape 7">
            <a:hlinkClick r:id="" action="ppaction://hlinkshowjump?jump=nextslide"/>
          </p:cNvPr>
          <p:cNvSpPr/>
          <p:nvPr/>
        </p:nvSpPr>
        <p:spPr>
          <a:xfrm>
            <a:off x="86104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13" descr="nature03"/>
          <p:cNvPicPr/>
          <p:nvPr/>
        </p:nvPicPr>
        <p:blipFill>
          <a:blip r:embed="rId1"/>
          <a:stretch/>
        </p:blipFill>
        <p:spPr>
          <a:xfrm>
            <a:off x="8001000" y="304920"/>
            <a:ext cx="8002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2339-3466-4474-A238-BC4EBC79FF1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028"/>
          <p:cNvSpPr/>
          <p:nvPr/>
        </p:nvSpPr>
        <p:spPr>
          <a:xfrm>
            <a:off x="121932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031"/>
          <p:cNvSpPr/>
          <p:nvPr/>
        </p:nvSpPr>
        <p:spPr>
          <a:xfrm>
            <a:off x="5029200" y="5105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AutoShape 1032">
            <a:hlinkClick r:id="" action="ppaction://hlinkshowjump?jump=nextslide"/>
          </p:cNvPr>
          <p:cNvSpPr/>
          <p:nvPr/>
        </p:nvSpPr>
        <p:spPr>
          <a:xfrm>
            <a:off x="77724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1034" descr="nature03"/>
          <p:cNvPicPr/>
          <p:nvPr/>
        </p:nvPicPr>
        <p:blipFill>
          <a:blip r:embed="rId1"/>
          <a:stretch/>
        </p:blipFill>
        <p:spPr>
          <a:xfrm>
            <a:off x="7924680" y="38088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9"/>
          <p:cNvSpPr/>
          <p:nvPr/>
        </p:nvSpPr>
        <p:spPr>
          <a:xfrm>
            <a:off x="1397160" y="1197000"/>
            <a:ext cx="7043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66"/>
                </a:solidFill>
                <a:uFillTx/>
                <a:latin typeface="Times New Roman"/>
              </a:rPr>
              <a:t>ТЕМА ПРОЕКТА: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Питание – важный этап подготовки легкоатлет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66"/>
                </a:solidFill>
                <a:uFillTx/>
                <a:latin typeface="Times New Roman"/>
              </a:rPr>
              <a:t>ОСНОВОПОЛАГАЮЩИЙ ВОПРОС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балансированность пищ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66"/>
                </a:solidFill>
                <a:uFillTx/>
                <a:latin typeface="Times New Roman"/>
              </a:rPr>
              <a:t>ПРОБЛЕМНЫЕ ВОПРОСЫ УЧЕБНОЙ ТЕМЫ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1. Белки , жиры и углевод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2. Сбалансированная пищ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3. Питание легкоатлет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040"/>
          <p:cNvSpPr/>
          <p:nvPr/>
        </p:nvSpPr>
        <p:spPr>
          <a:xfrm>
            <a:off x="147636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ВОПРОСЫ ПРОЕКТ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97C6-DEDB-4E66-909A-89B0A14330F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AutoShape 1030">
            <a:hlinkClick r:id="" action="ppaction://hlinkshowjump?jump=nextslide"/>
          </p:cNvPr>
          <p:cNvSpPr/>
          <p:nvPr/>
        </p:nvSpPr>
        <p:spPr>
          <a:xfrm>
            <a:off x="80010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1032" descr="nature03"/>
          <p:cNvPicPr/>
          <p:nvPr/>
        </p:nvPicPr>
        <p:blipFill>
          <a:blip r:embed="rId1"/>
          <a:stretch/>
        </p:blipFill>
        <p:spPr>
          <a:xfrm>
            <a:off x="228600" y="55627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35"/>
          <p:cNvSpPr/>
          <p:nvPr/>
        </p:nvSpPr>
        <p:spPr>
          <a:xfrm>
            <a:off x="1002600" y="838080"/>
            <a:ext cx="821844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ОФОРМЛЕНИЕ РЕЗУЛЬТАТОВ РАБОТЫ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Группа № 1: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Создание буклета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Группа № 2:    Создание презентации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413E-CF4E-4A02-84A7-6BFE6B85CAF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AutoShape 9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11" descr="nature03"/>
          <p:cNvPicPr/>
          <p:nvPr/>
        </p:nvPicPr>
        <p:blipFill>
          <a:blip r:embed="rId1"/>
          <a:stretch/>
        </p:blipFill>
        <p:spPr>
          <a:xfrm>
            <a:off x="8001000" y="60948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126" name="Line 12"/>
          <p:cNvSpPr/>
          <p:nvPr/>
        </p:nvSpPr>
        <p:spPr>
          <a:xfrm>
            <a:off x="9144000" y="3505320"/>
            <a:ext cx="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303920" y="762120"/>
            <a:ext cx="723924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       </a:t>
            </a:r>
            <a:r>
              <a:rPr b="1" i="1" lang="ru-RU" sz="3600" spc="-1" strike="noStrike" u="sng">
                <a:solidFill>
                  <a:srgbClr val="ff33cc"/>
                </a:solidFill>
                <a:uFillTx/>
                <a:latin typeface="Times New Roman"/>
              </a:rPr>
              <a:t>РЕЗУЛЬТАТ ПРОЕКТА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НАЛИЗ  ПРОЕК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НАЛИЗ АКТИВНОСТИ ГРУПП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ОЦЕНКА КОМПЬЮТЕРНОЙ ГРАМОТНОСТ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НАЛИЗ НАВЫКОВ КОЛЛЕКТИВНОЙ РАБОТЫ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F8AB-69A1-409B-97F1-4C08FC9DF4E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Материалы проек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500040"/>
            <a:ext cx="77724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Описание проект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Примеры работ учащихс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презентац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букле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Критерии оценив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буклет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презент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Методические материал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резентация проект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b70992"/>
                </a:solidFill>
                <a:latin typeface="Times New Roman"/>
              </a:rPr>
              <a:t>Материалы из Интернет и библиоте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4" descr="nature03"/>
          <p:cNvPicPr/>
          <p:nvPr/>
        </p:nvPicPr>
        <p:blipFill>
          <a:blip r:embed="rId2"/>
          <a:stretch/>
        </p:blipFill>
        <p:spPr>
          <a:xfrm>
            <a:off x="7924680" y="2286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5">
            <a:hlinkClick r:id="" action="ppaction://hlinkshowjump?jump=nextslide"/>
          </p:cNvPr>
          <p:cNvSpPr/>
          <p:nvPr/>
        </p:nvSpPr>
        <p:spPr>
          <a:xfrm>
            <a:off x="80773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ритерии оценивания букл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F3EF-7C4D-4631-8813-410A21066E7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66880" y="1397160"/>
          <a:ext cx="6877080" cy="4817880"/>
        </p:xfrm>
        <a:graphic>
          <a:graphicData uri="http://schemas.openxmlformats.org/drawingml/2006/table">
            <a:tbl>
              <a:tblPr/>
              <a:tblGrid>
                <a:gridCol w="1019160"/>
                <a:gridCol w="2347920"/>
                <a:gridCol w="3510000"/>
              </a:tblGrid>
              <a:tr h="43488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изайн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8576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ыполнена творчески. В ней использованы 2 или более графических изображения.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пользуется фактическая информация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деи полностью описаны и раскрыты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300"/>
                        </a:spcAft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ключает в себя 3 умозаключения (или более), полученные на основе проведенных исследований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ыполнена творчески. 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 ней использовано 1 графическое изображение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пользуется фактическая информация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деи описаны почти полностью.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300"/>
                        </a:spcAft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ключает в себя не менее 3-х умозаключений, полученных на основе проведенных исследован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ключает 1 или более графических объектов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формация – по большей части фактическая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деи – описаны не полностью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Умозаключения есть, но они незначительные.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не завершена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формация не носит фактического характера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деи носят фрагментарный характер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300"/>
                        </a:spcAft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Умозаключения есть, но они не относятся к тематике публикации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5:20:28Z</dcterms:created>
  <dc:creator>Vadim</dc:creator>
  <dc:description/>
  <dc:language>en-US</dc:language>
  <cp:lastModifiedBy>анна</cp:lastModifiedBy>
  <dcterms:modified xsi:type="dcterms:W3CDTF">2013-03-21T06:52:54Z</dcterms:modified>
  <cp:revision>60</cp:revision>
  <dc:subject/>
  <dc:title>Обычное в необычном</dc:title>
</cp:coreProperties>
</file>