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C7F-1A74-4D2A-82C8-B1F44D35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983-835D-4A17-9752-EA94067E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513-62FD-42DE-AF60-092A6972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D9F-F3C9-40EF-A21B-BE7CA6D1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57DD-6A5B-4589-8F3F-44A3DAFF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1B38-C334-4551-B39F-B307BC8C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2E99-1F35-4F09-B2D6-B53B8185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8938-FBBF-4CEF-BB0D-93679F7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68AD-A11E-475E-819E-7335FEB9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3EA-F697-4A34-ABD3-46D2CC6A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7E1B-4CFE-420D-BBCA-8EABEA4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00B-B0B9-4C8B-A563-5F3C9F21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4BB6-11D2-4BF8-BD01-CDC35C88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78C-6612-4C8B-AA29-A41AF0A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841A-805F-493B-9411-98194DCE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21E5-1322-4299-8362-F4F5E9CC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9D3A-0DC0-4A95-BB5F-D589F3DA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387-65AA-478F-88C1-50A1642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5F3-08E7-47C1-A597-F297C6A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C54-ED15-497E-9A6B-E7228EB6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F9C-BFC8-47A4-AC53-6AB1342C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02E-54B5-4BE4-BFB7-BD7B7AE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71C-BE54-4D56-8729-2E46B52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495-E8A8-4213-98A0-A7104C4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759-47CA-4FF7-82AA-3E1B82F8FD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026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0" name="Rectangle 1027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Rectangle 1028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2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87B5-6130-4838-8C8C-1DA90F331FE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visitka/vizitka.doc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7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eb00b"/>
                </a:solidFill>
                <a:latin typeface="Times New Roman"/>
              </a:rPr>
              <a:t>        </a:t>
            </a:r>
            <a:r>
              <a:rPr b="1" i="1" lang="ru-RU" sz="6000" spc="-1" strike="noStrike">
                <a:solidFill>
                  <a:srgbClr val="eeb00b"/>
                </a:solidFill>
                <a:latin typeface="Times New Roman"/>
              </a:rPr>
              <a:t>ПРОЕКТ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-500040" y="1428840"/>
            <a:ext cx="8110440" cy="29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о питаешьс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–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чше бегаеш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929040" y="4734000"/>
            <a:ext cx="3733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втор: Пестрикова Т.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тель физической культуры МБОУ «Новогеоргиевская СОШ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ритерии оценивания презентаци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48A-B766-41D4-87CD-61EFFAEB18C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2049480"/>
          <a:ext cx="7191360" cy="4240080"/>
        </p:xfrm>
        <a:graphic>
          <a:graphicData uri="http://schemas.openxmlformats.org/drawingml/2006/table">
            <a:tbl>
              <a:tblPr/>
              <a:tblGrid>
                <a:gridCol w="4977000"/>
                <a:gridCol w="1320840"/>
                <a:gridCol w="893520"/>
              </a:tblGrid>
              <a:tr h="4842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ЗДАНИЕ СЛАЙД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симальное количество балл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ка учителя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итульный слайд с заголовком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Минимальное количество – 10 слайд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ование дополнительных эффектов </a:t>
                      </a: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werPoint</a:t>
                      </a: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(смена слайдов, звук, графики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иблиография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ование эффектов анимации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ставка таблиц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ыводы, обоснованные с научной точки зрения, основанные на данных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Грамотное создание и сохранение документов в папке рабочих материалов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екст хорошо написан и сформированные идеи ясно изложены и структурированы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лайды представлены в логической последовательности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0040" rIns="50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расивое оформление презентации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eaeaea"/>
                          </a:solidFill>
                          <a:latin typeface="Calibri"/>
                        </a:rPr>
                        <a:t>ОБЩИЕ БАЛЛЫ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кончательная оценка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29BC-4E8A-434B-A659-B1870DE8806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571680" y="357120"/>
            <a:ext cx="8358120" cy="16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мире спорта ещ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ного интерес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2133720"/>
            <a:ext cx="5410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b00b"/>
                </a:solidFill>
                <a:latin typeface="Times New Roman"/>
              </a:rPr>
              <a:t>Многое мы будем рассматривать на тренировках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905120" y="55627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0b5b"/>
                </a:solidFill>
                <a:latin typeface="Times New Roman"/>
              </a:rPr>
              <a:t>До встречи на тренировке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7DCF-968D-4AB4-8725-DEC0586DED2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29040" y="609480"/>
            <a:ext cx="4335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УЧАСТНИКИ ПРОЕКТА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еники 10-11 класс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физической культур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765160" y="2590920"/>
            <a:ext cx="4133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ВРЕМЯ ПРОВЕДЕНИ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ослеурочное врем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010840" y="4572000"/>
            <a:ext cx="41446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МЕСТО ПРОВЕДЕНИ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портивный за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Компьютерный клас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AutoShape 5">
            <a:hlinkClick r:id="" action="ppaction://hlinkshowjump?jump=nextslide"/>
          </p:cNvPr>
          <p:cNvSpPr/>
          <p:nvPr/>
        </p:nvSpPr>
        <p:spPr>
          <a:xfrm>
            <a:off x="824400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5753" y="3794"/>
                </a:moveTo>
                <a:lnTo>
                  <a:pt x="19766" y="10800"/>
                </a:lnTo>
                <a:lnTo>
                  <a:pt x="5753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9B42-F93F-41E5-BD80-AAB95CB47D6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Цели и задачи проек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идактические ц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ривлечение старших школьников к теоретической работе с младшим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 Ознакомление учеников с основными принципами правильного питания легкоатлетов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Методические задач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 научить обрабатывать, обобщать  и применять в тренировочном процессе полученную информацию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  научить применять новые компьютерные технолог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4" descr="nature03"/>
          <p:cNvPicPr/>
          <p:nvPr/>
        </p:nvPicPr>
        <p:blipFill>
          <a:blip r:embed="rId1"/>
          <a:stretch/>
        </p:blipFill>
        <p:spPr>
          <a:xfrm>
            <a:off x="8001000" y="3049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5CCD-EED2-4FAF-A73C-EBFBE44B3C3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9984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Times New Roman"/>
              </a:rPr>
              <a:t>Учебный план проекта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резентация проект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Осознание проблемы и формулировка                    основополагающего вопро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Формулировка проблемных вопрос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оздание групп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оиск материала (библиотека, Интернет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оздание презентации, буклет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Формулировка вывод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280" indent="-442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Оценка результат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AutoShape 7">
            <a:hlinkClick r:id="" action="ppaction://hlinkshowjump?jump=nextslide"/>
          </p:cNvPr>
          <p:cNvSpPr/>
          <p:nvPr/>
        </p:nvSpPr>
        <p:spPr>
          <a:xfrm>
            <a:off x="86104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13" descr="nature03"/>
          <p:cNvPicPr/>
          <p:nvPr/>
        </p:nvPicPr>
        <p:blipFill>
          <a:blip r:embed="rId1"/>
          <a:stretch/>
        </p:blipFill>
        <p:spPr>
          <a:xfrm>
            <a:off x="8001000" y="304920"/>
            <a:ext cx="8002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BE83-C87F-48E4-9945-DB8D41E5A4C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121932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031"/>
          <p:cNvSpPr/>
          <p:nvPr/>
        </p:nvSpPr>
        <p:spPr>
          <a:xfrm>
            <a:off x="5029200" y="5105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AutoShape 1032">
            <a:hlinkClick r:id="" action="ppaction://hlinkshowjump?jump=nextslide"/>
          </p:cNvPr>
          <p:cNvSpPr/>
          <p:nvPr/>
        </p:nvSpPr>
        <p:spPr>
          <a:xfrm>
            <a:off x="77724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1034" descr="nature03"/>
          <p:cNvPicPr/>
          <p:nvPr/>
        </p:nvPicPr>
        <p:blipFill>
          <a:blip r:embed="rId1"/>
          <a:stretch/>
        </p:blipFill>
        <p:spPr>
          <a:xfrm>
            <a:off x="7924680" y="38088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9"/>
          <p:cNvSpPr/>
          <p:nvPr/>
        </p:nvSpPr>
        <p:spPr>
          <a:xfrm>
            <a:off x="1397160" y="1197000"/>
            <a:ext cx="7043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66"/>
                </a:solidFill>
                <a:uFillTx/>
                <a:latin typeface="Times New Roman"/>
              </a:rPr>
              <a:t>ТЕМА ПРОЕКТА: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Питание – важный этап подготовки легкоатлет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66"/>
                </a:solidFill>
                <a:uFillTx/>
                <a:latin typeface="Times New Roman"/>
              </a:rPr>
              <a:t>ОСНОВОПОЛАГАЮЩИЙ ВОПРОС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балансированность пищ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66"/>
                </a:solidFill>
                <a:uFillTx/>
                <a:latin typeface="Times New Roman"/>
              </a:rPr>
              <a:t>ПРОБЛЕМНЫЕ ВОПРОСЫ УЧЕБНОЙ ТЕМЫ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1. Белки , жиры и углевод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2. Сбалансированная пищ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3. Питание легкоатлет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040"/>
          <p:cNvSpPr/>
          <p:nvPr/>
        </p:nvSpPr>
        <p:spPr>
          <a:xfrm>
            <a:off x="147636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ВОПРОСЫ ПРОЕКТ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5372-5D86-4408-BBD4-25116B77AE6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AutoShape 1030">
            <a:hlinkClick r:id="" action="ppaction://hlinkshowjump?jump=nextslide"/>
          </p:cNvPr>
          <p:cNvSpPr/>
          <p:nvPr/>
        </p:nvSpPr>
        <p:spPr>
          <a:xfrm>
            <a:off x="80010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1032" descr="nature03"/>
          <p:cNvPicPr/>
          <p:nvPr/>
        </p:nvPicPr>
        <p:blipFill>
          <a:blip r:embed="rId1"/>
          <a:stretch/>
        </p:blipFill>
        <p:spPr>
          <a:xfrm>
            <a:off x="228600" y="55627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35"/>
          <p:cNvSpPr/>
          <p:nvPr/>
        </p:nvSpPr>
        <p:spPr>
          <a:xfrm>
            <a:off x="1002600" y="838080"/>
            <a:ext cx="82184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ОФОРМЛЕНИЕ РЕЗУЛЬТАТОВ РАБОТЫ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Группа № 1: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Создание буклета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Группа № 2:    Создание презентации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E8D-DB8B-4487-8FC2-0E51BB3BE22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AutoShape 9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11" descr="nature03"/>
          <p:cNvPicPr/>
          <p:nvPr/>
        </p:nvPicPr>
        <p:blipFill>
          <a:blip r:embed="rId1"/>
          <a:stretch/>
        </p:blipFill>
        <p:spPr>
          <a:xfrm>
            <a:off x="8001000" y="60948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26" name="Line 12"/>
          <p:cNvSpPr/>
          <p:nvPr/>
        </p:nvSpPr>
        <p:spPr>
          <a:xfrm>
            <a:off x="9144000" y="3505320"/>
            <a:ext cx="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303920" y="762120"/>
            <a:ext cx="723924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       </a:t>
            </a:r>
            <a:r>
              <a:rPr b="1" i="1" lang="ru-RU" sz="3600" spc="-1" strike="noStrike" u="sng">
                <a:solidFill>
                  <a:srgbClr val="ff33cc"/>
                </a:solidFill>
                <a:uFillTx/>
                <a:latin typeface="Times New Roman"/>
              </a:rPr>
              <a:t>РЕЗУЛЬТАТ ПРОЕКТА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НАЛИЗ  ПРОЕК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НАЛИЗ АКТИВНОСТИ ГРУПП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ОЦЕНКА КОМПЬЮТЕРНОЙ ГРАМОТНОСТ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НАЛИЗ НАВЫКОВ КОЛЛЕКТИВНОЙ РАБОТЫ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0638-93C3-46A5-A529-CAFEEB9DC10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Материалы проек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500040"/>
            <a:ext cx="77724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Описание проект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Примеры работ учащихс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презентац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букле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ритерии оценив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буклет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презент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Методические материал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езентация проект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b70992"/>
                </a:solidFill>
                <a:latin typeface="Times New Roman"/>
              </a:rPr>
              <a:t>Материалы из Интернет и библиоте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nature03"/>
          <p:cNvPicPr/>
          <p:nvPr/>
        </p:nvPicPr>
        <p:blipFill>
          <a:blip r:embed="rId2"/>
          <a:stretch/>
        </p:blipFill>
        <p:spPr>
          <a:xfrm>
            <a:off x="7924680" y="2286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5">
            <a:hlinkClick r:id="" action="ppaction://hlinkshowjump?jump=nextslide"/>
          </p:cNvPr>
          <p:cNvSpPr/>
          <p:nvPr/>
        </p:nvSpPr>
        <p:spPr>
          <a:xfrm>
            <a:off x="80773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ритерии оценивания букл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D997-D20B-4C8E-AA08-1C0D007229C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66880" y="1397160"/>
          <a:ext cx="6877080" cy="4817880"/>
        </p:xfrm>
        <a:graphic>
          <a:graphicData uri="http://schemas.openxmlformats.org/drawingml/2006/table">
            <a:tbl>
              <a:tblPr/>
              <a:tblGrid>
                <a:gridCol w="1019160"/>
                <a:gridCol w="2347920"/>
                <a:gridCol w="3510000"/>
              </a:tblGrid>
              <a:tr h="43488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изайн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8576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ыполнена творчески. В ней использованы 2 или более графических изображения.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уется фактическая информация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полностью описаны и раскрыты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300"/>
                        </a:spcAft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ключает в себя 3 умозаключения (или более), полученные на основе проведенных исследований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ыполнена творчески. 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 ней использовано 1 графическое изображение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пользуется фактическая информация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описаны почти полностью.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300"/>
                        </a:spcAft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ключает в себя не менее 3-х умозаключений, полученных на основе проведенных исследован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включает 1 или более графических объектов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формация – по большей части фактическая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– описаны не полностью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Умозаключения есть, но они незначительные.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бота не завершена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300"/>
                        </a:spcBef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формация не носит фактического характера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деи носят фрагментарный характер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300"/>
                        </a:spcAft>
                        <a:buClr>
                          <a:srgbClr val="eaeaea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Умозаключения есть, но они не относятся к тематике публикации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5:20:28Z</dcterms:created>
  <dc:creator>Vadim</dc:creator>
  <dc:description/>
  <dc:language>en-US</dc:language>
  <cp:lastModifiedBy>анна</cp:lastModifiedBy>
  <dcterms:modified xsi:type="dcterms:W3CDTF">2013-03-21T06:52:54Z</dcterms:modified>
  <cp:revision>60</cp:revision>
  <dc:subject/>
  <dc:title>Обычное в необычном</dc:title>
</cp:coreProperties>
</file>