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7.jpeg" ContentType="image/jpeg"/>
  <Override PartName="/ppt/media/image50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611-50BA-4B8D-AD0E-6C359630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7B3-3AB5-4A4E-BD66-A832730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B3E-9AFE-46E7-B2D3-216EAA3D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E37-4183-4648-A153-885A0D3C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21E0-C2FD-4494-9432-8E4DBB42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59AA-CF41-4BF3-8EF2-2E40E5F0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5F64-F5A5-4A0E-9D5C-780219B6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09DE-292E-4641-ACB5-A18C850A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1228-AE6C-408C-BF9A-9383E57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E8C2-C53A-43D0-B694-300C05A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4BE2-E998-4BCE-864D-A33E48D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9EC-1C1E-4739-97A3-EFDD944D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D7A1-F66F-4114-B52A-99458AC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C04-1736-4E51-8119-2671CA2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726F-11B2-4B75-8C3E-BFCE87CA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560-E5CC-4C35-B5A6-FEDE5FD4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2614-A45A-445E-8D2F-38728D04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6634-39F2-40C6-AD31-49AFB58C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B694-C87B-4FEB-A0C7-E0B1A629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6CAD-964F-4DC0-B39C-E39A4DEB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686B-E1DC-4240-A105-2E760A5F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C802-F93A-4C68-821F-8F0E72C9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092-BD87-4445-878A-49D4E62C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92AA-EA49-44F0-A83E-9529F27A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C118-7822-4975-8758-88F38B3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9C6D-E1A6-4027-BDD9-99310E6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1207-F522-49A0-B357-B722D24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968E-4EA1-4F6D-96CA-9DD0C18B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3239-0F75-4F10-A730-FE6D958C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1C04-2283-498B-8047-7BC8D9AA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E9496-1A92-4890-B6AB-6892D88C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2E2E-4A4E-452D-9F95-DFC4E351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7622-3BA6-4C00-894D-48483056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AA8-D987-44A3-BDAB-F36CF49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885F-9E2A-48C0-A6B0-1B6D3F1C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A6342-CF14-4E05-9667-09784468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948D-820B-45A0-AC42-9DD0B73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3FCB-F849-461E-98EB-BA8C7B6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5704-E25C-46B1-A229-C5C6748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5EE0-9C4D-4AF6-9433-95425C46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E790-FE59-458F-A050-9D54BD2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4E1A-7E4F-4B1F-BB48-1B98FEC9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3913-9C8A-4FE1-BF2F-FD85E808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3F44-7AC6-4188-B2E6-A6DAA001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2EC-B55A-4EEC-8722-6626BC2F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A727F-8861-45EC-8C74-E6F8F3C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B255-E5A4-4ACB-806E-2F1E3E6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0643-A793-4540-A1EA-75642FB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E60D-F160-44E1-9A57-A95C80D9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188A-D41A-4CCF-A37A-682FF4D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6ACA-AF92-4479-87DA-F04575B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E5A8-5DB8-4E81-8198-25D330D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9579-BBD0-4D0A-B219-A17233D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A43B-2763-4464-98E1-E6FF0CEF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6862-B31E-414B-8CD9-6117C7CB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60D-43B1-4E46-A51E-BF5CD6E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2ABA-C97C-4787-9874-AC5E1CFA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0B2-34A0-4F6B-85CF-BCDBBB1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E2E-171B-4F40-A670-B98319A3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43A-1DB7-4838-B028-B854D10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49.xml"/><Relationship Id="rId25" Type="http://schemas.openxmlformats.org/officeDocument/2006/relationships/slideLayout" Target="../slideLayouts/slideLayout50.xml"/><Relationship Id="rId26" Type="http://schemas.openxmlformats.org/officeDocument/2006/relationships/slideLayout" Target="../slideLayouts/slideLayout51.xml"/><Relationship Id="rId27" Type="http://schemas.openxmlformats.org/officeDocument/2006/relationships/slideLayout" Target="../slideLayouts/slideLayout52.xml"/><Relationship Id="rId28" Type="http://schemas.openxmlformats.org/officeDocument/2006/relationships/slideLayout" Target="../slideLayouts/slideLayout53.xml"/><Relationship Id="rId29" Type="http://schemas.openxmlformats.org/officeDocument/2006/relationships/slideLayout" Target="../slideLayouts/slideLayout54.xml"/><Relationship Id="rId30" Type="http://schemas.openxmlformats.org/officeDocument/2006/relationships/slideLayout" Target="../slideLayouts/slideLayout55.xml"/><Relationship Id="rId31" Type="http://schemas.openxmlformats.org/officeDocument/2006/relationships/slideLayout" Target="../slideLayouts/slideLayout56.xml"/><Relationship Id="rId32" Type="http://schemas.openxmlformats.org/officeDocument/2006/relationships/slideLayout" Target="../slideLayouts/slideLayout57.xml"/><Relationship Id="rId33" Type="http://schemas.openxmlformats.org/officeDocument/2006/relationships/slideLayout" Target="../slideLayouts/slideLayout58.xml"/><Relationship Id="rId34" Type="http://schemas.openxmlformats.org/officeDocument/2006/relationships/slideLayout" Target="../slideLayouts/slideLayout59.xml"/><Relationship Id="rId3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82A-E967-4226-8F3B-22868376A201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F25-8ED9-4615-8D30-C806E18E6EF0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764-EF69-4237-A72B-2010F531A669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34C9-4368-4824-9447-102D5C55E9E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98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99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306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9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316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C14-607E-482A-B687-2553636DA76E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4"/>
    <p:sldLayoutId id="2147483702" r:id="rId25"/>
    <p:sldLayoutId id="2147483703" r:id="rId26"/>
    <p:sldLayoutId id="2147483704" r:id="rId27"/>
    <p:sldLayoutId id="2147483705" r:id="rId28"/>
    <p:sldLayoutId id="2147483706" r:id="rId29"/>
    <p:sldLayoutId id="2147483707" r:id="rId30"/>
    <p:sldLayoutId id="2147483708" r:id="rId31"/>
    <p:sldLayoutId id="2147483709" r:id="rId32"/>
    <p:sldLayoutId id="2147483710" r:id="rId33"/>
    <p:sldLayoutId id="2147483711" r:id="rId34"/>
    <p:sldLayoutId id="2147483712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c00000"/>
                </a:solidFill>
                <a:latin typeface="Verdana"/>
              </a:rPr>
              <a:t>Яшелчәләр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6" name="Picture 10" descr="7"/>
          <p:cNvPicPr/>
          <p:nvPr/>
        </p:nvPicPr>
        <p:blipFill>
          <a:blip r:embed="rId1"/>
          <a:stretch/>
        </p:blipFill>
        <p:spPr>
          <a:xfrm>
            <a:off x="1295280" y="1447920"/>
            <a:ext cx="3581640" cy="2286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6"/>
          <p:cNvPicPr/>
          <p:nvPr/>
        </p:nvPicPr>
        <p:blipFill>
          <a:blip r:embed="rId2"/>
          <a:stretch/>
        </p:blipFill>
        <p:spPr>
          <a:xfrm>
            <a:off x="4876920" y="1447920"/>
            <a:ext cx="3200400" cy="2338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3"/>
          <p:cNvPicPr/>
          <p:nvPr/>
        </p:nvPicPr>
        <p:blipFill>
          <a:blip r:embed="rId3"/>
          <a:stretch/>
        </p:blipFill>
        <p:spPr>
          <a:xfrm>
            <a:off x="1295280" y="3733920"/>
            <a:ext cx="3581640" cy="2514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2" descr="5"/>
          <p:cNvPicPr/>
          <p:nvPr/>
        </p:nvPicPr>
        <p:blipFill>
          <a:blip r:embed="rId4"/>
          <a:stretch/>
        </p:blipFill>
        <p:spPr>
          <a:xfrm>
            <a:off x="4876920" y="37339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үгәрәк-ай түгел, сары-май түгел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ойрыгы бар-тычкан түгел.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87" name="Picture 5" descr="9"/>
          <p:cNvPicPr/>
          <p:nvPr/>
        </p:nvPicPr>
        <p:blipFill>
          <a:blip r:embed="rId1"/>
          <a:stretch/>
        </p:blipFill>
        <p:spPr>
          <a:xfrm rot="1363800">
            <a:off x="4506480" y="1463400"/>
            <a:ext cx="3586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10"/>
          <p:cNvPicPr/>
          <p:nvPr/>
        </p:nvPicPr>
        <p:blipFill>
          <a:blip r:embed="rId1"/>
          <a:stretch/>
        </p:blipFill>
        <p:spPr>
          <a:xfrm>
            <a:off x="2819520" y="1295280"/>
            <a:ext cx="4495680" cy="4343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шка салсаң, тәм кертә,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Борынга керсә, төчкертә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91" name="Picture 5" descr="11"/>
          <p:cNvPicPr/>
          <p:nvPr/>
        </p:nvPicPr>
        <p:blipFill>
          <a:blip r:embed="rId1"/>
          <a:stretch/>
        </p:blipFill>
        <p:spPr>
          <a:xfrm rot="1248600">
            <a:off x="4563720" y="1625760"/>
            <a:ext cx="3806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00000"/>
                </a:solidFill>
                <a:latin typeface="Verdana"/>
              </a:rPr>
              <a:t>Җиләк-җимешләр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93" name="Picture 10" descr="12"/>
          <p:cNvPicPr/>
          <p:nvPr/>
        </p:nvPicPr>
        <p:blipFill>
          <a:blip r:embed="rId1"/>
          <a:stretch/>
        </p:blipFill>
        <p:spPr>
          <a:xfrm rot="21158400">
            <a:off x="1460520" y="1363320"/>
            <a:ext cx="2819520" cy="224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13"/>
          <p:cNvPicPr/>
          <p:nvPr/>
        </p:nvPicPr>
        <p:blipFill>
          <a:blip r:embed="rId2"/>
          <a:stretch/>
        </p:blipFill>
        <p:spPr>
          <a:xfrm rot="580800">
            <a:off x="5257440" y="1308240"/>
            <a:ext cx="3048120" cy="2063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15"/>
          <p:cNvPicPr/>
          <p:nvPr/>
        </p:nvPicPr>
        <p:blipFill>
          <a:blip r:embed="rId3"/>
          <a:stretch/>
        </p:blipFill>
        <p:spPr>
          <a:xfrm rot="20732400">
            <a:off x="1752480" y="3809880"/>
            <a:ext cx="3038760" cy="2268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20"/>
          <p:cNvPicPr/>
          <p:nvPr/>
        </p:nvPicPr>
        <p:blipFill>
          <a:blip r:embed="rId4"/>
          <a:stretch/>
        </p:blipFill>
        <p:spPr>
          <a:xfrm rot="570000">
            <a:off x="5203440" y="358128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лсу битле кыз үсте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уп итеп җиргә төште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98" name="Picture 5" descr="12"/>
          <p:cNvPicPr/>
          <p:nvPr/>
        </p:nvPicPr>
        <p:blipFill>
          <a:blip r:embed="rId1"/>
          <a:stretch/>
        </p:blipFill>
        <p:spPr>
          <a:xfrm rot="753000">
            <a:off x="4647960" y="1447920"/>
            <a:ext cx="39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13"/>
          <p:cNvPicPr/>
          <p:nvPr/>
        </p:nvPicPr>
        <p:blipFill>
          <a:blip r:embed="rId1"/>
          <a:stretch/>
        </p:blipFill>
        <p:spPr>
          <a:xfrm rot="20921400">
            <a:off x="609480" y="1523520"/>
            <a:ext cx="3733920" cy="4343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ызыл эчле яшел өй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әрәзәсез, ишексез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выз итеп карасаң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Балдан татлы һичшиксез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үтәлдә яткан чагымда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улам ай кебек,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абынга ярып куйганда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Эчем сары бал кебе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02" name="Picture 5" descr="14"/>
          <p:cNvPicPr/>
          <p:nvPr/>
        </p:nvPicPr>
        <p:blipFill>
          <a:blip r:embed="rId1"/>
          <a:stretch/>
        </p:blipFill>
        <p:spPr>
          <a:xfrm rot="870600">
            <a:off x="4762440" y="1301760"/>
            <a:ext cx="3675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15"/>
          <p:cNvPicPr/>
          <p:nvPr/>
        </p:nvPicPr>
        <p:blipFill>
          <a:blip r:embed="rId1"/>
          <a:stretch/>
        </p:blipFill>
        <p:spPr>
          <a:xfrm rot="20672400">
            <a:off x="685800" y="1599840"/>
            <a:ext cx="3657600" cy="43434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Үлән араларында, торам яшеренеп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шыйсың килсә ал мине өзеп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06" name="Picture 5" descr="16"/>
          <p:cNvPicPr/>
          <p:nvPr/>
        </p:nvPicPr>
        <p:blipFill>
          <a:blip r:embed="rId1"/>
          <a:stretch/>
        </p:blipFill>
        <p:spPr>
          <a:xfrm rot="886800">
            <a:off x="2682360" y="1297080"/>
            <a:ext cx="4203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17"/>
          <p:cNvPicPr/>
          <p:nvPr/>
        </p:nvPicPr>
        <p:blipFill>
          <a:blip r:embed="rId1"/>
          <a:stretch/>
        </p:blipFill>
        <p:spPr>
          <a:xfrm rot="20959800">
            <a:off x="2081160" y="1709640"/>
            <a:ext cx="4314960" cy="3969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Җир астында алтын казы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1" name="Picture 5" descr="1"/>
          <p:cNvPicPr/>
          <p:nvPr/>
        </p:nvPicPr>
        <p:blipFill>
          <a:blip r:embed="rId1"/>
          <a:stretch/>
        </p:blipFill>
        <p:spPr>
          <a:xfrm rot="909000">
            <a:off x="4039920" y="1164960"/>
            <a:ext cx="370980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10" name="Picture 5" descr="18"/>
          <p:cNvPicPr/>
          <p:nvPr/>
        </p:nvPicPr>
        <p:blipFill>
          <a:blip r:embed="rId1"/>
          <a:stretch/>
        </p:blipFill>
        <p:spPr>
          <a:xfrm rot="1690800">
            <a:off x="2868480" y="958680"/>
            <a:ext cx="3848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19"/>
          <p:cNvPicPr/>
          <p:nvPr/>
        </p:nvPicPr>
        <p:blipFill>
          <a:blip r:embed="rId1"/>
          <a:stretch/>
        </p:blipFill>
        <p:spPr>
          <a:xfrm rot="20437200">
            <a:off x="2868480" y="847800"/>
            <a:ext cx="4071960" cy="46641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14" name="Picture 5" descr="20"/>
          <p:cNvPicPr/>
          <p:nvPr/>
        </p:nvPicPr>
        <p:blipFill>
          <a:blip r:embed="rId1"/>
          <a:stretch/>
        </p:blipFill>
        <p:spPr>
          <a:xfrm rot="1072200">
            <a:off x="2971440" y="1371240"/>
            <a:ext cx="430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21"/>
          <p:cNvPicPr/>
          <p:nvPr/>
        </p:nvPicPr>
        <p:blipFill>
          <a:blip r:embed="rId1"/>
          <a:stretch/>
        </p:blipFill>
        <p:spPr>
          <a:xfrm rot="1389000">
            <a:off x="2651040" y="1333080"/>
            <a:ext cx="4570560" cy="43434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18" name="Picture 5" descr="22"/>
          <p:cNvPicPr/>
          <p:nvPr/>
        </p:nvPicPr>
        <p:blipFill>
          <a:blip r:embed="rId1"/>
          <a:stretch/>
        </p:blipFill>
        <p:spPr>
          <a:xfrm rot="1282200">
            <a:off x="3030480" y="1290240"/>
            <a:ext cx="415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3"/>
          <p:cNvPicPr/>
          <p:nvPr/>
        </p:nvPicPr>
        <p:blipFill>
          <a:blip r:embed="rId1"/>
          <a:stretch/>
        </p:blipFill>
        <p:spPr>
          <a:xfrm rot="20525400">
            <a:off x="1917360" y="1401480"/>
            <a:ext cx="4807080" cy="4105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422" name="Picture 5" descr="29"/>
          <p:cNvPicPr/>
          <p:nvPr/>
        </p:nvPicPr>
        <p:blipFill>
          <a:blip r:embed="rId1"/>
          <a:stretch/>
        </p:blipFill>
        <p:spPr>
          <a:xfrm rot="20113800">
            <a:off x="2620800" y="1328760"/>
            <a:ext cx="49802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2"/>
          <p:cNvPicPr/>
          <p:nvPr/>
        </p:nvPicPr>
        <p:blipFill>
          <a:blip r:embed="rId1"/>
          <a:stretch/>
        </p:blipFill>
        <p:spPr>
          <a:xfrm rot="20451600">
            <a:off x="566640" y="1212840"/>
            <a:ext cx="3429000" cy="40402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Ул җир астына төшкән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ып кызыл булып пешкән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шка тәм һәм төс бирер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ны кем әйтер дә, кем белер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Эсселәнгән саен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Кат-кан тун кия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5" name="Picture 5" descr="3"/>
          <p:cNvPicPr/>
          <p:nvPr/>
        </p:nvPicPr>
        <p:blipFill>
          <a:blip r:embed="rId1"/>
          <a:stretch/>
        </p:blipFill>
        <p:spPr>
          <a:xfrm rot="884400">
            <a:off x="4575240" y="1531440"/>
            <a:ext cx="400680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4"/>
          <p:cNvPicPr/>
          <p:nvPr/>
        </p:nvPicPr>
        <p:blipFill>
          <a:blip r:embed="rId1"/>
          <a:stretch/>
        </p:blipFill>
        <p:spPr>
          <a:xfrm rot="20172000">
            <a:off x="746280" y="1498320"/>
            <a:ext cx="3614760" cy="4276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чыдыр теле, кыллыдыр төбе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9" name="Picture 5" descr="8"/>
          <p:cNvPicPr/>
          <p:nvPr/>
        </p:nvPicPr>
        <p:blipFill>
          <a:blip r:embed="rId1"/>
          <a:stretch/>
        </p:blipFill>
        <p:spPr>
          <a:xfrm rot="20151600">
            <a:off x="2035080" y="1277640"/>
            <a:ext cx="45259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5"/>
          <p:cNvPicPr/>
          <p:nvPr/>
        </p:nvPicPr>
        <p:blipFill>
          <a:blip r:embed="rId1"/>
          <a:stretch/>
        </p:blipFill>
        <p:spPr>
          <a:xfrm rot="20421000">
            <a:off x="704520" y="1407600"/>
            <a:ext cx="3646440" cy="4489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Җир астында җиз бүкән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Йодрык-йодрык булып үсә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Алма кебек кызарып пешә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Үзе бик матур, аны кем әйтә?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83" name="Picture 5" descr="6"/>
          <p:cNvPicPr/>
          <p:nvPr/>
        </p:nvPicPr>
        <p:blipFill>
          <a:blip r:embed="rId1"/>
          <a:stretch/>
        </p:blipFill>
        <p:spPr>
          <a:xfrm rot="829800">
            <a:off x="4664160" y="1564920"/>
            <a:ext cx="40384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7"/>
          <p:cNvPicPr/>
          <p:nvPr/>
        </p:nvPicPr>
        <p:blipFill>
          <a:blip r:embed="rId1"/>
          <a:stretch/>
        </p:blipFill>
        <p:spPr>
          <a:xfrm rot="20589600">
            <a:off x="839880" y="1100160"/>
            <a:ext cx="4100400" cy="48322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Тәрәзәсе юк, ишеге юк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800" spc="-1" strike="noStrike">
                <a:solidFill>
                  <a:srgbClr val="c00000"/>
                </a:solidFill>
                <a:latin typeface="Verdana"/>
              </a:rPr>
              <a:t>Эче тулы халы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5T17:05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