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7.jpeg" ContentType="image/jpeg"/>
  <Override PartName="/ppt/media/image50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4F2-3609-4CD6-B034-85E2B349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4BD-F9A9-48A0-B01B-DF2D874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956-4222-438B-81A1-1831FC0D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EB3-F0C9-4CE4-A8BA-C07604C0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4129-07F3-434D-A101-0F5E0676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2770-FF6A-4AF4-A898-5D10E3E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3B77-2557-4296-B65D-444ECE54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A71A-C1F9-4F35-855C-E84742CE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8D7A-A200-49E6-8665-A2377C70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265F-084C-41DD-97BC-6FFB2DDD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1035-DD4A-400E-B5C9-DC2C36EC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F27-7617-4492-A903-99C02BD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822C-5D50-4451-9B72-C82DFB99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071D-69F9-4905-BC8B-15E6447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2C37-8310-4FB0-98AF-E952E11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555D-55E4-4C42-96ED-0EB6429B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641-6560-4E30-B974-91E57640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6397-DD0C-4D53-AAB1-07008263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4E45-B997-4721-A651-C6A31756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EF04-1221-4246-93A1-E86436F3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705F-F384-4C4F-B4A5-6D5A2020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503A-A9AE-4854-8C39-673E7598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B1E-86A6-4993-B478-00C2D2A9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000D-D034-4579-983E-FD751A82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69E2-530A-4996-B3C7-FA7781F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233D-46AE-41DB-8D98-6D23C0A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D2B8-684B-4073-9A83-40670AA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B208-0355-4D57-837C-F7EC80FC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794E-A454-4806-8DCC-19C6EA9F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CDD6-384B-4587-AA8F-C86E94FC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696B-60E3-4BEF-B8A3-423F214C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3A53-B8AF-405C-A374-8991264C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9222-15B3-4095-A63F-BC51F4E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EA4-7316-49A2-BB94-5214B17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F286-AA84-4DB0-8BBD-85BAFF3C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8596-32B0-402E-8F6D-6C3BC22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80EF-EC24-4ED3-A258-C578415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1241-345D-45B5-873D-1ABF5F1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3A00-A660-4894-8C6A-862C4F4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BD7A-BDBB-41D4-BC21-7135724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1DE9-639F-48C3-87E5-8F326B52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5090-3F48-4221-A4E5-CF5839A7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3929F-FC14-41CB-8CA0-47D478E4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2F59-DEAC-49F5-8912-F5C191C1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0CD-08DF-4B5C-9535-B37693A0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BDD0-03A4-455F-B324-B3D0E3D9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7A3D-249D-4950-8609-C4225CDD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520A-DEB4-41FA-A1DD-D2A80B4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64DF-75D0-4398-BDAD-E20A600E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064A-B3B7-47D1-80C4-36C25D25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1EDA-BA7F-454D-B861-DD763A4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FA49-5B08-4BA8-895D-F49B52F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E956-1C46-4D40-A810-3AD07A07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CE2D-47B6-4CBE-A45E-B9F2FE6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6734-96B0-4511-A3FE-EF5CBA12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DEC-D9EC-4C02-B0FA-8D6A326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4AF7-CDD2-4892-A359-C9E1D2BB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D3A-9CBB-4E91-B096-55A8D81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2C0-FBC3-408D-97BC-44CCB48B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FC2-7B29-489D-8D6F-1D0FE0CB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49.xml"/><Relationship Id="rId25" Type="http://schemas.openxmlformats.org/officeDocument/2006/relationships/slideLayout" Target="../slideLayouts/slideLayout50.xml"/><Relationship Id="rId26" Type="http://schemas.openxmlformats.org/officeDocument/2006/relationships/slideLayout" Target="../slideLayouts/slideLayout51.xml"/><Relationship Id="rId27" Type="http://schemas.openxmlformats.org/officeDocument/2006/relationships/slideLayout" Target="../slideLayouts/slideLayout52.xml"/><Relationship Id="rId28" Type="http://schemas.openxmlformats.org/officeDocument/2006/relationships/slideLayout" Target="../slideLayouts/slideLayout53.xml"/><Relationship Id="rId29" Type="http://schemas.openxmlformats.org/officeDocument/2006/relationships/slideLayout" Target="../slideLayouts/slideLayout54.xml"/><Relationship Id="rId30" Type="http://schemas.openxmlformats.org/officeDocument/2006/relationships/slideLayout" Target="../slideLayouts/slideLayout55.xml"/><Relationship Id="rId31" Type="http://schemas.openxmlformats.org/officeDocument/2006/relationships/slideLayout" Target="../slideLayouts/slideLayout56.xml"/><Relationship Id="rId32" Type="http://schemas.openxmlformats.org/officeDocument/2006/relationships/slideLayout" Target="../slideLayouts/slideLayout57.xml"/><Relationship Id="rId33" Type="http://schemas.openxmlformats.org/officeDocument/2006/relationships/slideLayout" Target="../slideLayouts/slideLayout58.xml"/><Relationship Id="rId34" Type="http://schemas.openxmlformats.org/officeDocument/2006/relationships/slideLayout" Target="../slideLayouts/slideLayout59.xml"/><Relationship Id="rId3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382-A5A5-44D4-88AE-8B3A1C7BB5B4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15D-0C65-4D08-91CA-672CF4F9EC38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F6A-5D2A-445C-91FE-02315B7063A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C70B-5A77-44C0-BDA6-754A2FA4CF48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98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99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306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9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316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6802-6302-4700-896A-F16253BB1C6A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4"/>
    <p:sldLayoutId id="2147483702" r:id="rId25"/>
    <p:sldLayoutId id="2147483703" r:id="rId26"/>
    <p:sldLayoutId id="2147483704" r:id="rId27"/>
    <p:sldLayoutId id="2147483705" r:id="rId28"/>
    <p:sldLayoutId id="2147483706" r:id="rId29"/>
    <p:sldLayoutId id="2147483707" r:id="rId30"/>
    <p:sldLayoutId id="2147483708" r:id="rId31"/>
    <p:sldLayoutId id="2147483709" r:id="rId32"/>
    <p:sldLayoutId id="2147483710" r:id="rId33"/>
    <p:sldLayoutId id="2147483711" r:id="rId34"/>
    <p:sldLayoutId id="2147483712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c00000"/>
                </a:solidFill>
                <a:latin typeface="Verdana"/>
              </a:rPr>
              <a:t>Яшелчәләр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6" name="Picture 10" descr="7"/>
          <p:cNvPicPr/>
          <p:nvPr/>
        </p:nvPicPr>
        <p:blipFill>
          <a:blip r:embed="rId1"/>
          <a:stretch/>
        </p:blipFill>
        <p:spPr>
          <a:xfrm>
            <a:off x="1295280" y="1447920"/>
            <a:ext cx="3581640" cy="2286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6"/>
          <p:cNvPicPr/>
          <p:nvPr/>
        </p:nvPicPr>
        <p:blipFill>
          <a:blip r:embed="rId2"/>
          <a:stretch/>
        </p:blipFill>
        <p:spPr>
          <a:xfrm>
            <a:off x="4876920" y="1447920"/>
            <a:ext cx="3200400" cy="2338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3"/>
          <p:cNvPicPr/>
          <p:nvPr/>
        </p:nvPicPr>
        <p:blipFill>
          <a:blip r:embed="rId3"/>
          <a:stretch/>
        </p:blipFill>
        <p:spPr>
          <a:xfrm>
            <a:off x="1295280" y="3733920"/>
            <a:ext cx="3581640" cy="2514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2" descr="5"/>
          <p:cNvPicPr/>
          <p:nvPr/>
        </p:nvPicPr>
        <p:blipFill>
          <a:blip r:embed="rId4"/>
          <a:stretch/>
        </p:blipFill>
        <p:spPr>
          <a:xfrm>
            <a:off x="4876920" y="37339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үгәрәк-ай түгел, сары-май түгел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ойрыгы бар-тычкан түгел.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87" name="Picture 5" descr="9"/>
          <p:cNvPicPr/>
          <p:nvPr/>
        </p:nvPicPr>
        <p:blipFill>
          <a:blip r:embed="rId1"/>
          <a:stretch/>
        </p:blipFill>
        <p:spPr>
          <a:xfrm rot="1363800">
            <a:off x="4506480" y="1463400"/>
            <a:ext cx="3586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10"/>
          <p:cNvPicPr/>
          <p:nvPr/>
        </p:nvPicPr>
        <p:blipFill>
          <a:blip r:embed="rId1"/>
          <a:stretch/>
        </p:blipFill>
        <p:spPr>
          <a:xfrm>
            <a:off x="2819520" y="1295280"/>
            <a:ext cx="4495680" cy="4343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шка салсаң, тәм кертә,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Борынга керсә, төчкертә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91" name="Picture 5" descr="11"/>
          <p:cNvPicPr/>
          <p:nvPr/>
        </p:nvPicPr>
        <p:blipFill>
          <a:blip r:embed="rId1"/>
          <a:stretch/>
        </p:blipFill>
        <p:spPr>
          <a:xfrm rot="1248600">
            <a:off x="4563720" y="1625760"/>
            <a:ext cx="3806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00000"/>
                </a:solidFill>
                <a:latin typeface="Verdana"/>
              </a:rPr>
              <a:t>Җиләк-җимешләр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93" name="Picture 10" descr="12"/>
          <p:cNvPicPr/>
          <p:nvPr/>
        </p:nvPicPr>
        <p:blipFill>
          <a:blip r:embed="rId1"/>
          <a:stretch/>
        </p:blipFill>
        <p:spPr>
          <a:xfrm rot="21158400">
            <a:off x="1460520" y="1363320"/>
            <a:ext cx="2819520" cy="224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13"/>
          <p:cNvPicPr/>
          <p:nvPr/>
        </p:nvPicPr>
        <p:blipFill>
          <a:blip r:embed="rId2"/>
          <a:stretch/>
        </p:blipFill>
        <p:spPr>
          <a:xfrm rot="580800">
            <a:off x="5257440" y="1308240"/>
            <a:ext cx="3048120" cy="2063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15"/>
          <p:cNvPicPr/>
          <p:nvPr/>
        </p:nvPicPr>
        <p:blipFill>
          <a:blip r:embed="rId3"/>
          <a:stretch/>
        </p:blipFill>
        <p:spPr>
          <a:xfrm rot="20732400">
            <a:off x="1752480" y="3809880"/>
            <a:ext cx="3038760" cy="2268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20"/>
          <p:cNvPicPr/>
          <p:nvPr/>
        </p:nvPicPr>
        <p:blipFill>
          <a:blip r:embed="rId4"/>
          <a:stretch/>
        </p:blipFill>
        <p:spPr>
          <a:xfrm rot="570000">
            <a:off x="5203440" y="358128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лсу битле кыз үсте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уп итеп җиргә төште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98" name="Picture 5" descr="12"/>
          <p:cNvPicPr/>
          <p:nvPr/>
        </p:nvPicPr>
        <p:blipFill>
          <a:blip r:embed="rId1"/>
          <a:stretch/>
        </p:blipFill>
        <p:spPr>
          <a:xfrm rot="753000">
            <a:off x="4647960" y="1447920"/>
            <a:ext cx="39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13"/>
          <p:cNvPicPr/>
          <p:nvPr/>
        </p:nvPicPr>
        <p:blipFill>
          <a:blip r:embed="rId1"/>
          <a:stretch/>
        </p:blipFill>
        <p:spPr>
          <a:xfrm rot="20921400">
            <a:off x="609480" y="1523520"/>
            <a:ext cx="3733920" cy="4343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ызыл эчле яшел өй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әрәзәсез, ишексез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выз итеп карасаң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Балдан татлы һичшиксез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үтәлдә яткан чагымда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улам ай кебек,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абынга ярып куйганда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Эчем сары бал кебе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02" name="Picture 5" descr="14"/>
          <p:cNvPicPr/>
          <p:nvPr/>
        </p:nvPicPr>
        <p:blipFill>
          <a:blip r:embed="rId1"/>
          <a:stretch/>
        </p:blipFill>
        <p:spPr>
          <a:xfrm rot="870600">
            <a:off x="4762440" y="1301760"/>
            <a:ext cx="3675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15"/>
          <p:cNvPicPr/>
          <p:nvPr/>
        </p:nvPicPr>
        <p:blipFill>
          <a:blip r:embed="rId1"/>
          <a:stretch/>
        </p:blipFill>
        <p:spPr>
          <a:xfrm rot="20672400">
            <a:off x="685800" y="1599840"/>
            <a:ext cx="3657600" cy="43434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Үлән араларында, торам яшеренеп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шыйсың килсә ал мине өзеп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06" name="Picture 5" descr="16"/>
          <p:cNvPicPr/>
          <p:nvPr/>
        </p:nvPicPr>
        <p:blipFill>
          <a:blip r:embed="rId1"/>
          <a:stretch/>
        </p:blipFill>
        <p:spPr>
          <a:xfrm rot="886800">
            <a:off x="2682360" y="1297080"/>
            <a:ext cx="4203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17"/>
          <p:cNvPicPr/>
          <p:nvPr/>
        </p:nvPicPr>
        <p:blipFill>
          <a:blip r:embed="rId1"/>
          <a:stretch/>
        </p:blipFill>
        <p:spPr>
          <a:xfrm rot="20959800">
            <a:off x="2081160" y="1709640"/>
            <a:ext cx="4314960" cy="3969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Җир астында алтын казы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1" name="Picture 5" descr="1"/>
          <p:cNvPicPr/>
          <p:nvPr/>
        </p:nvPicPr>
        <p:blipFill>
          <a:blip r:embed="rId1"/>
          <a:stretch/>
        </p:blipFill>
        <p:spPr>
          <a:xfrm rot="909000">
            <a:off x="4039920" y="1164960"/>
            <a:ext cx="370980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10" name="Picture 5" descr="18"/>
          <p:cNvPicPr/>
          <p:nvPr/>
        </p:nvPicPr>
        <p:blipFill>
          <a:blip r:embed="rId1"/>
          <a:stretch/>
        </p:blipFill>
        <p:spPr>
          <a:xfrm rot="1690800">
            <a:off x="2868480" y="958680"/>
            <a:ext cx="3848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19"/>
          <p:cNvPicPr/>
          <p:nvPr/>
        </p:nvPicPr>
        <p:blipFill>
          <a:blip r:embed="rId1"/>
          <a:stretch/>
        </p:blipFill>
        <p:spPr>
          <a:xfrm rot="20437200">
            <a:off x="2868480" y="847800"/>
            <a:ext cx="4071960" cy="46641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14" name="Picture 5" descr="20"/>
          <p:cNvPicPr/>
          <p:nvPr/>
        </p:nvPicPr>
        <p:blipFill>
          <a:blip r:embed="rId1"/>
          <a:stretch/>
        </p:blipFill>
        <p:spPr>
          <a:xfrm rot="1072200">
            <a:off x="2971440" y="1371240"/>
            <a:ext cx="430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21"/>
          <p:cNvPicPr/>
          <p:nvPr/>
        </p:nvPicPr>
        <p:blipFill>
          <a:blip r:embed="rId1"/>
          <a:stretch/>
        </p:blipFill>
        <p:spPr>
          <a:xfrm rot="1389000">
            <a:off x="2651040" y="1333080"/>
            <a:ext cx="4570560" cy="43434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18" name="Picture 5" descr="22"/>
          <p:cNvPicPr/>
          <p:nvPr/>
        </p:nvPicPr>
        <p:blipFill>
          <a:blip r:embed="rId1"/>
          <a:stretch/>
        </p:blipFill>
        <p:spPr>
          <a:xfrm rot="1282200">
            <a:off x="3030480" y="1290240"/>
            <a:ext cx="415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3"/>
          <p:cNvPicPr/>
          <p:nvPr/>
        </p:nvPicPr>
        <p:blipFill>
          <a:blip r:embed="rId1"/>
          <a:stretch/>
        </p:blipFill>
        <p:spPr>
          <a:xfrm rot="20525400">
            <a:off x="1917360" y="1401480"/>
            <a:ext cx="4807080" cy="4105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22" name="Picture 5" descr="29"/>
          <p:cNvPicPr/>
          <p:nvPr/>
        </p:nvPicPr>
        <p:blipFill>
          <a:blip r:embed="rId1"/>
          <a:stretch/>
        </p:blipFill>
        <p:spPr>
          <a:xfrm rot="20113800">
            <a:off x="2620800" y="1328760"/>
            <a:ext cx="49802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2"/>
          <p:cNvPicPr/>
          <p:nvPr/>
        </p:nvPicPr>
        <p:blipFill>
          <a:blip r:embed="rId1"/>
          <a:stretch/>
        </p:blipFill>
        <p:spPr>
          <a:xfrm rot="20451600">
            <a:off x="566640" y="1212840"/>
            <a:ext cx="3429000" cy="40402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Ул җир астына төшкән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ып кызыл булып пешкән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шка тәм һәм төс бирер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ны кем әйтер дә, кем белер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Эсселәнгән саен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ат-кан тун кия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5" name="Picture 5" descr="3"/>
          <p:cNvPicPr/>
          <p:nvPr/>
        </p:nvPicPr>
        <p:blipFill>
          <a:blip r:embed="rId1"/>
          <a:stretch/>
        </p:blipFill>
        <p:spPr>
          <a:xfrm rot="884400">
            <a:off x="4575240" y="1531440"/>
            <a:ext cx="400680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4"/>
          <p:cNvPicPr/>
          <p:nvPr/>
        </p:nvPicPr>
        <p:blipFill>
          <a:blip r:embed="rId1"/>
          <a:stretch/>
        </p:blipFill>
        <p:spPr>
          <a:xfrm rot="20172000">
            <a:off x="746280" y="1498320"/>
            <a:ext cx="3614760" cy="4276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чыдыр теле, кыллыдыр төбе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9" name="Picture 5" descr="8"/>
          <p:cNvPicPr/>
          <p:nvPr/>
        </p:nvPicPr>
        <p:blipFill>
          <a:blip r:embed="rId1"/>
          <a:stretch/>
        </p:blipFill>
        <p:spPr>
          <a:xfrm rot="20151600">
            <a:off x="2035080" y="1277640"/>
            <a:ext cx="45259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5"/>
          <p:cNvPicPr/>
          <p:nvPr/>
        </p:nvPicPr>
        <p:blipFill>
          <a:blip r:embed="rId1"/>
          <a:stretch/>
        </p:blipFill>
        <p:spPr>
          <a:xfrm rot="20421000">
            <a:off x="704520" y="1407600"/>
            <a:ext cx="3646440" cy="4489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Җир астында җиз бүкән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Йодрык-йодрык булып үсә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лма кебек кызарып пешә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Үзе бик матур, аны кем әйтә?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83" name="Picture 5" descr="6"/>
          <p:cNvPicPr/>
          <p:nvPr/>
        </p:nvPicPr>
        <p:blipFill>
          <a:blip r:embed="rId1"/>
          <a:stretch/>
        </p:blipFill>
        <p:spPr>
          <a:xfrm rot="829800">
            <a:off x="4664160" y="1564920"/>
            <a:ext cx="40384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7"/>
          <p:cNvPicPr/>
          <p:nvPr/>
        </p:nvPicPr>
        <p:blipFill>
          <a:blip r:embed="rId1"/>
          <a:stretch/>
        </p:blipFill>
        <p:spPr>
          <a:xfrm rot="20589600">
            <a:off x="839880" y="1100160"/>
            <a:ext cx="4100400" cy="48322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әрәзәсе юк, ишеге юк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Эче тулы халы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5T17:05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