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9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0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1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D9DDE-7E01-46A9-B566-297A9568DCF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5CEA8-B42E-47AF-972E-5757DF56BD6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9EDB4-529E-4642-8D67-4411C70519C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123CA-391F-4C68-8080-12AFD85C7E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4D682-0C06-4D5F-BD1D-DC452F3B62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A3382-D80F-4435-BEFC-1C413BD861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A98D2-A494-4B8A-B037-F9FAC1CBEE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9A9B9-E90F-4B10-B3D1-627AA5CD0D7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AF6A8-8C12-4286-9B31-1111C2992E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C52AC-8B54-408C-9D5C-DE2F33510B8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7ED01-B0C5-45D4-A710-33568D791C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FFFC-78C3-4FEB-8961-7A40D5AA1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5392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D7C1-1295-404A-9C8C-72BE12C46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1CB2-0526-4C50-8CD2-EB4143D01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0951-6C32-44CA-B28C-75E105664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F29-BCC7-48A9-98BE-7D876D11CD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216504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F07-D48F-486E-A2D3-0E2EACB0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810-CC3A-47E1-A1A7-1B5168B1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C87-C117-4FF4-ADB3-0C8104D9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F33-D496-442D-8AF0-B99E42B4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3EFB-E1FF-4811-B4D7-639A4964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132-E6E6-4F8C-BCE3-4F0B73EA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216504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3DB5-17C6-4974-B607-8C2E2389F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8F3-C235-4D41-8ABF-E1FA5FBA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6DA-30F7-44FA-AC2D-D0EF9D80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45392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3CA9-7B05-406D-BD9E-C2E123DB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324-4EF5-42C5-A739-3ADAA248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58A-CD46-4A0D-AE86-05192AA3E7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A4AE0-3014-41FE-AF1F-11598AFBD7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216504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33A1B-121E-43AC-995B-2C911F47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6B036-1AC0-42CD-98AF-B9A42CF5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732DC-7D80-40DC-9089-C95FA2BE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46DE2-82D9-4FB0-B74B-992F66FA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202E-5D3E-4970-ABB4-201E612FC1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CE991-6E63-4ED5-93D9-FE365F7A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E7443-0488-418F-8257-F879A1C8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53C70-7CB3-4ED1-B485-98ABFF97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6206E-0921-404A-B9D0-F0D60990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45392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7BB97-DD25-44F1-BF4A-359CC9D1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95E09-E47E-4EED-83C0-0D59617B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B0FB8-EA5D-4ED3-8603-DFBB82F16F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DF522-FDA6-4E57-BD4F-A3F9717D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216504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F21C7-3C1F-49F7-8F61-E4AAC34F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18C50-B32F-4D67-9B3F-73A96E70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B700-F0F0-4E6D-AB1B-EE1B87940A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3AF7C-BB61-49FA-9BE7-73E10885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9E09A-A221-4401-BD89-E20A51BE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EFDE4-988F-4028-8EB6-33D8A13F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0AC0E-17D8-4C5F-82E2-A83DAE02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980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E0B03-E4EA-4E2B-87D4-540EBA89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F2321-B7F4-4985-89C9-290D8D65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3280" y="445392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8C481-F6EC-4588-BC1E-36C17A45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980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EC4E3-7B98-4489-93CA-FBB237A2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160" y="21650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328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160" y="445392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9A7E7-7367-489F-A8F3-22F1592D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81A1-36CB-4CEA-A43F-23E7F3640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5ED4-1753-4BFF-9924-8371B70D5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444B-1239-4851-9033-384B95B75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45392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315B-9D1A-4B47-8055-553D3C153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5392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4060-703A-43C3-86F4-001B40F31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6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338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92CB4-47DD-47D9-BA1D-5C2DED8C726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216000"/>
            <a:ext cx="9060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3280"/>
            <a:ext cx="9060120" cy="49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504720" y="7007400"/>
            <a:ext cx="23385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7224840" y="7007400"/>
            <a:ext cx="2340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63381-8344-4B5D-ABF5-8105491540ED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360" y="216000"/>
            <a:ext cx="9060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360" y="1763280"/>
            <a:ext cx="9060120" cy="49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504720" y="7007400"/>
            <a:ext cx="23385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5"/>
          </p:nvPr>
        </p:nvSpPr>
        <p:spPr>
          <a:xfrm>
            <a:off x="7224840" y="7007400"/>
            <a:ext cx="2340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4B0D8-8717-4550-ADEF-55D86B0D2872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6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7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8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935EA-DA12-42D3-8973-47B11342B31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4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51600" y="1768320"/>
            <a:ext cx="44258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Кравчен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Натал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Леонид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учитель музы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МОБУ СОШ №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г.Таганр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06440" y="539640"/>
            <a:ext cx="41022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06280" y="0"/>
            <a:ext cx="2530440" cy="114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2 этап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6300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920" y="1368000"/>
            <a:ext cx="9063000" cy="950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определение сроков выполнения проек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критерии оценивания работ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ответствие тематике и степень раскрытия темы (10 балл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ворческое решение (25 балло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хническое воплощение – ясность визуального воплощения идеи, правильность ссылок и сносок (15 балло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бор способов оформления результат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Блог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(англ. blog, от «web log», «сетевой журнал или дневник событий») — веб-сайт, основное содержимое которого — регулярно добавляемые записи, содержащие текст, изображения или мультимедиа. Для блогов характерны недлинные записи вре́менной значимости, отсортированные в обратном хронологическом порядке (последняя запись сверху). Отличия блога от традиционного дневника обусловливаются средой: блоги обычно публичны и предполагают сторонних читателей, которые могут вступить в публичную полемику с автором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Выбор способов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3280" y="1768320"/>
            <a:ext cx="445752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84720" y="1835280"/>
            <a:ext cx="44593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Индивидуальная работа по сбору и анализу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Групповая по изучению создания б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Групповая по оформлению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47640" y="1440000"/>
            <a:ext cx="3311640" cy="2303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74640" y="4402080"/>
            <a:ext cx="342900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87280" y="63360"/>
            <a:ext cx="3033720" cy="144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3 этап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03280" y="2165400"/>
            <a:ext cx="4425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tchaikov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ru.wikipedi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to-name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lassic-music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51600" y="2165400"/>
            <a:ext cx="442584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chehov.niv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taglib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rmmusic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audiopoisk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792000" y="4896000"/>
            <a:ext cx="1872000" cy="2447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5327640" y="4824360"/>
            <a:ext cx="424800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03280" y="1835280"/>
            <a:ext cx="8851320" cy="4752360"/>
            <a:chOff x="503280" y="1835280"/>
            <a:chExt cx="8851320" cy="4752360"/>
          </a:xfrm>
        </p:grpSpPr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503280" y="1835280"/>
              <a:ext cx="8851320" cy="47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03280" y="1835280"/>
              <a:ext cx="8851320" cy="47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60360" y="1308240"/>
            <a:ext cx="3743280" cy="5532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 rot="20700000">
            <a:off x="3009960" y="4160880"/>
            <a:ext cx="6991200" cy="136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chaikovskiy.wordpress.co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33200" y="-223920"/>
            <a:ext cx="2746440" cy="1376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4 этап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바탕"/>
                <a:ea typeface="Arial Unicode MS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바탕"/>
                <a:ea typeface="Arial Unicode MS"/>
              </a:rPr>
              <a:t>Дистанционная олимпиада по теме: «Опережая время..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328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5160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58720" y="1560600"/>
            <a:ext cx="8656560" cy="2903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«Если бы 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вёл интернет - дневник»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328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  <a:ea typeface="Arial Unicode MS"/>
              </a:rPr>
              <a:t>Кто  из композиторов мог бы вести интернет-дневник и о чем  он мог бы в нем рассказ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03280" y="4197240"/>
            <a:ext cx="2490840" cy="2664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952720" y="3429000"/>
            <a:ext cx="2087640" cy="283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111640" y="4032360"/>
            <a:ext cx="2324160" cy="3384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7343640" y="2990880"/>
            <a:ext cx="2592360" cy="3201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360360" y="216000"/>
            <a:ext cx="259236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1 этап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328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5160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нкетирование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От имени какого композитора Вы хотели бы вести дневник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Творчество какого композитора Вы хотели бы изучить подробне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Музыка какого композитора Вам близка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Имя  какого композиторы связано с нашим город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52344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400" cy="483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8360" y="1768320"/>
            <a:ext cx="4424400" cy="483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095640" y="71280"/>
            <a:ext cx="4176720" cy="6191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2735280" y="5759280"/>
            <a:ext cx="482436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.И.Чайковский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328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  </a:t>
            </a:r>
            <a:r>
              <a:rPr b="1" i="1" lang="ru-RU" sz="4400" spc="-1" strike="noStrike">
                <a:solidFill>
                  <a:srgbClr val="ffffff"/>
                </a:solidFill>
                <a:latin typeface="Cambria"/>
                <a:ea typeface="Arial Unicode MS"/>
              </a:rPr>
              <a:t>разработка содержания и структуры музыкального блога в процессе изучения творчества  П. И. Чайков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11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3280" y="1403280"/>
            <a:ext cx="907092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прививать любовь и уважение  к искусству, через знакомство с жизнью и творчеством  компози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знакомство с творчеством компози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освоение учащимися технологии поиска предметной информации и критического ее осмы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знакомство с возможностями информационны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развитие способностей школьников к созданию собственных текстов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Предполагаемый 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328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0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  <a:ea typeface="Arial Unicode MS"/>
              </a:rPr>
              <a:t>Создание интернет дневника от име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  <a:ea typeface="Arial Unicode MS"/>
              </a:rPr>
              <a:t>П И Чайков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6300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Arial Unicode MS"/>
              </a:rPr>
              <a:t>Мет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328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сбор , анализ и обобщение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наглядно- иллюстративный 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интерактивные 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887640" y="4464000"/>
            <a:ext cx="2016360" cy="3095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400720" y="3600360"/>
            <a:ext cx="2232000" cy="2952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00800" y="4680000"/>
            <a:ext cx="17701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06:29:25Z</dcterms:created>
  <dc:creator/>
  <dc:description/>
  <dc:language>en-US</dc:language>
  <cp:lastModifiedBy>Lev</cp:lastModifiedBy>
  <dcterms:modified xsi:type="dcterms:W3CDTF">2013-03-23T17:18:31Z</dcterms:modified>
  <cp:revision>7</cp:revision>
  <dc:subject/>
  <dc:title>Презентация PowerPoint</dc:title>
</cp:coreProperties>
</file>