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9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B1526-3BC5-45CB-BC2D-1256B609DC7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A9BD2-9285-416B-BB56-8558CE3339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FC9E8-FC8E-4E1C-BB3F-438F688610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1AA97-AF27-46C4-B6A7-EAF731DEC1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0F7D-DE08-448A-91F3-EF967C8919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B116D-6D61-4E4A-BB51-36D888C176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62C6-6E5B-48CC-9C1C-C2624E3CA2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D410-9AE9-4C86-82EC-E02F3D0B4D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BA11F-25C7-47A8-A5CF-9AB76E98D2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D96E9-E885-493F-B4E8-9F382C1684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7574-9840-4121-942A-8D53D992F7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2545-BE00-44FB-8115-86D3DF427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8D4B-AE3E-4854-8035-3996CC6C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C28F-F21A-4A06-860A-819C4166E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CCA8-69EA-4F61-8C31-51BAED0AC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0BA-525D-4B5A-B282-134308084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F53-9ECC-4AA0-9BBA-0422760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966-C60C-4C65-8F57-CFDA131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3A8-1842-4BB8-B473-505A86CD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2DF-4BE8-401A-8D82-FD5F74F3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0AF-8768-4FDA-A419-5CC36ADF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58E-D7FF-4872-BC4F-6CA28368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B9E5-FFB4-4F90-B841-D0B78C187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495-EF58-42C9-A0BF-C26ADDD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8F6-6459-4507-AE33-B671629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B67-2024-4C12-812C-BA9E468E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101-87E8-4C83-A154-6CBA4D57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2E1-66AB-47F1-A281-77612FB25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60F7E-CBDC-46B7-9A01-F22FA9B35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6EA5E-E10A-46AB-A2AC-3E173CCF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5AD9F-86BE-4B55-A97A-84BB8C79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AE8F3-07BC-412D-88A6-77C2C16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4DFE-E9E9-4113-8BE6-58387569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38B8-DE25-4907-B60F-19F98B137F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EE108-D7C8-4963-854F-146D0B14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143DE-76F0-4D68-B85F-5DE16C25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ED369-96F9-4725-A0EE-F7E9EE18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9B0FC-7BFC-4CDC-82D8-986B79A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21781-F23C-4789-936F-59FC22F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7066A-D2FC-4051-963A-B919A0A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7ECDC-C496-42B1-8F6E-11C138AE95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2E2A6-BCCA-416C-949B-3AFF1DA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5D45C-E7C2-411E-9DA7-2A4D34D1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45D46-E9C7-4D8E-908A-FC1B58A1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2A9B-0602-47FA-BE4A-6582709F1A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40EF0-9C36-43DC-AD23-F653996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0192F-E958-4058-8945-2EC61B05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C3CF3-C134-48E2-AA37-5002974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6EACB-C9A9-4BBC-B2C7-F46F186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BDF86-9317-4F9E-ABCB-FF955D4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05316-B81F-4EA8-A846-99CF07EB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0CE18-096C-4B3A-ABE5-08580B66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228D7-FE71-4B05-B5E9-DF126ED9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49B92-2398-4247-BAF4-1517B9DC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B66C-C2DA-471E-A597-6994C1B77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D40D-AEA9-43A4-8FDB-3785DE6DB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BC14-C66A-4EA6-BFB4-F572AF97B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16C1-E6F2-4312-8070-465137097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1043-ADC8-417E-9460-FAEABBBD4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FC473-7A29-4D85-83F7-48101ADC8F5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216000"/>
            <a:ext cx="9060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3280"/>
            <a:ext cx="906012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504720" y="7007400"/>
            <a:ext cx="23385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224840" y="7007400"/>
            <a:ext cx="2340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61A1F-FD3D-475A-8882-D87B173C2B4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216000"/>
            <a:ext cx="9060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3280"/>
            <a:ext cx="906012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04720" y="7007400"/>
            <a:ext cx="23385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7224840" y="7007400"/>
            <a:ext cx="2340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739B6-AFD1-4806-B60B-1301BA9B592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F1EC9-444A-4B77-9C2A-17BB02D3048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51600" y="1768320"/>
            <a:ext cx="44258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Кравч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Ната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Леонид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учитель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МОБУ СОШ №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г.Таганр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06440" y="539640"/>
            <a:ext cx="41022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06280" y="0"/>
            <a:ext cx="2530440" cy="114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2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63000" cy="950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определение сроков выполнения прое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критерии оценивания рабо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тематике и степень раскрытия темы (10 бал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ворческое решение (25 балл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ческое воплощение – ясность визуального воплощения идеи, правильность ссылок и сносок (15 балл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бор способов оформления результат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Бло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англ. blog, от «web log», «сетевой журнал или дневник событий») — веб-сайт, основное содержимое которого — регулярно добавляемые записи, содержащие текст, изображения или мультимедиа. Для блогов характерны недлинные записи вре́менной значимости, отсортированные в обратном хронологическом порядке (последняя запись сверху). Отличия блога от традиционного дневника обусловливаются средой: блоги обычно публичны и предполагают сторонних читателей, которые могут вступить в публичную полемику с автором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Выбор способов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280" y="1768320"/>
            <a:ext cx="445752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84720" y="1835280"/>
            <a:ext cx="445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Индивидуальная работа по сбору и анализу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Групповая по изучению создания б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Групповая по оформлению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47640" y="1440000"/>
            <a:ext cx="3311640" cy="230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74640" y="440208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7280" y="63360"/>
            <a:ext cx="303372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3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03280" y="216540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chaikov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ru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o-name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lassic-music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51600" y="216540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chehov.n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ag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mmus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udiopois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792000" y="4896000"/>
            <a:ext cx="1872000" cy="244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327640" y="4824360"/>
            <a:ext cx="42480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3280" y="1835280"/>
            <a:ext cx="8851320" cy="4752360"/>
            <a:chOff x="503280" y="1835280"/>
            <a:chExt cx="8851320" cy="475236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503280" y="1835280"/>
              <a:ext cx="8851320" cy="47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03280" y="1835280"/>
              <a:ext cx="8851320" cy="47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60360" y="1308240"/>
            <a:ext cx="3743280" cy="5532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 rot="20700000">
            <a:off x="3009960" y="4160880"/>
            <a:ext cx="699120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chaikovskiy.wordpress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3200" y="-223920"/>
            <a:ext cx="2746440" cy="137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4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바탕"/>
                <a:ea typeface="Arial Unicode MS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바탕"/>
                <a:ea typeface="Arial Unicode MS"/>
              </a:rPr>
              <a:t>Дистанционная олимпиада по теме: «Опережая время..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28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160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58720" y="1560600"/>
            <a:ext cx="8656560" cy="290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«Если бы 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вёл интернет - дневник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Кто  из композиторов мог бы вести интернет-дневник и о чем  он мог бы в нем рассказ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3280" y="4197240"/>
            <a:ext cx="2490840" cy="2664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952720" y="3429000"/>
            <a:ext cx="2087640" cy="283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111640" y="4032360"/>
            <a:ext cx="2324160" cy="3384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343640" y="2990880"/>
            <a:ext cx="2592360" cy="3201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60360" y="21600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328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5160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От имени какого композитора Вы хотели бы вести дневник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Творчество какого композитора Вы хотели бы изучить подробне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Музыка какого композитора Вам близк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Имя  какого композиторы связано с нашим горо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52344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4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360" y="1768320"/>
            <a:ext cx="44244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95640" y="71280"/>
            <a:ext cx="4176720" cy="6191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735280" y="5759280"/>
            <a:ext cx="4824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.И.Чайковский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Cambria"/>
                <a:ea typeface="Arial Unicode MS"/>
              </a:rPr>
              <a:t>разработка содержания и структуры музыкального блога в процессе изучения творчества  П. И. Чайко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3280" y="1403280"/>
            <a:ext cx="907092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ививать любовь и уважение  к искусству, через знакомство с жизнью и творчеством 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знакомство с творчеством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освоение учащимися технологии поиска предметной информации и критического ее осмы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знакомство с возможностями информацион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витие способностей школьников к созданию собственных текстов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328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Создание интернет дневника от и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П И Чайко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Arial Unicode MS"/>
              </a:rPr>
              <a:t>Мет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сбор , анализ и обобщение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наглядно- иллюстратив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интерактивны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87640" y="4464000"/>
            <a:ext cx="2016360" cy="3095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400720" y="360036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00800" y="4680000"/>
            <a:ext cx="1770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6:29:25Z</dcterms:created>
  <dc:creator/>
  <dc:description/>
  <dc:language>en-US</dc:language>
  <cp:lastModifiedBy>Lev</cp:lastModifiedBy>
  <dcterms:modified xsi:type="dcterms:W3CDTF">2013-03-23T17:18:31Z</dcterms:modified>
  <cp:revision>7</cp:revision>
  <dc:subject/>
  <dc:title>Презентация PowerPoint</dc:title>
</cp:coreProperties>
</file>