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71CF3-79EA-4392-95D4-488248B30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251-4BCA-4411-881D-C382669C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74E-496B-4616-A121-E6C2FA87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545-E20D-481F-88A0-11DD2AD7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275-F37A-4B87-8140-259A7346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B6F-D0FB-4A55-8E78-D70A5E17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F390-12D7-4B44-BC89-52C69556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CE8-ECCF-40D8-872B-9036E93C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E27-A69D-4C22-ABBA-4CC434FB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90E-3FA1-4118-94D8-0F9201BD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65A-1CE7-450F-89B2-C6C8147F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C55-B15C-4FAE-B6FC-4CFA0B86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3AC-DD76-49B3-A240-0E9B30B4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F2EB4-B70C-4580-93D2-0D5279B14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wiki/&#1055;&#1089;&#1080;&#1093;&#1086;&#1090;&#1077;&#1088;&#1072;&#1087;&#1080;&#1103;" TargetMode="External"/><Relationship Id="rId2" Type="http://schemas.openxmlformats.org/officeDocument/2006/relationships/hyperlink" Target="file:///wiki/&#1052;&#1091;&#1079;&#1099;&#1082;&#1072;" TargetMode="External"/><Relationship Id="rId3" Type="http://schemas.openxmlformats.org/officeDocument/2006/relationships/hyperlink" Target="file:///wiki/&#1058;&#1077;&#1088;&#1072;&#1087;&#1080;&#1103;_(&#1083;&#1077;&#1095;&#1077;&#1085;&#1080;&#1077;)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27682538937" descr=""/>
          <p:cNvPicPr/>
          <p:nvPr/>
        </p:nvPicPr>
        <p:blipFill>
          <a:blip r:embed=""/>
          <a:stretch/>
        </p:blipFill>
        <p:spPr>
          <a:xfrm>
            <a:off x="9360" y="-1584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3280" y="-1440"/>
            <a:ext cx="907092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2323dc"/>
                </a:solidFill>
                <a:latin typeface="Garamond"/>
              </a:rPr>
              <a:t>проект</a:t>
            </a:r>
            <a:br>
              <a:rPr sz="6000"/>
            </a:br>
            <a:r>
              <a:rPr b="1" i="1" lang="en-US" sz="6000" spc="-1" strike="noStrike">
                <a:solidFill>
                  <a:srgbClr val="2323dc"/>
                </a:solidFill>
                <a:latin typeface="Garamond"/>
              </a:rPr>
              <a:t>МУЗЫКОТЕРАП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3280" y="5580000"/>
            <a:ext cx="907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зентацию проекта при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зыкаль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БДОУ д/с "Теремок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иунова Лидия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00360" y="539640"/>
            <a:ext cx="4680000" cy="16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Виды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реал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340000"/>
            <a:ext cx="288000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Слуш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музы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3959280"/>
            <a:ext cx="2880000" cy="107928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Психогимнас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5580000"/>
            <a:ext cx="288000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Вокалотерап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9640" y="2340000"/>
            <a:ext cx="28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Танцетерап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59640" y="3959280"/>
            <a:ext cx="2879640" cy="107928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Дыхательная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Артикуляцион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гимнатис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59640" y="5580000"/>
            <a:ext cx="28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Игра на детск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музыкаль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инструмент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2340000"/>
            <a:ext cx="288000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Слуш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музы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00360" y="2340000"/>
            <a:ext cx="28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Логоритм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340000"/>
            <a:ext cx="288000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Слуш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музы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00360" y="3959280"/>
            <a:ext cx="2879640" cy="107928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Пальчиков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музыка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гимнас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0360" y="5580000"/>
            <a:ext cx="28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Игротерап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797120" y="1800360"/>
            <a:ext cx="324648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976400" y="1800360"/>
            <a:ext cx="3067200" cy="21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76400" y="1800360"/>
            <a:ext cx="3067200" cy="37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40360" y="1800360"/>
            <a:ext cx="28796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40360" y="1800360"/>
            <a:ext cx="3060720" cy="21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40360" y="1800360"/>
            <a:ext cx="3240000" cy="37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40360" y="1800360"/>
            <a:ext cx="1079280" cy="37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40360" y="1800360"/>
            <a:ext cx="1440" cy="21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857840" y="1800360"/>
            <a:ext cx="18576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Слушание  музы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619280"/>
            <a:ext cx="899964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На каждый орган человека действует определенный музыкальный инструмен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1. Виолончель оказывает благоприятное действие на поч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2. Арфа гармонизирует работу сердц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3. Самым сексуальным инструментом считается саксофон. Он восстанавливает потенц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4. Ударные инструменты обладают особенными свойствами - игра на них способствует расслаблению мышц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5. Струнные инструменты нормализуют дыхание и кровообращен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c5000b"/>
                </a:solidFill>
                <a:latin typeface="Arial"/>
                <a:ea typeface="Arial Unicode MS"/>
              </a:rPr>
              <a:t>Таким образом, симфонический оркестр является «универсальным врачом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00360" y="539640"/>
            <a:ext cx="485928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Для успокоения, снятия эмоционального напряжения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Расслабляющим действием обладают звуки флейты, игра на скрипке и фортепиано. Успокаивающий эффект носят звуки природы (шум моря, леса), вальсы (ритм три четверти). Классика: произведения Вивальди, Бетховен «Симфония 6» часть 2, Брамс «Колыбельная», Шуберт «Аве Мария», Шопен «Ноктюрн соль-минор», Дебюсси «Свет луны». </a:t>
            </a:r>
            <a:br>
              <a:rPr sz="1800"/>
            </a:br>
            <a:br>
              <a:rPr sz="1800"/>
            </a:b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Уменьшение чувства тревоги и неуверенности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Мажорные мелодии темпа ниже среднего. Народная и детская музыка помогает обрести временную безопасность. Хорошее воздействие могут оказать этнические композиции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Классика: Шопен «Мазурка» и «Прелюдии», Штраус «Вальсы», Рубинштейн «Мелодия». </a:t>
            </a:r>
            <a:br>
              <a:rPr sz="1800"/>
            </a:br>
            <a:br>
              <a:rPr sz="1800"/>
            </a:b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Уменьшение раздражительности, нервного возбужден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Классика: Бах «Кантата 2» и «Итальянский концерт», Гайдн «Симфония», Бетховен «Лунная соната» и «Симфония ля-минор». </a:t>
            </a:r>
            <a:br>
              <a:rPr sz="1800"/>
            </a:br>
            <a:br>
              <a:rPr sz="1800"/>
            </a:b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Для снятия депрессивных настроений, улучшения настроения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Скрипичная и церковная музыка. Классика: Произведения Моцарта, Гендель «Менуэт», Бизе «Кармэн» часть 3. </a:t>
            </a:r>
            <a:br>
              <a:rPr sz="1800"/>
            </a:b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Если плохое настро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то специалисты рекомендуют так называемые стимулирующие (тонизирующие) программы. Это произведения Баха, Моцарта, Шуберта, Чайковского и Вивальди, но в темпе аллегро или аллегро модера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Для поднятия общего жизненного тонуса, улучшение самочувствия, активности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Вялым детям нужна ритмичная, бодрящая музыка. Можно использовать различные марши: их прослушивание повышает нормальный ритм человеческого сердца в спокойном состоянии, что оказывает бодрящее, мобилизующее воздействие. Классика: Чайковский «Шестая симфония» часть 3, Бетховен «Увертюра Эгмонд», Шопен «Прелюдия 1, опус 28», Лист «Венгерская рапсодия 2». </a:t>
            </a:r>
            <a:br>
              <a:rPr sz="1800"/>
            </a:br>
            <a:br>
              <a:rPr sz="1800"/>
            </a:b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Для снятия мигрени, головной и другой боли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Религиозная музыка. Классика: Моцарт «Дон Жуан» и «Симфония № 40», Лист «Венгерская рапсодия 1», Хачатурян «Сюита Маскарад», Бетховен «Фиделио», Гершвин «Американец в Париже». </a:t>
            </a:r>
            <a:br>
              <a:rPr sz="1800"/>
            </a:br>
            <a:br>
              <a:rPr sz="1800"/>
            </a:b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От бессонницы, для спокойного и крепкого сна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Сибелиус «Грустный вальс», Шуман «Грезы», Глюк «Мелодия», а также пьесы Чайковского. Малышу, который плохо спит, можно негромко проигрывать во время сна музыку с медленным темпом и четким ритм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сихоги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3280" y="1440000"/>
            <a:ext cx="907092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Этюды, игры и упражнения, направленные на развитие и коррекцию различных сторон психики ребенка, как ее познавательной, так и эмоционально- личностной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Мимические упражне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Релаксац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Коммуникативные игры и танц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Этюды на развитие выразительности движений, инсцениров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правлена на обучение элементам техники выразительных движений, на использование выразительных движений в воспитании эмоций и высших чувств и на приобретение навыков в саморасслаблен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учают различные эмоции и учатся управлять ими, овладевают азбукой выражения эмо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могает детям преодолевать барьеры в общении, лучше понять себя и других, снимать психическое напряжение, дает возможность самовыраж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окалотерап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3280" y="1440000"/>
            <a:ext cx="907092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Голос - это своеобразный индикатор здоровья. Самое главное на занятиях - это бережное отношение к голосу ребё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ение - идеальный способ лечения для детей с нарушениями речи, улучшает их артикуляцию и рит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С помощью вокала можно воздействовать на внутренние органы - ведь во время пения у детей происходит мягкий массаж горла, в лёгких возникает вибрация, в свою очередь влияющие на кровообращ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Пение снимает стрессы и помогает детям избавиться от страх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Учить детей петь свободно и легко, их голос развивается и укрепляется, особенно полезны для детей протяжные песни, которые развивают дыхание. Это очень полезно сказывается для детей с заболеваниями дыхательных пу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3366"/>
                </a:solidFill>
                <a:latin typeface="Arial"/>
              </a:rPr>
              <a:t>Лечебные  звуки (гласны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3280" y="1260360"/>
            <a:ext cx="9070920" cy="54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нимает любые спазмы, лечит сердце и желчный пузырь; </a:t>
            </a:r>
            <a:br>
              <a:rPr sz="28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Э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лучшает работу головного мозга; </a:t>
            </a:r>
            <a:br>
              <a:rPr sz="28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лечит глаза, уши, стимулирует сердечную деятельность, «прочищает» нос; </a:t>
            </a:r>
            <a:br>
              <a:rPr sz="28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оживляет деятельность поджелудочной железы, устраняет проблемы с сердцем; </a:t>
            </a:r>
            <a:br>
              <a:rPr sz="28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лучшает дыхание, стимулирует работу почек, мочевого пузыря, предстательной железы (у мужчин), матки и яичников (у женщин); </a:t>
            </a:r>
            <a:br>
              <a:rPr sz="28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лечит уши, улучшает дых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Логоритм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3280" y="1187280"/>
            <a:ext cx="907092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альчиковые иг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Речевые иг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Музыкально-двигательные и коммуникативные игры, упражнения для развития крупной и мелкой мотор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Танцы под ритмодекламацию или пение взросл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Ритмические игры с музыкальными инструментами, стихотворения с движ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ое место в работе над речью детей занимают музыкальные игры, пение и движения под му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гулярное включение в музыкальное занятие элементов логоритмики способствует быстрому развитию речи и музыкальности, формирует положительный эмоциональный настрой, учит общению со сверст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горитмические игры способствуют созданию доброжелательной, эмоционально насыщенной атмосферы совместного творчества детей и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29400"/>
          </a:xfrm>
          <a:prstGeom prst="rect">
            <a:avLst/>
          </a:prstGeom>
          <a:ln w="0">
            <a:noFill/>
          </a:ln>
        </p:spPr>
      </p:pic>
      <p:pic>
        <p:nvPicPr>
          <p:cNvPr id="134" name="big" descr=""/>
          <p:cNvPicPr/>
          <p:nvPr/>
        </p:nvPicPr>
        <p:blipFill>
          <a:blip r:embed=""/>
          <a:stretch/>
        </p:blipFill>
        <p:spPr>
          <a:xfrm>
            <a:off x="604800" y="54144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135" name="big2" descr=""/>
          <p:cNvPicPr/>
          <p:nvPr/>
        </p:nvPicPr>
        <p:blipFill>
          <a:blip r:embed=""/>
          <a:stretch/>
        </p:blipFill>
        <p:spPr>
          <a:xfrm>
            <a:off x="7380360" y="54144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136" name="big3" descr=""/>
          <p:cNvPicPr/>
          <p:nvPr/>
        </p:nvPicPr>
        <p:blipFill>
          <a:blip r:embed=""/>
          <a:stretch/>
        </p:blipFill>
        <p:spPr>
          <a:xfrm>
            <a:off x="4024440" y="541440"/>
            <a:ext cx="2095200" cy="3238560"/>
          </a:xfrm>
          <a:prstGeom prst="rect">
            <a:avLst/>
          </a:prstGeom>
          <a:ln w="0">
            <a:noFill/>
          </a:ln>
        </p:spPr>
      </p:pic>
      <p:pic>
        <p:nvPicPr>
          <p:cNvPr id="137" name="big5" descr=""/>
          <p:cNvPicPr/>
          <p:nvPr/>
        </p:nvPicPr>
        <p:blipFill>
          <a:blip r:embed=""/>
          <a:stretch/>
        </p:blipFill>
        <p:spPr>
          <a:xfrm>
            <a:off x="5464080" y="3780000"/>
            <a:ext cx="2095560" cy="3238200"/>
          </a:xfrm>
          <a:prstGeom prst="rect">
            <a:avLst/>
          </a:prstGeom>
          <a:ln w="0">
            <a:noFill/>
          </a:ln>
        </p:spPr>
      </p:pic>
      <p:pic>
        <p:nvPicPr>
          <p:cNvPr id="138" name="big7" descr=""/>
          <p:cNvPicPr/>
          <p:nvPr/>
        </p:nvPicPr>
        <p:blipFill>
          <a:blip r:embed=""/>
          <a:stretch/>
        </p:blipFill>
        <p:spPr>
          <a:xfrm>
            <a:off x="2160720" y="3780000"/>
            <a:ext cx="2095200" cy="32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31" descr=""/>
          <p:cNvPicPr/>
          <p:nvPr/>
        </p:nvPicPr>
        <p:blipFill>
          <a:blip r:embed=""/>
          <a:stretch/>
        </p:blipFill>
        <p:spPr>
          <a:xfrm>
            <a:off x="0" y="-179280"/>
            <a:ext cx="10080720" cy="7740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узыка, как мощный фа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оздействия на эмоциональную сферу               человека, издавна использовалась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ечения различных заболеваний и, в особенности, для терапии нервно-психических расстройств. В последние десятилетия выделилось целое направление в психотерапии – музыкотерап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740720" y="5219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360360"/>
            <a:ext cx="1440000" cy="341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740720" y="360360"/>
            <a:ext cx="183996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альчиковая ги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Стимулирует действие речевых зон коры головного мозга дет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Совершенствует внимание и памя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Формирует ассоциативно-образное мышле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Облегчает будущим школьникам усвоение навыков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31" descr=""/>
          <p:cNvPicPr/>
          <p:nvPr/>
        </p:nvPicPr>
        <p:blipFill>
          <a:blip r:embed=""/>
          <a:stretch/>
        </p:blipFill>
        <p:spPr>
          <a:xfrm>
            <a:off x="0" y="36360"/>
            <a:ext cx="10080720" cy="7560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Дыхательная и артикуляционая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ги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3280" y="1440000"/>
            <a:ext cx="907092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Артикуляционная гимнастика вырабатывает качественные, полноценные движения органов артикуляции, подготавливает к правильному произнесению фонем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Результат артикуляциооной гимнасти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повышение уровня развития речи детей, певческих навыков, улучшение музыкальной памяти, вним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Дыхательная гимнастика корректирует нарушения речевого дыхания, помогает выработать диафрагмальное дыхание, а также продолжительность, силу и правильное распределение выдох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Выполнение дыхательной гимнастик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могает сохранить, укрепить здоровье ребенка. Она дает возможность зарядиться бодростью и жизнерадостностью, сохранять высокую работоспособн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Танцетерап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3280" y="1260360"/>
            <a:ext cx="907092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5000b"/>
                </a:solidFill>
                <a:uFillTx/>
                <a:latin typeface="Arial"/>
              </a:rPr>
              <a:t>Ц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анцетерапии - посредством танцевальной импровизации выразить своё настроение, состоя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Музыкально-ритмические упражнения выполняют релаксационную функцию, помогая добиться эмоциональной разрядки, снять умственную нагрузку и переутомление, формируют красивую осанку, укрепляют мускулатуру, развивают мелкую моторику, воспитывают вынослив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Движения и танец, помимо того, что снимает нервно - психическое напряжение, помогают детям быстро устанавливать дружеские связи друг с друг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Упражнения с пением детей учат выразительности, умению распределять дыхание и координировать его с речевой фразой, у них развивается ритмическое чувство и музыкальный сл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Музыкальная ритмика является отличной профилактикой сколиоза, кефоза, косолапия, плоскостоп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Многократное повторение ритмических движений развивает мышечную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80099"/>
                </a:solidFill>
                <a:latin typeface="Arial"/>
              </a:rPr>
              <a:t>Можно с полной уверенностью утверждать, что танцетерапия является профилактикой детских комплексов и неврозов.</a:t>
            </a:r>
            <a:r>
              <a:rPr b="0" lang="en-US" sz="2200" spc="-1" strike="noStrike">
                <a:solidFill>
                  <a:srgbClr val="2800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31" descr=""/>
          <p:cNvPicPr/>
          <p:nvPr/>
        </p:nvPicPr>
        <p:blipFill>
          <a:blip r:embed=""/>
          <a:stretch/>
        </p:blipFill>
        <p:spPr>
          <a:xfrm>
            <a:off x="0" y="28440"/>
            <a:ext cx="10080720" cy="7531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1. Ветлугина Н.А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Музыкальные занятия в детском саду. М.: “Просвещение” 198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2. Михайлова М.А. Развитие музыкальных способностей детей. – Ярославль “Академия развития”, 199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3. Петрушин В.И. Музыкальная психология М., "Владос" 1997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4. Петрушин В.И. Музыкальная психотерапия. – М., 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2300dc"/>
                </a:solidFill>
                <a:latin typeface="Arial"/>
              </a:rPr>
              <a:t>СПАСИБО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2300dc"/>
                </a:solidFill>
                <a:latin typeface="Arial"/>
              </a:rPr>
              <a:t>ЗА 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6b2394"/>
                </a:solidFill>
                <a:latin typeface="Arial"/>
              </a:rPr>
              <a:t>Что такое музыкотерап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280" y="1403280"/>
            <a:ext cx="90709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. Музыкотерап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—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1"/>
              </a:rPr>
              <a:t>психотерапевтический мет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, использующий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музы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в качестве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3"/>
              </a:rPr>
              <a:t>лечебного средст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основанный на целительном  воздействии музыки на психическое и физическое состоян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 Термин «музыкотерапия» имеет греко-латинское происхождение и в переводе означает «лечение музыко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 Уже в древних мифах говорится о целительной силе музыки. Древние китайцы полагали, что с помощью звуков можно излечить многие боле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 Основоположником современной музыкотерапии считается швейцарский педагог, композитор Жак Далькроз (1865-1950). Он доказал огромное значение музык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6b2394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1276200"/>
            <a:ext cx="907092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ундаментом  здоровья  взрослого  человека  является  здоровье  ребенка,  от  состояния  которого  будет  зависеть  выполнение  всех  социальных  задач,  а,  в  конечном  итоге,  благополучие  и  развитие  всего  общества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 секрет,  что  состояние  здоровья  современного  ребёнка  ухудшилось.  Влияние  экологии,  нарушение  родителями  здорового  образа  жизни,  стрессовые  факторы  и  многое  другое  приводит  к  увеличению  заболеваемости,  общему  ослаблению  организма  и  нервной  системы  ребёнка.  В  связи  с  этим,  особую  актуальность  во  всех  дошкольных  образовательных  учреждениях  приобретает  разработка  и реализация  комплексных  оздоровительно-профилактических  мероприятий,  направленных  на  снижение  уровня  функциональной  напряженности  и  заболеваем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им  из  мощных  средств  благотворного  воздействия  на  здоровье  и  психику  человека  является  музыкальное  искусство.  Лечение  музыкой  или  «музыкотерапия»  является  одним  из  древнейших  средств  оздоровления,  не  теряющих  своей  актуальности  и  по  сей  де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3280" y="720720"/>
            <a:ext cx="9070920" cy="67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Цель проекта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сохранение психического здоровья ребенка путем создания комфортных условий для творческого самовыражения и развития лич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 Формировать у детей различные психические функции (внимание, память, автоматизированная и выразительная моторика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. Развить умение выражать различные эмоциональные состояния, обучение элементам саморасслаб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. Учить слушать и понимать музыку, чувствовать её настроение, характер и выражать мимикой и пластическим движениями, а также в рисун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4. Развивать коммуникативное благополучие ребенка через формирование чувства внутренней устойчив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5. Учить доверять себе и другим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6. Формировать доброжелательное отношение к окружающим, умение действовать в коллективе сверст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7. Воспитать волю, трудолюбие, доброжелательность, интерес к систематическим занятиям с привлечением музыкотерап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0" y="2519280"/>
            <a:ext cx="3600360" cy="234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Уча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79640" y="1079640"/>
            <a:ext cx="234000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Метод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219640"/>
            <a:ext cx="234000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Музыка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59640" y="1079640"/>
            <a:ext cx="234000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9640" y="5219640"/>
            <a:ext cx="234000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119640" y="2336760"/>
            <a:ext cx="1800360" cy="72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319640"/>
            <a:ext cx="1979640" cy="90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155320" y="2336760"/>
            <a:ext cx="1806840" cy="72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976040" y="4319640"/>
            <a:ext cx="1986120" cy="90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03280" y="360360"/>
            <a:ext cx="9070920" cy="70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ект включает 3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Подготов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Осно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Заключ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323dc"/>
                </a:solidFill>
                <a:latin typeface="Arial"/>
              </a:rPr>
              <a:t>Подготовительный этап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Работа с методической литературой по теме "Музыкотерапия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Изучение музыкально-педагогического опыта педагогов, работающих по теме "Музыкотерапия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 Создать благоприятные условия для занятий с детьми музыкотерапией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 Продумать методические приемы: специальные музыкальные упражнения, игры, зада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 Подобрать специальные музыкальные произве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694800"/>
            <a:ext cx="9070920" cy="586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сновной этап: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Использо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музыки  в  целях  восстановления  и  укрепления  здоровья,  совокупность  приемов  и  методов,  направленных  на  расширение  и  обогащение  доступных  ребёнку  переживаний,  формирование  у  него  такого  мировоззрения,  которое  помогает  ему  быть  здоровым  и  счастливым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Применение различных форм и видов Музыкотерапии: слушание музыки, танцетерапия, вокалотерапия, дыхательная и артикуляционная гимнастики и др.</a:t>
            </a:r>
            <a:br>
              <a:rPr sz="2400"/>
            </a:b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Заключительный этап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ыявить результативность проделанной работы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60720" y="900000"/>
            <a:ext cx="3959280" cy="144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Формы ре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2700360"/>
            <a:ext cx="306072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Музыкальная Н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4680000"/>
            <a:ext cx="306072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Режимные мо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2700360"/>
            <a:ext cx="306072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Самостояте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де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680000"/>
            <a:ext cx="306072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консульт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157480" y="2160720"/>
            <a:ext cx="252576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695320" y="2160720"/>
            <a:ext cx="2166840" cy="25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2160720"/>
            <a:ext cx="19796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00720" y="2160720"/>
            <a:ext cx="1979640" cy="25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5:32:33Z</dcterms:created>
  <dc:creator/>
  <dc:description/>
  <dc:language>en-US</dc:language>
  <cp:lastModifiedBy/>
  <dcterms:modified xsi:type="dcterms:W3CDTF">2013-02-06T20:53:01Z</dcterms:modified>
  <cp:revision>13</cp:revision>
  <dc:subject/>
  <dc:title/>
</cp:coreProperties>
</file>