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5A5-1E5F-41BA-B0BF-FB53F0A2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D01-F625-4C4B-B480-CEE16BDE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1DE-9AA9-4996-94DE-4DC1F3A8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F77-B1D9-42C8-B900-E0618ADE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D987-AC45-48F9-92C1-5B95018A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404B-FFD7-4AF9-8298-937072C6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287F-2510-4348-9A53-FAAF46AA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A7CB-0315-48E7-AC13-3731281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A277-EC89-4DA5-A5C4-099ABAC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CC68-00DA-4A50-80C0-7EA2A66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E279-2E2E-4551-B261-5F021AB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97F-0E8C-4632-909B-91CD3A4A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7533-DD43-4285-B8FA-1132256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1379-1C29-4556-983A-34D7482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B3FA-809B-45A6-AE93-C4C5B00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216F-F25E-4A5B-9B0B-50B3921F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35D7-9784-4969-B260-FD63DEB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A9BE-0F80-4B63-875C-3D8DB9E8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B47F-AB0A-4718-928B-C3F8FE62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7FEF-13BB-44C0-9C79-CA0AAD41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2C62-7148-43B3-8380-FC20C4BB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207F-D2EB-4464-9FE6-143B3A1D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905-A060-44AB-8AA5-F0215187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4694-C7DC-4722-A5FD-C23CF0E7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01FD-3E31-4531-81AE-8B89CE1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2151-CDED-4E7F-9CF3-22372D9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F030-41B9-4579-9929-C0FEFB9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041E-2476-440D-B598-867B6856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E5F7-ED10-454F-A98C-F2828ED1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8F08-682F-4D8D-B1F9-0E0ACE12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39A3-023A-4369-9C46-72D8199A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35F3-D2DC-46D3-937D-309F561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A157-8BEE-47E1-96EB-BD77CB1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B3D-1DFE-42DC-920D-FCFB339B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D5D4-3ECE-4075-819B-5A3EF9B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1A71-2D09-41DF-83A8-83B97FFD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D91B-9267-4AAF-B163-244DF113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539E-4439-4BAA-A5E8-F846EB9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31AE2-3DD5-43DB-9EBF-EAF67C3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69E0-23C6-46AD-8FC4-9BD1EFA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E6F9-7DAF-445E-B796-12775E05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8CFC-7709-464D-8A9E-1DBB2C9A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AC9C3-B05E-4DE6-9AAE-C53B92BF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E7EE-A11F-43B2-A53B-BBBCD6DE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74D-C8EE-4F69-B7A7-93819ABB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09085-4944-4B5A-A8A0-90DAD739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AB5A1-5291-48BF-A114-420F38E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FAC0-03EA-4CC7-B8E2-25D45BF2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0560-2980-4391-B246-3523D1F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A691C-528D-43BF-95AC-2AECD77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3EDE-7B64-4178-B701-863145BC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C05F-2B59-45F3-894C-427B2C1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A1AC-2912-4FD0-A2BC-C775DE1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C80F-68A5-4C21-A83A-0191C74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F17C-C16D-4348-BEAC-95333DD7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42D-4935-4A6A-A444-FFAA5AAB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2CBC-AB5F-47E3-A1F3-37161992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1F4A-5513-4CD0-B82F-F0916C55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A2B1-2E06-4A8C-B8B1-B9C99BC2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7C41-0866-4039-A63C-60B3B5F7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AFFB-19B7-4905-A8D1-84D1C48E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2D71B-C14A-4ACB-8102-5CE6BD37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0CBAE-19C3-44A9-AFD3-F2529724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79F48-0DA7-4F03-85E6-F4245A0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8F1F7-C5C1-4317-92E7-84A9D6F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7EA7-5CE4-4019-B578-1E04D96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A92-6275-452F-BD09-1FEE2B9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EE2A-35BF-4A3A-8F4F-7DA51FE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B8F2E-763C-45F1-AB83-C3E53026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FEAB-5D82-4E6A-87C0-483EA5C5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FB9E-CCF6-4807-B00E-6FFEB9CD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4EA4-215B-48CE-B1B4-5C207381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A79F-FE24-483C-804D-C495A804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7E6EC-8BF3-4660-844A-DE52C8E4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15A25-DB6E-4F63-B018-E8D10738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E8DA6-946C-4F0E-AA67-C0854FB6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8DB3B-C60B-434A-B394-1E5D633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DB8-BE9F-4A54-8C58-EE80848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AEBB-BDDF-4567-8B34-F6A0847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43D3E-7F30-43D6-B225-DB8D3F09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B62CF-C0DA-46B6-81F5-7CDEF8E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31522-F0F9-4DF8-88B9-32314647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93A2-7581-4E7B-BC72-4E1468A4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75B-BA56-45F7-A8FA-DA6F478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A890-6DE1-4337-B7CA-C5F7093E9B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AE07-4DC4-477D-9DD4-F53177769513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1913-9675-45D9-BC4B-C3152DF368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6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9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BA0F-0DB1-4A37-B01D-84810572AD6C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EC4B-87B6-40DB-ABA6-0C73E7E6B012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ая соединительная линия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2BB9-E361-4528-AA63-4355E331EC30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2BD9-5629-4A2D-A3A8-EF50929FF63E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6" descr="E:\аттестация\флешка\картинка сказка.gif"/>
          <p:cNvPicPr/>
          <p:nvPr/>
        </p:nvPicPr>
        <p:blipFill>
          <a:blip r:embed="rId1"/>
          <a:stretch/>
        </p:blipFill>
        <p:spPr>
          <a:xfrm>
            <a:off x="428760" y="0"/>
            <a:ext cx="5000400" cy="5627520"/>
          </a:xfrm>
          <a:prstGeom prst="rect">
            <a:avLst/>
          </a:prstGeom>
          <a:ln w="0">
            <a:noFill/>
          </a:ln>
        </p:spPr>
      </p:pic>
      <p:sp>
        <p:nvSpPr>
          <p:cNvPr id="372" name="Стрелка вправо 3"/>
          <p:cNvSpPr/>
          <p:nvPr/>
        </p:nvSpPr>
        <p:spPr>
          <a:xfrm>
            <a:off x="5500800" y="-142920"/>
            <a:ext cx="14292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4120" y="36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16200" y="228636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 flipV="1">
            <a:off x="5003640" y="3410640"/>
            <a:ext cx="227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5580000" y="1484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ься надо весе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ься будем весе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 хорошо учи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WordArt 14"/>
          <p:cNvSpPr txBox="1"/>
          <p:nvPr/>
        </p:nvSpPr>
        <p:spPr>
          <a:xfrm>
            <a:off x="755640" y="2276640"/>
            <a:ext cx="4538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9" name="WordArt 16"/>
          <p:cNvSpPr txBox="1"/>
          <p:nvPr/>
        </p:nvSpPr>
        <p:spPr>
          <a:xfrm>
            <a:off x="2843280" y="2990880"/>
            <a:ext cx="3457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0" name="WordArt 17"/>
          <p:cNvSpPr txBox="1"/>
          <p:nvPr/>
        </p:nvSpPr>
        <p:spPr>
          <a:xfrm>
            <a:off x="1285920" y="4357800"/>
            <a:ext cx="31622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едставлений  через  иг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1" name="Picture 21" descr="plants2"/>
          <p:cNvPicPr/>
          <p:nvPr/>
        </p:nvPicPr>
        <p:blipFill>
          <a:blip r:embed="rId2"/>
          <a:stretch/>
        </p:blipFill>
        <p:spPr>
          <a:xfrm>
            <a:off x="7812000" y="4869000"/>
            <a:ext cx="10429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6"/>
          <p:cNvSpPr txBox="1"/>
          <p:nvPr/>
        </p:nvSpPr>
        <p:spPr>
          <a:xfrm>
            <a:off x="1116000" y="1197000"/>
            <a:ext cx="3914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готовите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тапы реализации проек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WordArt 9"/>
          <p:cNvSpPr txBox="1"/>
          <p:nvPr/>
        </p:nvSpPr>
        <p:spPr>
          <a:xfrm>
            <a:off x="4500720" y="5084640"/>
            <a:ext cx="3886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лючите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10"/>
          <p:cNvSpPr txBox="1"/>
          <p:nvPr/>
        </p:nvSpPr>
        <p:spPr>
          <a:xfrm>
            <a:off x="5580000" y="2349360"/>
            <a:ext cx="31910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дренчес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Подготовительный этап </a:t>
            </a:r>
            <a:br>
              <a:rPr sz="36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(1 сентября 2012 – 15 сентября 2013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Формирование творческой группы по реализации проек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ланирование деятельност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работка перспективно-календарного плана по формированию математичес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х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ставлений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3. Р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зработка серии занятий, сценариев математического содержания с использованием занимательного материал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4. С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здание условий для работы в групп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5.П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оведение диагностики детей в начале  учебного год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Схема 2" descr=""/>
          <p:cNvPicPr/>
          <p:nvPr/>
        </p:nvPicPr>
        <p:blipFill>
          <a:blip r:embed="rId1"/>
          <a:stretch/>
        </p:blipFill>
        <p:spPr>
          <a:xfrm>
            <a:off x="414360" y="182520"/>
            <a:ext cx="8242200" cy="613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6" descr="E:\аттестация\флешка\2.jpg"/>
          <p:cNvPicPr/>
          <p:nvPr/>
        </p:nvPicPr>
        <p:blipFill>
          <a:blip r:embed="rId1"/>
          <a:stretch/>
        </p:blipFill>
        <p:spPr>
          <a:xfrm>
            <a:off x="4786200" y="1928880"/>
            <a:ext cx="4071960" cy="25588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Технологический этап</a:t>
            </a:r>
            <a:br>
              <a:rPr sz="36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(16 сентября 2011 – 15 мая 2012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.Использование технологии личностно-ориентированного общения (индивидуальный и дифференцированный подх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8" descr="3str3"/>
          <p:cNvPicPr/>
          <p:nvPr/>
        </p:nvPicPr>
        <p:blipFill>
          <a:blip r:embed="rId2"/>
          <a:stretch/>
        </p:blipFill>
        <p:spPr>
          <a:xfrm flipH="1" rot="10800000">
            <a:off x="4572000" y="6093000"/>
            <a:ext cx="503280" cy="35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57120" y="499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Внедрение развивающих технологий в работу по реализации проекта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облемно-поисковый метод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одуктивное взаимодействи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гровые прием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ключительный этап</a:t>
            </a:r>
            <a:br>
              <a:rPr sz="44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15 мая 2012 – 31 мая 2012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Проведение диагностики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нализ работ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Проведение итогового математического спектакля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Представление документации и материалов по проекту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Сопоставление имеющихся результатов с прогнозируемым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Определение перспективы развития проект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едполагаемый результат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ерспективно-календарный план по формированию и развитию у детей 3-4 лет математического мыш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ценарии театрализованных представлений с математическим содерж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емонстрационный и раздаточный материал для занятий и индивидуальной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азвивающие технологии обучения практически применяются на занятиях и в свободное вре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иагност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еский инструментарий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 выявлению уровня и качества освоения программного материала по математи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ДИНАМИКА ПОКАЗАТЕЛЕЙ УРОВНЯ УСВОЕНИЯ ПРОГРАММНОГО МАТЕРИАЛА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о математике  детей раннего возраст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22" name="Object 5" descr=""/>
          <p:cNvPicPr/>
          <p:nvPr/>
        </p:nvPicPr>
        <p:blipFill>
          <a:blip r:embed="rId1"/>
          <a:stretch/>
        </p:blipFill>
        <p:spPr>
          <a:xfrm>
            <a:off x="4919760" y="1905120"/>
            <a:ext cx="422424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457200" y="1600200"/>
          <a:ext cx="4037040" cy="453060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8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1-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чал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ец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нализ результативности проек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результате реализации проек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работан перспективный план, конспекты занят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готовлен демонстрационный и раздаточный материал для занятий и индивидуальной рабо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веден семинар для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ходе реализации проекта  широко использовался прием включения математического содержания в творческую продуктивную деятельность детей на этапе усвоения или отработки: лепка, аппликация, рисование, конструиро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ругой прием – сюжетная подача математического содерж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льшая роль отводилась игровому мет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проведении диагностики по формированию и развитию математического мышления дети показали хорош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10257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Информационные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ресурсы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ловьева Е.В. Математика и логика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М.: Просвещение, 1999, с. 23 -3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лесникова Е.В. Математика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М.: «Гном-Пресс», 1999,с. 102 -107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рофеева Т. И. Математическое образование и развитие дошкольников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М., 1997, с.35 -4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хайлова З. А. Игровые занимательные задачи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М.: Просвещение, 1990, с.17 -2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хайлова З. А. Игровые задачи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Санкт-Петербург: Детсво-Пресс, 2001, с. 68 -7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сова Е. Н. , Непомнящая  Р. Н. Логика и математика у дошкольников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 Санкт-Петербург: Детсво-Пресс, 2002, с.12 -1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оленцева А.А., Суворова О.В. Математика в проблемных ситуациях для маленьких детей. - Санкт-Петербург: Детсво-Пресс, 2004, с.57 -7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ые изменения в России потребовали реформы образования. Основным ее направлением стала гуманизац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для беспокойства действительно есть. Ускорение темпов обучения детей дошкольного возраста методами, переносимыми из практики школьного образования, действительно чревато перегрузками и эмоциональным недоразвитием ребенка. На первом месте как наиболее опасное в этом отношении стоит обучение математ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бенок познает мир с помощью органов чувств, и познание неразрывно связано в его опыте с восхищением, информация – с эмоциями. И если выполняются эти простые, но очень важные законы, познание приносит ребенку пользу и радость, а не ведет к угасанию живого восприятия мира, эмоциональности, нервно-психическим перегруз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4" name="Picture 4" descr="1c1"/>
          <p:cNvPicPr/>
          <p:nvPr/>
        </p:nvPicPr>
        <p:blipFill>
          <a:blip r:embed="rId1"/>
          <a:stretch/>
        </p:blipFill>
        <p:spPr>
          <a:xfrm>
            <a:off x="4859280" y="5805360"/>
            <a:ext cx="5446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ипотеза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лое применение занимательного математического материала в процессе обучения поможет активизировать мыслительную деятельность, формировать элементарные математические представления, развивать самостоятельность, формировать активную позицию ребенка в уч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вающие игры и игровые задания помогут развить логическое мышление, воображение и сообразительность ребенка, привьют любовь к твор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 проекта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14240" y="1599840"/>
            <a:ext cx="7972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оспитат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оробьева Е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сто реализации проект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6600"/>
                </a:solidFill>
                <a:latin typeface="Tahoma"/>
              </a:rPr>
              <a:t>МБДОУ детский сад № 32 «Ромашка»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Участники проекта</a:t>
            </a:r>
            <a:r>
              <a:rPr b="0" lang="ru-RU" sz="3400" spc="-1" strike="noStrike">
                <a:solidFill>
                  <a:srgbClr val="ffff00"/>
                </a:solidFill>
                <a:latin typeface="Tahoma"/>
              </a:rPr>
              <a:t> – дети 3-4 лет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12" descr="3str3"/>
          <p:cNvPicPr/>
          <p:nvPr/>
        </p:nvPicPr>
        <p:blipFill>
          <a:blip r:embed="rId1"/>
          <a:stretch/>
        </p:blipFill>
        <p:spPr>
          <a:xfrm flipH="1" rot="10800000">
            <a:off x="4284720" y="1916280"/>
            <a:ext cx="358560" cy="250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3" descr="3str3"/>
          <p:cNvPicPr/>
          <p:nvPr/>
        </p:nvPicPr>
        <p:blipFill>
          <a:blip r:embed="rId2"/>
          <a:stretch/>
        </p:blipFill>
        <p:spPr>
          <a:xfrm flipH="1" rot="10800000">
            <a:off x="3564000" y="4536720"/>
            <a:ext cx="360360" cy="250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E:\аттестация\флешка\1.jpg"/>
          <p:cNvPicPr/>
          <p:nvPr/>
        </p:nvPicPr>
        <p:blipFill>
          <a:blip r:embed="rId3"/>
          <a:stretch/>
        </p:blipFill>
        <p:spPr>
          <a:xfrm>
            <a:off x="4714920" y="2500200"/>
            <a:ext cx="41562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65600"/>
                </a:solidFill>
                <a:latin typeface="Arial"/>
              </a:rPr>
              <a:t>Участники проекта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14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ники раннего возра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и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одаватель по ИЗ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льный руковод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гопе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Цель проек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здание системы работы по формированию математических представлений, познавательной активности и мышления на основе использования занимательного математического материа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Формирование интеллектуальных операций – сравнения, нахождения сходства и различий, обобщения, классификации, счета, нахождения закономерностей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Формирование системы представ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звитие вообра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особствование формированию положительного отношения к предме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оспитание уверенности в собственных интеллектуальных возможност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1c1"/>
          <p:cNvPicPr/>
          <p:nvPr/>
        </p:nvPicPr>
        <p:blipFill>
          <a:blip r:embed="rId1"/>
          <a:stretch/>
        </p:blipFill>
        <p:spPr>
          <a:xfrm>
            <a:off x="4716360" y="5805360"/>
            <a:ext cx="5446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Тактические задачи проек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аботать перспективно-календарный план по формированию  и развитию у детей 2-3 лет математического мышления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аботать сценарии театрализованных представлений с математическим содержанием и провести по ним цикл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сти и изготовить демонстрационный и раздаточный материал для занятий и индивидуальной рабо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вести семинар для роди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учить технологию сохранения и укрепления здоровья детей на занятиях и внедрить их в практи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учить и внедрить в практику развивающие технологии обучения на занятиях и в свободное время, основанные на личностно-ориентированном подходе к ребен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вести диагностику по выявлению уровня 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чества освоения программного материала по ознакомлению детей с матема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6:39:42Z</dcterms:created>
  <dc:creator>SamLab.ws</dc:creator>
  <dc:description/>
  <dc:language>en-US</dc:language>
  <cp:lastModifiedBy>Admin</cp:lastModifiedBy>
  <dcterms:modified xsi:type="dcterms:W3CDTF">2013-03-21T05:19:41Z</dcterms:modified>
  <cp:revision>146</cp:revision>
  <dc:subject/>
  <dc:title>Учебная тема  Развитие познавательной активности математики с помощью занимательного материала.</dc:title>
</cp:coreProperties>
</file>