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7.jpeg" ContentType="image/jpeg"/>
  <Override PartName="/ppt/media/image3.gif" ContentType="image/gif"/>
  <Override PartName="/ppt/media/image4.gif" ContentType="image/gif"/>
  <Override PartName="/ppt/media/image8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10F3-F420-4B9C-96BB-3AAF5259A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4B76-43BB-45E7-84D8-F5CAC9FA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83CC-8640-42DB-860A-678FB5756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BF52-2A3A-4ACD-AE94-BD8515E38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C7F6-8F4C-491B-9B33-B3F3CE7A5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E1B9-935B-45AC-82E0-EC1D5B1C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B133-01C1-4D59-A1D3-FF20A299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1386-2D69-4EEF-8B63-FE27472C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6C39-065F-4BAB-B1A2-89F744D0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53FF-6761-4F90-9E2C-6ABD0BDA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12BA-535C-43D4-91BB-4A0FB310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9AFA-0543-483E-913D-44D7EA6C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992E-08B1-445A-81A5-26E12042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6CD1-1173-4037-ADC4-9984B0C3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0877-1A8D-4DF8-9FEB-2FFD103F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5F80A-64CA-49E4-9F34-208D792BD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E983-8583-4007-BC2F-B817893BA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B47BA-35EE-4A0D-80D8-783A5D59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3EE8F-B545-47D4-AC01-9F0CB30D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40589-F6D6-40DC-AAA8-F7517982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8C5CE-5397-4B3D-8187-D498EEE5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B561C-B9EE-4153-961D-60A5637D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3986-6442-4802-9584-682799C3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4411D-B60A-498B-9873-8D4A07C0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FAF30-22DF-4892-AA2D-A822991B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AED8E-0538-4A50-9F92-5C44C4DD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0AD5A-6306-45C1-9B92-5B858BA9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436C8-5B41-42AC-A874-759FF31C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BB37D-413C-4DCD-823D-11F7A1751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B3096-0045-4411-A34F-A18C5DA72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23A9C-2AB5-4F22-9CF9-F72C6999B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6ABA7-AD49-40B8-8877-D6C1C3C6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24ED5-1792-4C35-B2CA-0A7707A4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1601-0F81-480D-9432-D2FF7BD9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4C09A-F0EB-411D-AD79-866976DE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D157B-C397-47A2-814B-E719D227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C7B93-32CC-497A-AE0C-FD3B24C6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4EEAC-5D67-445F-A483-47A38B7E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D62D5-21DE-435D-AE4E-687B9211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4E9E8-B157-456E-8EFA-F0BE0E7E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BF74F-28A3-4B0D-8BAD-979322FA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0AE6C-5C7A-4FAA-BD71-DD61748AA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5D9D5-0AEF-4337-BD85-FDAC44D13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39004-F319-4C3F-B2A9-BA05C0BD6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90CF-4FDA-4D4E-80AE-5B81B2B6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4393F-5526-4B28-8B77-72D88C42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350C0-FDD9-4941-8F68-D4E35BAD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1FBE4-5C4E-4E59-AD93-E5F0F186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DB97F-BB66-4D51-AB3F-F759EC8F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E66E3-719F-46AD-9779-B6C7870A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7A4A9-B5E3-4ABE-8A21-499F0323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62B74-F636-4BA2-B27A-0C73632A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1F34A-4A9B-47C9-BD50-DE220C7C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31F34-A168-461A-ACCE-A8387322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DD23A-C13D-49EB-A699-3993D9C24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01A2-706A-4247-B230-5B75C22C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78BA9-1E13-4B7E-9E9D-01690090A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589DC-39EB-4A76-9986-D4FC652C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B833B-D2D5-4613-8057-21C4D1CE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326C2-19F4-4058-B386-B5A4DB8E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22DBE-EC53-4AE7-8DAC-FA7D88AF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C98D6-9C9A-48D1-BC4A-90DF027C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4AD9C-5ECA-4819-94B5-B6623260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6449F-63BA-47D2-BBD1-1161C1EB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77F84-0159-45FB-8E86-C9B64910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C8FB2-73B2-49A3-9F25-6B2DB3B9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4F4A-E8CB-43E0-AB58-75660B60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F9E85-9603-4B54-95F4-B8E28207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3817D-6CE8-4608-A8C2-D8D82CA11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038B2-F2FE-4B49-B3DB-54ACFD47D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08560-B12B-45E3-AC25-4C46A4E6F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46F3E-425B-4144-ACF7-42A1F3A1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1780A-719A-46D4-BBE6-318CCF8F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19609-9DDB-43E2-ACA8-D0E00EB1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7F9F3-5C2A-4940-94C1-7AE3DAAC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87860-3FAB-4107-9DDE-EB436361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7038A-233B-4BBB-9B02-49856D4A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933B-C6EA-4B18-AC91-35E02585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EDDFB-0DDA-4791-B2E5-A2FBEC12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470B1-551E-47C3-B352-F97A4FCD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80673-BE80-48E3-A785-06E75204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534AF-1975-417E-BC4D-784594907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489C3-C6F3-445D-B491-9DCD2EB38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5EE2-61C2-403D-AB9C-01144105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6B32-C21F-42C1-A52D-0BAF955B71F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60b5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549fb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60b5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a637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a637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a637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83E2-8031-4092-B193-99478E7AFD5E}" type="slidenum">
              <a:rPr b="0" lang="ru-RU" sz="1400" spc="-1" strike="noStrike">
                <a:solidFill>
                  <a:srgbClr val="5a637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D6C6-B7FC-41B1-9547-12C385439ED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оугольник 6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оугольник 7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Прямоугольник 8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рямоугольник 9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60b5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549fb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60b5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0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a637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a637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1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2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a637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505A-BF04-43E2-A16A-576335D07A7E}" type="slidenum">
              <a:rPr b="0" lang="ru-RU" sz="1400" spc="-1" strike="noStrike">
                <a:solidFill>
                  <a:srgbClr val="5a637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ая соединительная линия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60b5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Прямая соединительная линия 7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60b5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Равнобедренный треугольник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60b5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549fb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60b5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a637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a637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a637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12B3-E088-4217-844B-860E5D00BFED}" type="slidenum">
              <a:rPr b="0" lang="ru-RU" sz="1400" spc="-1" strike="noStrike">
                <a:solidFill>
                  <a:srgbClr val="5a637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ая соединительная линия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60b5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Прямая соединительная линия 7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60b5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Равнобедренный треугольник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60b5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549fb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60b5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a637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a637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a637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2AE9-3CCD-4F32-A7E7-6850281E23C0}" type="slidenum">
              <a:rPr b="0" lang="ru-RU" sz="1400" spc="-1" strike="noStrike">
                <a:solidFill>
                  <a:srgbClr val="5a637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Прямая соединительная линия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60b5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Равнобедренный треугольник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Прямая соединительная линия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60b5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60b5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549fb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60b5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a637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a637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a637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294A-C8B3-40EC-A0A1-D6799D785333}" type="slidenum">
              <a:rPr b="0" lang="ru-RU" sz="1400" spc="-1" strike="noStrike">
                <a:solidFill>
                  <a:srgbClr val="5a637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16" descr="E:\аттестация\флешка\картинка сказка.gif"/>
          <p:cNvPicPr/>
          <p:nvPr/>
        </p:nvPicPr>
        <p:blipFill>
          <a:blip r:embed="rId1"/>
          <a:stretch/>
        </p:blipFill>
        <p:spPr>
          <a:xfrm>
            <a:off x="428760" y="0"/>
            <a:ext cx="5000400" cy="5627520"/>
          </a:xfrm>
          <a:prstGeom prst="rect">
            <a:avLst/>
          </a:prstGeom>
          <a:ln w="0">
            <a:noFill/>
          </a:ln>
        </p:spPr>
      </p:pic>
      <p:sp>
        <p:nvSpPr>
          <p:cNvPr id="372" name="Стрелка вправо 3"/>
          <p:cNvSpPr/>
          <p:nvPr/>
        </p:nvSpPr>
        <p:spPr>
          <a:xfrm>
            <a:off x="5500800" y="-142920"/>
            <a:ext cx="14292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8a500"/>
          </a:solidFill>
          <a:ln w="25560">
            <a:solidFill>
              <a:srgbClr val="b6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24120" y="360"/>
            <a:ext cx="20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8"/>
          <p:cNvSpPr/>
          <p:nvPr/>
        </p:nvSpPr>
        <p:spPr>
          <a:xfrm>
            <a:off x="16200" y="228636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 flipV="1">
            <a:off x="5003640" y="3410640"/>
            <a:ext cx="2279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10"/>
          <p:cNvSpPr/>
          <p:nvPr/>
        </p:nvSpPr>
        <p:spPr>
          <a:xfrm>
            <a:off x="0" y="6858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3"/>
          <p:cNvSpPr/>
          <p:nvPr/>
        </p:nvSpPr>
        <p:spPr>
          <a:xfrm>
            <a:off x="5580000" y="148428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иться надо весел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иться будем весел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б хорошо учить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WordArt 14"/>
          <p:cNvSpPr txBox="1"/>
          <p:nvPr/>
        </p:nvSpPr>
        <p:spPr>
          <a:xfrm>
            <a:off x="755640" y="2276640"/>
            <a:ext cx="45385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азвит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79" name="WordArt 16"/>
          <p:cNvSpPr txBox="1"/>
          <p:nvPr/>
        </p:nvSpPr>
        <p:spPr>
          <a:xfrm>
            <a:off x="2843280" y="2990880"/>
            <a:ext cx="3457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атематически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80" name="WordArt 17"/>
          <p:cNvSpPr txBox="1"/>
          <p:nvPr/>
        </p:nvSpPr>
        <p:spPr>
          <a:xfrm>
            <a:off x="1285920" y="4357800"/>
            <a:ext cx="316224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3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едставлений  через  игр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81" name="Picture 21" descr="plants2"/>
          <p:cNvPicPr/>
          <p:nvPr/>
        </p:nvPicPr>
        <p:blipFill>
          <a:blip r:embed="rId2"/>
          <a:stretch/>
        </p:blipFill>
        <p:spPr>
          <a:xfrm>
            <a:off x="7812000" y="4869000"/>
            <a:ext cx="104292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WordArt 6"/>
          <p:cNvSpPr txBox="1"/>
          <p:nvPr/>
        </p:nvSpPr>
        <p:spPr>
          <a:xfrm>
            <a:off x="1116000" y="1197000"/>
            <a:ext cx="391464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дготовительны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Этапы реализации проекта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WordArt 9"/>
          <p:cNvSpPr txBox="1"/>
          <p:nvPr/>
        </p:nvSpPr>
        <p:spPr>
          <a:xfrm>
            <a:off x="4500720" y="5084640"/>
            <a:ext cx="38862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ключительны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7" name="WordArt 10"/>
          <p:cNvSpPr txBox="1"/>
          <p:nvPr/>
        </p:nvSpPr>
        <p:spPr>
          <a:xfrm>
            <a:off x="5580000" y="2349360"/>
            <a:ext cx="319104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недренчески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bd71"/>
                </a:solidFill>
                <a:latin typeface="Arial"/>
              </a:rPr>
              <a:t>Подготовительный этап </a:t>
            </a:r>
            <a:br>
              <a:rPr sz="3600"/>
            </a:b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(1 сентября 2012 – 15 сентября 2013)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Формирование творческой группы по реализации проект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ланирование деятельности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разработка перспективно-календарного плана по формированию математическ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х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едставлений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3. Р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азработка серии занятий, сценариев математического содержания с использованием занимательного материала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4. С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оздание условий для работы в группе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5.П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роведение диагностики детей в начале  учебного год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Схема 2" descr=""/>
          <p:cNvPicPr/>
          <p:nvPr/>
        </p:nvPicPr>
        <p:blipFill>
          <a:blip r:embed="rId1"/>
          <a:stretch/>
        </p:blipFill>
        <p:spPr>
          <a:xfrm>
            <a:off x="414360" y="182520"/>
            <a:ext cx="8242200" cy="613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4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6" descr="E:\аттестация\флешка\2.jpg"/>
          <p:cNvPicPr/>
          <p:nvPr/>
        </p:nvPicPr>
        <p:blipFill>
          <a:blip r:embed="rId1"/>
          <a:stretch/>
        </p:blipFill>
        <p:spPr>
          <a:xfrm>
            <a:off x="4786200" y="1928880"/>
            <a:ext cx="4071960" cy="255888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Технологический этап</a:t>
            </a:r>
            <a:br>
              <a:rPr sz="3600"/>
            </a:b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(16 сентября 2011 – 15 мая 2012)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1.Использование технологии личностно-ориентированного общения (индивидуальный и дифференцированный подход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4" name="Picture 8" descr="3str3"/>
          <p:cNvPicPr/>
          <p:nvPr/>
        </p:nvPicPr>
        <p:blipFill>
          <a:blip r:embed="rId2"/>
          <a:stretch/>
        </p:blipFill>
        <p:spPr>
          <a:xfrm flipH="1" rot="10800000">
            <a:off x="4572000" y="6093000"/>
            <a:ext cx="503280" cy="35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57120" y="499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2. </a:t>
            </a:r>
            <a:r>
              <a:rPr b="1" lang="ru-RU" sz="2800" spc="-1" strike="noStrike">
                <a:solidFill>
                  <a:srgbClr val="009900"/>
                </a:solidFill>
                <a:latin typeface="Tahoma"/>
              </a:rPr>
              <a:t>Внедрение развивающих технологий в работу по реализации проекта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проблемно-поисковый метод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850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моделирование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продуктивное взаимодействие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850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игровые приемы</a:t>
            </a:r>
            <a:br>
              <a:rPr sz="3400"/>
            </a:b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Заключительный этап</a:t>
            </a:r>
            <a:br>
              <a:rPr sz="44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(15 мая 2012 – 31 мая 2012)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6600"/>
                </a:solidFill>
                <a:latin typeface="Tahoma"/>
              </a:rPr>
              <a:t>Проведение диагностики 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6600"/>
                </a:solidFill>
                <a:latin typeface="Arial"/>
              </a:rPr>
              <a:t>А</a:t>
            </a:r>
            <a:r>
              <a:rPr b="1" lang="ru-RU" sz="3000" spc="-1" strike="noStrike">
                <a:solidFill>
                  <a:srgbClr val="ff6600"/>
                </a:solidFill>
                <a:latin typeface="Tahoma"/>
              </a:rPr>
              <a:t>нализ работы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6600"/>
                </a:solidFill>
                <a:latin typeface="Tahoma"/>
              </a:rPr>
              <a:t>Проведение итогового математического спектакля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6600"/>
                </a:solidFill>
                <a:latin typeface="Tahoma"/>
              </a:rPr>
              <a:t>Представление документации и материалов по проекту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6600"/>
                </a:solidFill>
                <a:latin typeface="Tahoma"/>
              </a:rPr>
              <a:t>Сопоставление имеющихся результатов с прогнозируемыми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6600"/>
                </a:solidFill>
                <a:latin typeface="Tahoma"/>
              </a:rPr>
              <a:t>Определение перспективы развития проект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Предполагаемый результат проект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ерспективно-календарный план по формированию и развитию у детей 3-4 лет математического мыш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ценарии театрализованных представлений с математическим содержани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Д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емонстрационный и раздаточный материал для занятий и индивидуальной рабо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Развивающие технологии обучения практически применяются на занятиях и в свободное врем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Д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иагности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ческий инструментарий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по выявлению уровня и качества освоения программного материала по математи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ДИНАМИКА ПОКАЗАТЕЛЕЙ УРОВНЯ УСВОЕНИЯ ПРОГРАММНОГО МАТЕРИАЛА</a:t>
            </a:r>
            <a:br>
              <a:rPr sz="2400"/>
            </a:b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по математике  детей раннего возраст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422" name="Object 5" descr=""/>
          <p:cNvPicPr/>
          <p:nvPr/>
        </p:nvPicPr>
        <p:blipFill>
          <a:blip r:embed="rId1"/>
          <a:stretch/>
        </p:blipFill>
        <p:spPr>
          <a:xfrm>
            <a:off x="4919760" y="1905120"/>
            <a:ext cx="4224240" cy="41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3" name=""/>
          <p:cNvGraphicFramePr/>
          <p:nvPr/>
        </p:nvGraphicFramePr>
        <p:xfrm>
          <a:off x="457200" y="1600200"/>
          <a:ext cx="4037040" cy="4530600"/>
        </p:xfrm>
        <a:graphic>
          <a:graphicData uri="http://schemas.openxmlformats.org/drawingml/2006/table">
            <a:tbl>
              <a:tblPr/>
              <a:tblGrid>
                <a:gridCol w="1009800"/>
                <a:gridCol w="1009440"/>
                <a:gridCol w="1009800"/>
                <a:gridCol w="10080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9-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0-20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1-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чало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нец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Анализ результативности проект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 результате реализации проект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зработан перспективный план, конспекты заняти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зготовлен демонстрационный и раздаточный материал для занятий и индивидуальной работ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оведен семинар для родител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 ходе реализации проекта  широко использовался прием включения математического содержания в творческую продуктивную деятельность детей на этапе усвоения или отработки: лепка, аппликация, рисование, конструирова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ругой прием – сюжетная подача математического содерж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Большая роль отводилась игровому метод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и проведении диагностики по формированию и развитию математического мышления дети показали хорошие результат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10257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Информационные </a:t>
            </a:r>
            <a:br>
              <a:rPr sz="3600"/>
            </a:b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ресурсы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оловьева Е.В. Математика и логика для дошкольнико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– М.: Просвещение, 1999, с. 23 -34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лесникова Е.В. Математика для дошкольнико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– М.: «Гном-Пресс», 1999,с. 102 -107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Ерофеева Т. И. Математическое образование и развитие дошкольников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М., 1997, с.35 -4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ихайлова З. А. Игровые занимательные задачи для дошкольнико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– М.: Просвещение, 1990, с.17 -24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ихайлова З. А. Игровые задачи для дошкольнико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– Санкт-Петербург: Детсво-Пресс, 2001, с. 68 -73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осова Е. Н. , Непомнящая  Р. Н. Логика и математика у дошкольников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- Санкт-Петербург: Детсво-Пресс, 2002, с.12 -19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моленцева А.А., Суворова О.В. Математика в проблемных ситуациях для маленьких детей. - Санкт-Петербург: Детсво-Пресс, 2004, с.57 -74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Актуальность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циальные изменения в России потребовали реформы образования. Основным ее направлением стала гуманизац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чины для беспокойства действительно есть. Ускорение темпов обучения детей дошкольного возраста методами, переносимыми из практики школьного образования, действительно чревато перегрузками и эмоциональным недоразвитием ребенка. На первом месте как наиболее опасное в этом отношении стоит обучение математик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бенок познает мир с помощью органов чувств, и познание неразрывно связано в его опыте с восхищением, информация – с эмоциями. И если выполняются эти простые, но очень важные законы, познание приносит ребенку пользу и радость, а не ведет к угасанию живого восприятия мира, эмоциональности, нервно-психическим перегрузка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4" name="Picture 4" descr="1c1"/>
          <p:cNvPicPr/>
          <p:nvPr/>
        </p:nvPicPr>
        <p:blipFill>
          <a:blip r:embed="rId1"/>
          <a:stretch/>
        </p:blipFill>
        <p:spPr>
          <a:xfrm>
            <a:off x="4859280" y="5805360"/>
            <a:ext cx="54468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Гипотеза</a:t>
            </a:r>
            <a:br>
              <a:rPr sz="4000"/>
            </a:b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мелое применение занимательного математического материала в процессе обучения поможет активизировать мыслительную деятельность, формировать элементарные математические представления, развивать самостоятельность, формировать активную позицию ребенка в учен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ивающие игры и игровые задания помогут развить логическое мышление, воображение и сообразительность ребенка, привьют любовь к творческой деятель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втор проекта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14240" y="1599840"/>
            <a:ext cx="79725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Воспитатель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Воробьева Е.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Место реализации проекта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6600"/>
                </a:solidFill>
                <a:latin typeface="Tahoma"/>
              </a:rPr>
              <a:t>МБДОУ детский сад № 32 «Ромашка»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00"/>
                </a:solidFill>
                <a:latin typeface="Tahoma"/>
              </a:rPr>
              <a:t>Участники проекта</a:t>
            </a:r>
            <a:r>
              <a:rPr b="0" lang="ru-RU" sz="3400" spc="-1" strike="noStrike">
                <a:solidFill>
                  <a:srgbClr val="ffff00"/>
                </a:solidFill>
                <a:latin typeface="Tahoma"/>
              </a:rPr>
              <a:t> – дети 3-4 лет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1" name="Picture 12" descr="3str3"/>
          <p:cNvPicPr/>
          <p:nvPr/>
        </p:nvPicPr>
        <p:blipFill>
          <a:blip r:embed="rId1"/>
          <a:stretch/>
        </p:blipFill>
        <p:spPr>
          <a:xfrm flipH="1" rot="10800000">
            <a:off x="4284720" y="1916280"/>
            <a:ext cx="358560" cy="2505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3" descr="3str3"/>
          <p:cNvPicPr/>
          <p:nvPr/>
        </p:nvPicPr>
        <p:blipFill>
          <a:blip r:embed="rId2"/>
          <a:stretch/>
        </p:blipFill>
        <p:spPr>
          <a:xfrm flipH="1" rot="10800000">
            <a:off x="3564000" y="4536720"/>
            <a:ext cx="360360" cy="2509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9" descr="E:\аттестация\флешка\1.jpg"/>
          <p:cNvPicPr/>
          <p:nvPr/>
        </p:nvPicPr>
        <p:blipFill>
          <a:blip r:embed="rId3"/>
          <a:stretch/>
        </p:blipFill>
        <p:spPr>
          <a:xfrm>
            <a:off x="4714920" y="2500200"/>
            <a:ext cx="415620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65600"/>
                </a:solidFill>
                <a:latin typeface="Arial"/>
              </a:rPr>
              <a:t>Участники проекта: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614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дминистра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спитате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спитанники раннего возрас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тоди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подаватель по ИЗ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узыкальный руководите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огопе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одите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Цель проекта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оздание системы работы по формированию математических представлений, познавательной активности и мышления на основе использования занимательного математического материал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Задачи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Формирование интеллектуальных операций – сравнения, нахождения сходства и различий, обобщения, классификации, счета, нахождения закономерностей и т.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Формирование системы представл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Развитие воображ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Способствование формированию положительного отношения к предмет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Воспитание уверенности в собственных интеллектуальных возможностя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Picture 4" descr="1c1"/>
          <p:cNvPicPr/>
          <p:nvPr/>
        </p:nvPicPr>
        <p:blipFill>
          <a:blip r:embed="rId1"/>
          <a:stretch/>
        </p:blipFill>
        <p:spPr>
          <a:xfrm>
            <a:off x="4716360" y="5805360"/>
            <a:ext cx="54468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Тактические задачи проекта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работать перспективно-календарный план по формированию  и развитию у детей 2-3 лет математического мышления 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работать сценарии театрализованных представлений с математическим содержанием и провести по ним цикл занят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иобрести и изготовить демонстрационный и раздаточный материал для занятий и индивидуальной работ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овести семинар для родител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зучить технологию сохранения и укрепления здоровья детей на занятиях и внедрить их в практик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зучить и внедрить в практику развивающие технологии обучения на занятиях и в свободное время, основанные на личностно-ориентированном подходе к ребенк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овести диагностику по выявлению уровня и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ачества освоения программного материала по ознакомлению детей с математик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16:39:42Z</dcterms:created>
  <dc:creator>SamLab.ws</dc:creator>
  <dc:description/>
  <dc:language>en-US</dc:language>
  <cp:lastModifiedBy>Admin</cp:lastModifiedBy>
  <dcterms:modified xsi:type="dcterms:W3CDTF">2013-03-21T05:19:41Z</dcterms:modified>
  <cp:revision>146</cp:revision>
  <dc:subject/>
  <dc:title>Учебная тема  Развитие познавательной активности математики с помощью занимательного материала.</dc:title>
</cp:coreProperties>
</file>