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C6C-FF97-4E09-9A5D-6C61D60749B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50F-81B2-4AED-B38A-2823BF2273E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C3D4-B9D3-4A2A-9EAE-C081C693C5F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B522-5F01-4163-A6B7-35FFCD962B4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EDC6-645D-4492-B925-1576DD772BD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D9C7-96CC-46AD-9471-19D8CA8BA3A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0377-6436-4170-881D-E92280F0745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9D26-C5A9-4201-B61B-2B7CC92AE77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6F1-7139-43CB-93A2-E4854BC3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FE3-E23E-4423-B7C7-8AD97E33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3AD-48EB-4989-9433-A6A35CE1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42D-021E-47D1-BA92-7989890F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4EB7-EF66-4F5D-A52C-11CADB69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AD1D-1B5E-4E69-BDAB-83E9283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9019-74DC-43FA-9BD7-9713DD8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5CEC-8C4D-4352-B977-0A2489AB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5164-8A36-4233-BC6A-A9E98238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F9DA-F771-4512-BF16-6646867F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ED18-5D7D-4745-83A7-EC73A97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696-7698-47E1-9978-5FCAA4A5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F5A2-C12F-43E8-956D-C981634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FA1B-641C-4E48-9B28-D10794DA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F460-B8A5-4F75-BB33-89D3A75C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698-0D84-4F0A-B9C2-52DDB843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2D99-5EBF-487C-BF88-8C0D7CE6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75DE-1E54-44DB-B5E1-EFA44771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EA2F-7433-4C89-A58A-90347959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6F28-7A9B-44E0-9AC0-99D70C6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0351-E63E-45B9-AD68-AC271733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B68F-BC6E-4BC7-B472-5ABFB00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A6E-DECB-4911-ADB7-AFA100B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C581-3BC1-41D0-BC7C-C02C748A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D4D8-A53F-4332-8604-F51696BF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B776-3A6B-45EC-B28E-6FA63219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7352-39B8-42F6-8D7C-AE99949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7A92-06E0-4DBA-87A3-3D7743A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467F-AFAB-43DB-B454-C890A59B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9E88-6463-4E92-A464-12FC1081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230-08D2-4EF5-AB19-1574F4BA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939-3097-43E9-81B9-9E809D0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1D1-9733-4CD8-972D-D5EA1AB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033-58A2-4E33-B03C-D93379F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8D9-E06E-4F07-988B-9DF5173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16B-A967-4DE2-A7AE-F274D924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593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ABD6-709F-4D1A-B490-D6FB92DB5D6A}" type="slidenum">
              <a:rPr b="0" lang="en-US" sz="1000" spc="-1" strike="noStrike">
                <a:solidFill>
                  <a:srgbClr val="b59361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460-A3BF-4403-91AD-B37384F69347}" type="slidenum">
              <a:rPr b="0" lang="en-US" sz="10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8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BF66-171A-4365-8CA4-AD1981C224E8}" type="slidenum">
              <a:rPr b="0" lang="en-US" sz="10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539460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6" name="Прямоугольник 3"/>
          <p:cNvSpPr/>
          <p:nvPr/>
        </p:nvSpPr>
        <p:spPr>
          <a:xfrm rot="19564200">
            <a:off x="3705120" y="2997360"/>
            <a:ext cx="2643120" cy="857160"/>
          </a:xfrm>
          <a:prstGeom prst="rect">
            <a:avLst/>
          </a:prstGeom>
          <a:solidFill>
            <a:srgbClr val="27357b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внобедренный треугольник 10"/>
          <p:cNvSpPr/>
          <p:nvPr/>
        </p:nvSpPr>
        <p:spPr>
          <a:xfrm rot="3329400">
            <a:off x="6282720" y="237960"/>
            <a:ext cx="2121120" cy="30733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5"/>
          <p:cNvSpPr/>
          <p:nvPr/>
        </p:nvSpPr>
        <p:spPr>
          <a:xfrm rot="3261600">
            <a:off x="5406120" y="2873880"/>
            <a:ext cx="642600" cy="1857240"/>
          </a:xfrm>
          <a:prstGeom prst="rect">
            <a:avLst/>
          </a:prstGeom>
          <a:solidFill>
            <a:srgbClr val="f6c98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21"/>
          <p:cNvSpPr/>
          <p:nvPr/>
        </p:nvSpPr>
        <p:spPr>
          <a:xfrm>
            <a:off x="6858000" y="1785960"/>
            <a:ext cx="357120" cy="357120"/>
          </a:xfrm>
          <a:prstGeom prst="flowChartConnector">
            <a:avLst/>
          </a:prstGeom>
          <a:solidFill>
            <a:srgbClr val="ff4378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8"/>
          <p:cNvSpPr/>
          <p:nvPr/>
        </p:nvSpPr>
        <p:spPr>
          <a:xfrm rot="3346800">
            <a:off x="4556520" y="1645200"/>
            <a:ext cx="642960" cy="1857600"/>
          </a:xfrm>
          <a:prstGeom prst="rect">
            <a:avLst/>
          </a:prstGeom>
          <a:solidFill>
            <a:srgbClr val="f6c98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извлечение 27"/>
          <p:cNvSpPr/>
          <p:nvPr/>
        </p:nvSpPr>
        <p:spPr>
          <a:xfrm rot="3387600">
            <a:off x="2789640" y="2672640"/>
            <a:ext cx="847800" cy="2205000"/>
          </a:xfrm>
          <a:prstGeom prst="flowChartExtract">
            <a:avLst/>
          </a:prstGeom>
          <a:solidFill>
            <a:srgbClr val="f8712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извлечение 28"/>
          <p:cNvSpPr/>
          <p:nvPr/>
        </p:nvSpPr>
        <p:spPr>
          <a:xfrm rot="3250200">
            <a:off x="3646800" y="3958560"/>
            <a:ext cx="847800" cy="2205000"/>
          </a:xfrm>
          <a:prstGeom prst="flowChartExtract">
            <a:avLst/>
          </a:prstGeom>
          <a:solidFill>
            <a:srgbClr val="ff006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29"/>
          <p:cNvSpPr/>
          <p:nvPr/>
        </p:nvSpPr>
        <p:spPr>
          <a:xfrm rot="3194400">
            <a:off x="5185440" y="2756520"/>
            <a:ext cx="500040" cy="71424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30"/>
          <p:cNvSpPr/>
          <p:nvPr/>
        </p:nvSpPr>
        <p:spPr>
          <a:xfrm rot="3303000">
            <a:off x="4399920" y="3338280"/>
            <a:ext cx="501840" cy="714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1"/>
          <p:cNvSpPr/>
          <p:nvPr/>
        </p:nvSpPr>
        <p:spPr>
          <a:xfrm rot="19508400">
            <a:off x="6242040" y="2098440"/>
            <a:ext cx="500040" cy="500040"/>
          </a:xfrm>
          <a:prstGeom prst="rect">
            <a:avLst/>
          </a:prstGeom>
          <a:solidFill>
            <a:srgbClr val="e90062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42119 0.04166 E">
                                      <p:cBhvr>
                                        <p:cTn id="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26621 C 0.00105 0.19468 0.00469 0.14398 0.00834 0.14398 C 0.01198 0.14398 0.01528 0.19468 0.01632 0.26621 C 0.01789 0.19468 0.02101 0.14398 0.02483 0.14398 C 0.02848 0.14398 0.0316 0.19468 0.03264 0.26621 C 0.03421 0.19468 0.0375 0.14398 0.04115 0.14398 C 0.0448 0.14398 0.04862 0.19468 0.04948 0.26621 C 0.0507 0.19468 0.05382 0.14398 0.05816 0.14398 C 0.06129 0.14398 0.06494 0.19468 0.06598 0.26621 C 0.06702 0.19468 0.07066 0.14398 0.07448 0.14398 C 0.07813 0.14398 0.08125 0.19468 0.08247 0.26621 C 0.08403 0.19468 0.08716 0.14398 0.0908 0.14398 C 0.09445 0.14398 0.09775 0.19468 0.09931 0.26621 C 0.10035 0.19468 0.10348 0.14398 0.10712 0.14398 C 0.11094 0.14398 0.11459 0.19468 0.11563 0.26621 C 0.11667 0.19468 0.11997 0.14398 0.12414 0.14398 C 0.12778 0.14398 0.13091 0.19468 0.13212 0.26621 E">
                                      <p:cBhvr>
                                        <p:cTn id="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-0.31233 -0.23079 E">
                                      <p:cBhvr>
                                        <p:cTn id="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204 L 0.02031 0.07893 C 0.02257 0.09884 0.03194 0.11898 0.04496 0.13449 C 0.06042 0.15208 0.07639 0.16018 0.09149 0.15949 L 0.16111 0.1625 E">
                                      <p:cBhvr>
                                        <p:cTn id="1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886 0.01088 -0.0165 0.02176 -0.02934 0.03217 C -0.04184 0.04282 -0.05816 0.0537 -0.07413 0.06435 C -0.08924 0.07546 -0.10382 0.08217 -0.11875 0.09004 C -0.13368 0.09676 -0.14896 0.10416 -0.16268 0.10787 C -0.17639 0.11111 -0.18872 0.11157 -0.19844 0.10972 C -0.20816 0.1081 -0.21528 0.1037 -0.22031 0.09838 C -0.22466 0.09282 -0.22761 0.08565 -0.22709 0.07754 C -0.22691 0.06898 -0.22292 0.05879 -0.21476 0.04768 C -0.20764 0.03727 -0.19775 0.02569 -0.18455 0.01435 C -0.17327 0.00463 -0.15625 -0.00648 -0.14236 -0.01528 C -0.12865 -0.02431 -0.11181 -0.0331 -0.09688 -0.0382 C -0.08368 -0.04306 -0.0717 -0.04398 -0.06459 -0.03912 C -0.05886 -0.03449 -0.06094 -0.02454 -0.06806 -0.01459 C -0.0757 -0.00486 -0.0882 0.00578 -0.10434 0.01597 C -0.12066 0.02592 -0.13629 0.03426 -0.14983 0.03889 C -0.16354 0.04352 -0.16545 0.04514 -0.18594 0.04305 C -0.20712 0.04328 -0.20591 0.02963 -0.2092 0.02315 C -0.21146 0.01759 -0.20764 0.00879 -0.20486 -0.0007 C -0.20104 -0.01111 -0.19167 -0.02361 -0.18386 -0.03357 C -0.175 -0.04422 -0.16268 -0.05347 -0.14341 -0.06783 C -0.12379 -0.08125 -0.11424 -0.08704 -0.09844 -0.0963 C -0.08403 -0.10486 -0.06841 -0.11412 -0.05347 -0.12292 E">
                                      <p:cBhvr>
                                        <p:cTn id="1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9 -0.09491 L 0.09479 -0.07454 L 0.0783 -0.06088 L 0.0875 -0.04051 L 0.07101 -0.02662 L 0.08056 -0.00672 L 0.06389 0.00717 L 0.07327 0.02731 L 0.05712 0.04143 L 0.0665 0.06157 L 0.04983 0.07546 L 0.05938 0.0956 L 0.04288 0.10926 L 0.05243 0.13009 L 0.03577 0.14352 E">
                                      <p:cBhvr>
                                        <p:cTn id="1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28368 -0.20648 E">
                                      <p:cBhvr>
                                        <p:cTn id="1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787 C -0.00347 -0.01458 -0.01545 -0.02129 -0.01962 -0.02129 C -0.04618 -0.02129 -0.07344 0.08473 -0.07344 0.19098 C -0.07344 0.13727 -0.08715 0.08473 -0.1 0.08473 C -0.11354 0.08473 -0.12656 0.1382 -0.12656 0.19098 C -0.12656 0.16459 -0.13333 0.13727 -0.14011 0.13727 C -0.14688 0.13727 -0.15382 0.16366 -0.15382 0.19098 C -0.15382 0.17732 -0.15712 0.16459 -0.16059 0.16459 C -0.16406 0.16459 -0.16736 0.17801 -0.16736 0.19098 C -0.16736 0.18403 -0.1691 0.17732 -0.17083 0.17732 C -0.1717 0.17732 -0.17413 0.18403 -0.17413 0.19098 C -0.17413 0.1875 -0.17517 0.18403 -0.17604 0.18403 C -0.17604 0.1831 -0.17778 0.1875 -0.17778 0.19098 C -0.17778 0.18912 -0.17778 0.1875 -0.17865 0.1875 C -0.17865 0.18843 -0.17951 0.18912 -0.17951 0.19098 C -0.17951 0.19005 -0.17951 0.18912 -0.17951 0.18843 C -0.18038 0.18843 -0.18038 0.18912 -0.18038 0.19005 C -0.18125 0.19005 -0.18125 0.18912 -0.18125 0.18843 C -0.18212 0.18843 -0.18212 0.18912 -0.18212 0.19005 E">
                                      <p:cBhvr>
                                        <p:cTn id="2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4.44444E-006 -0.16088 C -4.44444E-006 -0.23311 0.03907 -0.32153 0.07084 -0.32153 L 0.14184 -0.32153 E">
                                      <p:cBhvr>
                                        <p:cTn id="2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37 -0.04097 C -0.12935 -0.03472 -0.1783 -0.01875 -0.1783 -0.00602 C -0.1783 0.00556 -0.13039 0.01412 -0.06632 0.01412 C -0.00243 0.01412 0.05157 0.00556 0.05157 -0.00602 C 0.05157 -0.01875 -0.00434999999999999 -0.02199 -0.06841 -0.01342 C -0.13143 -0.00393 -0.1783 0.01204 -0.1783 0.02361 C -0.1783 0.03542 -0.12935 0.04491 -0.06632 0.04491 C -0.00243 0.04491 0.05157 0.03542 0.05157 0.02361 C 0.05157 0.01204 -0.00435000000000001 0.0088 -0.06737 0.01736 C -0.13143 0.02593 -0.1783 0.04167 -0.1783 0.05347 C -0.1783 0.0662 -0.12935 0.0757 -0.06546 0.0757 C -0.00243 0.0757 0.05157 0.0662 0.05157 0.05347 C 0.05157 0.04283 -0.00435000000000001 0.03958 -0.06737 0.04699 C -0.13039 0.05556 -0.1783 0.07245 -0.1783 0.08426 C -0.1783 0.09583 -0.1283 0.10556 -0.06546 0.10556 C -0.000350000000000003 0.10556 0.05157 0.09583 0.05157 0.08426 C 0.05157 0.07245 -0.0033 0.06945 -0.06632 0.07778 C -0.12935 0.08634 -0.1783 0.10232 -0.1783 0.11389 C -0.1783 0.12662 -0.1283 0.13519 -0.06441 0.13519 C -0.000350000000000003 0.13519 0.05157 0.1257 0.05157 0.11389 C 0.05157 0.10232 -0.0033 0.09908 -0.06632 0.10764 C -0.12935 0.11597 -0.1783 0.1331 -0.1783 0.14375 C -0.1783 0.15556 -0.12744 0.16482 -0.06441 0.16482 C -0.000350000000000003 0.16482 0.05157 0.15556 0.05157 0.14375 C 0.05157 0.1331 -0.00243 0.12986 -0.06632 0.1375 C -0.12935 0.14583 -0.1783 0.16273 -0.1783 0.17454 C -0.1783 0.18519 -0.12744 0.1956 -0.06337 0.1956 C 0.000700000000000006 0.1956 0.05157 0.18634 0.05157 0.17454 C 0.05157 0.16273 -0.00243 0.15972 -0.06546 0.16829 C -0.1283 0.17662 -0.17935 0.19259 -0.1783 0.2044 C -0.17744 0.21597 -0.12744 0.22454 -0.06337 0.22454 C 0.000700000000000006 0.22454 0.05157 0.21482 0.05157 0.20324 C 0.05157 0.19259 -0.000350000000000003 0.18935 -0.06337 0.19908 E">
                                      <p:cBhvr>
                                        <p:cTn id="2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Чем отличаются фигуры?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7" name="Равнобедренный треугольник 4"/>
          <p:cNvSpPr/>
          <p:nvPr/>
        </p:nvSpPr>
        <p:spPr>
          <a:xfrm>
            <a:off x="642960" y="1500120"/>
            <a:ext cx="1643040" cy="27147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2857680" y="1500120"/>
            <a:ext cx="1000080" cy="2714760"/>
          </a:xfrm>
          <a:prstGeom prst="rect">
            <a:avLst/>
          </a:prstGeom>
          <a:solidFill>
            <a:srgbClr val="27357b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4357800" y="3143160"/>
            <a:ext cx="714240" cy="1714680"/>
          </a:xfrm>
          <a:prstGeom prst="rect">
            <a:avLst/>
          </a:prstGeom>
          <a:solidFill>
            <a:srgbClr val="f6c98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"/>
          <p:cNvSpPr/>
          <p:nvPr/>
        </p:nvSpPr>
        <p:spPr>
          <a:xfrm>
            <a:off x="7715160" y="3500280"/>
            <a:ext cx="428760" cy="42876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2"/>
          <p:cNvSpPr/>
          <p:nvPr/>
        </p:nvSpPr>
        <p:spPr>
          <a:xfrm rot="16200000">
            <a:off x="7786440" y="2357280"/>
            <a:ext cx="571680" cy="857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500040" y="1285920"/>
            <a:ext cx="3500640" cy="314316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2571840" y="1285920"/>
            <a:ext cx="2643120" cy="371484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4214880" y="3000240"/>
            <a:ext cx="2714400" cy="207180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5072040" y="1714680"/>
            <a:ext cx="2500200" cy="264312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9"/>
          <p:cNvSpPr/>
          <p:nvPr/>
        </p:nvSpPr>
        <p:spPr>
          <a:xfrm>
            <a:off x="4857840" y="428760"/>
            <a:ext cx="2714400" cy="235728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7286760" y="2428920"/>
            <a:ext cx="1285920" cy="185724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1"/>
          <p:cNvSpPr/>
          <p:nvPr/>
        </p:nvSpPr>
        <p:spPr>
          <a:xfrm>
            <a:off x="5572080" y="3214800"/>
            <a:ext cx="2714760" cy="1152360"/>
          </a:xfrm>
          <a:prstGeom prst="rect">
            <a:avLst/>
          </a:prstGeom>
          <a:noFill/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2"/>
          <p:cNvSpPr/>
          <p:nvPr/>
        </p:nvSpPr>
        <p:spPr>
          <a:xfrm>
            <a:off x="6000840" y="3571920"/>
            <a:ext cx="642960" cy="571320"/>
          </a:xfrm>
          <a:prstGeom prst="rect">
            <a:avLst/>
          </a:prstGeom>
          <a:solidFill>
            <a:srgbClr val="e90062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23"/>
          <p:cNvSpPr/>
          <p:nvPr/>
        </p:nvSpPr>
        <p:spPr>
          <a:xfrm rot="5400000">
            <a:off x="5893560" y="1107000"/>
            <a:ext cx="857160" cy="221472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Равнобедренный треугольник 24"/>
          <p:cNvSpPr/>
          <p:nvPr/>
        </p:nvSpPr>
        <p:spPr>
          <a:xfrm rot="16200000">
            <a:off x="5679360" y="106920"/>
            <a:ext cx="857160" cy="2214360"/>
          </a:xfrm>
          <a:prstGeom prst="triangle">
            <a:avLst>
              <a:gd name="adj" fmla="val 50000"/>
            </a:avLst>
          </a:prstGeom>
          <a:solidFill>
            <a:srgbClr val="f87126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4"/>
          <p:cNvSpPr/>
          <p:nvPr/>
        </p:nvSpPr>
        <p:spPr>
          <a:xfrm>
            <a:off x="1619280" y="128592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омогите Гному !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4284720" y="2997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411280" y="2205000"/>
            <a:ext cx="1800360" cy="1727280"/>
          </a:xfrm>
          <a:prstGeom prst="ellipse">
            <a:avLst/>
          </a:prstGeom>
          <a:solidFill>
            <a:srgbClr val="00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84360" y="1989000"/>
            <a:ext cx="1130040" cy="1079640"/>
          </a:xfrm>
          <a:prstGeom prst="ellipse">
            <a:avLst/>
          </a:prstGeom>
          <a:solidFill>
            <a:srgbClr val="00cc66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859280" y="1989000"/>
            <a:ext cx="1130400" cy="1079640"/>
          </a:xfrm>
          <a:prstGeom prst="ellipse">
            <a:avLst/>
          </a:prstGeom>
          <a:solidFill>
            <a:srgbClr val="ffff0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556000" y="450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971640" y="328464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5219640" y="328464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132000" y="414972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755640" y="537372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      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3635280" y="537372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 = 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2" descr="Равно"/>
          <p:cNvPicPr/>
          <p:nvPr/>
        </p:nvPicPr>
        <p:blipFill>
          <a:blip r:embed="rId1"/>
          <a:stretch/>
        </p:blipFill>
        <p:spPr>
          <a:xfrm>
            <a:off x="1332000" y="5445000"/>
            <a:ext cx="38088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22952 0.0787 E">
                                      <p:cBhvr>
                                        <p:cTn id="10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 L 0.22952 0.0787 E">
                                      <p:cBhvr>
                                        <p:cTn id="108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45677 4.07407E-006 E">
                                      <p:cBhvr>
                                        <p:cTn id="12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0532 L -0.4566 4.07407E-006 E">
                                      <p:cBhvr>
                                        <p:cTn id="124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51"/>
          <p:cNvSpPr/>
          <p:nvPr/>
        </p:nvSpPr>
        <p:spPr>
          <a:xfrm>
            <a:off x="500040" y="4287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rebuchet MS"/>
              </a:rPr>
              <a:t>Найди равные фигур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ы</a:t>
            </a:r>
            <a:r>
              <a:rPr b="1" lang="en-US" sz="3200" spc="-1" strike="noStrike">
                <a:solidFill>
                  <a:srgbClr val="993300"/>
                </a:solidFill>
                <a:latin typeface="Trebuchet MS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0"/>
          <p:cNvSpPr/>
          <p:nvPr/>
        </p:nvSpPr>
        <p:spPr>
          <a:xfrm>
            <a:off x="1332000" y="465300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Раскрась их одинаковым            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цветом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635280" y="1844640"/>
          <a:ext cx="130500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74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508720" y="1844640"/>
          <a:ext cx="1303200" cy="981000"/>
        </p:xfrm>
        <a:graphic>
          <a:graphicData uri="http://schemas.openxmlformats.org/drawingml/2006/table">
            <a:tbl>
              <a:tblPr/>
              <a:tblGrid>
                <a:gridCol w="215640"/>
                <a:gridCol w="216000"/>
                <a:gridCol w="216000"/>
                <a:gridCol w="216000"/>
                <a:gridCol w="223560"/>
                <a:gridCol w="2160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7164360" y="1844640"/>
          <a:ext cx="1303200" cy="14875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56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8360" y="1844640"/>
          <a:ext cx="1758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5640"/>
                <a:gridCol w="231840"/>
                <a:gridCol w="223920"/>
                <a:gridCol w="22392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700360" y="1844640"/>
          <a:ext cx="431640" cy="220824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51280" y="3573360"/>
          <a:ext cx="196704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23920"/>
                <a:gridCol w="223920"/>
                <a:gridCol w="223560"/>
                <a:gridCol w="223920"/>
                <a:gridCol w="208080"/>
                <a:gridCol w="21600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804000" y="3573360"/>
          <a:ext cx="1542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31840"/>
                <a:gridCol w="223920"/>
                <a:gridCol w="223920"/>
                <a:gridCol w="21564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68360" y="2565360"/>
          <a:ext cx="86364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692360" y="2852640"/>
          <a:ext cx="447480" cy="1024200"/>
        </p:xfrm>
        <a:graphic>
          <a:graphicData uri="http://schemas.openxmlformats.org/drawingml/2006/table">
            <a:tbl>
              <a:tblPr/>
              <a:tblGrid>
                <a:gridCol w="215640"/>
                <a:gridCol w="2318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Oval 319"/>
          <p:cNvSpPr/>
          <p:nvPr/>
        </p:nvSpPr>
        <p:spPr>
          <a:xfrm>
            <a:off x="1547640" y="981000"/>
            <a:ext cx="914400" cy="1346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0"/>
          <p:cNvSpPr/>
          <p:nvPr/>
        </p:nvSpPr>
        <p:spPr>
          <a:xfrm>
            <a:off x="1117440" y="47628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851280" y="3573360"/>
          <a:ext cx="2160720" cy="490680"/>
        </p:xfrm>
        <a:graphic>
          <a:graphicData uri="http://schemas.openxmlformats.org/drawingml/2006/table">
            <a:tbl>
              <a:tblPr/>
              <a:tblGrid>
                <a:gridCol w="236520"/>
                <a:gridCol w="237960"/>
                <a:gridCol w="236880"/>
                <a:gridCol w="245880"/>
                <a:gridCol w="246240"/>
                <a:gridCol w="245880"/>
                <a:gridCol w="246240"/>
                <a:gridCol w="228600"/>
                <a:gridCol w="23652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435640" y="1844640"/>
          <a:ext cx="1441440" cy="981000"/>
        </p:xfrm>
        <a:graphic>
          <a:graphicData uri="http://schemas.openxmlformats.org/drawingml/2006/table">
            <a:tbl>
              <a:tblPr/>
              <a:tblGrid>
                <a:gridCol w="237960"/>
                <a:gridCol w="239760"/>
                <a:gridCol w="238320"/>
                <a:gridCol w="239760"/>
                <a:gridCol w="247320"/>
                <a:gridCol w="2383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71"/>
          <p:cNvSpPr/>
          <p:nvPr/>
        </p:nvSpPr>
        <p:spPr>
          <a:xfrm rot="16200000">
            <a:off x="5667840" y="1608840"/>
            <a:ext cx="966960" cy="1431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2"/>
          <p:cNvSpPr/>
          <p:nvPr/>
        </p:nvSpPr>
        <p:spPr>
          <a:xfrm rot="16200000">
            <a:off x="4696560" y="2727720"/>
            <a:ext cx="488880" cy="2179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635280" y="1844640"/>
          <a:ext cx="130500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74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124"/>
          <p:cNvSpPr/>
          <p:nvPr/>
        </p:nvSpPr>
        <p:spPr>
          <a:xfrm>
            <a:off x="3635280" y="1844640"/>
            <a:ext cx="1301760" cy="145404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00360" y="1844640"/>
          <a:ext cx="431640" cy="220824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Rectangle 157"/>
          <p:cNvSpPr/>
          <p:nvPr/>
        </p:nvSpPr>
        <p:spPr>
          <a:xfrm>
            <a:off x="2700360" y="1844640"/>
            <a:ext cx="431640" cy="2179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2565360"/>
          <a:ext cx="863640" cy="1471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195"/>
          <p:cNvSpPr/>
          <p:nvPr/>
        </p:nvSpPr>
        <p:spPr>
          <a:xfrm>
            <a:off x="468360" y="2570040"/>
            <a:ext cx="863640" cy="145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1"/>
          <p:cNvSpPr/>
          <p:nvPr/>
        </p:nvSpPr>
        <p:spPr>
          <a:xfrm>
            <a:off x="500040" y="8366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rebuchet MS"/>
              </a:rPr>
              <a:t>Проверь себ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164360" y="1844640"/>
          <a:ext cx="1303200" cy="14875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16000"/>
                <a:gridCol w="223920"/>
                <a:gridCol w="2156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8360" y="1844640"/>
          <a:ext cx="1758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5640"/>
                <a:gridCol w="231840"/>
                <a:gridCol w="223920"/>
                <a:gridCol w="22392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804000" y="3573360"/>
          <a:ext cx="1542960" cy="490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5640"/>
                <a:gridCol w="231840"/>
                <a:gridCol w="223920"/>
                <a:gridCol w="223920"/>
                <a:gridCol w="21564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692360" y="2852640"/>
          <a:ext cx="447480" cy="1024200"/>
        </p:xfrm>
        <a:graphic>
          <a:graphicData uri="http://schemas.openxmlformats.org/drawingml/2006/table">
            <a:tbl>
              <a:tblPr/>
              <a:tblGrid>
                <a:gridCol w="215640"/>
                <a:gridCol w="2318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500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4" name="Oval 323"/>
          <p:cNvSpPr/>
          <p:nvPr/>
        </p:nvSpPr>
        <p:spPr>
          <a:xfrm>
            <a:off x="1547640" y="981000"/>
            <a:ext cx="914400" cy="1346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9"/>
          <p:cNvSpPr/>
          <p:nvPr/>
        </p:nvSpPr>
        <p:spPr>
          <a:xfrm>
            <a:off x="2916360" y="46530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 = Ж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0"/>
          <p:cNvSpPr/>
          <p:nvPr/>
        </p:nvSpPr>
        <p:spPr>
          <a:xfrm>
            <a:off x="5076720" y="46530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 = З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9"/>
          <p:cNvSpPr/>
          <p:nvPr/>
        </p:nvSpPr>
        <p:spPr>
          <a:xfrm>
            <a:off x="971640" y="46530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 = Г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9"/>
          <p:cNvSpPr/>
          <p:nvPr/>
        </p:nvSpPr>
        <p:spPr>
          <a:xfrm>
            <a:off x="7164360" y="1844640"/>
            <a:ext cx="1301760" cy="147816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31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11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4"/>
          <p:cNvSpPr/>
          <p:nvPr/>
        </p:nvSpPr>
        <p:spPr>
          <a:xfrm>
            <a:off x="1619280" y="128592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4284720" y="2997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556000" y="450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971640" y="371628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5219640" y="371628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132000" y="4149720"/>
            <a:ext cx="50328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11280" y="465300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 =   б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611280" y="5445000"/>
            <a:ext cx="1584360" cy="50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  = 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4572000" y="1628640"/>
            <a:ext cx="1577880" cy="16560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2700360" y="2205000"/>
            <a:ext cx="1577880" cy="16556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6"/>
          <p:cNvSpPr/>
          <p:nvPr/>
        </p:nvSpPr>
        <p:spPr>
          <a:xfrm>
            <a:off x="395280" y="1773360"/>
            <a:ext cx="1577880" cy="16556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3276720" y="530064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3924360" y="4653000"/>
            <a:ext cx="158436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  = 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445000"/>
            <a:ext cx="2303280" cy="50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  =  б =  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0.25243 0.06829 E">
                                      <p:cBhvr>
                                        <p:cTn id="17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3.33333E-006 L 0.23664 0.05787 E">
                                      <p:cBhvr>
                                        <p:cTn id="177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0.20486 -0.08402 E">
                                      <p:cBhvr>
                                        <p:cTn id="18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7.22222E-006 -4.07407E-006 L 0.19687 -0.08402 E">
                                      <p:cBhvr>
                                        <p:cTn id="188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0.37014 0.40949 E">
                                      <p:cBhvr>
                                        <p:cTn id="19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7.40741E-007 L -0.08646 0.43055 E">
                                      <p:cBhvr>
                                        <p:cTn id="198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43056 L -0.00781 0.02107 E">
                                      <p:cBhvr>
                                        <p:cTn id="20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0.40949 L -0.00746 -0.01574 E">
                                      <p:cBhvr>
                                        <p:cTn id="204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-0.01574 L 0.25243 0.06828 E">
                                      <p:cBhvr>
                                        <p:cTn id="217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-0.20469 0.08403 E">
                                      <p:cBhvr>
                                        <p:cTn id="220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9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998640" y="404640"/>
            <a:ext cx="674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rebuchet MS"/>
              </a:rPr>
              <a:t>Итог</a:t>
            </a:r>
            <a:r>
              <a:rPr b="1" lang="en-US" sz="4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rebuchet MS"/>
              </a:rPr>
              <a:t>урока: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1619280" y="1052640"/>
            <a:ext cx="7199280" cy="3313080"/>
          </a:xfrm>
          <a:prstGeom prst="cloudCallout">
            <a:avLst>
              <a:gd name="adj1" fmla="val -45921"/>
              <a:gd name="adj2" fmla="val 28726"/>
            </a:avLst>
          </a:prstGeom>
          <a:solidFill>
            <a:srgbClr val="ffffff"/>
          </a:solidFill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Равные фигур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можно совместить наложением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первая фигура равна второй, а вторая – третьей, то первая фигура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оже  равна  третьей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6:43:55Z</dcterms:created>
  <dc:creator>Шейкина</dc:creator>
  <dc:description/>
  <cp:keywords>мои</cp:keywords>
  <dc:language>en-US</dc:language>
  <cp:lastModifiedBy>Teacher</cp:lastModifiedBy>
  <dcterms:modified xsi:type="dcterms:W3CDTF">2012-12-03T11:33:37Z</dcterms:modified>
  <cp:revision>43</cp:revision>
  <dc:subject/>
  <dc:title>Равные фигуры</dc:title>
</cp:coreProperties>
</file>