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gif" ContentType="image/gif"/>
  <Override PartName="/ppt/media/image16.gif" ContentType="image/gif"/>
  <Override PartName="/ppt/media/image24.jpeg" ContentType="image/jpeg"/>
  <Override PartName="/ppt/media/image19.jpeg" ContentType="image/jpeg"/>
  <Override PartName="/ppt/media/image20.jpeg" ContentType="image/jpeg"/>
  <Override PartName="/ppt/media/image14.gif" ContentType="image/gif"/>
  <Override PartName="/ppt/media/image21.jpeg" ContentType="image/jpeg"/>
  <Override PartName="/ppt/media/image17.gif" ContentType="image/gif"/>
  <Override PartName="/ppt/media/image3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AE2131-8788-4FF7-A154-B922CE9D8D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BCEA75-7251-496C-ACBC-DE11E47F90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C46323-BBAB-4E20-AB67-87B6942979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F970-9265-4074-A103-185FFC42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F4B-0397-4FCA-8608-01F53F56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904-2317-4884-BF4B-0A603DAC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4444-81A6-48E5-A696-6F91199F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57B-B3B7-4CC4-9475-A2CEBE0B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743-3C00-40B8-87F3-94D747EA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AA1-DF1B-474F-81D2-F4E7F5E9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966-6B99-46CB-8403-6905624F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B29-AE58-45DB-9042-043662D2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FD8-327F-46E5-9C16-A58891EC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EE4-C304-4538-B364-27D8661D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5EF7-DA49-45B8-9E03-999C38D4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58B273-C66F-480D-8B8D-FF094C0AE85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1280" y="277560"/>
            <a:ext cx="59137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Русский язык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1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23640" y="3141360"/>
            <a:ext cx="40323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marL="30960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Bookman Old Style"/>
              </a:rPr>
              <a:t>Перенос с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79280" y="404640"/>
            <a:ext cx="86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омашнее животное семейства псовых, родственное волку, используемое человеком для охраны, на охоте в упряжке (на Севере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324000" y="333360"/>
            <a:ext cx="32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33cc"/>
                </a:solidFill>
                <a:latin typeface="Arial"/>
              </a:rPr>
              <a:t>Собака</a:t>
            </a:r>
            <a:endParaRPr b="1" i="1" lang="en-US" sz="1800" spc="1" strike="noStrike">
              <a:ln w="0">
                <a:noFill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3924360" y="76500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zooclub.ru/attach/wild/284.jpg"/>
          <p:cNvPicPr/>
          <p:nvPr/>
        </p:nvPicPr>
        <p:blipFill>
          <a:blip r:embed="rId1"/>
          <a:stretch/>
        </p:blipFill>
        <p:spPr>
          <a:xfrm>
            <a:off x="5076720" y="2637000"/>
            <a:ext cx="331488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50920" y="189000"/>
            <a:ext cx="86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пишите слово, разделите на слоги, поставьте ударение, выделите орфограм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1476360" y="242100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 - ба - 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647720" y="4437000"/>
            <a:ext cx="360360" cy="1193760"/>
          </a:xfrm>
          <a:custGeom>
            <a:avLst/>
            <a:gdLst>
              <a:gd name="textAreaLeft" fmla="*/ 105840 w 360360"/>
              <a:gd name="textAreaRight" fmla="*/ 360720 w 360360"/>
              <a:gd name="textAreaTop" fmla="*/ 0 h 1193760"/>
              <a:gd name="textAreaBottom" fmla="*/ 1194120 h 119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2871720" y="465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98520" y="3500280"/>
            <a:ext cx="34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анскрип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 rot="10800000">
            <a:off x="7260840" y="4365360"/>
            <a:ext cx="360360" cy="1222200"/>
          </a:xfrm>
          <a:custGeom>
            <a:avLst/>
            <a:gdLst>
              <a:gd name="textAreaLeft" fmla="*/ 105840 w 360360"/>
              <a:gd name="textAreaRight" fmla="*/ 360720 w 360360"/>
              <a:gd name="textAreaTop" fmla="*/ 0 h 1222200"/>
              <a:gd name="textAreaBottom" fmla="*/ 1222560 h 122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4716360" y="1700280"/>
            <a:ext cx="64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740120" y="3716280"/>
            <a:ext cx="64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2268360" y="3429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1"/>
          <p:cNvSpPr txBox="1"/>
          <p:nvPr/>
        </p:nvSpPr>
        <p:spPr>
          <a:xfrm>
            <a:off x="2008080" y="465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9" name="WordArt 13"/>
          <p:cNvSpPr txBox="1"/>
          <p:nvPr/>
        </p:nvSpPr>
        <p:spPr>
          <a:xfrm>
            <a:off x="3805200" y="4538520"/>
            <a:ext cx="57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0" name="WordArt 14"/>
          <p:cNvSpPr txBox="1"/>
          <p:nvPr/>
        </p:nvSpPr>
        <p:spPr>
          <a:xfrm>
            <a:off x="4672080" y="4667400"/>
            <a:ext cx="5745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1" name="WordArt 17"/>
          <p:cNvSpPr txBox="1"/>
          <p:nvPr/>
        </p:nvSpPr>
        <p:spPr>
          <a:xfrm>
            <a:off x="5748480" y="4653000"/>
            <a:ext cx="5522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2" name="WordArt 18"/>
          <p:cNvSpPr txBox="1"/>
          <p:nvPr/>
        </p:nvSpPr>
        <p:spPr>
          <a:xfrm>
            <a:off x="6684840" y="465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5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332000" y="692280"/>
            <a:ext cx="662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днокоренны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0" y="1052640"/>
            <a:ext cx="902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бачий, собачка, собачник, собачонка, собако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www.zveryshki.ru/uploads/posts/2007-11/thumbs/1194892762_19145003.jpg"/>
          <p:cNvPicPr/>
          <p:nvPr/>
        </p:nvPicPr>
        <p:blipFill>
          <a:blip r:embed="rId1"/>
          <a:stretch/>
        </p:blipFill>
        <p:spPr>
          <a:xfrm>
            <a:off x="2771640" y="2276640"/>
            <a:ext cx="48960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325440" y="1052640"/>
            <a:ext cx="825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Script MT Bold"/>
              </a:rPr>
              <a:t>Как собака на сен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о человек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торый сам не пользуется чем-л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другим не да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33280" y="2708280"/>
            <a:ext cx="77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Script MT Bold"/>
              </a:rPr>
              <a:t>Как кошка с собакой живё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  постоянно ссорящихся люд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98080" y="3860640"/>
            <a:ext cx="884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Script MT Bold"/>
              </a:rPr>
              <a:t>Собаку съе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быть знатоком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ом-либо деле, иметь большой навы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ыт в чём-либ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Фразеологиз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1619280" y="549360"/>
            <a:ext cx="6408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лан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ение слов на сл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ение слов для перен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ение для перено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лов с Ъ и 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 startAt="4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ение для перено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лов с  удвоенной соглас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042920" y="1413000"/>
            <a:ext cx="3843360" cy="2442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219640" y="1413000"/>
            <a:ext cx="2614680" cy="2436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Bookman Old Style"/>
              </a:rPr>
              <a:t>Упр. 18 с. 18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1258920" y="4508640"/>
            <a:ext cx="6626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Ба-раны, бара-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7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Правиль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684360" y="141300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Груп-па, су-ббо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под-сказка, тон-на, алл-ея, двор-ник, паль-то, мал-ьчик, чай-ник, подъ-ехал, об-ъехал, ма-йка, ча-й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4000" spc="-1" strike="noStrike">
                <a:solidFill>
                  <a:srgbClr val="00664d"/>
                </a:solidFill>
                <a:latin typeface="Bookman Old Style"/>
              </a:rPr>
              <a:t>Правила переноса сл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95280" y="1413000"/>
            <a:ext cx="83534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Bookman Old Style"/>
              </a:rPr>
              <a:t>Упр. 19 с. 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://vneshkolnik.ru/media/mini_42%20%D0%9F%D1%82%D0%B8%D1%86%D0%B0%20%D1%80%D0%B0%D0%B4%D0%B0%20%D0%B2%D0%B5%D1%81%D0%BD%D0%B5,%20%D0%B0%20%D0%BC%D0%BB%D0%B0%D0%B4%D0%B0%D0%BD%D0%B5%D1%86%20-%20%D0%BC%D0%B0%D1%82%D0%B5%D1%80%D0%B8%20Kuanishbekova_Gulnaz_14let_%D0%9A%D0%B0%D0%B7%D0%B0%D1%85%D1%81%D1%82%D0%B0%D0%BD.jpg"/>
          <p:cNvPicPr/>
          <p:nvPr/>
        </p:nvPicPr>
        <p:blipFill>
          <a:blip r:embed="rId1"/>
          <a:stretch/>
        </p:blipFill>
        <p:spPr>
          <a:xfrm>
            <a:off x="7596360" y="1773360"/>
            <a:ext cx="1371600" cy="9712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539640" y="1773360"/>
            <a:ext cx="698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Птица рада весне, а младенец – мате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755640" y="2924280"/>
            <a:ext cx="64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У милого дитяти много им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539640" y="4005360"/>
            <a:ext cx="813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Хороша дочка Аннушка, коли хвалит мать и бабу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http://mamanyam.ru/uploads/posts/2009-06/1244668224_kid6.jpg"/>
          <p:cNvPicPr/>
          <p:nvPr/>
        </p:nvPicPr>
        <p:blipFill>
          <a:blip r:embed="rId2"/>
          <a:stretch/>
        </p:blipFill>
        <p:spPr>
          <a:xfrm>
            <a:off x="7164360" y="2781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www.kleo.ru/img/items/woman_trio_230-2.jpg"/>
          <p:cNvPicPr/>
          <p:nvPr/>
        </p:nvPicPr>
        <p:blipFill>
          <a:blip r:embed="rId3"/>
          <a:stretch/>
        </p:blipFill>
        <p:spPr>
          <a:xfrm>
            <a:off x="4284720" y="4581360"/>
            <a:ext cx="14763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Итог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971640" y="3429000"/>
            <a:ext cx="72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Какое слово нельзя перенести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79280" y="1197000"/>
            <a:ext cx="2203560" cy="2073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2627280" y="1844640"/>
            <a:ext cx="776160" cy="1432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3564000" y="1989000"/>
            <a:ext cx="900000" cy="1219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4716360" y="1773360"/>
            <a:ext cx="2254320" cy="1466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"/>
          <p:cNvPicPr/>
          <p:nvPr/>
        </p:nvPicPr>
        <p:blipFill>
          <a:blip r:embed="rId5">
            <a:lum contrast="10000"/>
          </a:blip>
          <a:stretch/>
        </p:blipFill>
        <p:spPr>
          <a:xfrm>
            <a:off x="7164360" y="1557360"/>
            <a:ext cx="1760400" cy="180972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8"/>
          <p:cNvSpPr/>
          <p:nvPr/>
        </p:nvSpPr>
        <p:spPr>
          <a:xfrm>
            <a:off x="1258920" y="3933720"/>
            <a:ext cx="7489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Bookman Old Style"/>
              </a:rPr>
              <a:t>Что нового вы сегодня для себя откры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Bookman Old Style"/>
              </a:rPr>
              <a:t>Что получалось лучше все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Bookman Old Style"/>
              </a:rPr>
              <a:t>В чём испытали затруд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Bookman Old Style"/>
              </a:rPr>
              <a:t>Что постараетесь сделать лучше на следующем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340000" y="2708280"/>
            <a:ext cx="611964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литка в гости к буквам поспеши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А адрес дома взять она забы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ам надо за неё реши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уда отправится гост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ринять её готовы, фак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«Ы», твёрдый или мягкий зн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Bookman Old Style"/>
              </a:rPr>
              <a:t>Чистопис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155520" y="-503280"/>
            <a:ext cx="8222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http://sova-golova.ru/wp-content/uploads/2012/06/%D1%83%D0%BB%D0%B8%D1%82%D0%BA%D0%B0.png"/>
          <p:cNvPicPr/>
          <p:nvPr/>
        </p:nvPicPr>
        <p:blipFill>
          <a:blip r:embed="rId1"/>
          <a:stretch/>
        </p:blipFill>
        <p:spPr>
          <a:xfrm>
            <a:off x="324000" y="692280"/>
            <a:ext cx="201600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Bookman Old Style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C:\Documents and Settings\Admin\Мои документы\Фокеева\Фокеева Т.Н\Моя работа\Создание презентаций\Картинки для презентаций\анимашки герои диснея\dis93.gif"/>
          <p:cNvPicPr/>
          <p:nvPr/>
        </p:nvPicPr>
        <p:blipFill>
          <a:blip r:embed="rId1"/>
          <a:stretch/>
        </p:blipFill>
        <p:spPr>
          <a:xfrm>
            <a:off x="3203640" y="1844640"/>
            <a:ext cx="270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2780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Bookman Old Style"/>
              </a:rPr>
              <a:t>Чистопис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Рисунок42.jpg"/>
          <p:cNvPicPr/>
          <p:nvPr/>
        </p:nvPicPr>
        <p:blipFill>
          <a:blip r:embed="rId1"/>
          <a:srcRect l="14798" t="30201" r="25982" b="10303"/>
          <a:stretch/>
        </p:blipFill>
        <p:spPr>
          <a:xfrm>
            <a:off x="539640" y="1844640"/>
            <a:ext cx="2448000" cy="18446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Рисунок38.jpg"/>
          <p:cNvPicPr/>
          <p:nvPr/>
        </p:nvPicPr>
        <p:blipFill>
          <a:blip r:embed="rId2"/>
          <a:srcRect l="22335" t="26619" r="36429" b="11524"/>
          <a:stretch/>
        </p:blipFill>
        <p:spPr>
          <a:xfrm>
            <a:off x="3276720" y="1700280"/>
            <a:ext cx="172692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Рисунок40.jpg"/>
          <p:cNvPicPr/>
          <p:nvPr/>
        </p:nvPicPr>
        <p:blipFill>
          <a:blip r:embed="rId3"/>
          <a:srcRect l="19285" t="23054" r="29314" b="14952"/>
          <a:stretch/>
        </p:blipFill>
        <p:spPr>
          <a:xfrm>
            <a:off x="5724360" y="170028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2124000" y="3789360"/>
            <a:ext cx="5006880" cy="203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Словар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042920" y="1268280"/>
            <a:ext cx="2738520" cy="2578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4643280" y="1989000"/>
            <a:ext cx="970200" cy="179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6443640" y="2349360"/>
            <a:ext cx="1060560" cy="1435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3132000" y="4221000"/>
            <a:ext cx="24750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26028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рупное рогат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животное, которое даёт молок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3"/>
          <p:cNvSpPr txBox="1"/>
          <p:nvPr/>
        </p:nvSpPr>
        <p:spPr>
          <a:xfrm>
            <a:off x="324000" y="189000"/>
            <a:ext cx="31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33cc"/>
                </a:solidFill>
                <a:latin typeface="Arial"/>
              </a:rPr>
              <a:t>Корова</a:t>
            </a:r>
            <a:endParaRPr b="1" i="1" lang="en-US" sz="1800" spc="1" strike="noStrike">
              <a:ln w="0">
                <a:noFill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3708360" y="620640"/>
            <a:ext cx="4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900000" y="981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коровка"/>
          <p:cNvPicPr/>
          <p:nvPr/>
        </p:nvPicPr>
        <p:blipFill>
          <a:blip r:embed="rId1"/>
          <a:stretch/>
        </p:blipFill>
        <p:spPr>
          <a:xfrm>
            <a:off x="3924360" y="1989000"/>
            <a:ext cx="4753080" cy="3578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корова4"/>
          <p:cNvPicPr/>
          <p:nvPr/>
        </p:nvPicPr>
        <p:blipFill>
          <a:blip r:embed="rId2"/>
          <a:stretch/>
        </p:blipFill>
        <p:spPr>
          <a:xfrm>
            <a:off x="0" y="1916280"/>
            <a:ext cx="3673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1908000" y="404640"/>
            <a:ext cx="439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54440" y="1197000"/>
            <a:ext cx="900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древнего славянского слова корова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рогатая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5" descr="cow41"/>
          <p:cNvPicPr/>
          <p:nvPr/>
        </p:nvPicPr>
        <p:blipFill>
          <a:blip r:embed="rId1"/>
          <a:stretch/>
        </p:blipFill>
        <p:spPr>
          <a:xfrm>
            <a:off x="755640" y="3429000"/>
            <a:ext cx="2662200" cy="1673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COW10"/>
          <p:cNvPicPr/>
          <p:nvPr/>
        </p:nvPicPr>
        <p:blipFill>
          <a:blip r:embed="rId2"/>
          <a:stretch/>
        </p:blipFill>
        <p:spPr>
          <a:xfrm>
            <a:off x="4932360" y="3141720"/>
            <a:ext cx="302580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50920" y="189000"/>
            <a:ext cx="86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пишите слово, разделите на слоги, поставьте ударение, выделите орфограм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1332000" y="2492280"/>
            <a:ext cx="568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о - ро - 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1525680" y="4537080"/>
            <a:ext cx="360360" cy="1122480"/>
          </a:xfrm>
          <a:custGeom>
            <a:avLst/>
            <a:gdLst>
              <a:gd name="textAreaLeft" fmla="*/ 105840 w 360360"/>
              <a:gd name="textAreaRight" fmla="*/ 360720 w 360360"/>
              <a:gd name="textAreaTop" fmla="*/ 0 h 1122480"/>
              <a:gd name="textAreaBottom" fmla="*/ 1122480 h 112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678040" y="472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27240" y="3645000"/>
            <a:ext cx="34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анскрип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 rot="10800000">
            <a:off x="6659280" y="4508280"/>
            <a:ext cx="360360" cy="1150920"/>
          </a:xfrm>
          <a:custGeom>
            <a:avLst/>
            <a:gdLst>
              <a:gd name="textAreaLeft" fmla="*/ 105840 w 360360"/>
              <a:gd name="textAreaRight" fmla="*/ 360720 w 36036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140360" y="1557360"/>
            <a:ext cx="64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308480" y="3789360"/>
            <a:ext cx="64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1979640" y="3213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1951200" y="4724280"/>
            <a:ext cx="525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4" name="WordArt 13"/>
          <p:cNvSpPr txBox="1"/>
          <p:nvPr/>
        </p:nvSpPr>
        <p:spPr>
          <a:xfrm>
            <a:off x="3476520" y="4724280"/>
            <a:ext cx="57636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5" name="WordArt 14"/>
          <p:cNvSpPr txBox="1"/>
          <p:nvPr/>
        </p:nvSpPr>
        <p:spPr>
          <a:xfrm>
            <a:off x="4290840" y="4724280"/>
            <a:ext cx="574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6" name="WordArt 15"/>
          <p:cNvSpPr txBox="1"/>
          <p:nvPr/>
        </p:nvSpPr>
        <p:spPr>
          <a:xfrm>
            <a:off x="5219640" y="472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7" name="WordArt 16"/>
          <p:cNvSpPr txBox="1"/>
          <p:nvPr/>
        </p:nvSpPr>
        <p:spPr>
          <a:xfrm>
            <a:off x="6012000" y="472428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332000" y="692280"/>
            <a:ext cx="662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днокоренны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84720" y="1700280"/>
            <a:ext cx="676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рова, коровушка, коровен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ровник, коров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cow09"/>
          <p:cNvPicPr/>
          <p:nvPr/>
        </p:nvPicPr>
        <p:blipFill>
          <a:blip r:embed="rId1"/>
          <a:stretch/>
        </p:blipFill>
        <p:spPr>
          <a:xfrm>
            <a:off x="1116000" y="3429000"/>
            <a:ext cx="2952720" cy="2055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OW2"/>
          <p:cNvPicPr/>
          <p:nvPr/>
        </p:nvPicPr>
        <p:blipFill>
          <a:blip r:embed="rId2"/>
          <a:stretch/>
        </p:blipFill>
        <p:spPr>
          <a:xfrm>
            <a:off x="6300720" y="3500280"/>
            <a:ext cx="1809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908000" y="33336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разеологиз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79280" y="141300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Forte"/>
              </a:rPr>
              <a:t>Как корова языком слиза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Forte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-нибудь быстро и бесследно исчез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корова6"/>
          <p:cNvPicPr/>
          <p:nvPr/>
        </p:nvPicPr>
        <p:blipFill>
          <a:blip r:embed="rId1"/>
          <a:stretch/>
        </p:blipFill>
        <p:spPr>
          <a:xfrm>
            <a:off x="3132000" y="3213000"/>
            <a:ext cx="2540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3T09:19:00Z</dcterms:created>
  <dc:creator>Admin</dc:creator>
  <dc:description/>
  <dc:language>en-US</dc:language>
  <cp:lastModifiedBy>Admin</cp:lastModifiedBy>
  <dcterms:modified xsi:type="dcterms:W3CDTF">2013-03-23T12:18:38Z</dcterms:modified>
  <cp:revision>16</cp:revision>
  <dc:subject/>
  <dc:title>Слайд 1</dc:title>
</cp:coreProperties>
</file>