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94C-C38D-422A-AFCE-01FC9936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972-660D-4E10-A2AC-B02D0AA7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C9A-EAF2-455A-90A4-04429889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755-3A97-496D-834F-E133AE21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43A-BB68-43AD-8F8D-99B32B5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31B-AFC0-448F-B697-A91B5DA5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4D9-5C50-4A6D-94E5-D8C03E9C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3B0-3454-4939-A258-EF992CC9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687-459F-44AA-8E37-4CCCFE65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7AE-9786-485F-9E46-D765BB69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D09-6F78-438B-9225-4E364DB3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A53-1DD9-4E4D-99E4-9F9F60BC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38CB-A120-4725-823C-DCFADBF3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Маленький орган с огромным значением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915920"/>
            <a:ext cx="5400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Щитовидная железа является самой крупной железой внутренней секреции, её нормальная масса у взрослого достигает 18-25 грамм. Она состоит из двух долей, соединенных узким перешейком, имеет форму бабочки и расположена в передне-нижней части шеи, спереди и по бокам от трахеи. В минуту через щитовидную железу протекает 300 мл крови, что значительно больше, чем получает на такую же массу ткани любой другой орган, включая сердце и почки</a:t>
            </a: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5" descr="html_pic"/>
          <p:cNvPicPr/>
          <p:nvPr/>
        </p:nvPicPr>
        <p:blipFill>
          <a:blip r:embed="rId2"/>
          <a:stretch/>
        </p:blipFill>
        <p:spPr>
          <a:xfrm>
            <a:off x="5796000" y="1700280"/>
            <a:ext cx="2762280" cy="3467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95672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Щитовидная железа нуждается в витаминах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53388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лимоны, яблоки, творог, темный хлеб, грецкие орех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ежедневно море продукты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морская капуста – 220000 мкгр. йода на 100 гр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печень трески – 800 мкгр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минтай – 150 мкг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7" descr="kapusta"/>
          <p:cNvPicPr/>
          <p:nvPr/>
        </p:nvPicPr>
        <p:blipFill>
          <a:blip r:embed="rId2"/>
          <a:stretch/>
        </p:blipFill>
        <p:spPr>
          <a:xfrm>
            <a:off x="2195640" y="5300640"/>
            <a:ext cx="2124000" cy="136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photos0-800x600"/>
          <p:cNvPicPr/>
          <p:nvPr/>
        </p:nvPicPr>
        <p:blipFill>
          <a:blip r:embed="rId3"/>
          <a:stretch/>
        </p:blipFill>
        <p:spPr>
          <a:xfrm>
            <a:off x="5940360" y="620640"/>
            <a:ext cx="2051280" cy="197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768lemon"/>
          <p:cNvPicPr/>
          <p:nvPr/>
        </p:nvPicPr>
        <p:blipFill>
          <a:blip r:embed="rId4"/>
          <a:stretch/>
        </p:blipFill>
        <p:spPr>
          <a:xfrm>
            <a:off x="6948360" y="1700280"/>
            <a:ext cx="1871640" cy="161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tvorog"/>
          <p:cNvPicPr/>
          <p:nvPr/>
        </p:nvPicPr>
        <p:blipFill>
          <a:blip r:embed="rId5"/>
          <a:stretch/>
        </p:blipFill>
        <p:spPr>
          <a:xfrm>
            <a:off x="7093080" y="4724280"/>
            <a:ext cx="2050920" cy="1920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77281750_yabloki5445667"/>
          <p:cNvPicPr/>
          <p:nvPr/>
        </p:nvPicPr>
        <p:blipFill>
          <a:blip r:embed="rId6"/>
          <a:stretch/>
        </p:blipFill>
        <p:spPr>
          <a:xfrm>
            <a:off x="6227640" y="3141720"/>
            <a:ext cx="2016360" cy="1716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temnyj-rzhano-pshenichnyj-xleb_090324144532_100714113208_M"/>
          <p:cNvPicPr/>
          <p:nvPr/>
        </p:nvPicPr>
        <p:blipFill>
          <a:blip r:embed="rId7"/>
          <a:stretch/>
        </p:blipFill>
        <p:spPr>
          <a:xfrm>
            <a:off x="179280" y="765000"/>
            <a:ext cx="1800360" cy="141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2515717b9b84e955eb1d997d13954263"/>
          <p:cNvPicPr/>
          <p:nvPr/>
        </p:nvPicPr>
        <p:blipFill>
          <a:blip r:embed="rId8"/>
          <a:stretch/>
        </p:blipFill>
        <p:spPr>
          <a:xfrm>
            <a:off x="4500720" y="4653000"/>
            <a:ext cx="1944360" cy="170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bpechen1"/>
          <p:cNvPicPr/>
          <p:nvPr/>
        </p:nvPicPr>
        <p:blipFill>
          <a:blip r:embed="rId9"/>
          <a:stretch/>
        </p:blipFill>
        <p:spPr>
          <a:xfrm>
            <a:off x="179280" y="4653000"/>
            <a:ext cx="1871640" cy="17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Принимайте йодомари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Добавляйте в ванну минеральную соль Мертвого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Меньше нервничайте, избегайте волнений и стрессовых ситуа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Отдыхайте летом у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Занимайтесь активными вид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спор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4" descr="pic_269"/>
          <p:cNvPicPr/>
          <p:nvPr/>
        </p:nvPicPr>
        <p:blipFill>
          <a:blip r:embed="rId2"/>
          <a:stretch/>
        </p:blipFill>
        <p:spPr>
          <a:xfrm>
            <a:off x="5796000" y="3860640"/>
            <a:ext cx="3348000" cy="299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5_52be0f3"/>
          <p:cNvPicPr/>
          <p:nvPr/>
        </p:nvPicPr>
        <p:blipFill>
          <a:blip r:embed="rId3"/>
          <a:stretch/>
        </p:blipFill>
        <p:spPr>
          <a:xfrm>
            <a:off x="468360" y="0"/>
            <a:ext cx="2519280" cy="198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jodobromnaja"/>
          <p:cNvPicPr/>
          <p:nvPr/>
        </p:nvPicPr>
        <p:blipFill>
          <a:blip r:embed="rId4"/>
          <a:stretch/>
        </p:blipFill>
        <p:spPr>
          <a:xfrm>
            <a:off x="6786720" y="357120"/>
            <a:ext cx="197640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24f92b__6f9028e721_600"/>
          <p:cNvPicPr/>
          <p:nvPr/>
        </p:nvPicPr>
        <p:blipFill>
          <a:blip r:embed="rId5"/>
          <a:stretch/>
        </p:blipFill>
        <p:spPr>
          <a:xfrm>
            <a:off x="0" y="4941720"/>
            <a:ext cx="2843280" cy="191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Гормоны щитовидной железы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11280" y="119124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регулируют скорость биохимических реакци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психо-эмоциональное состояни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теплопродукцию в теле челове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адаптируют метаболические процессы        к потребностям организма, которые постоянно меняются в зависимости от температуры окружающей среды, физической активности, характера эмо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6" descr="110549365822838645_5RzGRoxU_c"/>
          <p:cNvPicPr/>
          <p:nvPr/>
        </p:nvPicPr>
        <p:blipFill>
          <a:blip r:embed="rId2"/>
          <a:stretch/>
        </p:blipFill>
        <p:spPr>
          <a:xfrm>
            <a:off x="285840" y="3929040"/>
            <a:ext cx="2124000" cy="263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hf"/>
          <p:cNvPicPr/>
          <p:nvPr/>
        </p:nvPicPr>
        <p:blipFill>
          <a:blip r:embed="rId3"/>
          <a:stretch/>
        </p:blipFill>
        <p:spPr>
          <a:xfrm>
            <a:off x="6804000" y="4076640"/>
            <a:ext cx="2340000" cy="256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Заболевания щитовидной железы</a:t>
            </a:r>
            <a:br>
              <a:rPr sz="4000"/>
            </a:b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0000" y="1412640"/>
            <a:ext cx="5986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Из-за избыточной секреции тироксина возникает «токсический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 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alibri"/>
              </a:rPr>
              <a:t>зоб</a:t>
            </a: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» , железа увеличивается в объеме и приобретает вид опухоли в передней части шеи  и продуцирует 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alibri"/>
              </a:rPr>
              <a:t>гормоны, </a:t>
            </a: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в количестве, превышающем потребности организма. Люди с базедовой болезнью сильно худеют, раздражительны, вспыльчивы. У них неестественно выпучены глаза, поэтому в жизни могут быть превращения из человека в ведьму, описанные в сказ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6" descr="1311865376_9155"/>
          <p:cNvPicPr/>
          <p:nvPr/>
        </p:nvPicPr>
        <p:blipFill>
          <a:blip r:embed="rId2"/>
          <a:stretch/>
        </p:blipFill>
        <p:spPr>
          <a:xfrm>
            <a:off x="142920" y="1714680"/>
            <a:ext cx="2663640" cy="343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1773000"/>
            <a:ext cx="5194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повышенная эмоциональность, раздражительност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плохое самочувствие при жаркой погоде, повышенная потливост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сердцебиение даже при небольшой физической нагрузке и полном поко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несмотря на хороший аппетит, потеря в весе от 2-3 до 10-15 и более килограм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тремор пальцев рук (дрожание), особенно чётко проявляющийся при попытке точных движений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почерк становится более размашистым, неров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5" descr="Krupskaya_photo"/>
          <p:cNvPicPr/>
          <p:nvPr/>
        </p:nvPicPr>
        <p:blipFill>
          <a:blip r:embed="rId2"/>
          <a:stretch/>
        </p:blipFill>
        <p:spPr>
          <a:xfrm>
            <a:off x="0" y="1125360"/>
            <a:ext cx="3492360" cy="4365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базедова болезнь"/>
          <p:cNvPicPr/>
          <p:nvPr/>
        </p:nvPicPr>
        <p:blipFill>
          <a:blip r:embed="rId3"/>
          <a:stretch/>
        </p:blipFill>
        <p:spPr>
          <a:xfrm>
            <a:off x="755640" y="4000680"/>
            <a:ext cx="2171880" cy="2857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26920" y="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Гипертиреоз - увеличение функции щитовидной желез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1280" y="380880"/>
            <a:ext cx="627552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Гипотиреоз - с</a:t>
            </a:r>
            <a:r>
              <a:rPr b="0" lang="en-US" sz="3200" spc="-1" strike="noStrike">
                <a:solidFill>
                  <a:srgbClr val="7b9cb5"/>
                </a:solidFill>
                <a:latin typeface="Calibri"/>
              </a:rPr>
              <a:t>нижение функции щитовидной железы</a:t>
            </a:r>
            <a:br>
              <a:rPr sz="3200"/>
            </a:br>
            <a:r>
              <a:rPr b="0" lang="en-US" sz="3200" spc="-1" strike="noStrike">
                <a:solidFill>
                  <a:srgbClr val="7b9cb5"/>
                </a:solidFill>
                <a:latin typeface="Calibri"/>
              </a:rPr>
              <a:t>(микседема)</a:t>
            </a:r>
            <a:r>
              <a:rPr b="0" lang="en-US" sz="40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68000" y="1989000"/>
            <a:ext cx="64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слабос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повышенная утомляемос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нарушения памят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зябкость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отечностью век после сн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увеличением веса даже при сниженном аппетит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запо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сухость кож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ломкость ногтей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потеря интереса к окружающему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деятельность сердца также замедляется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пульс становится редким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при значительном дефиците гормонов верхние веки опускаются, уменьшая глазную щель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5" descr="181_4"/>
          <p:cNvPicPr/>
          <p:nvPr/>
        </p:nvPicPr>
        <p:blipFill>
          <a:blip r:embed="rId2"/>
          <a:stretch/>
        </p:blipFill>
        <p:spPr>
          <a:xfrm>
            <a:off x="324000" y="765000"/>
            <a:ext cx="1904760" cy="2248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Кретинизм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Задержка физического и психического развития. Недостаточность функции или отсутствие щитовидной железы могут быть врожденными. Кретинизм может развиваться и в процессе роста ребенка вследствие недостатка йода или гормона щитовидной желез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kretinizm"/>
          <p:cNvPicPr/>
          <p:nvPr/>
        </p:nvPicPr>
        <p:blipFill>
          <a:blip r:embed="rId2"/>
          <a:stretch/>
        </p:blipFill>
        <p:spPr>
          <a:xfrm>
            <a:off x="179280" y="3716280"/>
            <a:ext cx="1944720" cy="266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ретинизм"/>
          <p:cNvPicPr/>
          <p:nvPr/>
        </p:nvPicPr>
        <p:blipFill>
          <a:blip r:embed="rId3"/>
          <a:stretch/>
        </p:blipFill>
        <p:spPr>
          <a:xfrm>
            <a:off x="6948360" y="3789360"/>
            <a:ext cx="2016360" cy="2552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Причины кретинизма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68360" y="687600"/>
            <a:ext cx="820728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недостаток йода в организм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браки между ближайшими родственник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Симпто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низкий рос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толстый, большой, язы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плоский н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умственная отсталость, идио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9" descr="TMP13-300x207"/>
          <p:cNvPicPr/>
          <p:nvPr/>
        </p:nvPicPr>
        <p:blipFill>
          <a:blip r:embed="rId2"/>
          <a:stretch/>
        </p:blipFill>
        <p:spPr>
          <a:xfrm>
            <a:off x="2771640" y="4076640"/>
            <a:ext cx="3529080" cy="2592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548316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постоянный умеренный дефицит йода в продуктах пит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усиление вредного влияния окружающей сред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различные экологические и социальные катастрофы, а также их послед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длительное психо-эмоциональное напряжени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5" descr="thyroid-photo-woman"/>
          <p:cNvPicPr/>
          <p:nvPr/>
        </p:nvPicPr>
        <p:blipFill>
          <a:blip r:embed="rId2"/>
          <a:stretch/>
        </p:blipFill>
        <p:spPr>
          <a:xfrm>
            <a:off x="6084720" y="2924280"/>
            <a:ext cx="2648160" cy="3419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22360" y="300600"/>
            <a:ext cx="80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Calibri"/>
              </a:rPr>
              <a:t>Причины широкой распространённости заболеваний щитовидной железы</a:t>
            </a:r>
            <a:r>
              <a:rPr b="0" lang="en-US" sz="3200" spc="-1" strike="noStrike">
                <a:solidFill>
                  <a:srgbClr val="7b9cb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Профилактика заболеваний щитовидной железы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Ешь правильно – и лекарство ненадоб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Поешь рыбки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будут ноги прыт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Морковь прибавляет кров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Обед без овощей – праздник без музы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5" descr="morkovka_02"/>
          <p:cNvPicPr/>
          <p:nvPr/>
        </p:nvPicPr>
        <p:blipFill>
          <a:blip r:embed="rId2"/>
          <a:stretch/>
        </p:blipFill>
        <p:spPr>
          <a:xfrm>
            <a:off x="5219640" y="2924280"/>
            <a:ext cx="2916360" cy="210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0_6afe3_a46364ad_XL"/>
          <p:cNvPicPr/>
          <p:nvPr/>
        </p:nvPicPr>
        <p:blipFill>
          <a:blip r:embed="rId3"/>
          <a:stretch/>
        </p:blipFill>
        <p:spPr>
          <a:xfrm>
            <a:off x="6732720" y="141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634_0"/>
          <p:cNvPicPr/>
          <p:nvPr/>
        </p:nvPicPr>
        <p:blipFill>
          <a:blip r:embed="rId4"/>
          <a:stretch/>
        </p:blipFill>
        <p:spPr>
          <a:xfrm>
            <a:off x="6732720" y="4797360"/>
            <a:ext cx="2230200" cy="2060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4:53:38Z</dcterms:created>
  <dc:creator>acer</dc:creator>
  <dc:description/>
  <dc:language>en-US</dc:language>
  <cp:lastModifiedBy>acer</cp:lastModifiedBy>
  <dcterms:modified xsi:type="dcterms:W3CDTF">2013-03-23T12:55:23Z</dcterms:modified>
  <cp:revision>47</cp:revision>
  <dc:subject/>
  <dc:title>Слайд 1</dc:title>
</cp:coreProperties>
</file>