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carbrake.wav" ContentType="audio/x-wav"/>
  <Override PartName="/ppt/media/image14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E0F-9D18-4A16-9F36-366DB873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69D-7E94-4635-9380-95205B4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4D4-F4B4-45E3-8D7F-ADBFBD1A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AC3-3EF6-41BC-891B-0805BBF7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96E-FE62-4AA3-B97B-B2661F80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B944-BF5E-4380-80BD-9BD36AA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5530-30AC-4EAB-BAA2-734A355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FA38-C44C-47C2-95D0-8603A98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10B0-0790-49CF-8337-5A5BDAC4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6DFF-F320-4731-8C4F-00907198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5193-6AAE-428E-8DFD-56D17FD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ABC-9BA9-46A5-B16D-EE4E698A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AB8F-1192-4829-A65F-7E82E04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A78-A11B-4346-AB1D-4D8A1BF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CC8-3BAC-4472-8D87-2C45EF2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5CE-0DAC-40B7-BD6C-1BFE4104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5CC1-4535-487B-B0A1-86756600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4A1-A01D-44C8-96C3-F5A03F8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881-2DD0-4DDC-876F-5E3DBCAF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593-87BB-442D-A9C6-8B906E3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A40-0786-42D7-BD26-87FFEEC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005-20B0-4968-9519-F170B44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41A-BFCC-4B00-B6ED-7CECAE7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3C0-17FC-4568-B5CE-458B7C5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F9F-BEFD-40AA-A556-DFD2836F46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99C-781E-4E5E-8B9F-4D61F8139845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auto.search.msn.com/response.asp?MT=WWW+UFMS-URAL.RU&amp;srch=3&amp;prov=&amp;utf8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Дефекты  произношения  шипящих  звуков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у детей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лительно произнести звук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, приставив широкий кончик языка  к верхним резцам, вторым будет слышаться свистящий звук.      Этим вторым звуком он «целится» себе в ладон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Затем, широко улыбнувшись, длительно произнести звук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, прикасаясь широким языком к альвеолам. Вторым звуком будет слышаться шипящий. Укажите ребенку на этот не очень отчетливый шипящий звук и скажите, что так шипит зме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ошипеть, неплотно сомкнув зубы. «Змеиное шипение» должно ложиться на ладонь горячей широкой струей. Губы должны быть в широкой, открывающей верхние и нижние резцы, улыбк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Во время длительного произнесения звука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большим и средним пальцами слегка нажмите на щеки около уголков его рта так, чтобы губы округлились рупором. От этого произношение станет совсем точны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верхнеязычного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С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слонить кончик языка к верхним резцам и произнести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Если не получится, надо начать длительно произносить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при нижнем положении языка и в это время вести языком по передним зубам, переходя с нижних на верхние и следя за тем, чтобы звучание не изменялось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Тянуть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на верхних зубах  и «ползти» кончиком языка к альвеолам, как бы «нащупывая дорогу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Губы постоянно должны находиться в улыбке, такой, чтобы были видны верхние и нижние резц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о время длительного произнесения звука «Ш» нажать большим и средним пальцами на уголки рта и слегка выдвиньте вперед его губ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гопедические  зонды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54798" t="17599" r="2910" b="64840"/>
          <a:stretch/>
        </p:blipFill>
        <p:spPr>
          <a:xfrm>
            <a:off x="755640" y="2060640"/>
            <a:ext cx="4392720" cy="12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7986" t="10998" r="52007" b="75215"/>
          <a:stretch/>
        </p:blipFill>
        <p:spPr>
          <a:xfrm>
            <a:off x="755640" y="4797360"/>
            <a:ext cx="4464000" cy="123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53874" t="45838" r="0" b="25915"/>
          <a:stretch/>
        </p:blipFill>
        <p:spPr>
          <a:xfrm>
            <a:off x="4572000" y="3284640"/>
            <a:ext cx="3887640" cy="1730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4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ИНШПУН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. М.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«Ребенок произносит несколько раз слог СА и логопед  вводит под язык зонд № 5. С его помощью переводит кончик языка в верхнее положение и регулирует степень его подъема до появления нормально звучащего звука 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Логопед фиксирует зонд в этом положении, просит ребенка вновь произнести этот же слог и вслушаться.                    После нескольких тренировок в произнесении ША                  с помощью зонда логопед фиксирует внимание ребенка на положении языка и закрепляет нужную позицию без механической помощ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бенок длительно произносит звук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 верхнем положении языка. Губы должны быть в улыбке, открывающей верхние  и нижние резцы. Между зубами должна быть небольшая щ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о время такого произношения введите в рот ребенка шпатель и, надавливая им на кончик языка, медленно продвигайте язык вглубь до тех пор, пока не послышится звук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акусив шпатель зубами, ребенок продолжает «шипе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это время округлите губы ребенка, нажав пальцами на уголки его рта. Послышится полноценный звук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Акименко В.М.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росите ребенка открыть рот и  сделать упражнение «Грибо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гопед подкладывает ребенку под язык свой большой палец в горизонтальном положении, прижимая среднюю часть языка к нёб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енок делает сильный продолжительный выдох, а логопед при этом регулирует щель за счет давления паль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ем ребенок выполняет упражнение самостоятельно, подкладывая под язык свой пал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нтер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C:\DOCUME~1\КОСТЯ\LOCALS~1\Temp\\msotw9_temp0.jpg"/>
          <p:cNvPicPr/>
          <p:nvPr/>
        </p:nvPicPr>
        <p:blipFill>
          <a:blip r:embed="rId2"/>
          <a:srcRect l="12061" t="41429" r="3077" b="4285"/>
          <a:stretch/>
        </p:blipFill>
        <p:spPr>
          <a:xfrm>
            <a:off x="762120" y="2057400"/>
            <a:ext cx="350496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~1\КОСТЯ\LOCALS~1\Temp\\msotw9_temp0.jpg"/>
          <p:cNvPicPr/>
          <p:nvPr/>
        </p:nvPicPr>
        <p:blipFill>
          <a:blip r:embed="rId3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аз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~1\КОСТЯ\LOCALS~1\Temp\\msotw9_temp0.jpg"/>
          <p:cNvPicPr/>
          <p:nvPr/>
        </p:nvPicPr>
        <p:blipFill>
          <a:blip r:embed="rId3"/>
          <a:srcRect l="12066" t="42143" r="9068" b="5713"/>
          <a:stretch/>
        </p:blipFill>
        <p:spPr>
          <a:xfrm>
            <a:off x="838080" y="2057400"/>
            <a:ext cx="335448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мичева М. Ф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Предложите ребенку при открытом рте длительно без голоса произноси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кончиком ручки чайной ложечки, поднесенной к подъязычной уздечке, останавливать вибрацию передней части языка – будет слышно шип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сле неоднократных повторений можно вызывать шипение, едва поднося ложечку к подъязычной уздеч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ем можно убрать ложечку, и сближая зубы, добиваться правильного звучания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якова М. 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Улыбаясь так, чтобы верхние и нижние резцы были открыты, ребенок длитель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износит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шепотом, совсем тихо, так чтобы язык во рту прекратил вибрирова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ложите ребенку округлить и слегка вытянуть губы вперед (рупором).         При этом послышится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Дефекты звукопроизношения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у детей с дизартрией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752400" y="1981080"/>
          <a:ext cx="7637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981080"/>
                    <a:ext cx="76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ала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30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32" descr="C:\DOCUME~1\КОСТЯ\LOCALS~1\Temp\\msotw9_temp0.jpg"/>
          <p:cNvPicPr/>
          <p:nvPr/>
        </p:nvPicPr>
        <p:blipFill>
          <a:blip r:embed="rId3"/>
          <a:srcRect l="12066" t="14286" r="11063" b="33574"/>
          <a:stretch/>
        </p:blipFill>
        <p:spPr>
          <a:xfrm>
            <a:off x="990720" y="2057400"/>
            <a:ext cx="35049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тер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тройство произношения шипящих фонем, вызванное неправильным положением языка при артикуля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я воздуха расходится от средней линии языка вправо или влево (реже в обе стороны), но всегда одина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Щёч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Язык не принимает участия в артикуля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Выдыхаемая воздушная струя «бьет» в щёки т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они раздуваются при произнесении звука 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Щёки прижимаются к коренным зубам, губы излишне  выдвигаются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Выдыхаемая струя воздуха встречает препятствие между сближенными (иногда сомкнутыми между собой) зубами и прижатыми у ним с боков уголками 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Контроль за положением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рганов артикуляции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 зеркальце кладется на нижние зубы. Зубы при этом должны быть раскрыты на ширину пальца, а верхняя губа – приподнята. Угол наклона зеркальца должен быть таким, чтобы во втором, установленном перед лицом ребенка, зеркале отражались передняя часть языка и альвеолы, верхние зубы и верхняя губ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на вдохе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893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ебенок длительно произносит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 ощущая на подставленной ко рту ладони выдыхаемую воздушную струю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тем пусть ребенок выдохнет воздух и произнесет этот же звук на коротком ВДОХЕ. Послышится звук трения о зубы «всасывающегося» внутрь воздуха. На верхних резцах должен чувствоваться холодок от «просачивающегося» возду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знося на вдохе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нужно всасывать вместе с воздухом и язык, пока он не окажется прислоненным к альвеола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тем ребенок должен, с шорохом всосав немного воздуха, этот же воздух с шорохом выдуть обратно. Послышится немного смягченный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 время произнесения звука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 выдохе предложите ребенку округлить и слегка вытянуть губы вперед (рупором). При этом послышится полноценный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Билаби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~1\КОСТЯ\LOCALS~1\Temp\\msotw9_temp0.jpg"/>
          <p:cNvPicPr/>
          <p:nvPr/>
        </p:nvPicPr>
        <p:blipFill>
          <a:blip r:embed="rId3"/>
          <a:srcRect l="13064" t="17142" r="10066" b="30000"/>
          <a:stretch/>
        </p:blipFill>
        <p:spPr>
          <a:xfrm>
            <a:off x="838080" y="2057400"/>
            <a:ext cx="34830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би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~1\КОСТЯ\LOCALS~1\Temp\\msotw9_temp0.jpg"/>
          <p:cNvPicPr/>
          <p:nvPr/>
        </p:nvPicPr>
        <p:blipFill>
          <a:blip r:embed="rId3"/>
          <a:srcRect l="16975" t="42857" r="5161" b="2142"/>
          <a:stretch/>
        </p:blipFill>
        <p:spPr>
          <a:xfrm>
            <a:off x="914400" y="198108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био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~1\КОСТЯ\LOCALS~1\Temp\\msotw9_temp0.jpg"/>
          <p:cNvPicPr/>
          <p:nvPr/>
        </p:nvPicPr>
        <p:blipFill>
          <a:blip r:embed="rId3"/>
          <a:srcRect l="16057" t="12857" r="7073" b="34288"/>
          <a:stretch/>
        </p:blipFill>
        <p:spPr>
          <a:xfrm>
            <a:off x="985680" y="2057400"/>
            <a:ext cx="343080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DOCUME~1\КОСТЯ\LOCALS~1\Temp\\msotw9_temp0.jpg"/>
          <p:cNvPicPr/>
          <p:nvPr/>
        </p:nvPicPr>
        <p:blipFill>
          <a:blip r:embed="rId3"/>
          <a:srcRect l="16057" t="46431" r="7073" b="1428"/>
          <a:stretch/>
        </p:blipFill>
        <p:spPr>
          <a:xfrm>
            <a:off x="990720" y="2057400"/>
            <a:ext cx="325908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д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DOCUME~1\КОСТЯ\LOCALS~1\Temp\\msotw9_temp0.jpg">
            <a:hlinkClick r:id="rId3"/>
          </p:cNvPr>
          <p:cNvPicPr/>
          <p:nvPr/>
        </p:nvPicPr>
        <p:blipFill>
          <a:blip r:embed="rId4"/>
          <a:srcRect l="15059" t="13572" r="7073" b="33574"/>
          <a:stretch/>
        </p:blipFill>
        <p:spPr>
          <a:xfrm>
            <a:off x="1066680" y="2057400"/>
            <a:ext cx="344196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тсутствие  звука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шлак? Где лак? Где лак? Где шлак?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жи то, что я назову: тучка, тучка, штучка, туч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жи рамы, шрамы, рамы, шрамы, шрамы…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C:\DOCUME~1\КОСТЯ\LOCALS~1\Temp\\msotw9_temp0.jpg"/>
          <p:cNvPicPr/>
          <p:nvPr/>
        </p:nvPicPr>
        <p:blipFill>
          <a:blip r:embed="rId2"/>
          <a:srcRect l="3077" t="1852" r="3077" b="0"/>
          <a:stretch/>
        </p:blipFill>
        <p:spPr>
          <a:xfrm>
            <a:off x="5867280" y="1828800"/>
            <a:ext cx="291960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ести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последующим протяжным выдохом. Должна ощущаться теплая струя воздуха на поднесенной ко рту кисти р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ся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ем от мягкого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ставить твердый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бенок произносит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сё медленнее и медленнее и  одновременно переводить кончик языка в положение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поднимать за альвеол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Шипящи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DOCUME~1\КОСТЯ\LOCALS~1\Temp\\msotw9_temp0.jpg"/>
          <p:cNvPicPr/>
          <p:nvPr/>
        </p:nvPicPr>
        <p:blipFill>
          <a:blip r:embed="rId3"/>
          <a:srcRect l="12066" t="14286" r="10066" b="33574"/>
          <a:stretch/>
        </p:blipFill>
        <p:spPr>
          <a:xfrm>
            <a:off x="990720" y="2057400"/>
            <a:ext cx="347328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правление  произношени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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е: включать в упражнения, развивающие навыки подъема языка вверх («Качели», «Грибок», «Лошадка» и т.п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ка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следует произносить протяжно , продвигая при этом кончик языка вверх к нёбу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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е: вначале надо научить ребенка расслаблять язык и удерживать его на нижней губе («Накажем язычок», «Широкий язычок»), а затем  осваивать подъем языка ввер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ук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есообразнее ставить от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с механической помощ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вистящи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тройство произнош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котором наблюда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резмерно острое образование шипящих фонем с появле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стящего призв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05560" y="1980720"/>
            <a:ext cx="152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914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при аномалиях  строения артикуляционных органов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852640"/>
            <a:ext cx="86421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 ВЫСОКОМ  НЕБЕ,  а также при  ПРОГНАТИИ   лучше всего ставить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 от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способом «на вдохе».                                        Для улучшения произношения звука кончик языка следует прислонять ближе к верхним резцам (у их оснований), чем обыч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914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при аномалиях  строения артикуляционных органов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64216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ТСУТСТВИИ ВЕРХНИХ  ЗУБОВ  можно поставить временное произношение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ри этом кончик языка будет  подниматься выше, чем обычно.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удет излишне жестким. При появлении верхних зубов звукопроизношение необходимо будет подкорректиро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ИСПРАВЛЕНИЕ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но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ука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C:\DOCUME~1\КОСТЯ\LOCALS~1\Temp\\msotw9_temp0.jpg"/>
          <p:cNvPicPr/>
          <p:nvPr/>
        </p:nvPicPr>
        <p:blipFill>
          <a:blip r:embed="rId2"/>
          <a:srcRect l="9068" t="14286" r="13064" b="32859"/>
          <a:stretch/>
        </p:blipFill>
        <p:spPr>
          <a:xfrm>
            <a:off x="4648320" y="1981080"/>
            <a:ext cx="3809880" cy="409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асто появляется в речи ребенка автоматически после постановки звуко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ывая взаимосвязь в движениях языка и губ можно предложить ребенку при длительном произнесении зву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астянуть губы в улыбку, при этом язык передвигается и слышится мягк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росите ребенка произнести  звук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тяжно и обратить внимание на то, какой шипящий звук он слышит. Расщепление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отделение взрывного элемента, от фрикативного, как правило, не вызывает затруд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ртикуляционные упражнени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Блинчик»         «Вкусно»          «Чашечка»       «Рупор»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C:\DOCUME~1\КОСТЯ\LOCALS~1\Temp\\msotw9_temp0.jpg"/>
          <p:cNvPicPr/>
          <p:nvPr/>
        </p:nvPicPr>
        <p:blipFill>
          <a:blip r:embed="rId2"/>
          <a:srcRect l="68525" t="73357" r="12462" b="6761"/>
          <a:stretch/>
        </p:blipFill>
        <p:spPr>
          <a:xfrm>
            <a:off x="152280" y="2514600"/>
            <a:ext cx="198144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~1\КОСТЯ\LOCALS~1\Temp\\msotw9_temp0.jpg"/>
          <p:cNvPicPr/>
          <p:nvPr/>
        </p:nvPicPr>
        <p:blipFill>
          <a:blip r:embed="rId3"/>
          <a:srcRect l="40678" t="71452" r="36594" b="5713"/>
          <a:stretch/>
        </p:blipFill>
        <p:spPr>
          <a:xfrm>
            <a:off x="2286000" y="2514600"/>
            <a:ext cx="2062080" cy="28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~1\КОСТЯ\LOCALS~1\Temp\\msotw9_temp0.jpg"/>
          <p:cNvPicPr/>
          <p:nvPr/>
        </p:nvPicPr>
        <p:blipFill>
          <a:blip r:embed="rId4"/>
          <a:srcRect l="36300" t="36407" r="46091" b="46244"/>
          <a:stretch/>
        </p:blipFill>
        <p:spPr>
          <a:xfrm>
            <a:off x="4572000" y="2514600"/>
            <a:ext cx="210168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~1\КОСТЯ\LOCALS~1\Temp\\msotw9_temp0.jpg"/>
          <p:cNvPicPr/>
          <p:nvPr/>
        </p:nvPicPr>
        <p:blipFill>
          <a:blip r:embed="rId5"/>
          <a:srcRect l="68689" t="4285" r="8070" b="73664"/>
          <a:stretch/>
        </p:blipFill>
        <p:spPr>
          <a:xfrm>
            <a:off x="6858000" y="2514600"/>
            <a:ext cx="218268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 аналогии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ок вслед за вами должен произнести пары переднеязычных звуков, отличающихся между собой по признаку  твердости – мягк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  Затем называйте первый твердый звук, а ребенок должен назвать парный мягкий.   После этого назовите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сразу произнесите его мягк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усть ребенок повторит это за вами. Предложите ребенку подобрать мягкую пару к зву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мягких согласных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ите ребенку длительно произнести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, переходя на тихое, шепотное его звуч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жно  поставить с механической помощ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ИСПРАВЛЕНИЕ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но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ука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C:\DOCUME~1\КОСТЯ\LOCALS~1\Temp\\msotw9_temp0.jpg"/>
          <p:cNvPicPr/>
          <p:nvPr/>
        </p:nvPicPr>
        <p:blipFill>
          <a:blip r:embed="rId2"/>
          <a:srcRect l="11063" t="15714" r="12066" b="32145"/>
          <a:stretch/>
        </p:blipFill>
        <p:spPr>
          <a:xfrm>
            <a:off x="4800600" y="2057400"/>
            <a:ext cx="3948120" cy="412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«Цоканье»  и  «щоканье»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в   диалектах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133720"/>
            <a:ext cx="331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злич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в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ли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в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на звука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м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Щ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3429000"/>
            <a:ext cx="503280" cy="216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508640"/>
            <a:ext cx="50328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53917" t="61315" r="43426" b="37072"/>
          <a:stretch/>
        </p:blipFill>
        <p:spPr>
          <a:xfrm>
            <a:off x="611280" y="5589720"/>
            <a:ext cx="457200" cy="22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41043" t="27166" r="26743" b="31381"/>
          <a:stretch/>
        </p:blipFill>
        <p:spPr>
          <a:xfrm>
            <a:off x="4361040" y="1916280"/>
            <a:ext cx="4243320" cy="4465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мичева М.Ф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Ребенок по показу логопеда многократно произносит зву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i="1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отодвигая кончик языка дальше вглубь от верхних резцов. Губы при этом округляются и слегка вытягиваются вперед. Получается звук близкий 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i="1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Можно сказать, что так стрекочет кузне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Он высоко прыгает в траве, так же, как твой язычок за верхними зубами. Слышишь, Ч – прыгнул, Ч – прыгну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При многократном произнесении ребенком  слога ТИ нажимать большим и указательным пальцами на щеки, прижимая их к коренным зубам. Будет слышаться Ч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иншпун Б. 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Когда логопед  в процессе многократного произнесения ребенком прямого слога 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ли обратного слога АТь, приподнимает его язык зондом № 5 (или шпателем) и одновременно отодвигает его наза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метода отмечает, что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легче вызывается в обратных слог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пособы постановки звука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 подраж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артикуляционных упра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опор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 механической помощ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 показу артикуляции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ебенок должен открыть рот, «сделать чашечку» языком     и прислонить «ее край» (широкий кончик языка) к верхним резцам   и подуть на «край чашечки», чтобы остудить «налитый в нее чай». Выдох должен ощущаться на приставленной ко рту ладон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том «чашечку» нужно будет занести в рот так, чтобы «не расплескать чай».  «Край чашечки» при этом должен не отрываясь скользить сначала по внутренней стороне верхних резцов, потом по небу до альвеол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это время ребенок должен продолжать дуть. Нечеткий свист  заменится н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затем послышится зву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это ребенок должен выполнять по вашему  БЕЗЗВУЧНОМУ  показ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гда ребенок научится «заносить чашечку» в рот и произносить зву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обратите его внимание на этот звук и скажите, что так шипит зме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орные  звук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рными для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являются 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динаковые по месту образования -  переднеязы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динаковые по способу образования – щеле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вина Р.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Ребенку необходимо  губы округлить    и вытянуть вперед. Боковые края языка прижать к верхним коренным зубам.  Это переход от звука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 звуку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-Т-ТШШ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  В дальнейшем шум удлиняется и освобождается от предшествующего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омичева М.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Предложите ребенку при открытом рте в медленном темпе 4 – 5 раз с придыханием произнести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ударяя кончиком языка в бугорочки за верхними зубами. Затем, постепенно удлиняя выдыхаемую струю, уже не ударять в бугорочки, а только поднимать к ним кончик язы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53:21Z</dcterms:created>
  <dc:creator>Костя</dc:creator>
  <dc:description/>
  <dc:language>en-US</dc:language>
  <cp:lastModifiedBy>1</cp:lastModifiedBy>
  <dcterms:modified xsi:type="dcterms:W3CDTF">2009-10-31T13:32:22Z</dcterms:modified>
  <cp:revision>25</cp:revision>
  <dc:subject/>
  <dc:title>Дефекты звукопроизношения  у детей с дизартрией</dc:title>
</cp:coreProperties>
</file>