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B0FF-B78A-4AE5-8A93-D4AC3CAE27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57C2-D82E-4ACB-9E3B-804D4C38AE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0A8F-73E3-4A38-9F56-E4322184D1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0D7D-9903-4BD7-9C84-78D5E1925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E718-AA84-4B6E-B7FD-D58B64859A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542F-EE14-49A8-BB0B-4AAD248312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774E-E7DF-40DC-AAD1-95751CEE6C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62D-B934-438A-8522-2985758E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2BF-5C24-45F5-B316-E117D5AD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4F8-B9C7-4D00-A77E-9CC7F2B7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55A-DF1D-4A99-8682-2930FAF1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49AE-7E65-4D7D-9920-C202B1B7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8667-30DC-4763-8C74-68B0C9E0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3884-7F3D-4290-A013-BD6A8549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4891-A221-4FCB-BF78-870C83B6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8AD7-A033-4A18-A29B-D81EDA27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B4A7-73A8-4324-B385-11206CE4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574D-AB73-49B0-B890-BFEE3A8C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CEF-B3B4-4116-AAC9-0666835F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3A2A-CBA4-43E4-86C7-418AFE77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8DF1-25C9-49F8-B9DA-FDF14A0B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5D27-9C72-4087-9D60-E47E281E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1F98-67D5-4883-A6C9-6390F56B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C7C7-FDC0-46A9-ABA0-F6866B53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3F0-CA62-4309-BECD-AF3A7092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0BF-546A-41E6-A094-999014A5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FE6-B515-4DEA-B291-99B35184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18F-5AEB-4742-826D-2B9A1664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5A5-D0DD-46D6-BBBE-7838A387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A14-DAEB-48D0-9BF7-CF8C6FCC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A24-8EB8-4715-9B12-F4E3A444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97C5-4C80-4692-ACA6-54A90157C1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68DB-CF72-449F-B487-A312B05E827F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8800" y="1928880"/>
            <a:ext cx="741672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ordbuilding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85560" y="3357720"/>
            <a:ext cx="4032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словообразовани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24000" y="404640"/>
          <a:ext cx="8495640" cy="5688000"/>
        </p:xfrm>
        <a:graphic>
          <a:graphicData uri="http://schemas.openxmlformats.org/drawingml/2006/table">
            <a:tbl>
              <a:tblPr/>
              <a:tblGrid>
                <a:gridCol w="2340360"/>
                <a:gridCol w="684000"/>
                <a:gridCol w="1778400"/>
                <a:gridCol w="1496880"/>
                <a:gridCol w="1101960"/>
                <a:gridCol w="1094040"/>
              </a:tblGrid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47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47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form from 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ew w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r ex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peful, useful, beauti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ризн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nder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,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ertisement, arrange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ficulty,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less, painl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able, 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iously, quick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08960" y="6236280"/>
            <a:ext cx="67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part, soft, breath, accommodate, access, orig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ahoma"/>
              </a:rPr>
              <a:t>Задание №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ahoma"/>
              </a:rPr>
              <a:t>2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ahoma"/>
              </a:rPr>
              <a:t>.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Tahoma"/>
              </a:rPr>
              <a:t>Преобразуйте слова, напечатанные заглавными буквами так, чтобы они грамматически и лексически  соответствовали содержанию текста. Затем проверьте себя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EF3E44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2"/>
          <p:cNvSpPr/>
          <p:nvPr/>
        </p:nvSpPr>
        <p:spPr>
          <a:xfrm>
            <a:off x="6516720" y="4941720"/>
            <a:ext cx="215892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Read the words and divide them into 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8065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for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i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i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pp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der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7103520" y="52293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Adverb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6516720" y="2133720"/>
            <a:ext cx="215892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djecti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6516720" y="3500280"/>
            <a:ext cx="215892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u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3564000" y="1844640"/>
            <a:ext cx="280656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i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fort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iou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it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ppi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der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8240" y="334440"/>
            <a:ext cx="6689880" cy="11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What are the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2000" y="2063880"/>
            <a:ext cx="76248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ou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(t)ion, -ssion, -ty, -ment, -ness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djectiv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 able, -ive, -(c)al, -ful, -les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Adverb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Tahoma"/>
              </a:rPr>
              <a:t>Образование существительных  от  глаголов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32d2e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c32d2e"/>
                </a:solidFill>
                <a:latin typeface="Gill Sans MT"/>
              </a:rPr>
              <a:t>ment, </a:t>
            </a:r>
            <a:r>
              <a:rPr b="1" lang="en-US" sz="3200" spc="-1" strike="noStrike">
                <a:solidFill>
                  <a:srgbClr val="c32d2e"/>
                </a:solidFill>
                <a:latin typeface="Gill Sans MT"/>
              </a:rPr>
              <a:t>- ion (-ation, -tion, -sion, -ssion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0280" indent="-271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упок, действие, результат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achieve – achieve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men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стижени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argue – argu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ment</a:t>
            </a: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(спор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form – form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ati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collect – collec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обрани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include – inclu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s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ключени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discuss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уждени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transmit – transmi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ss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передач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Образование существительных  от  прилагательных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- ness, -ty (-ity, -ability, ibility)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состояние, качество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ive – activ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ity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аняти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fe - safe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t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безопасност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ppy – happi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ness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частье)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ecial - special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t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собенност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ind – kind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ness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брот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Tahoma"/>
              </a:rPr>
              <a:t>Образование прилагательных от существительных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32d2e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c32d2e"/>
                </a:solidFill>
                <a:latin typeface="Gill Sans MT"/>
              </a:rPr>
              <a:t>ful, -less</a:t>
            </a:r>
            <a:r>
              <a:rPr b="1" lang="ru-RU" sz="3000" spc="-1" strike="noStrike">
                <a:solidFill>
                  <a:srgbClr val="c32d2e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наличие или отсутствие признак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are –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are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less</a:t>
            </a: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ful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аккуратный/аккуратны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se –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se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less</a:t>
            </a: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ful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полезный/полезны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9120" y="380520"/>
            <a:ext cx="7792920" cy="116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Tahoma"/>
              </a:rPr>
              <a:t>Образование прилагательных от глаголов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2174400"/>
            <a:ext cx="84978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-able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-</a:t>
            </a:r>
            <a:r>
              <a:rPr b="1" lang="en-US" sz="2800" spc="-1" strike="noStrike">
                <a:solidFill>
                  <a:srgbClr val="c32d2e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ible</a:t>
            </a:r>
            <a:r>
              <a:rPr b="1" lang="en-US" sz="2800" spc="-1" strike="noStrike">
                <a:solidFill>
                  <a:srgbClr val="c32d2e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зможность подвергнуться действию, выраженному соответствующим глаголом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accept –</a:t>
            </a:r>
            <a:r>
              <a:rPr b="0" lang="en-US" sz="28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cept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ab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риемлемы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change –</a:t>
            </a:r>
            <a:r>
              <a:rPr b="0" lang="en-US" sz="28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ge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abl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изменчивы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convert –</a:t>
            </a:r>
            <a:r>
              <a:rPr b="0" lang="en-US" sz="28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vert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ibl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братимы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compare –</a:t>
            </a:r>
            <a:r>
              <a:rPr b="0" lang="en-US" sz="28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ar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ab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сравнимы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Form the new word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using a diction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27003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educate (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le (adj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y (adj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olve (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know (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(adj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nage (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9280" y="198900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бучени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способност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дело, бизнес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решени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edge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знан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эффективно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управлени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276720" y="28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32000" y="2060640"/>
            <a:ext cx="1441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d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27672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3276720" y="234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05928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327672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3348000" y="4365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3348000" y="38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ahoma"/>
              </a:rPr>
              <a:t>Задание №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ahoma"/>
              </a:rPr>
              <a:t>Обозначь суффиксы в слова</a:t>
            </a:r>
            <a:r>
              <a:rPr b="1" i="1" lang="en-US" sz="3200" spc="-1" strike="noStrike">
                <a:solidFill>
                  <a:srgbClr val="c00000"/>
                </a:solidFill>
                <a:latin typeface="Tahoma"/>
              </a:rPr>
              <a:t>x</a:t>
            </a:r>
            <a:r>
              <a:rPr b="1" i="1" lang="ru-RU" sz="3200" spc="-1" strike="noStrike">
                <a:solidFill>
                  <a:srgbClr val="c00000"/>
                </a:solidFill>
                <a:latin typeface="Tahoma"/>
              </a:rPr>
              <a:t>, приведённых в таблице. Что означают эти суффиксы? Добавь свои пример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5:33:42Z</dcterms:created>
  <dc:creator>Юлия</dc:creator>
  <dc:description/>
  <dc:language>en-US</dc:language>
  <cp:lastModifiedBy>Юлия</cp:lastModifiedBy>
  <dcterms:modified xsi:type="dcterms:W3CDTF">2010-03-30T16:14:41Z</dcterms:modified>
  <cp:revision>8</cp:revision>
  <dc:subject/>
  <dc:title>Wordbuilding</dc:title>
</cp:coreProperties>
</file>