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FECD-B909-455D-8468-33FC8DC47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931D-CC8C-4B96-BCE4-D05057410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A7BD-B315-4785-A200-4B8E90E55C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517A-7089-44F8-A701-537F8A099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2270-05B6-46E3-A9B3-4D90EBF596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37B6-1554-41FA-9083-E9D65F9B2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436D-A24A-45F6-9BC8-36A22DCF95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134-1825-4C8A-926C-B408D451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FAE-4A7D-406E-AE7C-7FAAC1CF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205-4C43-4F70-A1E9-C9437B84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715-C516-4733-AF10-DDDAD909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6A1F-7CAB-43BD-8870-C0E62973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4EDE-06CB-4AB1-B1BB-AD07F634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B5F2-8892-4278-8902-C3FA093E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B3A2-8306-4B7A-9E2D-AC0F9C41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0F6D-7CCE-48B2-8EBC-17134C34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1F81-39B5-43C8-AC18-91940E10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6454-E3C3-4BF4-9BC5-08573E00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DF4-4C0E-483F-B338-CD4F1DDC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B18C-D40D-481A-A16D-D107C728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4601-958B-40F0-98F0-01AC523D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195A-4EDC-4DFC-8F37-414211F3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36EC-38BD-4651-810C-33BD1C2C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8AEE-FC43-4ABE-9B67-ACBC93AD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F3D-C484-4A27-9803-CD13145B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59C-F669-432C-8D3C-945E7659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172-19CA-4F2A-A33B-6B134B8E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D5A-D76E-4C16-83D8-A24167E1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460-413F-4896-9E5D-D46A3D1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E54-2F05-4833-8461-FE2E995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74E-72EE-4800-884D-B35F6569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02D8-28D3-4F75-81D0-E43603CCFA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F9EC-E501-4B77-8A61-4EB26904D23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8800" y="1928880"/>
            <a:ext cx="741672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ordbuilding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85560" y="3357720"/>
            <a:ext cx="4032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словообразован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24000" y="404640"/>
          <a:ext cx="8495640" cy="5688000"/>
        </p:xfrm>
        <a:graphic>
          <a:graphicData uri="http://schemas.openxmlformats.org/drawingml/2006/table">
            <a:tbl>
              <a:tblPr/>
              <a:tblGrid>
                <a:gridCol w="2340360"/>
                <a:gridCol w="684000"/>
                <a:gridCol w="1778400"/>
                <a:gridCol w="1496880"/>
                <a:gridCol w="1101960"/>
                <a:gridCol w="1094040"/>
              </a:tblGrid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47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47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form from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ew w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r 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peful, useful, beauti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ризн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nder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,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tisement, arrang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iculty,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less, painl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able, 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iously, quick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08960" y="6236280"/>
            <a:ext cx="67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part, soft, breath, accommodate, access, orig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ahoma"/>
              </a:rPr>
              <a:t>Задание №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ahoma"/>
              </a:rPr>
              <a:t>2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ahoma"/>
              </a:rPr>
              <a:t>.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Преобразуйте слова, напечатанные заглавными буквами так, чтобы они грамматически и лексически  соответствовали содержанию текста. Затем проверьте себя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EF3E44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2"/>
          <p:cNvSpPr/>
          <p:nvPr/>
        </p:nvSpPr>
        <p:spPr>
          <a:xfrm>
            <a:off x="6516720" y="4941720"/>
            <a:ext cx="215892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Read the words and divide them into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806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for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i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pp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der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7103520" y="5229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dverb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6516720" y="2133720"/>
            <a:ext cx="215892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djecti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516720" y="3500280"/>
            <a:ext cx="215892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u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564000" y="1844640"/>
            <a:ext cx="280656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i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fort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ou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it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ppi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d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8240" y="334440"/>
            <a:ext cx="6689880" cy="11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What are the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2063880"/>
            <a:ext cx="76248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ou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(t)ion, -ssion, -ty, -ment, -ness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djectiv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 able, -ive, -(c)al, -ful, -le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Adverb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ahoma"/>
              </a:rPr>
              <a:t>Образование существительных  от  глаголов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c32d2e"/>
                </a:solidFill>
                <a:latin typeface="Gill Sans MT"/>
              </a:rPr>
              <a:t>ment, </a:t>
            </a:r>
            <a:r>
              <a:rPr b="1" lang="en-US" sz="3200" spc="-1" strike="noStrike">
                <a:solidFill>
                  <a:srgbClr val="c32d2e"/>
                </a:solidFill>
                <a:latin typeface="Gill Sans MT"/>
              </a:rPr>
              <a:t>- ion (-ation, -tion, -sion, -ssion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упок, действие, результат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achieve – achieve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men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стиже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argue – argu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ment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(спор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form – form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a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collect – collec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брани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include – inclu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s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ключени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discuss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ждени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280" indent="-27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transmit – transmi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ss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передач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Образование существительных  от  прилагательных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- ness, -ty (-ity, -ability, ibility)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состояние, качеств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e – activ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ity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анят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fe - safe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t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безопасност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ppy – happi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ness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частье)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cial - special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t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собенност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ind – kind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ness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брот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ahoma"/>
              </a:rPr>
              <a:t>Образование прилагательных от существительных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c32d2e"/>
                </a:solidFill>
                <a:latin typeface="Gill Sans MT"/>
              </a:rPr>
              <a:t>ful, -less</a:t>
            </a:r>
            <a:r>
              <a:rPr b="1" lang="ru-RU" sz="3000" spc="-1" strike="noStrike">
                <a:solidFill>
                  <a:srgbClr val="c32d2e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наличие или отсутствие призна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are –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are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less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ful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аккуратный/аккуратн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se –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se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less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c32d2e"/>
                </a:solidFill>
                <a:latin typeface="Gill Sans MT"/>
              </a:rPr>
              <a:t>ful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полезный/полезн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9120" y="380520"/>
            <a:ext cx="7792920" cy="116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ahoma"/>
              </a:rPr>
              <a:t>Образование прилагательных от глаголов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2174400"/>
            <a:ext cx="8497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-able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-</a:t>
            </a:r>
            <a:r>
              <a:rPr b="1" lang="en-US" sz="2800" spc="-1" strike="noStrike">
                <a:solidFill>
                  <a:srgbClr val="c32d2e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ible</a:t>
            </a:r>
            <a:r>
              <a:rPr b="1" lang="en-US" sz="2800" spc="-1" strike="noStrike">
                <a:solidFill>
                  <a:srgbClr val="c32d2e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можность подвергнуться действию, выраженному соответствующим глаголом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accept –</a:t>
            </a:r>
            <a:r>
              <a:rPr b="0" lang="en-US" sz="2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cept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ab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риемлем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change –</a:t>
            </a:r>
            <a:r>
              <a:rPr b="0" lang="en-US" sz="2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ge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abl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менчив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convert –</a:t>
            </a:r>
            <a:r>
              <a:rPr b="0" lang="en-US" sz="2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rt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ibl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братим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compare –</a:t>
            </a:r>
            <a:r>
              <a:rPr b="0" lang="en-US" sz="2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ab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сравним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Form the new word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using a diction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27003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ducate (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le (adj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y (adj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olve (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know (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(adj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nage (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9280" y="198900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буче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способност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дело, бизнес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реше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edge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знан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эффективн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управле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276720" y="28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32000" y="2060640"/>
            <a:ext cx="1441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d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27672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3276720" y="234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059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327672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3348000" y="4365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3348000" y="38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ahoma"/>
              </a:rPr>
              <a:t>Задание №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Обозначь суффиксы в слова</a:t>
            </a:r>
            <a:r>
              <a:rPr b="1" i="1" lang="en-US" sz="3200" spc="-1" strike="noStrike">
                <a:solidFill>
                  <a:srgbClr val="c00000"/>
                </a:solidFill>
                <a:latin typeface="Tahoma"/>
              </a:rPr>
              <a:t>x</a:t>
            </a: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, приведённых в таблице. Что означают эти суффиксы? Добавь свои приме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5:33:42Z</dcterms:created>
  <dc:creator>Юлия</dc:creator>
  <dc:description/>
  <dc:language>en-US</dc:language>
  <cp:lastModifiedBy>Юлия</cp:lastModifiedBy>
  <dcterms:modified xsi:type="dcterms:W3CDTF">2010-03-30T16:14:41Z</dcterms:modified>
  <cp:revision>8</cp:revision>
  <dc:subject/>
  <dc:title>Wordbuilding</dc:title>
</cp:coreProperties>
</file>