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9EB-8324-475F-8BC0-ADF7C915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4E4-5D77-4928-8D6E-7D2F4ED4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530-40F5-4C1A-A648-7B81D7B7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2D2-9A6A-4193-A26A-0525596D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EF0C-D773-41C5-B526-7A074D21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9C65-EEA0-4E6D-8D82-EBD7718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623-F592-4070-8280-1BEAB57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BC1A-5F2C-4B7C-9D71-36A91CC5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BAB8-AE9B-4F96-962C-78B9F591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9EF-78AB-457F-A035-20565BFE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2965-96C6-4504-9523-D88F45E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00F-7F0A-41BD-B55C-6283F1BC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16C0-07D7-4C99-8B23-D708B74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37A-7106-4240-8F91-F0384BC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7D9-DDC5-44B9-8B99-ECC304E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E578-1D61-4047-BA8E-B5AD5A6D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43C-CD31-4668-BE25-41BD0DB7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858-71AC-4427-B7C7-0E66487A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8ED-DC3A-4BCE-A3AC-B52D0746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E91-8018-4C7B-A0D1-5195909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FF1-3CA8-4F99-AABE-EE521D7C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63B-D92C-4356-B4DB-C030249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4EB-0997-4A5A-B34C-332CD65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2DD-2FFE-43A1-8434-583BB26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6465-33B9-4075-99B4-AF438DED9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44F6-B6BB-4DFC-B9D1-D88510F15D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5170680" cy="450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4076640"/>
            <a:ext cx="5327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Состав чисел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ервого десятка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257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225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0079a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3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4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25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1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7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225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2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5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8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9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1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257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9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2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8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25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6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9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2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8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25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8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3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4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5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6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9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2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7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8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9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61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25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9:41:11Z</dcterms:created>
  <dc:creator>Comp</dc:creator>
  <dc:description/>
  <dc:language>en-US</dc:language>
  <cp:lastModifiedBy>Comp</cp:lastModifiedBy>
  <dcterms:modified xsi:type="dcterms:W3CDTF">2013-02-24T19:43:20Z</dcterms:modified>
  <cp:revision>2</cp:revision>
  <dc:subject/>
  <dc:title>Слайд 1</dc:title>
</cp:coreProperties>
</file>