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A48-3610-47E6-9124-84B4D3E4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F9E-2AA2-40E8-B8EA-BAEB5756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C22-11FB-466F-9BB5-2C8EB58D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61D-F121-4562-94D3-763F6134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A4C8-B541-415F-BFA2-66BB4A32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C53-0C42-48BC-A1E4-08C0D70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11D5-B177-4907-8314-691EEFD4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73BE-E435-424B-A1B8-E6F9C326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695-EB11-4923-84E2-DAD27472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082C-9790-4338-8EEF-8B02709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422-3936-4E2F-80BD-65141DD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0A0-56CC-44D9-8068-803D50E4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7C83-D9EC-4226-8830-7068FF2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83B3-1665-4335-BFB1-0E70D19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7EE0-2CC8-4E0E-9739-7821E844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7E6-FC5D-486E-AC3C-953ED8A8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7C1-1672-44E1-BB8C-03A03B95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857-3EA2-4D60-BA41-CC7121B1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5B1-78CE-4540-9C91-832877B8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0DF-97A8-403B-9BAE-BF9881C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742-F4BD-46B6-AC06-34BFAF75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7DA-BFF3-433F-9269-2C03D53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F9F-CABB-4902-A18B-A191B948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5ED-66A1-47A8-80AC-651ED829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C22-D4C1-42C6-8798-CB84335D5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CA00-6856-4D6B-9839-F9FEAC2B59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5170680" cy="450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4076640"/>
            <a:ext cx="5327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Состав чисел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ервого десятка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257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225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0079a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3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4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25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1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7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225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2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5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8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9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1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257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9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2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8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25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6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9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2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8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25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8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3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4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5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6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9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2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7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8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9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61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25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9:41:11Z</dcterms:created>
  <dc:creator>Comp</dc:creator>
  <dc:description/>
  <dc:language>en-US</dc:language>
  <cp:lastModifiedBy>Comp</cp:lastModifiedBy>
  <dcterms:modified xsi:type="dcterms:W3CDTF">2013-02-24T19:43:20Z</dcterms:modified>
  <cp:revision>2</cp:revision>
  <dc:subject/>
  <dc:title>Слайд 1</dc:title>
</cp:coreProperties>
</file>