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%D0%B7%D0%B2%D0%BE%D0%BD%D0%BE%D0%BA%20-%201.wav" ContentType="audio/x-wav"/>
  <Override PartName="/ppt/media/image18.png" ContentType="image/png"/>
  <Override PartName="/ppt/media/image20.png" ContentType="image/png"/>
  <Override PartName="/ppt/media/%D0%97%D0%B2%D0%BE%D0%BD%D0%BE%D0%BA.wav" ContentType="audio/x-wav"/>
  <Override PartName="/ppt/media/image24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8926-5551-4562-9B98-75BDE1265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996D-ADCB-4E1C-B655-1910FF5E4E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AFEC-2D33-49BA-AB0B-5B5B657545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18E-0A5B-4D78-A554-F313C62C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223-E428-45E3-9B90-73B40F11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D25-BDB8-46AB-B303-8761D7ED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A17-6F00-4FE8-9361-99B85E27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545-C8CD-45D3-B132-CB7A2855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F5E-45B8-40FD-8B65-61D6F32D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BF0-A32D-40F3-B3FA-43B6C9BE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42F-D56F-49C5-B51C-79BFF87E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E73-2C44-4820-9C44-8EC740CF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BA5-B1A7-47FD-A274-9E6188BF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A52-8890-4514-9150-895B2F59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B7B-9C95-4801-828C-132755ED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8FC9-1E28-4FCF-9861-3A942CCE1E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audio" Target="../media/&#1047;&#1074;&#1086;&#1085;&#1086;&#1082;.wav"/><Relationship Id="rId9" Type="http://schemas.openxmlformats.org/officeDocument/2006/relationships/audio" Target="../media/&#1047;&#1074;&#1086;&#1085;&#1086;&#1082;.wav"/><Relationship Id="rId10" Type="http://schemas.openxmlformats.org/officeDocument/2006/relationships/audio" Target="../media/&#1079;&#1074;&#1086;&#1085;&#1086;&#1082;%20-%201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audio" Target="../media/&#1047;&#1074;&#1086;&#1085;&#1086;&#1082;.wav"/><Relationship Id="rId9" Type="http://schemas.openxmlformats.org/officeDocument/2006/relationships/audio" Target="../media/&#1047;&#1074;&#1086;&#1085;&#1086;&#1082;.wav"/><Relationship Id="rId10" Type="http://schemas.openxmlformats.org/officeDocument/2006/relationships/audio" Target="../media/&#1047;&#1074;&#1086;&#1085;&#1086;&#1082;.wav"/><Relationship Id="rId11" Type="http://schemas.openxmlformats.org/officeDocument/2006/relationships/audio" Target="../media/&#1079;&#1074;&#1086;&#1085;&#1086;&#1082;%20-%201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audio" Target="../media/&#1047;&#1074;&#1086;&#1085;&#1086;&#1082;.wav"/><Relationship Id="rId10" Type="http://schemas.openxmlformats.org/officeDocument/2006/relationships/audio" Target="../media/&#1047;&#1074;&#1086;&#1085;&#1086;&#1082;.wav"/><Relationship Id="rId11" Type="http://schemas.openxmlformats.org/officeDocument/2006/relationships/audio" Target="../media/&#1047;&#1074;&#1086;&#1085;&#1086;&#1082;.wav"/><Relationship Id="rId12" Type="http://schemas.openxmlformats.org/officeDocument/2006/relationships/audio" Target="../media/&#1079;&#1074;&#1086;&#1085;&#1086;&#1082;%20-%201.wav"/><Relationship Id="rId13" Type="http://schemas.openxmlformats.org/officeDocument/2006/relationships/audio" Target="../media/&#1079;&#1074;&#1086;&#1085;&#1086;&#1082;%20-%201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audio" Target="../media/&#1047;&#1074;&#1086;&#1085;&#1086;&#1082;.wav"/><Relationship Id="rId11" Type="http://schemas.openxmlformats.org/officeDocument/2006/relationships/audio" Target="../media/&#1047;&#1074;&#1086;&#1085;&#1086;&#1082;.wav"/><Relationship Id="rId12" Type="http://schemas.openxmlformats.org/officeDocument/2006/relationships/audio" Target="../media/&#1047;&#1074;&#1086;&#1085;&#1086;&#1082;.wav"/><Relationship Id="rId13" Type="http://schemas.openxmlformats.org/officeDocument/2006/relationships/audio" Target="../media/&#1047;&#1074;&#1086;&#1085;&#1086;&#1082;.wav"/><Relationship Id="rId14" Type="http://schemas.openxmlformats.org/officeDocument/2006/relationships/audio" Target="../media/&#1079;&#1074;&#1086;&#1085;&#1086;&#1082;%20-%201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audio" Target="../media/&#1047;&#1074;&#1086;&#1085;&#1086;&#1082;.wav"/><Relationship Id="rId12" Type="http://schemas.openxmlformats.org/officeDocument/2006/relationships/audio" Target="../media/&#1047;&#1074;&#1086;&#1085;&#1086;&#1082;.wav"/><Relationship Id="rId13" Type="http://schemas.openxmlformats.org/officeDocument/2006/relationships/audio" Target="../media/&#1047;&#1074;&#1086;&#1085;&#1086;&#1082;.wav"/><Relationship Id="rId14" Type="http://schemas.openxmlformats.org/officeDocument/2006/relationships/audio" Target="../media/&#1047;&#1074;&#1086;&#1085;&#1086;&#1082;.wav"/><Relationship Id="rId15" Type="http://schemas.openxmlformats.org/officeDocument/2006/relationships/audio" Target="../media/&#1047;&#1074;&#1086;&#1085;&#1086;&#1082;.wav"/><Relationship Id="rId16" Type="http://schemas.openxmlformats.org/officeDocument/2006/relationships/audio" Target="../media/&#1079;&#1074;&#1086;&#1085;&#1086;&#1082;%20-%201.wav"/><Relationship Id="rId17" Type="http://schemas.openxmlformats.org/officeDocument/2006/relationships/audio" Target="../media/&#1079;&#1074;&#1086;&#1085;&#1086;&#1082;%20-%201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9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audio" Target="../media/&#1047;&#1074;&#1086;&#1085;&#1086;&#1082;.wav"/><Relationship Id="rId13" Type="http://schemas.openxmlformats.org/officeDocument/2006/relationships/audio" Target="../media/&#1047;&#1074;&#1086;&#1085;&#1086;&#1082;.wav"/><Relationship Id="rId14" Type="http://schemas.openxmlformats.org/officeDocument/2006/relationships/audio" Target="../media/&#1047;&#1074;&#1086;&#1085;&#1086;&#1082;.wav"/><Relationship Id="rId15" Type="http://schemas.openxmlformats.org/officeDocument/2006/relationships/audio" Target="../media/&#1047;&#1074;&#1086;&#1085;&#1086;&#1082;.wav"/><Relationship Id="rId16" Type="http://schemas.openxmlformats.org/officeDocument/2006/relationships/audio" Target="../media/&#1047;&#1074;&#1086;&#1085;&#1086;&#1082;.wav"/><Relationship Id="rId17" Type="http://schemas.openxmlformats.org/officeDocument/2006/relationships/audio" Target="../media/&#1047;&#1074;&#1086;&#1085;&#1086;&#1082;.wav"/><Relationship Id="rId18" Type="http://schemas.openxmlformats.org/officeDocument/2006/relationships/audio" Target="../media/&#1079;&#1074;&#1086;&#1085;&#1086;&#1082;%20-%201.wav"/><Relationship Id="rId19" Type="http://schemas.openxmlformats.org/officeDocument/2006/relationships/audio" Target="../media/&#1079;&#1074;&#1086;&#1085;&#1086;&#1082;%20-%201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audio" Target="../media/&#1047;&#1074;&#1086;&#1085;&#1086;&#1082;.wav"/><Relationship Id="rId14" Type="http://schemas.openxmlformats.org/officeDocument/2006/relationships/audio" Target="../media/&#1047;&#1074;&#1086;&#1085;&#1086;&#1082;.wav"/><Relationship Id="rId15" Type="http://schemas.openxmlformats.org/officeDocument/2006/relationships/audio" Target="../media/&#1047;&#1074;&#1086;&#1085;&#1086;&#1082;.wav"/><Relationship Id="rId16" Type="http://schemas.openxmlformats.org/officeDocument/2006/relationships/audio" Target="../media/&#1047;&#1074;&#1086;&#1085;&#1086;&#1082;.wav"/><Relationship Id="rId17" Type="http://schemas.openxmlformats.org/officeDocument/2006/relationships/audio" Target="../media/&#1079;&#1074;&#1086;&#1085;&#1086;&#1082;%20-%201.wav"/><Relationship Id="rId18" Type="http://schemas.openxmlformats.org/officeDocument/2006/relationships/audio" Target="../media/&#1079;&#1074;&#1086;&#1085;&#1086;&#1082;%20-%201.wav"/><Relationship Id="rId19" Type="http://schemas.openxmlformats.org/officeDocument/2006/relationships/audio" Target="../media/&#1079;&#1074;&#1086;&#1085;&#1086;&#1082;%20-%201.wav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21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5.png"/><Relationship Id="rId12" Type="http://schemas.openxmlformats.org/officeDocument/2006/relationships/image" Target="../media/image14.png"/><Relationship Id="rId13" Type="http://schemas.openxmlformats.org/officeDocument/2006/relationships/image" Target="../media/image20.png"/><Relationship Id="rId14" Type="http://schemas.openxmlformats.org/officeDocument/2006/relationships/audio" Target="../media/&#1047;&#1074;&#1086;&#1085;&#1086;&#1082;.wav"/><Relationship Id="rId15" Type="http://schemas.openxmlformats.org/officeDocument/2006/relationships/audio" Target="../media/&#1047;&#1074;&#1086;&#1085;&#1086;&#1082;.wav"/><Relationship Id="rId16" Type="http://schemas.openxmlformats.org/officeDocument/2006/relationships/audio" Target="../media/&#1047;&#1074;&#1086;&#1085;&#1086;&#1082;.wav"/><Relationship Id="rId17" Type="http://schemas.openxmlformats.org/officeDocument/2006/relationships/audio" Target="../media/&#1047;&#1074;&#1086;&#1085;&#1086;&#1082;.wav"/><Relationship Id="rId18" Type="http://schemas.openxmlformats.org/officeDocument/2006/relationships/audio" Target="../media/&#1047;&#1074;&#1086;&#1085;&#1086;&#1082;.wav"/><Relationship Id="rId19" Type="http://schemas.openxmlformats.org/officeDocument/2006/relationships/audio" Target="../media/&#1079;&#1074;&#1086;&#1085;&#1086;&#1082;%20-%201.wav"/><Relationship Id="rId20" Type="http://schemas.openxmlformats.org/officeDocument/2006/relationships/audio" Target="../media/&#1079;&#1074;&#1086;&#1085;&#1086;&#1082;%20-%201.wav"/><Relationship Id="rId21" Type="http://schemas.openxmlformats.org/officeDocument/2006/relationships/audio" Target="../media/&#1079;&#1074;&#1086;&#1085;&#1086;&#1082;%20-%201.wav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85840" y="2786040"/>
            <a:ext cx="88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9900cc"/>
                </a:solidFill>
                <a:latin typeface="Arial"/>
                <a:ea typeface="Arial"/>
              </a:rPr>
              <a:t>Die Tiere wollen auch reis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1"/>
          <a:stretch/>
        </p:blipFill>
        <p:spPr>
          <a:xfrm>
            <a:off x="3429000" y="1071720"/>
            <a:ext cx="2522520" cy="1633320"/>
          </a:xfrm>
          <a:prstGeom prst="rect">
            <a:avLst/>
          </a:prstGeom>
          <a:ln w="0">
            <a:noFill/>
          </a:ln>
        </p:spPr>
      </p:pic>
      <p:sp>
        <p:nvSpPr>
          <p:cNvPr id="5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236000" y="5589720"/>
            <a:ext cx="1296720" cy="647640"/>
          </a:xfrm>
          <a:custGeom>
            <a:avLst/>
            <a:gdLst>
              <a:gd name="textAreaLeft" fmla="*/ 41760 w 1296720"/>
              <a:gd name="textAreaRight" fmla="*/ 1254960 w 129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7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4821120" y="3429000"/>
            <a:ext cx="2087640" cy="134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6891480" y="3400560"/>
            <a:ext cx="2071440" cy="134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tretch/>
        </p:blipFill>
        <p:spPr>
          <a:xfrm>
            <a:off x="2714760" y="3429000"/>
            <a:ext cx="2130120" cy="137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5"/>
          <a:stretch/>
        </p:blipFill>
        <p:spPr>
          <a:xfrm>
            <a:off x="216000" y="3214800"/>
            <a:ext cx="2522520" cy="163332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001000" y="535788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3794"/>
                </a:moveTo>
                <a:lnTo>
                  <a:pt x="27060" y="10800"/>
                </a:lnTo>
                <a:lnTo>
                  <a:pt x="13047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5500800" y="13572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6"/>
          <a:stretch/>
        </p:blipFill>
        <p:spPr>
          <a:xfrm>
            <a:off x="3643200" y="3786120"/>
            <a:ext cx="527040" cy="500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3"/>
          <p:cNvSpPr/>
          <p:nvPr/>
        </p:nvSpPr>
        <p:spPr>
          <a:xfrm>
            <a:off x="3286080" y="5214960"/>
            <a:ext cx="32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0000"/>
                </a:solidFill>
                <a:latin typeface="AR BERKLEY"/>
              </a:rPr>
              <a:t>Falsch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7"/>
          <a:stretch/>
        </p:blipFill>
        <p:spPr>
          <a:xfrm>
            <a:off x="4214880" y="500040"/>
            <a:ext cx="1214280" cy="1995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1"/>
          <p:cNvSpPr/>
          <p:nvPr/>
        </p:nvSpPr>
        <p:spPr>
          <a:xfrm>
            <a:off x="357120" y="500040"/>
            <a:ext cx="3929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1.die Kat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2.der Bä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3.der H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8"/>
          <p:cNvSpPr/>
          <p:nvPr/>
        </p:nvSpPr>
        <p:spPr>
          <a:xfrm>
            <a:off x="5715000" y="1785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284720" y="549360"/>
            <a:ext cx="1785960" cy="1681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1"/>
          <p:cNvSpPr/>
          <p:nvPr/>
        </p:nvSpPr>
        <p:spPr>
          <a:xfrm>
            <a:off x="3357720" y="521496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"/>
              </a:rPr>
              <a:t>Falsch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4821120" y="3429000"/>
            <a:ext cx="2087640" cy="134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3"/>
          <a:stretch/>
        </p:blipFill>
        <p:spPr>
          <a:xfrm>
            <a:off x="6891480" y="3400560"/>
            <a:ext cx="2071440" cy="134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4"/>
          <a:stretch/>
        </p:blipFill>
        <p:spPr>
          <a:xfrm>
            <a:off x="2714760" y="3429000"/>
            <a:ext cx="2130120" cy="13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5"/>
          <a:stretch/>
        </p:blipFill>
        <p:spPr>
          <a:xfrm>
            <a:off x="216000" y="3214800"/>
            <a:ext cx="2522520" cy="163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3643200" y="3786120"/>
            <a:ext cx="527040" cy="50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7"/>
          <a:stretch/>
        </p:blipFill>
        <p:spPr>
          <a:xfrm>
            <a:off x="5214960" y="3786120"/>
            <a:ext cx="401760" cy="42876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01000" y="535788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3794"/>
                </a:moveTo>
                <a:lnTo>
                  <a:pt x="27060" y="10800"/>
                </a:lnTo>
                <a:lnTo>
                  <a:pt x="13047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2"/>
          <p:cNvSpPr/>
          <p:nvPr/>
        </p:nvSpPr>
        <p:spPr>
          <a:xfrm>
            <a:off x="357120" y="500040"/>
            <a:ext cx="3929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1.das Sch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2.die Zie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3.der Elef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3" descr=""/>
          <p:cNvPicPr/>
          <p:nvPr/>
        </p:nvPicPr>
        <p:blipFill>
          <a:blip r:embed="rId1"/>
          <a:stretch/>
        </p:blipFill>
        <p:spPr>
          <a:xfrm>
            <a:off x="216000" y="3214800"/>
            <a:ext cx="2522520" cy="16333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1"/>
          <p:cNvSpPr/>
          <p:nvPr/>
        </p:nvSpPr>
        <p:spPr>
          <a:xfrm>
            <a:off x="4357800" y="5143680"/>
            <a:ext cx="32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"/>
              </a:rPr>
              <a:t>Nicht richtig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5857920" y="1571760"/>
            <a:ext cx="18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оша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4821120" y="3429000"/>
            <a:ext cx="2087640" cy="134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6891480" y="3400560"/>
            <a:ext cx="2071440" cy="1342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2714760" y="3429000"/>
            <a:ext cx="2130120" cy="137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3643200" y="3786120"/>
            <a:ext cx="527040" cy="500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6"/>
          <a:stretch/>
        </p:blipFill>
        <p:spPr>
          <a:xfrm>
            <a:off x="5214960" y="3786120"/>
            <a:ext cx="401760" cy="428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071880" y="3786120"/>
            <a:ext cx="357120" cy="44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"/>
          <p:cNvPicPr/>
          <p:nvPr/>
        </p:nvPicPr>
        <p:blipFill>
          <a:blip r:embed="rId8"/>
          <a:stretch/>
        </p:blipFill>
        <p:spPr>
          <a:xfrm>
            <a:off x="4143240" y="571680"/>
            <a:ext cx="2048040" cy="1952280"/>
          </a:xfrm>
          <a:prstGeom prst="rect">
            <a:avLst/>
          </a:prstGeom>
          <a:ln w="0">
            <a:noFill/>
          </a:ln>
        </p:spPr>
      </p:pic>
      <p:sp>
        <p:nvSpPr>
          <p:cNvPr id="83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001000" y="535788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3794"/>
                </a:moveTo>
                <a:lnTo>
                  <a:pt x="27060" y="10800"/>
                </a:lnTo>
                <a:lnTo>
                  <a:pt x="13047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4"/>
          <p:cNvSpPr/>
          <p:nvPr/>
        </p:nvSpPr>
        <p:spPr>
          <a:xfrm>
            <a:off x="357120" y="500040"/>
            <a:ext cx="3929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1. das Pfe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2. der Elef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3. das Sch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7"/>
          <p:cNvSpPr/>
          <p:nvPr/>
        </p:nvSpPr>
        <p:spPr>
          <a:xfrm>
            <a:off x="3929040" y="542916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"/>
              </a:rPr>
              <a:t>Nein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1"/>
          <a:stretch/>
        </p:blipFill>
        <p:spPr>
          <a:xfrm>
            <a:off x="4821120" y="3429000"/>
            <a:ext cx="208764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2"/>
          <a:stretch/>
        </p:blipFill>
        <p:spPr>
          <a:xfrm>
            <a:off x="6891480" y="3400560"/>
            <a:ext cx="2071440" cy="1342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3"/>
          <a:stretch/>
        </p:blipFill>
        <p:spPr>
          <a:xfrm>
            <a:off x="2714760" y="3429000"/>
            <a:ext cx="2130120" cy="1376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4"/>
          <a:stretch/>
        </p:blipFill>
        <p:spPr>
          <a:xfrm>
            <a:off x="216000" y="3214800"/>
            <a:ext cx="2522520" cy="163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5"/>
          <a:stretch/>
        </p:blipFill>
        <p:spPr>
          <a:xfrm>
            <a:off x="3643200" y="3786120"/>
            <a:ext cx="527040" cy="500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6"/>
          <a:stretch/>
        </p:blipFill>
        <p:spPr>
          <a:xfrm>
            <a:off x="5214960" y="3786120"/>
            <a:ext cx="401760" cy="4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071880" y="3786120"/>
            <a:ext cx="425520" cy="446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"/>
          <p:cNvPicPr/>
          <p:nvPr/>
        </p:nvPicPr>
        <p:blipFill>
          <a:blip r:embed="rId8"/>
          <a:stretch/>
        </p:blipFill>
        <p:spPr>
          <a:xfrm>
            <a:off x="7286760" y="3857760"/>
            <a:ext cx="357120" cy="363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5429160" y="1571760"/>
            <a:ext cx="25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об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"/>
          <p:cNvPicPr/>
          <p:nvPr/>
        </p:nvPicPr>
        <p:blipFill>
          <a:blip r:embed="rId9"/>
          <a:stretch/>
        </p:blipFill>
        <p:spPr>
          <a:xfrm>
            <a:off x="4000680" y="714240"/>
            <a:ext cx="1514160" cy="1704960"/>
          </a:xfrm>
          <a:prstGeom prst="rect">
            <a:avLst/>
          </a:prstGeom>
          <a:ln w="0">
            <a:noFill/>
          </a:ln>
        </p:spPr>
      </p:pic>
      <p:sp>
        <p:nvSpPr>
          <p:cNvPr id="96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001000" y="535788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3794"/>
                </a:moveTo>
                <a:lnTo>
                  <a:pt x="27060" y="10800"/>
                </a:lnTo>
                <a:lnTo>
                  <a:pt x="13047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3"/>
          <p:cNvSpPr/>
          <p:nvPr/>
        </p:nvSpPr>
        <p:spPr>
          <a:xfrm>
            <a:off x="357120" y="500040"/>
            <a:ext cx="3929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1.die Kat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2.das Pfe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3.der H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4"/>
          <p:cNvSpPr/>
          <p:nvPr/>
        </p:nvSpPr>
        <p:spPr>
          <a:xfrm>
            <a:off x="3643200" y="5072040"/>
            <a:ext cx="35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"/>
              </a:rPr>
              <a:t>Falsch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4821120" y="3429000"/>
            <a:ext cx="2087640" cy="134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6891480" y="3400560"/>
            <a:ext cx="2071440" cy="1342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3"/>
          <a:stretch/>
        </p:blipFill>
        <p:spPr>
          <a:xfrm>
            <a:off x="2714760" y="3429000"/>
            <a:ext cx="2130120" cy="137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"/>
          <p:cNvPicPr/>
          <p:nvPr/>
        </p:nvPicPr>
        <p:blipFill>
          <a:blip r:embed="rId4"/>
          <a:stretch/>
        </p:blipFill>
        <p:spPr>
          <a:xfrm>
            <a:off x="216000" y="3214800"/>
            <a:ext cx="2522520" cy="1633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3643200" y="3786120"/>
            <a:ext cx="527040" cy="500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6"/>
          <a:stretch/>
        </p:blipFill>
        <p:spPr>
          <a:xfrm>
            <a:off x="5214960" y="3786120"/>
            <a:ext cx="401760" cy="428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071880" y="3786120"/>
            <a:ext cx="425520" cy="446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"/>
          <p:cNvPicPr/>
          <p:nvPr/>
        </p:nvPicPr>
        <p:blipFill>
          <a:blip r:embed="rId8"/>
          <a:stretch/>
        </p:blipFill>
        <p:spPr>
          <a:xfrm>
            <a:off x="7286760" y="3857760"/>
            <a:ext cx="357120" cy="36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9">
            <a:lum contrast="30000"/>
          </a:blip>
          <a:stretch/>
        </p:blipFill>
        <p:spPr>
          <a:xfrm>
            <a:off x="6357960" y="3786120"/>
            <a:ext cx="431640" cy="428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10"/>
          <a:stretch/>
        </p:blipFill>
        <p:spPr>
          <a:xfrm>
            <a:off x="4071960" y="785880"/>
            <a:ext cx="1646280" cy="17715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1"/>
          <p:cNvSpPr/>
          <p:nvPr/>
        </p:nvSpPr>
        <p:spPr>
          <a:xfrm>
            <a:off x="5646600" y="171468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т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Управляющая кнопка: далее 22">
            <a:hlinkClick r:id="" action="ppaction://hlinkshowjump?jump=nextslide"/>
          </p:cNvPr>
          <p:cNvSpPr/>
          <p:nvPr/>
        </p:nvSpPr>
        <p:spPr>
          <a:xfrm>
            <a:off x="8001000" y="535788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3794"/>
                </a:moveTo>
                <a:lnTo>
                  <a:pt x="27060" y="10800"/>
                </a:lnTo>
                <a:lnTo>
                  <a:pt x="13047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357120" y="500040"/>
            <a:ext cx="3929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1. das Huh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2. der Hah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3.die 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7" descr=""/>
          <p:cNvPicPr/>
          <p:nvPr/>
        </p:nvPicPr>
        <p:blipFill>
          <a:blip r:embed="rId1"/>
          <a:stretch/>
        </p:blipFill>
        <p:spPr>
          <a:xfrm>
            <a:off x="5003640" y="836640"/>
            <a:ext cx="2543400" cy="16477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1"/>
          <p:cNvSpPr/>
          <p:nvPr/>
        </p:nvSpPr>
        <p:spPr>
          <a:xfrm>
            <a:off x="4643280" y="5072040"/>
            <a:ext cx="31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"/>
              </a:rPr>
              <a:t>Nicht richtig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2"/>
          <a:stretch/>
        </p:blipFill>
        <p:spPr>
          <a:xfrm>
            <a:off x="4821120" y="3429000"/>
            <a:ext cx="2087640" cy="134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3"/>
          <a:stretch/>
        </p:blipFill>
        <p:spPr>
          <a:xfrm>
            <a:off x="6891480" y="3400560"/>
            <a:ext cx="2071440" cy="1342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4"/>
          <a:stretch/>
        </p:blipFill>
        <p:spPr>
          <a:xfrm>
            <a:off x="2714760" y="3429000"/>
            <a:ext cx="2130120" cy="137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"/>
          <p:cNvPicPr/>
          <p:nvPr/>
        </p:nvPicPr>
        <p:blipFill>
          <a:blip r:embed="rId5"/>
          <a:stretch/>
        </p:blipFill>
        <p:spPr>
          <a:xfrm>
            <a:off x="216000" y="3214800"/>
            <a:ext cx="2522520" cy="163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6"/>
          <a:stretch/>
        </p:blipFill>
        <p:spPr>
          <a:xfrm>
            <a:off x="3643200" y="3786120"/>
            <a:ext cx="527040" cy="500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7"/>
          <a:stretch/>
        </p:blipFill>
        <p:spPr>
          <a:xfrm>
            <a:off x="5214960" y="3786120"/>
            <a:ext cx="401760" cy="428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3071880" y="3786120"/>
            <a:ext cx="425520" cy="446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"/>
          <p:cNvPicPr/>
          <p:nvPr/>
        </p:nvPicPr>
        <p:blipFill>
          <a:blip r:embed="rId9"/>
          <a:stretch/>
        </p:blipFill>
        <p:spPr>
          <a:xfrm>
            <a:off x="7286760" y="3857760"/>
            <a:ext cx="357120" cy="363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10">
            <a:lum contrast="30000"/>
          </a:blip>
          <a:stretch/>
        </p:blipFill>
        <p:spPr>
          <a:xfrm>
            <a:off x="6357960" y="3786120"/>
            <a:ext cx="431640" cy="428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1"/>
          <a:stretch/>
        </p:blipFill>
        <p:spPr>
          <a:xfrm>
            <a:off x="7905600" y="3786120"/>
            <a:ext cx="381240" cy="4287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1"/>
          <p:cNvSpPr/>
          <p:nvPr/>
        </p:nvSpPr>
        <p:spPr>
          <a:xfrm>
            <a:off x="6000840" y="17859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001000" y="535788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3794"/>
                </a:moveTo>
                <a:lnTo>
                  <a:pt x="27060" y="10800"/>
                </a:lnTo>
                <a:lnTo>
                  <a:pt x="13047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8"/>
          <p:cNvSpPr/>
          <p:nvPr/>
        </p:nvSpPr>
        <p:spPr>
          <a:xfrm>
            <a:off x="0" y="500040"/>
            <a:ext cx="4286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1</a:t>
            </a:r>
            <a:r>
              <a:rPr b="1" i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das Schaf</a:t>
            </a:r>
            <a:r>
              <a:rPr b="1" i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2.der Elef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3. die Ku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8"/>
          <p:cNvSpPr/>
          <p:nvPr/>
        </p:nvSpPr>
        <p:spPr>
          <a:xfrm>
            <a:off x="4286160" y="5072040"/>
            <a:ext cx="35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"/>
              </a:rPr>
              <a:t>Nein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4821120" y="3429000"/>
            <a:ext cx="2087640" cy="134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2"/>
          <a:stretch/>
        </p:blipFill>
        <p:spPr>
          <a:xfrm>
            <a:off x="6891480" y="3400560"/>
            <a:ext cx="2071440" cy="1342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"/>
          <p:cNvPicPr/>
          <p:nvPr/>
        </p:nvPicPr>
        <p:blipFill>
          <a:blip r:embed="rId3"/>
          <a:stretch/>
        </p:blipFill>
        <p:spPr>
          <a:xfrm>
            <a:off x="2714760" y="3429000"/>
            <a:ext cx="2130120" cy="13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"/>
          <p:cNvPicPr/>
          <p:nvPr/>
        </p:nvPicPr>
        <p:blipFill>
          <a:blip r:embed="rId4"/>
          <a:stretch/>
        </p:blipFill>
        <p:spPr>
          <a:xfrm>
            <a:off x="214200" y="3214800"/>
            <a:ext cx="2522520" cy="1633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5"/>
          <a:stretch/>
        </p:blipFill>
        <p:spPr>
          <a:xfrm>
            <a:off x="3643200" y="3786120"/>
            <a:ext cx="527040" cy="500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6"/>
          <a:stretch/>
        </p:blipFill>
        <p:spPr>
          <a:xfrm>
            <a:off x="5214960" y="3786120"/>
            <a:ext cx="401760" cy="428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071880" y="3786120"/>
            <a:ext cx="425520" cy="446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"/>
          <p:cNvPicPr/>
          <p:nvPr/>
        </p:nvPicPr>
        <p:blipFill>
          <a:blip r:embed="rId8"/>
          <a:stretch/>
        </p:blipFill>
        <p:spPr>
          <a:xfrm>
            <a:off x="7286760" y="3857760"/>
            <a:ext cx="357120" cy="363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9">
            <a:lum contrast="30000"/>
          </a:blip>
          <a:stretch/>
        </p:blipFill>
        <p:spPr>
          <a:xfrm>
            <a:off x="6357960" y="3786120"/>
            <a:ext cx="431640" cy="428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10"/>
          <a:stretch/>
        </p:blipFill>
        <p:spPr>
          <a:xfrm>
            <a:off x="7905600" y="3786120"/>
            <a:ext cx="381240" cy="428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11"/>
          <a:stretch/>
        </p:blipFill>
        <p:spPr>
          <a:xfrm>
            <a:off x="5786280" y="3786120"/>
            <a:ext cx="436680" cy="42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12"/>
          <a:stretch/>
        </p:blipFill>
        <p:spPr>
          <a:xfrm>
            <a:off x="3786120" y="785880"/>
            <a:ext cx="2857680" cy="17143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1"/>
          <p:cNvSpPr/>
          <p:nvPr/>
        </p:nvSpPr>
        <p:spPr>
          <a:xfrm>
            <a:off x="6072120" y="164304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Управляющая кнопка: далее 26">
            <a:hlinkClick r:id="" action="ppaction://hlinkshowjump?jump=nextslide"/>
          </p:cNvPr>
          <p:cNvSpPr/>
          <p:nvPr/>
        </p:nvSpPr>
        <p:spPr>
          <a:xfrm>
            <a:off x="8001000" y="535788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3794"/>
                </a:moveTo>
                <a:lnTo>
                  <a:pt x="27060" y="10800"/>
                </a:lnTo>
                <a:lnTo>
                  <a:pt x="13047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9"/>
          <p:cNvSpPr/>
          <p:nvPr/>
        </p:nvSpPr>
        <p:spPr>
          <a:xfrm>
            <a:off x="357120" y="500040"/>
            <a:ext cx="3929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1.</a:t>
            </a:r>
            <a:r>
              <a:rPr b="1" i="1" lang="de-DE" sz="4400" spc="-1" strike="noStrike">
                <a:solidFill>
                  <a:srgbClr val="1f497d"/>
                </a:solidFill>
                <a:latin typeface="Arial"/>
                <a:ea typeface="Arial"/>
              </a:rPr>
              <a:t>der Fu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2.der Bä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3.die Ku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4821120" y="3429000"/>
            <a:ext cx="2087640" cy="1349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"/>
          <p:cNvPicPr/>
          <p:nvPr/>
        </p:nvPicPr>
        <p:blipFill>
          <a:blip r:embed="rId2"/>
          <a:stretch/>
        </p:blipFill>
        <p:spPr>
          <a:xfrm>
            <a:off x="2714760" y="3429000"/>
            <a:ext cx="2130120" cy="1376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"/>
          <p:cNvPicPr/>
          <p:nvPr/>
        </p:nvPicPr>
        <p:blipFill>
          <a:blip r:embed="rId3"/>
          <a:stretch/>
        </p:blipFill>
        <p:spPr>
          <a:xfrm>
            <a:off x="214200" y="3214800"/>
            <a:ext cx="2522520" cy="1633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4"/>
          <a:stretch/>
        </p:blipFill>
        <p:spPr>
          <a:xfrm>
            <a:off x="3643200" y="3786120"/>
            <a:ext cx="527040" cy="500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5"/>
          <a:stretch/>
        </p:blipFill>
        <p:spPr>
          <a:xfrm>
            <a:off x="5214960" y="3786120"/>
            <a:ext cx="401760" cy="428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3071880" y="3786120"/>
            <a:ext cx="425520" cy="446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6357960" y="3786120"/>
            <a:ext cx="431640" cy="428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8"/>
          <a:stretch/>
        </p:blipFill>
        <p:spPr>
          <a:xfrm>
            <a:off x="5786280" y="3786120"/>
            <a:ext cx="436680" cy="4287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1"/>
          <p:cNvSpPr/>
          <p:nvPr/>
        </p:nvSpPr>
        <p:spPr>
          <a:xfrm>
            <a:off x="6286680" y="185724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л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9">
            <a:lum contrast="40000"/>
          </a:blip>
          <a:stretch/>
        </p:blipFill>
        <p:spPr>
          <a:xfrm>
            <a:off x="4214880" y="3857760"/>
            <a:ext cx="428400" cy="45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10"/>
          <a:stretch/>
        </p:blipFill>
        <p:spPr>
          <a:xfrm>
            <a:off x="4857840" y="571680"/>
            <a:ext cx="1836720" cy="20840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1"/>
          <p:cNvSpPr/>
          <p:nvPr/>
        </p:nvSpPr>
        <p:spPr>
          <a:xfrm>
            <a:off x="4071960" y="521496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"/>
              </a:rPr>
              <a:t>Nicht richtig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11"/>
          <a:stretch/>
        </p:blipFill>
        <p:spPr>
          <a:xfrm>
            <a:off x="6891480" y="3400560"/>
            <a:ext cx="2071440" cy="1342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"/>
          <p:cNvPicPr/>
          <p:nvPr/>
        </p:nvPicPr>
        <p:blipFill>
          <a:blip r:embed="rId12"/>
          <a:stretch/>
        </p:blipFill>
        <p:spPr>
          <a:xfrm>
            <a:off x="7286760" y="3857760"/>
            <a:ext cx="357120" cy="363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3"/>
          <a:stretch/>
        </p:blipFill>
        <p:spPr>
          <a:xfrm>
            <a:off x="7905600" y="3786120"/>
            <a:ext cx="381240" cy="428760"/>
          </a:xfrm>
          <a:prstGeom prst="rect">
            <a:avLst/>
          </a:prstGeom>
          <a:ln w="0">
            <a:noFill/>
          </a:ln>
        </p:spPr>
      </p:pic>
      <p:sp>
        <p:nvSpPr>
          <p:cNvPr id="158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001000" y="535788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3794"/>
                </a:moveTo>
                <a:lnTo>
                  <a:pt x="27060" y="10800"/>
                </a:lnTo>
                <a:lnTo>
                  <a:pt x="13047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7"/>
          <p:cNvSpPr/>
          <p:nvPr/>
        </p:nvSpPr>
        <p:spPr>
          <a:xfrm>
            <a:off x="357120" y="500040"/>
            <a:ext cx="4286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1.der Elef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2. das Sch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3.die Schl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22:10:18Z</dcterms:created>
  <dc:creator>Дима</dc:creator>
  <dc:description/>
  <dc:language>en-US</dc:language>
  <cp:lastModifiedBy>Admin</cp:lastModifiedBy>
  <dcterms:modified xsi:type="dcterms:W3CDTF">2012-03-23T05:36:56Z</dcterms:modified>
  <cp:revision>157</cp:revision>
  <dc:subject/>
  <dc:title>Слайд 1</dc:title>
</cp:coreProperties>
</file>