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%D0%B7%D0%B2%D0%BE%D0%BD%D0%BE%D0%BA%20-%201.wav" ContentType="audio/x-wav"/>
  <Override PartName="/ppt/media/image18.png" ContentType="image/png"/>
  <Override PartName="/ppt/media/image20.png" ContentType="image/png"/>
  <Override PartName="/ppt/media/%D0%97%D0%B2%D0%BE%D0%BD%D0%BE%D0%BA.wav" ContentType="audio/x-wav"/>
  <Override PartName="/ppt/media/image2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975-D066-48CF-B174-5F0DFCD30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6C7-E010-4ED1-A94A-527428327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CC0D-086C-4D1A-AB04-0C0572DCE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261-6156-4DFF-B096-A71774B4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49D-47C6-4C0B-9DCA-ED2CBEFD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FF8-9BD4-48B3-8DAF-6857167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95E-2EC2-47BA-9A26-700CE853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FDD-E07E-4DDF-8F0F-29A3D9E5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C4E-0B6B-46AD-A26F-10C05DD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8F8-5815-4927-B96C-046814B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EFF-9608-42A5-B0E0-282EEDA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08E-CFFA-448B-BD93-2A626F1A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899-5F2F-438F-8F34-3D24571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390-DFCC-4238-A74F-0D39F5C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760-5CB6-4A43-96DB-7FCE129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2C1F-1AB7-4BFB-A998-6FCB7183C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audio" Target="../media/&#1047;&#1074;&#1086;&#1085;&#1086;&#1082;.wav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79;&#1074;&#1086;&#1085;&#1086;&#1082;%20-%2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&#1047;&#1074;&#1086;&#1085;&#1086;&#1082;.wav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79;&#1074;&#1086;&#1085;&#1086;&#1082;%20-%201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&#1047;&#1074;&#1086;&#1085;&#1086;&#1082;.wav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79;&#1074;&#1086;&#1085;&#1086;&#1082;%20-%201.wav"/><Relationship Id="rId13" Type="http://schemas.openxmlformats.org/officeDocument/2006/relationships/audio" Target="../media/&#1079;&#1074;&#1086;&#1085;&#1086;&#1082;%20-%201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audio" Target="../media/&#1047;&#1074;&#1086;&#1085;&#1086;&#1082;.wav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79;&#1074;&#1086;&#1085;&#1086;&#1082;%20-%201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audio" Target="../media/&#1047;&#1074;&#1086;&#1085;&#1086;&#1082;.wav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79;&#1074;&#1086;&#1085;&#1086;&#1082;%20-%201.wav"/><Relationship Id="rId17" Type="http://schemas.openxmlformats.org/officeDocument/2006/relationships/audio" Target="../media/&#1079;&#1074;&#1086;&#1085;&#1086;&#1082;%20-%201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9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audio" Target="../media/&#1047;&#1074;&#1086;&#1085;&#1086;&#1082;.wav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47;&#1074;&#1086;&#1085;&#1086;&#1082;.wav"/><Relationship Id="rId18" Type="http://schemas.openxmlformats.org/officeDocument/2006/relationships/audio" Target="../media/&#1079;&#1074;&#1086;&#1085;&#1086;&#1082;%20-%201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audio" Target="../media/&#1047;&#1074;&#1086;&#1085;&#1086;&#1082;.wav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79;&#1074;&#1086;&#1085;&#1086;&#1082;%20-%201.wav"/><Relationship Id="rId18" Type="http://schemas.openxmlformats.org/officeDocument/2006/relationships/audio" Target="../media/&#1079;&#1074;&#1086;&#1085;&#1086;&#1082;%20-%201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5.png"/><Relationship Id="rId12" Type="http://schemas.openxmlformats.org/officeDocument/2006/relationships/image" Target="../media/image14.png"/><Relationship Id="rId13" Type="http://schemas.openxmlformats.org/officeDocument/2006/relationships/image" Target="../media/image20.png"/><Relationship Id="rId14" Type="http://schemas.openxmlformats.org/officeDocument/2006/relationships/audio" Target="../media/&#1047;&#1074;&#1086;&#1085;&#1086;&#1082;.wav"/><Relationship Id="rId15" Type="http://schemas.openxmlformats.org/officeDocument/2006/relationships/audio" Target="../media/&#1047;&#1074;&#1086;&#1085;&#1086;&#1082;.wav"/><Relationship Id="rId16" Type="http://schemas.openxmlformats.org/officeDocument/2006/relationships/audio" Target="../media/&#1047;&#1074;&#1086;&#1085;&#1086;&#1082;.wav"/><Relationship Id="rId17" Type="http://schemas.openxmlformats.org/officeDocument/2006/relationships/audio" Target="../media/&#1047;&#1074;&#1086;&#1085;&#1086;&#1082;.wav"/><Relationship Id="rId18" Type="http://schemas.openxmlformats.org/officeDocument/2006/relationships/audio" Target="../media/&#1047;&#1074;&#1086;&#1085;&#1086;&#1082;.wav"/><Relationship Id="rId19" Type="http://schemas.openxmlformats.org/officeDocument/2006/relationships/audio" Target="../media/&#1079;&#1074;&#1086;&#1085;&#1086;&#1082;%20-%201.wav"/><Relationship Id="rId20" Type="http://schemas.openxmlformats.org/officeDocument/2006/relationships/audio" Target="../media/&#1079;&#1074;&#1086;&#1085;&#1086;&#1082;%20-%201.wav"/><Relationship Id="rId21" Type="http://schemas.openxmlformats.org/officeDocument/2006/relationships/audio" Target="../media/&#1079;&#1074;&#1086;&#1085;&#1086;&#1082;%20-%201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278604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9900cc"/>
                </a:solidFill>
                <a:latin typeface="Arial"/>
                <a:ea typeface="Arial"/>
              </a:rPr>
              <a:t>Die Tiere wollen auch reis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107172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236000" y="5589720"/>
            <a:ext cx="1296720" cy="647640"/>
          </a:xfrm>
          <a:custGeom>
            <a:avLst/>
            <a:gdLst>
              <a:gd name="textAreaLeft" fmla="*/ 41760 w 1296720"/>
              <a:gd name="textAreaRight" fmla="*/ 1254960 w 129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7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500800" y="1357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3286080" y="521496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R BERKLEY"/>
              </a:rPr>
              <a:t>Falsc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7"/>
          <a:stretch/>
        </p:blipFill>
        <p:spPr>
          <a:xfrm>
            <a:off x="4214880" y="500040"/>
            <a:ext cx="1214280" cy="1995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ie Ka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8"/>
          <p:cNvSpPr/>
          <p:nvPr/>
        </p:nvSpPr>
        <p:spPr>
          <a:xfrm>
            <a:off x="5715000" y="1785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1785960" cy="1681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3357720" y="5214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Falsch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7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ie Zi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357800" y="5143680"/>
            <a:ext cx="32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857920" y="157176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ош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357120" cy="44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8"/>
          <a:stretch/>
        </p:blipFill>
        <p:spPr>
          <a:xfrm>
            <a:off x="4143240" y="571680"/>
            <a:ext cx="2048040" cy="195228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 das Pf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 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7"/>
          <p:cNvSpPr/>
          <p:nvPr/>
        </p:nvSpPr>
        <p:spPr>
          <a:xfrm>
            <a:off x="3929040" y="542916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ein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4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5429160" y="157176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9"/>
          <a:stretch/>
        </p:blipFill>
        <p:spPr>
          <a:xfrm>
            <a:off x="4000680" y="714240"/>
            <a:ext cx="1514160" cy="170496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ie Ka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as Pf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4"/>
          <p:cNvSpPr/>
          <p:nvPr/>
        </p:nvSpPr>
        <p:spPr>
          <a:xfrm>
            <a:off x="3643200" y="507204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Falsch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4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10"/>
          <a:stretch/>
        </p:blipFill>
        <p:spPr>
          <a:xfrm>
            <a:off x="4071960" y="785880"/>
            <a:ext cx="1646280" cy="1771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5646600" y="1714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т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алее 22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 das Hu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er Ha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2543400" cy="1647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1"/>
          <p:cNvSpPr/>
          <p:nvPr/>
        </p:nvSpPr>
        <p:spPr>
          <a:xfrm>
            <a:off x="4643280" y="50720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3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4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5"/>
          <a:stretch/>
        </p:blipFill>
        <p:spPr>
          <a:xfrm>
            <a:off x="2160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6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9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10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6000840" y="1785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8"/>
          <p:cNvSpPr/>
          <p:nvPr/>
        </p:nvSpPr>
        <p:spPr>
          <a:xfrm>
            <a:off x="0" y="50004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das Schaf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 die K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8"/>
          <p:cNvSpPr/>
          <p:nvPr/>
        </p:nvSpPr>
        <p:spPr>
          <a:xfrm>
            <a:off x="4286160" y="507204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ein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4"/>
          <a:stretch/>
        </p:blipFill>
        <p:spPr>
          <a:xfrm>
            <a:off x="2142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6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10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11"/>
          <a:stretch/>
        </p:blipFill>
        <p:spPr>
          <a:xfrm>
            <a:off x="5786280" y="3786120"/>
            <a:ext cx="436680" cy="42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12"/>
          <a:stretch/>
        </p:blipFill>
        <p:spPr>
          <a:xfrm>
            <a:off x="3786120" y="785880"/>
            <a:ext cx="285768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1"/>
          <p:cNvSpPr/>
          <p:nvPr/>
        </p:nvSpPr>
        <p:spPr>
          <a:xfrm>
            <a:off x="6072120" y="16430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357120" y="500040"/>
            <a:ext cx="3929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i="1" lang="de-DE" sz="4400" spc="-1" strike="noStrike">
                <a:solidFill>
                  <a:srgbClr val="1f497d"/>
                </a:solidFill>
                <a:latin typeface="Arial"/>
                <a:ea typeface="Arial"/>
              </a:rPr>
              <a:t>der Fu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der 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K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4821120" y="3429000"/>
            <a:ext cx="2087640" cy="134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2714760" y="3429000"/>
            <a:ext cx="2130120" cy="137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2522520" cy="163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3643200" y="3786120"/>
            <a:ext cx="527040" cy="5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214960" y="3786120"/>
            <a:ext cx="401760" cy="4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3071880" y="3786120"/>
            <a:ext cx="425520" cy="44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6357960" y="378612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8"/>
          <a:stretch/>
        </p:blipFill>
        <p:spPr>
          <a:xfrm>
            <a:off x="5786280" y="378612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6286680" y="1857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9">
            <a:lum contrast="40000"/>
          </a:blip>
          <a:stretch/>
        </p:blipFill>
        <p:spPr>
          <a:xfrm>
            <a:off x="4214880" y="3857760"/>
            <a:ext cx="428400" cy="45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10"/>
          <a:stretch/>
        </p:blipFill>
        <p:spPr>
          <a:xfrm>
            <a:off x="4857840" y="571680"/>
            <a:ext cx="1836720" cy="20840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1"/>
          <p:cNvSpPr/>
          <p:nvPr/>
        </p:nvSpPr>
        <p:spPr>
          <a:xfrm>
            <a:off x="4071960" y="521496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Nicht richtig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1"/>
          <a:stretch/>
        </p:blipFill>
        <p:spPr>
          <a:xfrm>
            <a:off x="6891480" y="3400560"/>
            <a:ext cx="2071440" cy="1342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2"/>
          <a:stretch/>
        </p:blipFill>
        <p:spPr>
          <a:xfrm>
            <a:off x="7286760" y="3857760"/>
            <a:ext cx="357120" cy="363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905600" y="3786120"/>
            <a:ext cx="381240" cy="42876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535788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3794"/>
                </a:moveTo>
                <a:lnTo>
                  <a:pt x="27060" y="10800"/>
                </a:lnTo>
                <a:lnTo>
                  <a:pt x="13047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7"/>
          <p:cNvSpPr/>
          <p:nvPr/>
        </p:nvSpPr>
        <p:spPr>
          <a:xfrm>
            <a:off x="357120" y="50004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1.der 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2. das 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3.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97%D0%B2%D0%BE%D0%BD%D0%BE%D0%B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%D0%BE%D0%BA%20-%20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2:10:18Z</dcterms:created>
  <dc:creator>Дима</dc:creator>
  <dc:description/>
  <dc:language>en-US</dc:language>
  <cp:lastModifiedBy>Admin</cp:lastModifiedBy>
  <dcterms:modified xsi:type="dcterms:W3CDTF">2012-03-23T05:36:56Z</dcterms:modified>
  <cp:revision>157</cp:revision>
  <dc:subject/>
  <dc:title>Слайд 1</dc:title>
</cp:coreProperties>
</file>