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9CE-3A98-4ED8-847B-C851B470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E27-D62B-4ACA-9067-DB6139EF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B67-C6D7-4734-8D98-B3EA9561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253-3086-4F2E-BCA6-9886D147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132A-72C3-4AF7-85E1-2019F15A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97FE-AFD8-4703-BB89-6F2E0245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6AAF-B985-4078-8335-3FE4A6C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75DB-7752-4963-9D3F-CF79FDD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D1E5-CDA6-4059-9BB1-75BBEB4B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3CF4-0C27-4418-A13F-EF17CBA5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0974-E3D8-4130-AC57-5717BF5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3E9-7D8D-4E81-BC02-05CC6E4D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5FE-0D60-49CF-AD24-72C0734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C679-7E2E-4D89-86E4-B0BEEAC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1865-A6D4-492D-A127-EC6D7694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9595-6CF9-46E1-8657-4017C52C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D454-8F15-4586-8A53-9CAC80CA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C0D-AACF-4C87-A1D2-CC4A3DED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66E-B956-4F33-A584-8C1981F7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380-267D-4C4A-810F-A79BA155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B49-52EB-47AA-B2C0-B31E0FCE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B11-92AA-4640-8654-B9ABE6F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3F0-05D3-44AC-897A-A76780CF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D6C-4A73-417F-BA10-E5E985D4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F443-9FF6-4A4A-9CA9-31C15A3E03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8171-2E5A-48F0-836F-B456B41065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60;&#1072;&#1081;&#1083;:Pierre_de_Fermat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ierre_de_Fermat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2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6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7;&#1085;&#1077;&#1083;&#1083;,_&#1042;&#1080;&#1083;&#1083;&#1077;&#1073;&#1088;&#1086;&#1088;&#1076;" TargetMode="External"/><Relationship Id="rId3" Type="http://schemas.openxmlformats.org/officeDocument/2006/relationships/hyperlink" Target="http://ru.wikipedia.org/wiki/&#1057;&#1085;&#1077;&#1083;&#1083;,_&#1042;&#1080;&#1083;&#1083;&#1077;&#1073;&#1088;&#1086;&#1088;&#1076;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ru.wikipedia.org/wiki/&#1059;&#1076;&#1072;&#1088;&#1085;&#1099;&#1081;_&#1082;&#1088;&#1072;&#1090;&#1077;&#1088;" TargetMode="External"/><Relationship Id="rId6" Type="http://schemas.openxmlformats.org/officeDocument/2006/relationships/hyperlink" Target="http://ru.wikipedia.org/wiki/&#1051;&#1091;&#1085;&#1072;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ru.wikipedia.org/wiki/&#1055;&#1072;&#1074;&#1083;&#1086;&#1074;,_&#1048;&#1074;&#1072;&#1085;_&#1055;&#1077;&#1090;&#1088;&#1086;&#1074;&#1080;&#1095;" TargetMode="External"/><Relationship Id="rId9" Type="http://schemas.openxmlformats.org/officeDocument/2006/relationships/hyperlink" Target="http://ru.wikipedia.org/wiki/&#1050;&#1086;&#1083;&#1090;&#1091;&#1096;&#1080;" TargetMode="External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4/Meridian.pn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hyperlink" Target="http://mayak.retroportal.ru/ushki/arhiv/a/26.jpg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rain.absg.ru/images/kopernik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ru.wikipedia.org/wiki/&#1060;&#1072;&#1081;&#1083;:Pierre_de_Fermat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ru.wikipedia.org/wiki/&#1060;&#1072;&#1081;&#1083;:Frans_Hals_-_Portret_van_Ren&#233;_Descartes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Bookman Old Style"/>
              </a:rPr>
              <a:t>Научно-практическая конференция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Bookman Old Style"/>
              </a:rPr>
              <a:t>«Известная и неизвестная прямоугольная система  координат»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943600" y="5334120"/>
            <a:ext cx="2440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рок геоме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10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гото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Хабибулин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011320" cy="251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34320" y="838080"/>
            <a:ext cx="1600200" cy="208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000853"/>
          <p:cNvPicPr/>
          <p:nvPr/>
        </p:nvPicPr>
        <p:blipFill>
          <a:blip r:embed="rId4"/>
          <a:stretch/>
        </p:blipFill>
        <p:spPr>
          <a:xfrm>
            <a:off x="76320" y="3429000"/>
            <a:ext cx="23018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0f6f"/>
                </a:solidFill>
                <a:latin typeface="Bookman Old Style"/>
              </a:rPr>
              <a:t>В 1637 г. во Франции вышла книга, которая принесла её автору невероятную известность. По обычаям того времени она имела довольно длинное название: «Рассуждение о методе, позволяющем направлять разум и отыскивать истину в науках. Кроме того, Диоптрика, Метеоры и Геометрия, которые являются приложениями этого метода». Автор книги был Рене Декарт.</a:t>
            </a: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25" name="" descr="Frans Hals - Portret van René Descartes.jpg"/>
          <p:cNvPicPr/>
          <p:nvPr/>
        </p:nvPicPr>
        <p:blipFill>
          <a:blip r:embed="rId1"/>
          <a:stretch/>
        </p:blipFill>
        <p:spPr>
          <a:xfrm>
            <a:off x="152280" y="152280"/>
            <a:ext cx="4038840" cy="6477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4876920" cy="6477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14800" y="152280"/>
            <a:ext cx="4876920" cy="647712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Первые стро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книг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«Рассуж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о методе…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были  та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слова Декар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«Я мысл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следователь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 </a:t>
            </a:r>
            <a:r>
              <a:rPr b="1" i="1" lang="en-US" sz="3600" spc="-1" strike="noStrike">
                <a:solidFill>
                  <a:srgbClr val="9900cc"/>
                </a:solidFill>
                <a:latin typeface="Bookman Old Style"/>
              </a:rPr>
              <a:t>я  существую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6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В декартовой системе координат получили реальное истолкование отрицательные числа.   Вклад в развитие координатного метода внес также Пьер Ферма, однако его работы были впервые опубликованы уже после его смерти.  Рене Декарт и Пьер Ферма применяли координатный метод только на плоскости. Координатный метод для трёхмерного пространства впервые применил Леонард Эйлер уже в XVIII веке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86360" y="4267080"/>
            <a:ext cx="1616040" cy="2165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000853"/>
          <p:cNvPicPr/>
          <p:nvPr/>
        </p:nvPicPr>
        <p:blipFill>
          <a:blip r:embed="rId4"/>
          <a:stretch/>
        </p:blipFill>
        <p:spPr>
          <a:xfrm>
            <a:off x="152280" y="4114800"/>
            <a:ext cx="19987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79132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- Назовите координаты точек, лежащих на координатных ос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Какие из данных точек лежат на координатных  осях и на какой: А(5;0;0), В(-7;5;0), С(0;0;-9), М(0;8;0), Р(0;1;0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- Назовите координаты точек, лежащих в координатных плоск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Какие из  данных точек лежат в координатных плоскостях и в какой: А(3;0;5), В(-1; 4; 6), С(0;5;-9), М(5;5;0), Х(9;7;0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- Назовите координаты точки, совпадающей с началом координат; лежащей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Выбрать  среди заданных точек те, которые лежат в пространстве или в начале координат: А(0;7;-2), О (0;0;0), В(2;4;-4), М(8;-5;2), Р(0;0;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6729"/>
                </a:solidFill>
                <a:latin typeface="Bookman Old Style"/>
              </a:rPr>
              <a:t>Как определить положение точки в пространстве?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00"/>
                </a:solidFill>
                <a:uFillTx/>
                <a:latin typeface="Bookman Old Style"/>
              </a:rPr>
              <a:t>Письменно: решить задачу</a:t>
            </a:r>
            <a:br>
              <a:rPr sz="2800"/>
            </a:b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1) Дано: А (1;-1;2), В (3;1;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Найдите координаты серед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отрезка АВ и его дл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Bookman Old Style"/>
              </a:rPr>
              <a:t>2)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Bookman Old Style"/>
              </a:rPr>
              <a:t>Подготовка к ЕНТ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Bookman Old Style"/>
              </a:rPr>
              <a:t>(сб. тестов НЦТ 2009 год, В 3 № 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Найти координаты цент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тяжести   треугольника 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вершинами  в точках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А(3; -4; 7), В(-5; 3; -2) и С(8; 7; 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Bookman Old Style"/>
              </a:rPr>
              <a:t>А. (-2; -2; 1),  В. (-5; 3; 9), С. (2; 2; 1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9900cc"/>
                </a:solidFill>
                <a:latin typeface="Bookman Old Style"/>
              </a:rPr>
              <a:t>D. (2; 2; -1),  Е. (2; -2; -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5" action="ppaction://hlinksldjump"/>
          </p:cNvPr>
          <p:cNvSpPr/>
          <p:nvPr/>
        </p:nvSpPr>
        <p:spPr>
          <a:xfrm>
            <a:off x="6705720" y="5791320"/>
            <a:ext cx="1042920" cy="609480"/>
          </a:xfrm>
          <a:custGeom>
            <a:avLst/>
            <a:gdLst>
              <a:gd name="textAreaLeft" fmla="*/ 39240 w 1042920"/>
              <a:gd name="textAreaRight" fmla="*/ 1003680 w 1042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6952" h="21600">
                <a:moveTo>
                  <a:pt x="0" y="0"/>
                </a:moveTo>
                <a:lnTo>
                  <a:pt x="36952" y="0"/>
                </a:lnTo>
                <a:lnTo>
                  <a:pt x="36952" y="21600"/>
                </a:lnTo>
                <a:lnTo>
                  <a:pt x="0" y="21600"/>
                </a:lnTo>
                <a:close/>
              </a:path>
              <a:path fill="lightenLess" w="36952" h="21600">
                <a:moveTo>
                  <a:pt x="0" y="0"/>
                </a:moveTo>
                <a:lnTo>
                  <a:pt x="36952" y="0"/>
                </a:lnTo>
                <a:lnTo>
                  <a:pt x="35552" y="1400"/>
                </a:lnTo>
                <a:lnTo>
                  <a:pt x="1400" y="1400"/>
                </a:lnTo>
                <a:close/>
              </a:path>
              <a:path fill="darken" w="36952" h="21600">
                <a:moveTo>
                  <a:pt x="36952" y="0"/>
                </a:moveTo>
                <a:lnTo>
                  <a:pt x="36952" y="21600"/>
                </a:lnTo>
                <a:lnTo>
                  <a:pt x="35552" y="20200"/>
                </a:lnTo>
                <a:lnTo>
                  <a:pt x="35552" y="1400"/>
                </a:lnTo>
                <a:close/>
              </a:path>
              <a:path fill="darkenLess" w="36952" h="21600">
                <a:moveTo>
                  <a:pt x="36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52" y="20200"/>
                </a:lnTo>
                <a:close/>
              </a:path>
              <a:path fill="lighten" w="36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52" h="21600">
                <a:moveTo>
                  <a:pt x="11470" y="3794"/>
                </a:moveTo>
                <a:lnTo>
                  <a:pt x="25483" y="10800"/>
                </a:lnTo>
                <a:lnTo>
                  <a:pt x="11470" y="17806"/>
                </a:lnTo>
                <a:close/>
              </a:path>
            </a:pathLst>
          </a:custGeom>
          <a:solidFill>
            <a:srgbClr val="e9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72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410080" cy="3429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5800" y="76320"/>
            <a:ext cx="7848720" cy="2895480"/>
          </a:xfrm>
          <a:prstGeom prst="rect">
            <a:avLst/>
          </a:prstGeom>
          <a:solidFill>
            <a:srgbClr val="e9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Из планиметрии мы знаем, что центр тяж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треугольника, указанного в условии зада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находится в точке пересечения его меди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Из элементарной геометрии известно, что 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медианы треугольника пересекаются в одной точ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причем эта точка делит медианы в отношении 2: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Bookman Old Style"/>
              </a:rPr>
              <a:t>считая от вершины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200400" y="4419360"/>
            <a:ext cx="1981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733560" y="4114800"/>
            <a:ext cx="1981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708660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Century Gothic"/>
              </a:rPr>
              <a:t>Координаты центра тяжести однородной треугольной пластинки, если не учитывать ее толщину, равны среднему арифметическому однородных  координат ее вершин. Координаты центра тяжести треугольника, расположенного в пространстве будут находиться по формулам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4114800"/>
            <a:ext cx="6934320" cy="182880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                        У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=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1219320" cy="990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295640" cy="990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562720" y="4419720"/>
            <a:ext cx="1371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029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781680" y="58672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e9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Bookman Old Style"/>
              </a:rPr>
              <a:t>Подготовка к ЕНТ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99"/>
                </a:solidFill>
                <a:uFillTx/>
                <a:latin typeface="Arial"/>
              </a:rPr>
              <a:t>(сб. апробационных тестов НЦТ 2013 год, В 0173 №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Найти координаты центра тяжести треугольника с вершинами в точках А(7; -4), В(-1; 8) и С(-12; -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А. (2; 1),  В. (-2; 1),  С. (3; -2)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D. (-1; 2),  Е. (2,5; 3)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Ответ: В.(-2; 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Работа с учебником:</a:t>
            </a:r>
            <a:r>
              <a:rPr b="1" i="1" lang="en-US" sz="4000" spc="-1" strike="noStrike" u="sng">
                <a:solidFill>
                  <a:srgbClr val="3333cc"/>
                </a:solidFill>
                <a:uFillTx/>
                <a:latin typeface="Arial"/>
              </a:rPr>
              <a:t> решение задач</a:t>
            </a: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№ 4 стр. 68; дополнительно: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№ 9 стр. 68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521400">
            <a:off x="4952520" y="365724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Bookman Old Style"/>
              </a:rPr>
              <a:t>Интересные факты о Рене Декарте.</a:t>
            </a: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Немалой   заслугой   Декарта    было  введение    удобных   обозначений,   сохранившихся    до  наших   дней:  латинских   букв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x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y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z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-  для    неизвестных;  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a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b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c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-  для  коэффициентов,  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x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Bookman Old Style"/>
              </a:rPr>
              <a:t>2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y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Bookman Old Style"/>
              </a:rPr>
              <a:t>5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a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Bookman Old Style"/>
              </a:rPr>
              <a:t>7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-   для     степ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Основное  новшество  Декарта  - введение  переменных   величин  как   координатных   отрезков  переменной 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Идея  геометрии   Декарта  состоит  в  том,  что   геометрический   объект  задается   уравнением,  связывающим   переменные   величины.   По  свойствам  уравнения   судят   о   свойствах   геометрического  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Декарт   считается  одним   из   основателей   новой   математики.  Его  имя  сохранили   термины: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«декартовы   координаты»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«декартов   лист»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«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правило  знаков   Декарта»</a:t>
            </a:r>
            <a:r>
              <a:rPr b="1" i="1" lang="ru-RU" sz="2000" spc="-1" strike="noStrike">
                <a:solidFill>
                  <a:srgbClr val="3333cc"/>
                </a:solidFill>
                <a:latin typeface="Bookman Old Style"/>
              </a:rPr>
              <a:t>, 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«метод   неопределенных   коэффициентов  Декар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250"/>
                            </p:stCondLst>
                            <p:childTnLst>
                              <p:par>
                                <p:cTn id="5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150"/>
                            </p:stCondLst>
                            <p:childTnLst>
                              <p:par>
                                <p:cTn id="5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1700"/>
                            </p:stCondLst>
                            <p:childTnLst>
                              <p:par>
                                <p:cTn id="5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7620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Интересен тот факт, что Рене Декарт увлекался не только математикой как наукой. Он увлекался науками от медицины до метеорологии. Его многочисленные труды были посвящены философии, астрономии,  психологии, физиологии, физике и другим наукам. Декарт первый математически вывел закон преломления света (независимо от 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2"/>
              </a:rPr>
              <a:t>В. 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3"/>
              </a:rPr>
              <a:t>Снеллиуса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) на границе двух различных сред. Точная формулировка этого закона позволила усовершенствовать оптические приборы, которые тогда стали играть огромную роль в астрономии и навиг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В честь Рене Декарта назван 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5"/>
              </a:rPr>
              <a:t>кратер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 на 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6"/>
              </a:rPr>
              <a:t>Луне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Великий физиолог 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8"/>
              </a:rPr>
              <a:t>И. П. Павлов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 поставил памятник-бюст   Рене Декарту возле своей лаборатории (</a:t>
            </a:r>
            <a:r>
              <a:rPr b="0" lang="ru-RU" sz="2000" spc="-1" strike="noStrike" u="sng">
                <a:solidFill>
                  <a:srgbClr val="9d943f"/>
                </a:solidFill>
                <a:uFillTx/>
                <a:latin typeface="Bookman Old Style"/>
                <a:hlinkClick r:id="rId9"/>
              </a:rPr>
              <a:t>Колтуши</a:t>
            </a:r>
            <a:r>
              <a:rPr b="1" i="1" lang="ru-RU" sz="2000" spc="-1" strike="noStrike">
                <a:solidFill>
                  <a:srgbClr val="cc0099"/>
                </a:solidFill>
                <a:latin typeface="Bookman Old Style"/>
              </a:rPr>
              <a:t>), потому что считал его предтечей свои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609480" y="0"/>
            <a:ext cx="7086600" cy="7620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6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6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Тем, кто любит математику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Тем, кто знает математику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Тем, кто ещё не знает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Что он любит математику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И  тем,  кто других учит математике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Предназначена эта научно-практическая конференция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Bookman Old Style"/>
              </a:rPr>
              <a:t>«Известная и неизвестная прямоугольная система координат».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8640" y="227160"/>
            <a:ext cx="4267080" cy="63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Bookman Old Style"/>
              </a:rPr>
              <a:t>«В чистой математике живет всегда художник: архитектор и даже поэт».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6600ff"/>
                </a:solidFill>
                <a:latin typeface="Bookman Old Style"/>
              </a:rPr>
              <a:t>Томас Манн</a:t>
            </a:r>
            <a:br>
              <a:rPr sz="4000"/>
            </a:b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(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А. Принсгейм)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60" name="" descr="Thomas Mann 1937.jpg"/>
          <p:cNvPicPr/>
          <p:nvPr/>
        </p:nvPicPr>
        <p:blipFill>
          <a:blip r:embed="rId1"/>
          <a:stretch/>
        </p:blipFill>
        <p:spPr>
          <a:xfrm>
            <a:off x="260280" y="1066680"/>
            <a:ext cx="33973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Bookman Old Style"/>
              </a:rPr>
              <a:t>Системы координат пронизывают всю практическую жизнь человека и находят свое применение почти в каждой специальности.</a:t>
            </a:r>
            <a:br>
              <a:rPr sz="3200"/>
            </a:br>
            <a:r>
              <a:rPr b="1" i="1" lang="en-US" sz="3200" spc="-1" strike="noStrike">
                <a:solidFill>
                  <a:srgbClr val="6600ff"/>
                </a:solidFill>
                <a:latin typeface="Bookman Old Style"/>
              </a:rPr>
              <a:t>Назовите те специальности, которые на ваш взгляд с своей работе используют   теорию Рене Декарта.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9900"/>
                </a:solidFill>
                <a:uFillTx/>
                <a:latin typeface="Bookman Old Style"/>
              </a:rPr>
              <a:t>Контрольные вопросы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- Объясните, как определяются координаты точки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- Сколько чисел задают любую точку  на плоскости, в простран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- Каким свойством обладают координаты точек, лежащих на координатных ос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- Каким свойством обладают координаты точек, лежащих в координатных плоскос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(0; 0; 8),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(-1;5;0), Е(0; 7;4),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(-6;-1; 0), К(0;0;0), М(0;-3;5),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(2;4;-1), Р(0;-6;0), А(1;0;5). Определите точки, принадлежащ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) осям координат х, у,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) координатным плоскостям ху, х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у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5791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19520" y="2209680"/>
            <a:ext cx="49528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«Изучив столько все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лишь тепер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уразумел 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что 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Bookman Old Style"/>
              </a:rPr>
              <a:t>не знаю ничего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648320"/>
            <a:ext cx="1752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Омар Хай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Bookman Old Style"/>
              </a:rPr>
              <a:t>Домашнее задание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Bookman Old Style"/>
              </a:rPr>
              <a:t>§19, § 20, теория, составить кластер по теме (работа в группах), № 4, №5 стр. 66; № 1,  № 3 стр. 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28600" y="914400"/>
            <a:ext cx="79246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005"/>
                <a:gd name="adj2" fmla="val 2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 Antiqua"/>
              </a:rPr>
              <a:t>Спасибо </a:t>
            </a:r>
            <a:endParaRPr b="1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 Antiqua"/>
              </a:rPr>
              <a:t>за урок!</a:t>
            </a:r>
            <a:endParaRPr b="1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med">
    <p:newsflash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94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Bookman Old Style"/>
              </a:rPr>
              <a:t>«То, что мы знаем – ограничено, а то, что мы не знаем – бесконечно…»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805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1" i="1" lang="ru-RU" sz="1800" spc="-1" strike="noStrike">
                <a:solidFill>
                  <a:srgbClr val="0000ff"/>
                </a:solidFill>
                <a:latin typeface="Bookman Old Style"/>
              </a:rPr>
              <a:t>французский математик и астроном  Пьер-Симон Лаплас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Картинка 7 из 1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52280"/>
            <a:ext cx="3817800" cy="2965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4826160" cy="30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930600" y="2286000"/>
            <a:ext cx="3388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Широта – параллел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долгота - меридиа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4572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Bookman Old Style"/>
              </a:rPr>
              <a:t>Система географических ко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350880"/>
            <a:ext cx="3276720" cy="2775960"/>
          </a:xfrm>
          <a:prstGeom prst="rect">
            <a:avLst/>
          </a:prstGeom>
          <a:solidFill>
            <a:srgbClr val="e9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6600ff"/>
                </a:solidFill>
                <a:latin typeface="Bookman Old Style"/>
              </a:rPr>
              <a:t>Нанесенные на глобусы и карты параллели и меридианы составляют градусную сетку</a:t>
            </a:r>
            <a:r>
              <a:rPr b="0" lang="pl-PL" sz="28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Картинка 1837 из 21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4149720"/>
            <a:ext cx="230328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8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5 0.04375 L -0.75521 -0.64074 E">
                                      <p:cBhvr>
                                        <p:cTn id="7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477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Участники конференци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лингвистики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Толкование происхождения слов, связанных с декартовой системой координ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истории: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 «История возникновения  системы координ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математики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Декартовы координаты в простран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 прикладной математики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Метод координат и его применение к решению  задач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Секция искусствоведов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Декартовы координаты в искус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Bookman Old Style"/>
              </a:rPr>
              <a:t>Отдел практики</a:t>
            </a: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: «Я  расскажу вам о своей работе…» (о профессиях, использующих в своей работе  теорию  о системе координ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"/>
                            </p:stCondLst>
                            <p:childTnLst>
                              <p:par>
                                <p:cTn id="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600"/>
                            </p:stCondLst>
                            <p:childTnLst>
                              <p:par>
                                <p:cTn id="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600"/>
                            </p:stCondLst>
                            <p:childTnLst>
                              <p:par>
                                <p:cTn id="1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600"/>
                            </p:stCondLst>
                            <p:childTnLst>
                              <p:par>
                                <p:cTn id="1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7160"/>
            <a:ext cx="73915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Bookman Old Style"/>
              </a:rPr>
              <a:t>Первое определение </a:t>
            </a:r>
            <a:r>
              <a:rPr b="1" i="1" lang="en-US" sz="2400" spc="-1" strike="noStrike">
                <a:solidFill>
                  <a:srgbClr val="cc00cc"/>
                </a:solidFill>
                <a:latin typeface="Bookman Old Style"/>
              </a:rPr>
              <a:t>IX</a:t>
            </a:r>
            <a:r>
              <a:rPr b="1" i="1" lang="ru-RU" sz="2400" spc="-1" strike="noStrike">
                <a:solidFill>
                  <a:srgbClr val="cc00cc"/>
                </a:solidFill>
                <a:latin typeface="Bookman Old Style"/>
              </a:rPr>
              <a:t> книги «Начала» Евклида гласит: «Тело есть то, что имеет длину, ширину и глубину». Тем не менее, есть основание полагать, что в древности такого современного  понятия о трехмерном пространстве как оно есть сейчас, не существовало.</a:t>
            </a: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256280" cy="33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15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55316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Bookman Old Style"/>
              </a:rPr>
              <a:t>История возникновения координат и системы координат начинается давно, первоначально идея метода координат возникла ещё в древнем мире в связи с потребностями астрономии, географии, живописи. Изображать числа в виде точек, а точкам давать числовые обозначения было желанием ещё античной геометрии.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Bookman Old Style"/>
              </a:rPr>
              <a:t>Уже во II веке древнегреческий астроном Клавдий Птоломей пользовался широтой и долготой в качестве координат.  Но, конечно же, основная заслуга в создании современного метода координат принадлежит французскому математику Рене Декарту.</a:t>
            </a: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2" name="" descr="Картинка 12 из 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1609560" cy="2082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04920" y="35812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Клавд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Птоло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267080"/>
            <a:ext cx="1559160" cy="2013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95480" y="388620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Bookman Old Style"/>
              </a:rPr>
              <a:t>Пьер Фе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Изображени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4267080"/>
            <a:ext cx="1708200" cy="2013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86400" y="3809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Bookman Old Style"/>
              </a:rPr>
              <a:t>Рене Д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38480" y="9140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Высь, ширь, глубь. Лишь три координаты.</a:t>
            </a:r>
            <a:br>
              <a:rPr sz="2400"/>
            </a:b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Мимо них где путь? Засов закрыт.</a:t>
            </a:r>
            <a:br>
              <a:rPr sz="2400"/>
            </a:b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С Пифагором слушай сфер сонаты,</a:t>
            </a:r>
            <a:br>
              <a:rPr sz="2400"/>
            </a:b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Атомам дли счёт, как Демокрит.</a:t>
            </a:r>
            <a:br>
              <a:rPr sz="2400"/>
            </a:br>
            <a:r>
              <a:rPr b="1" i="1" lang="ru-RU" sz="2400" spc="-1" strike="noStrike">
                <a:solidFill>
                  <a:srgbClr val="6600cc"/>
                </a:solidFill>
                <a:latin typeface="Bookman Old Style"/>
              </a:rPr>
              <a:t>                                         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Bookman Old Style"/>
              </a:rPr>
              <a:t>Валерий Брюсов.</a:t>
            </a: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5486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33520" y="5334120"/>
            <a:ext cx="1371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File:Vrubel Bryusov.jpg"/>
          <p:cNvPicPr/>
          <p:nvPr/>
        </p:nvPicPr>
        <p:blipFill>
          <a:blip r:embed="rId2"/>
          <a:stretch/>
        </p:blipFill>
        <p:spPr>
          <a:xfrm>
            <a:off x="167652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35,-44)"/>
                                          </p:val>
                                        </p:tav>
                                        <p:tav tm="50000">
                                          <p:val>
                                            <p:strVal val="rgb(63,-108,-9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35,-44)"/>
                                          </p:val>
                                        </p:tav>
                                        <p:tav tm="50000">
                                          <p:val>
                                            <p:strVal val="rgb(63,-108,-9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360"/>
                            </p:stCondLst>
                            <p:childTnLst>
                              <p:par>
                                <p:cTn id="1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15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1155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115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115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360"/>
                            </p:stCondLst>
                            <p:childTnLst>
                              <p:par>
                                <p:cTn id="19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8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19112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«Математика – мощный и универсальный  метод познания природы, образец для  других наук».</a:t>
            </a: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Рене Декарт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3433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0T05:08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