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66-F045-4C8A-B706-889C4EF9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ED4-FE93-469D-8431-65128B4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7DD-B984-45D0-816C-5CD24D0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605-F43A-403D-813C-007706EA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AD67-9C6A-4725-BB97-322EDC51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CD7E-7A9E-4300-AC31-760DEE0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FCDA-DD64-48AE-807E-C2D5F1B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4224-030F-44C4-A3B8-14E7B14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4929-4C6F-4152-A58C-1FD7A3A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F2F8-0D06-4969-8491-F7C5DEC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17BE-A8FA-4E72-94F8-CEE881E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72D-3A65-438F-AAD0-60A1152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4ED0-06EE-4CAA-AEE4-7637F87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D2A7-1CB3-41B9-AB78-925B130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AA1-7F67-4E24-90B2-E0F99A5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869-96E9-41E2-A0E1-7C8BF591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F280-FCCB-49F2-819A-7D7BDE37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BB1-FF28-4773-9643-62EC726F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1F9-DED8-4A6D-B496-B085D46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697-6362-4C25-9216-1D8EA4B1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778-C062-4CDC-8CEA-53E09E7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74E-D2CC-4586-8BD6-8FF386A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4F8-945A-47A1-B3E0-15FC726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254-EA77-4003-897B-04613FD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92F-ED07-4847-AF48-49A64021678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899-9CA5-4267-9292-130F2E0A5FA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опросительно-относительные местоиме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9720" y="1214280"/>
            <a:ext cx="79297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вязный рассказ, безжалостный человек, подытожить, сбить, расчетливый, приумолкнуть, безынициативный, предание старины, придать вид, бесцветный, беспрекословно, претворить мечту в жизн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йди лишне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я, на них, ты, в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свой, моего, его, т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этот, тот, такой, та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есь, мой, самый, иной, кажд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йди лишне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я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 н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ы, в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свой, моего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этот, тот, такой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та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есь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амый, иной, кажд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8440" y="259920"/>
            <a:ext cx="3568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57160" y="907560"/>
            <a:ext cx="3640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то, что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й, каков, котор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ей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колько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25992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тнос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907560"/>
            <a:ext cx="4041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т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в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оторы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е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кольк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ОЮЗНЫЕ СЛОВА являются членам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85880"/>
            <a:ext cx="7721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66"/>
                </a:solidFill>
                <a:latin typeface="Times New Roman"/>
              </a:rPr>
              <a:t>Вопросительно-относительные местоимения 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25760" y="264312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то, что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по пад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акой, который, чей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аков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</a:t>
            </a: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по родам, числ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сколько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 – по падеж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857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чью на охоту выходят многие животные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хорьки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лис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олки. От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ать пищу им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помогает уд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тельное зрение. Но есть птиц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ч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ь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зрение острее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чем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у этих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указ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животных. Кто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воп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они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? Совы и филины. Лучше всех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пред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видят сов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у которых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глаза улавл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ают даже слабый свет. Выручает их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и острый слух. Ухо совы издали слы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 даже 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х мы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ых лап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.62, ОК, №682 (1 часть, зад.1,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286000" y="13572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лицея №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невой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23:32Z</dcterms:created>
  <dc:creator>Student</dc:creator>
  <dc:description/>
  <dc:language>en-US</dc:language>
  <cp:lastModifiedBy>Student</cp:lastModifiedBy>
  <dcterms:modified xsi:type="dcterms:W3CDTF">2013-03-03T21:33:51Z</dcterms:modified>
  <cp:revision>14</cp:revision>
  <dc:subject/>
  <dc:title>Вопросительно-относительные местоимения</dc:title>
</cp:coreProperties>
</file>