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F1C-98C9-4AD3-B7CD-52BE207C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C3A-19DA-4C14-B2F8-B192FDDE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1C9-B8D6-4E78-8FB1-B3F062D4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31A-0668-4C45-A351-E6DE6132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9714-3D44-4078-8D6B-8BD77C74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B1E-948C-4982-B2A7-C3C9E974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1211-0CCC-48E6-AD32-A8D58EB1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754F-AF7F-45CA-A051-6F1D505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9370-24C4-4387-A16E-BFD70F4B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1A62-2146-4A5C-9C9B-54E9C60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08D-B7C4-45A8-86C7-6E284B7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802-7FA8-4C67-891A-19BB747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E3C-68F6-40EC-B113-8728E53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B5F-FFD5-4735-A35B-F846FD1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627-ACDA-4DAD-9156-7D4568C9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F4F-F951-49D9-A118-849B424F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E2F0-A1CB-4646-8047-2A41B1B7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D30-F5CA-4A5D-9A7C-98EC04D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649-9F57-4FEF-8D6C-35E2776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477-15D8-46F5-BFE4-D81561D8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CCF-0F2F-46ED-ABC6-A2DE89CF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571-47C3-4789-ADC2-5D882A0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324-1752-4EEE-87F7-136E739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D84-55E6-4093-B24A-AA176D8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406-302C-4847-8A56-27E8BBA2316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8103-B561-4A9C-B58D-0AACAB86FA2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опросительно-относительные местоиме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9720" y="1214280"/>
            <a:ext cx="79297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вязный рассказ, безжалостный человек, подытожить, сбить, расчетливый, приумолкнуть, безынициативный, предание старины, придать вид, бесцветный, беспрекословно, претворить мечту в жизн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йди лишне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я, на них, ты, в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свой, моего, его, т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этот, тот, такой, та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весь, мой, самый, иной, кажд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йди лишне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я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а н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ы, в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свой, моего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этот, тот, такой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та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весь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амый, иной, кажд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8440" y="259920"/>
            <a:ext cx="3568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прос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57160" y="907560"/>
            <a:ext cx="3640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то, что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акой, каков, котор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чей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колько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25992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тнос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907560"/>
            <a:ext cx="4041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то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акой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 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аков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],(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который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чей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[            ],(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колько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ОЮЗНЫЕ СЛОВА являются членам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85880"/>
            <a:ext cx="7721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66"/>
                </a:solidFill>
                <a:latin typeface="Times New Roman"/>
              </a:rPr>
              <a:t>Вопросительно-относительные местоимения 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25760" y="264312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кто, что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–по падеж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какой, который, чей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–по родам, числам и падеж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каков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–</a:t>
            </a: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по родам, числ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imes New Roman"/>
              </a:rPr>
              <a:t>сколько</a:t>
            </a:r>
            <a:r>
              <a:rPr b="0" lang="ru-RU" sz="3600" spc="-1" strike="noStrike">
                <a:solidFill>
                  <a:srgbClr val="339966"/>
                </a:solidFill>
                <a:latin typeface="Times New Roman"/>
              </a:rPr>
              <a:t> – по падеж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857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чью на охоту выходят многие животные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хорьки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лисы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олки. От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ать пищу им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лич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помогает уд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тельное зрение. Но есть птицы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ч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ь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т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зрение острее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чем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т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у этих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указ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животных. Кто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воп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они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лич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? Совы и филины. Лучше всех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пред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видят совы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у которых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т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глаза улавл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ают даже слабый свет. Выручает их (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лич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) и острый слух. Ухо совы издали слыш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 даже ш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х мыш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ых лап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.62, ОК, №682 (1 часть, зад.1,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2286000" y="13572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русского языка и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лицея №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невой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4:23:32Z</dcterms:created>
  <dc:creator>Student</dc:creator>
  <dc:description/>
  <dc:language>en-US</dc:language>
  <cp:lastModifiedBy>Student</cp:lastModifiedBy>
  <dcterms:modified xsi:type="dcterms:W3CDTF">2013-03-03T21:33:51Z</dcterms:modified>
  <cp:revision>14</cp:revision>
  <dc:subject/>
  <dc:title>Вопросительно-относительные местоимения</dc:title>
</cp:coreProperties>
</file>