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1DE-AEAC-404B-B2B0-08C56E46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2EB-2916-4D09-8535-9784747F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C83-01A5-44EF-B951-D04B8CC8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A08-67A8-4B19-A956-F6EC021E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F074-6E89-4807-A8F7-5A6ACF05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18FB-5572-4333-87BD-9BCC3BC3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6CCC-59A5-4C32-B648-E3C60D46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05AF-462F-497F-8FC6-B9EE8CBB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8FF0-58EA-494B-A49F-FDA16F1A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DAA4-8E62-4CBC-A29E-821F8E67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B194-774E-4B34-8462-E559E1C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117-B13B-4F77-9C71-A07697D3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CD78-628F-4F94-A948-A451B907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F60-C5DC-4398-8DC1-78C2CB27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4C46-DD2B-4E98-B629-F5979E5F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EBD9-812F-412A-8FAA-5922243E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FD60-39E5-461B-B21F-54C35E4E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539-8533-473E-85D5-6E7DC8CD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CA5-57FC-432F-AE51-EBFD8227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4C1-CB09-4A02-80F2-8CF4D47D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51C-502B-46ED-A1D6-A46BDB16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52E-5EA7-4017-9AB0-01E83A5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89E-0CC9-4E84-941A-13F54AD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538-B475-4A2D-B9A8-F30CC9C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7EE5-0546-4849-B58F-98D742F163D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DA08-990B-46D9-8748-4B2E97EFE76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762120"/>
            <a:ext cx="8076960" cy="5410080"/>
          </a:xfrm>
          <a:prstGeom prst="plus">
            <a:avLst>
              <a:gd name="adj" fmla="val 21509"/>
            </a:avLst>
          </a:prstGeom>
          <a:solidFill>
            <a:srgbClr val="0066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219320"/>
            <a:ext cx="7086600" cy="4572000"/>
          </a:xfrm>
          <a:prstGeom prst="plus">
            <a:avLst>
              <a:gd name="adj" fmla="val 25000"/>
            </a:avLst>
          </a:prstGeom>
          <a:solidFill>
            <a:srgbClr val="00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676520"/>
            <a:ext cx="6095880" cy="3657600"/>
          </a:xfrm>
          <a:prstGeom prst="plus">
            <a:avLst>
              <a:gd name="adj" fmla="val 29167"/>
            </a:avLst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справление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нарушений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произношения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звуков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’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араламбдац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08560" y="1989000"/>
            <a:ext cx="7744680" cy="4317840"/>
            <a:chOff x="808560" y="1989000"/>
            <a:chExt cx="7744680" cy="4317840"/>
          </a:xfrm>
        </p:grpSpPr>
        <p:sp>
          <p:nvSpPr>
            <p:cNvPr id="149" name="_s137243"/>
            <p:cNvSpPr/>
            <p:nvPr/>
          </p:nvSpPr>
          <p:spPr>
            <a:xfrm flipH="1" flipV="1">
              <a:off x="3331800" y="2999880"/>
              <a:ext cx="964440" cy="85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_s137242"/>
            <p:cNvSpPr/>
            <p:nvPr/>
          </p:nvSpPr>
          <p:spPr>
            <a:xfrm>
              <a:off x="2246400" y="227304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В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_s137241"/>
            <p:cNvSpPr/>
            <p:nvPr/>
          </p:nvSpPr>
          <p:spPr>
            <a:xfrm flipH="1" flipV="1">
              <a:off x="2408760" y="3598560"/>
              <a:ext cx="1631160" cy="4233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37240"/>
            <p:cNvSpPr/>
            <p:nvPr/>
          </p:nvSpPr>
          <p:spPr>
            <a:xfrm>
              <a:off x="1065240" y="304092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Н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_s137239"/>
            <p:cNvSpPr/>
            <p:nvPr/>
          </p:nvSpPr>
          <p:spPr>
            <a:xfrm flipH="1">
              <a:off x="2207160" y="4242600"/>
              <a:ext cx="1778760" cy="138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37238"/>
            <p:cNvSpPr/>
            <p:nvPr/>
          </p:nvSpPr>
          <p:spPr>
            <a:xfrm>
              <a:off x="808560" y="404604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Х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_s137221"/>
            <p:cNvSpPr/>
            <p:nvPr/>
          </p:nvSpPr>
          <p:spPr>
            <a:xfrm flipH="1">
              <a:off x="2792880" y="4444200"/>
              <a:ext cx="1362240" cy="6573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_s137222"/>
            <p:cNvSpPr/>
            <p:nvPr/>
          </p:nvSpPr>
          <p:spPr>
            <a:xfrm>
              <a:off x="1559520" y="496944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Д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_s137223"/>
            <p:cNvSpPr/>
            <p:nvPr/>
          </p:nvSpPr>
          <p:spPr>
            <a:xfrm flipH="1">
              <a:off x="3977640" y="4563000"/>
              <a:ext cx="511920" cy="967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_s137224"/>
            <p:cNvSpPr/>
            <p:nvPr/>
          </p:nvSpPr>
          <p:spPr>
            <a:xfrm>
              <a:off x="3078360" y="551736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Б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_s137225"/>
            <p:cNvSpPr/>
            <p:nvPr/>
          </p:nvSpPr>
          <p:spPr>
            <a:xfrm>
              <a:off x="4884840" y="4561200"/>
              <a:ext cx="500400" cy="9694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_s137226"/>
            <p:cNvSpPr/>
            <p:nvPr/>
          </p:nvSpPr>
          <p:spPr>
            <a:xfrm>
              <a:off x="4884840" y="551520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Ы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_s137227"/>
            <p:cNvSpPr/>
            <p:nvPr/>
          </p:nvSpPr>
          <p:spPr>
            <a:xfrm>
              <a:off x="5216400" y="4439160"/>
              <a:ext cx="1353600" cy="662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_s137228"/>
            <p:cNvSpPr/>
            <p:nvPr/>
          </p:nvSpPr>
          <p:spPr>
            <a:xfrm>
              <a:off x="6401160" y="496620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Г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_s137229"/>
            <p:cNvSpPr/>
            <p:nvPr/>
          </p:nvSpPr>
          <p:spPr>
            <a:xfrm>
              <a:off x="5376240" y="4235760"/>
              <a:ext cx="1778040" cy="145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_s137230"/>
            <p:cNvSpPr/>
            <p:nvPr/>
          </p:nvSpPr>
          <p:spPr>
            <a:xfrm>
              <a:off x="7149240" y="4042440"/>
              <a:ext cx="1404000" cy="789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Р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_s137231"/>
            <p:cNvSpPr/>
            <p:nvPr/>
          </p:nvSpPr>
          <p:spPr>
            <a:xfrm flipV="1">
              <a:off x="5315400" y="3598560"/>
              <a:ext cx="1637280" cy="418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_s137232"/>
            <p:cNvSpPr/>
            <p:nvPr/>
          </p:nvSpPr>
          <p:spPr>
            <a:xfrm>
              <a:off x="6889320" y="3039480"/>
              <a:ext cx="1404720" cy="78912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Л</a:t>
              </a:r>
              <a:r>
                <a:rPr b="0" lang="ru-RU" sz="4100" spc="-1" strike="noStrike">
                  <a:solidFill>
                    <a:srgbClr val="006e6b"/>
                  </a:solidFill>
                  <a:latin typeface="Times New Roman"/>
                </a:rPr>
                <a:t>’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_s137233"/>
            <p:cNvSpPr/>
            <p:nvPr/>
          </p:nvSpPr>
          <p:spPr>
            <a:xfrm flipV="1">
              <a:off x="5056200" y="2999880"/>
              <a:ext cx="974160" cy="850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_s137234"/>
            <p:cNvSpPr/>
            <p:nvPr/>
          </p:nvSpPr>
          <p:spPr>
            <a:xfrm>
              <a:off x="5707800" y="2273040"/>
              <a:ext cx="1404720" cy="78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Й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_s137235"/>
            <p:cNvSpPr/>
            <p:nvPr/>
          </p:nvSpPr>
          <p:spPr>
            <a:xfrm flipV="1">
              <a:off x="4679640" y="2778120"/>
              <a:ext cx="0" cy="10116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_s137236"/>
            <p:cNvSpPr/>
            <p:nvPr/>
          </p:nvSpPr>
          <p:spPr>
            <a:xfrm>
              <a:off x="3977640" y="1989000"/>
              <a:ext cx="1404000" cy="7891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100" spc="-1" strike="noStrike">
                  <a:solidFill>
                    <a:srgbClr val="006e6b"/>
                  </a:solidFill>
                  <a:latin typeface="Times New Roman"/>
                </a:rPr>
                <a:t>У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_s137237"/>
            <p:cNvSpPr/>
            <p:nvPr/>
          </p:nvSpPr>
          <p:spPr>
            <a:xfrm>
              <a:off x="3977640" y="3790080"/>
              <a:ext cx="1404000" cy="7894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6e6b"/>
                  </a:solidFill>
                  <a:latin typeface="Times New Roman"/>
                </a:rPr>
                <a:t>Л</a:t>
              </a:r>
              <a:endParaRPr b="0" lang="en-US" sz="4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мен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Й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9836" t="16232" r="52463" b="57785"/>
          <a:stretch/>
        </p:blipFill>
        <p:spPr>
          <a:xfrm>
            <a:off x="1219320" y="1981080"/>
            <a:ext cx="3124080" cy="3353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32408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амена звука звука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14439" t="12902" r="8546" b="34410"/>
          <a:stretch/>
        </p:blipFill>
        <p:spPr>
          <a:xfrm>
            <a:off x="1143000" y="1981080"/>
            <a:ext cx="3124080" cy="3353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324080" y="551664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амена звука звука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Ы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>
            <a:grayscl/>
            <a:lum contrast="6000"/>
          </a:blip>
          <a:srcRect l="14588" t="15045" r="9347" b="32567"/>
          <a:stretch/>
        </p:blipFill>
        <p:spPr>
          <a:xfrm>
            <a:off x="990720" y="1981080"/>
            <a:ext cx="312408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118116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становк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усть ребенок произнесет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так как умеет, т.е. практически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более четко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постепенно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тодвиг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ладонь подальше ото рт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явится некий «жужжащий» призву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 время длительного произнесения этого «жужжащего» гласного звука ребенок должен прижать свой мягкий «ленивый» язык к передним зубам и продолжать произносить свой зву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результате получится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амена звука звука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505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9068" t="15000" r="13064" b="32145"/>
          <a:stretch/>
        </p:blipFill>
        <p:spPr>
          <a:xfrm>
            <a:off x="1371600" y="1981080"/>
            <a:ext cx="3048120" cy="350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154008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амена звука звука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  <a:ea typeface="Times New Roman"/>
              </a:rPr>
              <a:t>’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3"/>
          <a:srcRect l="13414" t="12000" r="9545" b="35002"/>
          <a:stretch/>
        </p:blipFill>
        <p:spPr>
          <a:xfrm>
            <a:off x="1219320" y="1981080"/>
            <a:ext cx="312408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1395720" y="55166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правление  произнош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ОМИЧЕВА М. Ф.: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 Регуляция уровня подъема средней части спинки языка за счет произношения звук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Ы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ужно сначала дать ребенку возможность ощутить, почувствовать положение языка при произнесении звука Ы, а затем как бы «заморозить» язык и шевелить только его кончиком, поднимая его вверх. Получится протяжное «ЫЛ - ЫЛ - ЫЛ…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 Механический способ - слегка прижать палочкой среднюю часть спинки языка во время протяжного произнесения ребенком мягкого звука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’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правление  произнош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авдина  О. В.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… при смягчении звука  дать возможность почувствовать напряжение в области плечевого пояса  и ше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этого нужно нагнуть голову вперед и в этом положении тянуть звук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возможно низком тоне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правление  произнош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Полякова М.А.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оизносить звук в сочетании АЛА. Первое время можно прикусывать кончик языка зубами. Последним гласным звуком ребенок должен «целиться» себе в ладонь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. П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оизношение слог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ЛА, прижимая к верхним резцам нижнюю (тыльную) часть кончика языка. Для этого ему придется загнуть вверх кончик языка, а среднюю часть спинки языка опустить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Затем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переходите к произношению звука обычным образом (прикасаясь кончиком языка к верхним резцам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тсутствие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  <a:ea typeface="Times New Roman"/>
              </a:rPr>
              <a:t>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место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звук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удлиняется  смежный гласный звук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ААМП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 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лампа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, БЕЕК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 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белка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ричиной отсутствия звук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речи может служить либо неспособность ребенка опознавать, выделять его на слух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либо полное отсутствие артикуляционных навыков воспроизведения этого звука, несмотря на то, что ребенок без труда воспринимает его на слух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мен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Г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3"/>
          <a:srcRect l="11469" t="14815" r="12071" b="32099"/>
          <a:stretch/>
        </p:blipFill>
        <p:spPr>
          <a:xfrm>
            <a:off x="1143000" y="1981080"/>
            <a:ext cx="3124080" cy="3353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132408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мен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звуком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14454" t="13923" r="10144" b="32866"/>
          <a:stretch/>
        </p:blipFill>
        <p:spPr>
          <a:xfrm>
            <a:off x="1219320" y="1981080"/>
            <a:ext cx="312408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1324080" y="55897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ара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дготовительный этап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У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чить ребенка опознавать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выделять его на слу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Ф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рмировать правильный артикуляционный праксис посредством специальных упражнений, а именно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  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*  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ырабатывать навыки подъема кончика языка ввер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*  о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тработать подъем задней части спинки языка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*  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ыработать умение опускать боковые края языка и направлять воздушную струю в щель между краями языка и коренными зуб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особ  Хватцева М.Е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37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ебенок негромко и низким голосом тянет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Рот широко открывать не нужно (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может звучать как что-то среднее между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ыдох, как ровная струя горячего воздуха, должен ощущаться на подставленной ко рту ру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о время такого произнесения нужно «стучать» языком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верхние резц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Получится: 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ЛА – ЛА – Л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… с несколько усеченным гласным звук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Такие же упражнения ребенок должен выполнять       с гласными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особ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  <a:ea typeface="Times New Roman"/>
              </a:rPr>
              <a:t>Г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иншпун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  <a:ea typeface="Times New Roman"/>
              </a:rPr>
              <a:t>  Б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.М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ебенку предлагается слегка раскрыть рот и произнести сочетание «ЫА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ри этом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произносится кратко, с напряжением органов артикуляции (как на твердой атаке голоса). Образец произнесения показывает логопед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ак только ребенок усвоит нужное произнес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гопед просит его вновь произнести это сочетание, но при зажатом между зубами язы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этот момент четко слышится сочетание «ЛА»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вугубный  ламбдац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9931" t="46714" r="52469" b="27114"/>
          <a:stretch/>
        </p:blipFill>
        <p:spPr>
          <a:xfrm>
            <a:off x="914400" y="1981080"/>
            <a:ext cx="312408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4"/>
          <a:srcRect l="21106" t="33510" r="69574" b="61830"/>
          <a:stretch/>
        </p:blipFill>
        <p:spPr>
          <a:xfrm>
            <a:off x="1295280" y="335268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rcRect l="22974" t="39346" r="67706" b="57159"/>
          <a:stretch/>
        </p:blipFill>
        <p:spPr>
          <a:xfrm>
            <a:off x="1371600" y="3581280"/>
            <a:ext cx="380880" cy="228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7960" y="55897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становка звука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]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 двугубном произношен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ротяжное произнесение гласного «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»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с закушенным языком позволяет вызвать изолированны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а ритмичное покусывание напряженного высунутого языка во время фонации гласного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стимулирует слоги типа «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ла – ла - ла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ражнения в попеременном смыкании 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азмыкании губ с оскаливанием зуб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ежзубный  ламбдац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2057400"/>
            <a:ext cx="3124080" cy="3535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16975" t="42857" r="5161" b="2142"/>
          <a:stretch/>
        </p:blipFill>
        <p:spPr>
          <a:xfrm>
            <a:off x="990720" y="2057400"/>
            <a:ext cx="3047760" cy="350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623960" y="559116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осовой  ламбдац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р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11789" t="14815" r="11736" b="33333"/>
          <a:stretch/>
        </p:blipFill>
        <p:spPr>
          <a:xfrm>
            <a:off x="5029200" y="1981080"/>
            <a:ext cx="3124080" cy="33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1292" t="2428" r="42305" b="23789"/>
          <a:stretch/>
        </p:blipFill>
        <p:spPr>
          <a:xfrm>
            <a:off x="1143000" y="1981080"/>
            <a:ext cx="3048120" cy="3429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1407960" y="55897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амбдац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47:50Z</dcterms:created>
  <dc:creator>Костя</dc:creator>
  <dc:description/>
  <dc:language>en-US</dc:language>
  <cp:lastModifiedBy>1</cp:lastModifiedBy>
  <dcterms:modified xsi:type="dcterms:W3CDTF">2009-11-04T12:57:04Z</dcterms:modified>
  <cp:revision>52</cp:revision>
  <dc:subject/>
  <dc:title>Зондовый массаж  подъязычной уздечки</dc:title>
</cp:coreProperties>
</file>