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004-F538-4C2C-B206-3FFAC66E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3F6-6AB1-448E-A6F0-31ADD0AD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6F8-F905-491C-AEBF-3E1C54D9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AE7-8E76-40B1-A6C5-C046BEF9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0761-BBF7-4053-8922-FF66E40B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691A-B8BE-42FF-B0DA-353CB825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19B7-CCFA-4D21-BC98-D4DC48EE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AC5A-A12A-4F0F-863A-8D26B235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2A6B-7DA2-467E-9720-50319725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1E66-FF52-422D-A915-54ED49C3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05E9-FAE8-4B30-8F43-085E9435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CCE-D05D-475E-9C96-91506A2D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C106-929D-4E7A-80C3-D2EF4B74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C959-DE59-49C5-80D3-2FEDE9A8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8AE7-F5CD-4AEB-ABCD-612DE53F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D735-4D10-49CA-A6A4-D130A5B7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14A0-6A45-49BC-B32F-D3D5FED9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FF1-3324-4DA6-86BC-C8EBD22C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403-ECDF-4CED-906A-4E6F4B9E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DD1-54A8-4F38-A03A-3B90C4A8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7AA-09A3-4114-8B87-E870083D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FB0-575D-46EF-AEC1-5A4A8468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CC1-8EC6-4C82-A805-3412154C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ED9-D0C0-41E9-9CEE-E19FB70F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7D0E-9751-49B3-9D94-8E8A348F5B4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8A30-36C6-4D59-B317-A7749406B2E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762120"/>
            <a:ext cx="8076960" cy="5410080"/>
          </a:xfrm>
          <a:prstGeom prst="plus">
            <a:avLst>
              <a:gd name="adj" fmla="val 21509"/>
            </a:avLst>
          </a:prstGeom>
          <a:solidFill>
            <a:srgbClr val="0066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219320"/>
            <a:ext cx="7086600" cy="4572000"/>
          </a:xfrm>
          <a:prstGeom prst="plus">
            <a:avLst>
              <a:gd name="adj" fmla="val 25000"/>
            </a:avLst>
          </a:prstGeom>
          <a:solidFill>
            <a:srgbClr val="00ff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676520"/>
            <a:ext cx="6095880" cy="3657600"/>
          </a:xfrm>
          <a:prstGeom prst="plus">
            <a:avLst>
              <a:gd name="adj" fmla="val 29167"/>
            </a:avLst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справление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нарушений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произношения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звуков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’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араламбдациз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08560" y="1989000"/>
            <a:ext cx="7744680" cy="4317840"/>
            <a:chOff x="808560" y="1989000"/>
            <a:chExt cx="7744680" cy="4317840"/>
          </a:xfrm>
        </p:grpSpPr>
        <p:sp>
          <p:nvSpPr>
            <p:cNvPr id="149" name="_s137243"/>
            <p:cNvSpPr/>
            <p:nvPr/>
          </p:nvSpPr>
          <p:spPr>
            <a:xfrm flipH="1" flipV="1">
              <a:off x="3331800" y="2999880"/>
              <a:ext cx="964440" cy="852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_s137242"/>
            <p:cNvSpPr/>
            <p:nvPr/>
          </p:nvSpPr>
          <p:spPr>
            <a:xfrm>
              <a:off x="2246400" y="2273040"/>
              <a:ext cx="1404720" cy="78948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В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_s137241"/>
            <p:cNvSpPr/>
            <p:nvPr/>
          </p:nvSpPr>
          <p:spPr>
            <a:xfrm flipH="1" flipV="1">
              <a:off x="2408760" y="3598560"/>
              <a:ext cx="1631160" cy="4233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_s137240"/>
            <p:cNvSpPr/>
            <p:nvPr/>
          </p:nvSpPr>
          <p:spPr>
            <a:xfrm>
              <a:off x="1065240" y="3040920"/>
              <a:ext cx="1404720" cy="7894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Н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_s137239"/>
            <p:cNvSpPr/>
            <p:nvPr/>
          </p:nvSpPr>
          <p:spPr>
            <a:xfrm flipH="1">
              <a:off x="2207160" y="4242600"/>
              <a:ext cx="1778760" cy="138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_s137238"/>
            <p:cNvSpPr/>
            <p:nvPr/>
          </p:nvSpPr>
          <p:spPr>
            <a:xfrm>
              <a:off x="808560" y="4046040"/>
              <a:ext cx="1404720" cy="78948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Х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_s137221"/>
            <p:cNvSpPr/>
            <p:nvPr/>
          </p:nvSpPr>
          <p:spPr>
            <a:xfrm flipH="1">
              <a:off x="2792880" y="4444200"/>
              <a:ext cx="1362240" cy="6573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_s137222"/>
            <p:cNvSpPr/>
            <p:nvPr/>
          </p:nvSpPr>
          <p:spPr>
            <a:xfrm>
              <a:off x="1559520" y="4969440"/>
              <a:ext cx="1404720" cy="789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Д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_s137223"/>
            <p:cNvSpPr/>
            <p:nvPr/>
          </p:nvSpPr>
          <p:spPr>
            <a:xfrm flipH="1">
              <a:off x="3977640" y="4563000"/>
              <a:ext cx="511920" cy="967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_s137224"/>
            <p:cNvSpPr/>
            <p:nvPr/>
          </p:nvSpPr>
          <p:spPr>
            <a:xfrm>
              <a:off x="3078360" y="5517360"/>
              <a:ext cx="1404720" cy="7894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Б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_s137225"/>
            <p:cNvSpPr/>
            <p:nvPr/>
          </p:nvSpPr>
          <p:spPr>
            <a:xfrm>
              <a:off x="4884840" y="4561200"/>
              <a:ext cx="500400" cy="9694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_s137226"/>
            <p:cNvSpPr/>
            <p:nvPr/>
          </p:nvSpPr>
          <p:spPr>
            <a:xfrm>
              <a:off x="4884840" y="5515200"/>
              <a:ext cx="1404720" cy="78948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Ы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_s137227"/>
            <p:cNvSpPr/>
            <p:nvPr/>
          </p:nvSpPr>
          <p:spPr>
            <a:xfrm>
              <a:off x="5216400" y="4439160"/>
              <a:ext cx="1353600" cy="6624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_s137228"/>
            <p:cNvSpPr/>
            <p:nvPr/>
          </p:nvSpPr>
          <p:spPr>
            <a:xfrm>
              <a:off x="6401160" y="4966200"/>
              <a:ext cx="1404720" cy="78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Г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_s137229"/>
            <p:cNvSpPr/>
            <p:nvPr/>
          </p:nvSpPr>
          <p:spPr>
            <a:xfrm>
              <a:off x="5376240" y="4235760"/>
              <a:ext cx="1778040" cy="1454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_s137230"/>
            <p:cNvSpPr/>
            <p:nvPr/>
          </p:nvSpPr>
          <p:spPr>
            <a:xfrm>
              <a:off x="7149240" y="4042440"/>
              <a:ext cx="1404000" cy="789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Р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_s137231"/>
            <p:cNvSpPr/>
            <p:nvPr/>
          </p:nvSpPr>
          <p:spPr>
            <a:xfrm flipV="1">
              <a:off x="5315400" y="3598560"/>
              <a:ext cx="1637280" cy="418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_s137232"/>
            <p:cNvSpPr/>
            <p:nvPr/>
          </p:nvSpPr>
          <p:spPr>
            <a:xfrm>
              <a:off x="6889320" y="3039480"/>
              <a:ext cx="1404720" cy="78912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Л</a:t>
              </a:r>
              <a:r>
                <a:rPr b="0" lang="ru-RU" sz="4100" spc="-1" strike="noStrike">
                  <a:solidFill>
                    <a:srgbClr val="006e6b"/>
                  </a:solidFill>
                  <a:latin typeface="Times New Roman"/>
                </a:rPr>
                <a:t>’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_s137233"/>
            <p:cNvSpPr/>
            <p:nvPr/>
          </p:nvSpPr>
          <p:spPr>
            <a:xfrm flipV="1">
              <a:off x="5056200" y="2999880"/>
              <a:ext cx="974160" cy="850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_s137234"/>
            <p:cNvSpPr/>
            <p:nvPr/>
          </p:nvSpPr>
          <p:spPr>
            <a:xfrm>
              <a:off x="5707800" y="2273040"/>
              <a:ext cx="1404720" cy="7894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Й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_s137235"/>
            <p:cNvSpPr/>
            <p:nvPr/>
          </p:nvSpPr>
          <p:spPr>
            <a:xfrm flipV="1">
              <a:off x="4679640" y="2778120"/>
              <a:ext cx="0" cy="10116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_s137236"/>
            <p:cNvSpPr/>
            <p:nvPr/>
          </p:nvSpPr>
          <p:spPr>
            <a:xfrm>
              <a:off x="3977640" y="1989000"/>
              <a:ext cx="1404000" cy="78912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У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_s137237"/>
            <p:cNvSpPr/>
            <p:nvPr/>
          </p:nvSpPr>
          <p:spPr>
            <a:xfrm>
              <a:off x="3977640" y="3790080"/>
              <a:ext cx="1404000" cy="78948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600" spc="-1" strike="noStrike">
                  <a:solidFill>
                    <a:srgbClr val="006e6b"/>
                  </a:solidFill>
                  <a:latin typeface="Times New Roman"/>
                </a:rPr>
                <a:t>Л</a:t>
              </a:r>
              <a:endParaRPr b="0" lang="en-US" sz="4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мена звука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звуком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Й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3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3"/>
          <a:srcRect l="9836" t="16232" r="52463" b="57785"/>
          <a:stretch/>
        </p:blipFill>
        <p:spPr>
          <a:xfrm>
            <a:off x="1219320" y="1981080"/>
            <a:ext cx="3124080" cy="3353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1324080" y="558972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Замена звука звука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звуком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В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]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3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3"/>
          <a:srcRect l="14439" t="12902" r="8546" b="34410"/>
          <a:stretch/>
        </p:blipFill>
        <p:spPr>
          <a:xfrm>
            <a:off x="1143000" y="1981080"/>
            <a:ext cx="3124080" cy="3353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1324080" y="551664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Замена звука звука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звуком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Ы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]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3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3">
            <a:grayscl/>
            <a:lum contrast="6000"/>
          </a:blip>
          <a:srcRect l="14588" t="15045" r="9347" b="32567"/>
          <a:stretch/>
        </p:blipFill>
        <p:spPr>
          <a:xfrm>
            <a:off x="990720" y="1981080"/>
            <a:ext cx="312408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1181160" y="558972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остановка звука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Пусть ребенок произнесет звук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так как умеет, т.е. практически звук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Ы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более четко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постепенно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отодвиг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ладонь подальше ото рт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П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оявится некий «жужжащий» призву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о время длительного произнесения этого «жужжащего» гласного звука ребенок должен прижать свой мягкий «ленивый» язык к передним зубам и продолжать произносить свой зву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В результате получится звук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Замена звука звука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звуком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Р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]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505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3"/>
          <a:srcRect l="9068" t="15000" r="13064" b="32145"/>
          <a:stretch/>
        </p:blipFill>
        <p:spPr>
          <a:xfrm>
            <a:off x="1371600" y="1981080"/>
            <a:ext cx="3048120" cy="3505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1540080" y="558972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Замена звука звука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звуком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ru-RU" sz="3600" spc="-1" strike="noStrike">
                <a:solidFill>
                  <a:srgbClr val="b9efee"/>
                </a:solidFill>
                <a:latin typeface="Garamond"/>
                <a:ea typeface="Times New Roman"/>
              </a:rPr>
              <a:t>’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3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3"/>
          <a:srcRect l="13414" t="12000" r="9545" b="35002"/>
          <a:stretch/>
        </p:blipFill>
        <p:spPr>
          <a:xfrm>
            <a:off x="1219320" y="1981080"/>
            <a:ext cx="312408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1395720" y="55166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справление  произноше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ОМИЧЕВА М. Ф.: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)  Регуляция уровня подъема средней части спинки языка за счет произношения звука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Ы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ужно сначала дать ребенку возможность ощутить, почувствовать положение языка при произнесении звука Ы, а затем как бы «заморозить» язык и шевелить только его кончиком, поднимая его вверх. Получится протяжное «ЫЛ - ЫЛ - ЫЛ…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)  Механический способ - слегка прижать палочкой среднюю часть спинки языка во время протяжного произнесения ребенком мягкого звука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Л’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справление  произноше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авдина  О. В.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… при смягчении звука  дать возможность почувствовать напряжение в области плечевого пояса  и ше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этого нужно нагнуть голову вперед и в этом положении тянуть звук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возможно низком тоне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справление  произноше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Полякова М.А.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роизносить звук в сочетании АЛА. Первое время можно прикусывать кончик языка зубами. Последним гласным звуком ребенок должен «целиться» себе в ладонь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. П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роизношение слог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ЛА, прижимая к верхним резцам нижнюю (тыльную) часть кончика языка. Для этого ему придется загнуть вверх кончик языка, а среднюю часть спинки языка опустить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Затем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переходите к произношению звука обычным образом (прикасаясь кончиком языка к верхним резцам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тсутствие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  <a:ea typeface="Times New Roman"/>
              </a:rPr>
              <a:t>звука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Вместо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звук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удлиняется  смежный гласный звук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ААМП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А (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лампа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, БЕЕК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А (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белка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Причиной отсутствия звук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в речи может служить либо неспособность ребенка опознавать, выделять его на слух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либо полное отсутствие артикуляционных навыков воспроизведения этого звука, несмотря на то, что ребенок без труда воспринимает его на слух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мена звука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звуком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Г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3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3"/>
          <a:srcRect l="11469" t="14815" r="12071" b="32099"/>
          <a:stretch/>
        </p:blipFill>
        <p:spPr>
          <a:xfrm>
            <a:off x="1143000" y="1981080"/>
            <a:ext cx="3124080" cy="3353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1324080" y="558972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мена звука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звуком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Д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3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rcRect l="14454" t="13923" r="10144" b="32866"/>
          <a:stretch/>
        </p:blipFill>
        <p:spPr>
          <a:xfrm>
            <a:off x="1219320" y="1981080"/>
            <a:ext cx="312408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1324080" y="558972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одготовительный этап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У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чить ребенка опознавать звук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выделять его на слу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Ф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ормировать правильный артикуляционный праксис посредством специальных упражнений, а именно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  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*  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ырабатывать навыки подъема кончика языка ввер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*  о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тработать подъем задней части спинки языка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*  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ыработать умение опускать боковые края языка и направлять воздушную струю в щель между краями языка и коренными зуб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пособ  Хватцева М.Е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37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ебенок негромко и низким голосом тянет звук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Рот широко открывать не нужно (звук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может звучать как что-то среднее между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Выдох, как ровная струя горячего воздуха, должен ощущаться на подставленной ко рту рук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Во время такого произнесения нужно «стучать» языком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в верхние резцы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Получится: 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ЛА – ЛА – Л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… с несколько усеченным гласным звук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Такие же упражнения ребенок должен выполнять       с гласными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Ы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пособ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  <a:ea typeface="Times New Roman"/>
              </a:rPr>
              <a:t>Г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иншпун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  <a:ea typeface="Times New Roman"/>
              </a:rPr>
              <a:t>  Б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.М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Ребенку предлагается слегка раскрыть рот и произнести сочетание «ЫА»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При этом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Ы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произносится кратко, с напряжением органов артикуляции (как на твердой атаке голоса). Образец произнесения показывает логопед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Как только ребенок усвоит нужное произнесен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огопед просит его вновь произнести это сочетание, но при зажатом между зубами язык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В этот момент четко слышится сочетание «ЛА»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Двугубный  ламбдациз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3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3"/>
          <a:srcRect l="9931" t="46714" r="52469" b="27114"/>
          <a:stretch/>
        </p:blipFill>
        <p:spPr>
          <a:xfrm>
            <a:off x="914400" y="1981080"/>
            <a:ext cx="312408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4"/>
          <a:srcRect l="21106" t="33510" r="69574" b="61830"/>
          <a:stretch/>
        </p:blipFill>
        <p:spPr>
          <a:xfrm>
            <a:off x="1295280" y="335268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rcRect l="22974" t="39346" r="67706" b="57159"/>
          <a:stretch/>
        </p:blipFill>
        <p:spPr>
          <a:xfrm>
            <a:off x="1371600" y="3581280"/>
            <a:ext cx="380880" cy="228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07960" y="558972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остановка звука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 двугубном произношени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Протяжное произнесение гласного «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»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с закушенным языком позволяет вызвать изолированны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, а ритмичное покусывание напряженного высунутого языка во время фонации гласного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стимулирует слоги типа «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ла – ла - ла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У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пражнения в попеременном смыкании 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размыкании губ с оскаливанием зуб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ежзубный  ламбдациз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2057400"/>
            <a:ext cx="3124080" cy="3535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16975" t="42857" r="5161" b="2142"/>
          <a:stretch/>
        </p:blipFill>
        <p:spPr>
          <a:xfrm>
            <a:off x="990720" y="2057400"/>
            <a:ext cx="3047760" cy="3505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1623960" y="559116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Носовой  ламбдациз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3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1292" t="2428" r="42305" b="23789"/>
          <a:stretch/>
        </p:blipFill>
        <p:spPr>
          <a:xfrm>
            <a:off x="1143000" y="1981080"/>
            <a:ext cx="3048120" cy="3429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1407960" y="558972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8:47:50Z</dcterms:created>
  <dc:creator>Костя</dc:creator>
  <dc:description/>
  <dc:language>en-US</dc:language>
  <cp:lastModifiedBy>1</cp:lastModifiedBy>
  <dcterms:modified xsi:type="dcterms:W3CDTF">2009-11-04T12:57:04Z</dcterms:modified>
  <cp:revision>52</cp:revision>
  <dc:subject/>
  <dc:title>Зондовый массаж  подъязычной уздечки</dc:title>
</cp:coreProperties>
</file>