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png" ContentType="image/png"/>
  <Override PartName="/ppt/media/image19.gif" ContentType="image/gif"/>
  <Override PartName="/ppt/media/image18.jpeg" ContentType="image/jpeg"/>
  <Override PartName="/ppt/media/image15.png" ContentType="image/png"/>
  <Override PartName="/ppt/media/image22.png" ContentType="image/png"/>
  <Override PartName="/ppt/media/image17.gif" ContentType="image/gif"/>
  <Override PartName="/ppt/media/image13.wmf" ContentType="image/x-wmf"/>
  <Override PartName="/ppt/media/image24.gif" ContentType="image/gif"/>
  <Override PartName="/ppt/media/image4.png" ContentType="image/png"/>
  <Override PartName="/ppt/media/image1.gif" ContentType="image/gif"/>
  <Override PartName="/ppt/media/image23.wmf" ContentType="image/x-wmf"/>
  <Override PartName="/ppt/media/image9.jpeg" ContentType="image/jpeg"/>
  <Override PartName="/ppt/media/image10.gif" ContentType="image/gif"/>
  <Override PartName="/ppt/media/image25.gif" ContentType="image/gif"/>
  <Override PartName="/ppt/media/image2.gif" ContentType="image/gif"/>
  <Override PartName="/ppt/media/image5.png" ContentType="image/png"/>
  <Override PartName="/ppt/media/image35.jpeg" ContentType="image/jpeg"/>
  <Override PartName="/ppt/media/image32.png" ContentType="image/png"/>
  <Override PartName="/ppt/media/image7.png" ContentType="image/png"/>
  <Override PartName="/ppt/media/image30.gif" ContentType="image/gif"/>
  <Override PartName="/ppt/media/image8.png" ContentType="image/png"/>
  <Override PartName="/ppt/media/image28.gif" ContentType="image/gif"/>
  <Override PartName="/ppt/media/image27.png" ContentType="image/png"/>
  <Override PartName="/ppt/media/image34.gif" ContentType="image/gif"/>
  <Override PartName="/ppt/media/image33.jpeg" ContentType="image/jpeg"/>
  <Override PartName="/ppt/media/image11.wmf" ContentType="image/x-wmf"/>
  <Override PartName="/ppt/media/image3.gif" ContentType="image/gif"/>
  <Override PartName="/ppt/media/image6.png" ContentType="image/png"/>
  <Override PartName="/ppt/media/image26.gif" ContentType="image/gif"/>
  <Override PartName="/ppt/media/image29.png" ContentType="image/png"/>
  <Override PartName="/ppt/media/image36.gif" ContentType="image/gif"/>
  <Override PartName="/ppt/media/image31.jpeg" ContentType="image/jpe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0C2-912B-4780-BA77-CF1A0CB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019-8B6B-48CA-B1CC-2890646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F6F-2D27-45D2-84D9-CCB3BAF7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848-FB7A-41AF-97E8-BF2DD86F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CFB-E74B-4EE6-B2F3-DE2F63B4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CD8-669E-451B-B3A6-999C8CF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179-2DFA-40D0-9F6B-5F04238F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5D9-83DD-40ED-B3EB-9C3BC74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046-C884-492E-BA64-944D17A5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967-30E8-4EC8-95DE-BAE045B6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331-2A71-4F96-9BDA-8E50F62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969-7C46-4DE0-8AFF-9A8FBC5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F20-83D6-4911-8FD8-90908706C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7.gi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image" Target="../media/image2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6.gi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image" Target="../media/image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глобус 2"/>
          <p:cNvPicPr/>
          <p:nvPr/>
        </p:nvPicPr>
        <p:blipFill>
          <a:blip r:embed="rId1"/>
          <a:stretch/>
        </p:blipFill>
        <p:spPr>
          <a:xfrm>
            <a:off x="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ok25[1]"/>
          <p:cNvPicPr/>
          <p:nvPr/>
        </p:nvPicPr>
        <p:blipFill>
          <a:blip r:embed="rId2"/>
          <a:stretch/>
        </p:blipFill>
        <p:spPr>
          <a:xfrm>
            <a:off x="1042920" y="4437000"/>
            <a:ext cx="2411640" cy="2227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j0336775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j0434901[1]"/>
          <p:cNvPicPr/>
          <p:nvPr/>
        </p:nvPicPr>
        <p:blipFill>
          <a:blip r:embed="rId4"/>
          <a:stretch/>
        </p:blipFill>
        <p:spPr>
          <a:xfrm>
            <a:off x="4500720" y="328464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автор Л. Мельникова - Здравствуй школа (+).mp3" descr=""/>
          <p:cNvPicPr/>
          <p:nvPr/>
        </p:nvPicPr>
        <p:blipFill>
          <a:blip r:embed="rId5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0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340000" y="260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6" descr="AG00053_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05-13"/>
          <p:cNvPicPr/>
          <p:nvPr/>
        </p:nvPicPr>
        <p:blipFill>
          <a:blip r:embed="rId2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917080" y="162864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вода стоит стол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земляя"/>
          <p:cNvPicPr/>
          <p:nvPr/>
        </p:nvPicPr>
        <p:blipFill>
          <a:blip r:embed="rId3"/>
          <a:stretch/>
        </p:blipFill>
        <p:spPr>
          <a:xfrm>
            <a:off x="212400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земляя"/>
          <p:cNvPicPr/>
          <p:nvPr/>
        </p:nvPicPr>
        <p:blipFill>
          <a:blip r:embed="rId4"/>
          <a:stretch/>
        </p:blipFill>
        <p:spPr>
          <a:xfrm>
            <a:off x="2124000" y="2276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2917440" y="22766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руки бывают местоим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земляя"/>
          <p:cNvPicPr/>
          <p:nvPr/>
        </p:nvPicPr>
        <p:blipFill>
          <a:blip r:embed="rId5"/>
          <a:stretch/>
        </p:blipFill>
        <p:spPr>
          <a:xfrm>
            <a:off x="250920" y="3716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1115640" y="3789360"/>
            <a:ext cx="61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лучается с вороной через 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земляя"/>
          <p:cNvPicPr/>
          <p:nvPr/>
        </p:nvPicPr>
        <p:blipFill>
          <a:blip r:embed="rId6"/>
          <a:stretch/>
        </p:blipFill>
        <p:spPr>
          <a:xfrm>
            <a:off x="250920" y="4508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114920" y="458136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бывают реки без воды, города без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земляя"/>
          <p:cNvPicPr/>
          <p:nvPr/>
        </p:nvPicPr>
        <p:blipFill>
          <a:blip r:embed="rId7"/>
          <a:stretch/>
        </p:blipFill>
        <p:spPr>
          <a:xfrm>
            <a:off x="250920" y="5229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9"/>
          <p:cNvSpPr/>
          <p:nvPr/>
        </p:nvSpPr>
        <p:spPr>
          <a:xfrm>
            <a:off x="1187640" y="5300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чего нельзя испечь хле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7216560" y="1695600"/>
            <a:ext cx="1409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так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7234200" y="2708280"/>
            <a:ext cx="1503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-мы-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987600" y="4221000"/>
            <a:ext cx="21574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ёт пят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7451640" y="4941720"/>
            <a:ext cx="1269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6156360" y="5445000"/>
            <a:ext cx="1425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к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8" descr="земляя"/>
          <p:cNvPicPr/>
          <p:nvPr/>
        </p:nvPicPr>
        <p:blipFill>
          <a:blip r:embed="rId9"/>
          <a:stretch/>
        </p:blipFill>
        <p:spPr>
          <a:xfrm>
            <a:off x="250920" y="2924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1258920" y="314172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акому городу течёт кров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804720" y="3284640"/>
            <a:ext cx="1211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1" descr="земляя"/>
          <p:cNvPicPr/>
          <p:nvPr/>
        </p:nvPicPr>
        <p:blipFill>
          <a:blip r:embed="rId10"/>
          <a:stretch/>
        </p:blipFill>
        <p:spPr>
          <a:xfrm>
            <a:off x="250920" y="595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1113840" y="602136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чему часто ходят и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не ез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5363280" y="6461280"/>
            <a:ext cx="1768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лест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24000" y="476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7" descr="C41-11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05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G00055_"/>
          <p:cNvPicPr/>
          <p:nvPr/>
        </p:nvPicPr>
        <p:blipFill>
          <a:blip r:embed="rId2"/>
          <a:stretch/>
        </p:blipFill>
        <p:spPr>
          <a:xfrm flipH="1" rot="10800000">
            <a:off x="0" y="162828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468360" y="1916280"/>
            <a:ext cx="60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только с пар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только с парох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надцать недель гостили н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колько это д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итай-ка побыст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9528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7236000" y="2565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7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7380360" y="458136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395280" y="2708280"/>
            <a:ext cx="273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3 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 100 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4716360" y="2708280"/>
            <a:ext cx="30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1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100 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15"/>
          <p:cNvSpPr txBox="1"/>
          <p:nvPr/>
        </p:nvSpPr>
        <p:spPr>
          <a:xfrm>
            <a:off x="2700360" y="170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95280" y="314172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НАХОДЧИВ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ЧУВСТВО ЮМ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8360" y="32130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ХОЗЯЙСТВ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ТРУДОЛЮБ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0" descr="j0286034"/>
          <p:cNvPicPr/>
          <p:nvPr/>
        </p:nvPicPr>
        <p:blipFill>
          <a:blip r:embed="rId10"/>
          <a:stretch/>
        </p:blipFill>
        <p:spPr>
          <a:xfrm>
            <a:off x="0" y="5365800"/>
            <a:ext cx="15476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95640" y="2421000"/>
            <a:ext cx="6696000" cy="417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 руки на ко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ведущий скажет «Поехали…», все похлопывают себя по кол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ведущий называет какой-то предмет вокруг вас, дотрагиваетесь до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260280"/>
            <a:ext cx="683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"Поехал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5" descr="C05-13"/>
          <p:cNvPicPr/>
          <p:nvPr/>
        </p:nvPicPr>
        <p:blipFill>
          <a:blip r:embed="rId1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слови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50920" y="6093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j0283653"/>
          <p:cNvPicPr/>
          <p:nvPr/>
        </p:nvPicPr>
        <p:blipFill>
          <a:blip r:embed="rId3"/>
          <a:stretch/>
        </p:blipFill>
        <p:spPr>
          <a:xfrm>
            <a:off x="0" y="3525840"/>
            <a:ext cx="2519280" cy="2414520"/>
          </a:xfrm>
          <a:prstGeom prst="rect">
            <a:avLst/>
          </a:prstGeom>
          <a:ln w="0">
            <a:noFill/>
          </a:ln>
        </p:spPr>
      </p:pic>
      <p:pic>
        <p:nvPicPr>
          <p:cNvPr id="142" name="Shkolnaya_pora.mid" descr=""/>
          <p:cNvPicPr/>
          <p:nvPr/>
        </p:nvPicPr>
        <p:blipFill>
          <a:blip r:embed="rId4"/>
          <a:stretch/>
        </p:blipFill>
        <p:spPr>
          <a:xfrm>
            <a:off x="32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250920" y="18900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6" descr="AG00046_"/>
          <p:cNvPicPr/>
          <p:nvPr/>
        </p:nvPicPr>
        <p:blipFill>
          <a:blip r:embed="rId1"/>
          <a:stretch/>
        </p:blipFill>
        <p:spPr>
          <a:xfrm flipH="1" rot="10800000">
            <a:off x="0" y="111240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68"/>
          <p:cNvPicPr/>
          <p:nvPr/>
        </p:nvPicPr>
        <p:blipFill>
          <a:blip r:embed="rId2"/>
          <a:stretch/>
        </p:blipFill>
        <p:spPr>
          <a:xfrm>
            <a:off x="17928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1186920" y="155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может парить в воздух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268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88000" y="227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самый сердит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068840" y="285264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Европы стоит на самом мягк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268"/>
          <p:cNvPicPr/>
          <p:nvPr/>
        </p:nvPicPr>
        <p:blipFill>
          <a:blip r:embed="rId4"/>
          <a:stretch/>
        </p:blipFill>
        <p:spPr>
          <a:xfrm>
            <a:off x="2509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268"/>
          <p:cNvPicPr/>
          <p:nvPr/>
        </p:nvPicPr>
        <p:blipFill>
          <a:blip r:embed="rId5"/>
          <a:stretch/>
        </p:blipFill>
        <p:spPr>
          <a:xfrm>
            <a:off x="250920" y="3716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1116000" y="364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тица, потеряв одну букву, станет самой большой в Европе ре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268"/>
          <p:cNvPicPr/>
          <p:nvPr/>
        </p:nvPicPr>
        <p:blipFill>
          <a:blip r:embed="rId6"/>
          <a:stretch/>
        </p:blipFill>
        <p:spPr>
          <a:xfrm>
            <a:off x="25092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16000" y="458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какого города состоит из птицы и живот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268"/>
          <p:cNvPicPr/>
          <p:nvPr/>
        </p:nvPicPr>
        <p:blipFill>
          <a:blip r:embed="rId7"/>
          <a:stretch/>
        </p:blipFill>
        <p:spPr>
          <a:xfrm>
            <a:off x="250920" y="5589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971640" y="5445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какими двумя одинаковыми буквами нужно поставить маленькую лошадь, чтобы получить название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237440" y="155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63021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6157800" y="3213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ариж на С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6086520" y="40766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волга - 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6156720" y="4941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орон -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866200" y="6400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 – пони -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7" descr="земляя"/>
          <p:cNvPicPr/>
          <p:nvPr/>
        </p:nvPicPr>
        <p:blipFill>
          <a:blip r:embed="rId8"/>
          <a:stretch/>
        </p:blipFill>
        <p:spPr>
          <a:xfrm>
            <a:off x="723600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C05-05"/>
          <p:cNvPicPr/>
          <p:nvPr/>
        </p:nvPicPr>
        <p:blipFill>
          <a:blip r:embed="rId9"/>
          <a:stretch/>
        </p:blipFill>
        <p:spPr>
          <a:xfrm>
            <a:off x="7093080" y="0"/>
            <a:ext cx="1908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50920" y="18900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AG00054_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41-25"/>
          <p:cNvPicPr/>
          <p:nvPr/>
        </p:nvPicPr>
        <p:blipFill>
          <a:blip r:embed="rId2"/>
          <a:stretch/>
        </p:blipFill>
        <p:spPr>
          <a:xfrm>
            <a:off x="7236000" y="0"/>
            <a:ext cx="1593720" cy="23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ёжик"/>
          <p:cNvPicPr/>
          <p:nvPr/>
        </p:nvPicPr>
        <p:blipFill>
          <a:blip r:embed="rId3"/>
          <a:stretch/>
        </p:blipFill>
        <p:spPr>
          <a:xfrm>
            <a:off x="2627280" y="425916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х зверей называют так: косой, сохатый, косолапый, серый, рыж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160" y="2565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у кузнечика у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0" y="32130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зверь самый чистоплот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-2160" y="3860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божью коровку птицы не клю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28472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йца, лося, медведя, волка, л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494520" y="2637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 н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510880" y="3284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рс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516720" y="357336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на выделяет едкую жидкость. Раз попробовав, птица запоминает яркого ж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7885080" y="616572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903240" y="494172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СМЕКА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64911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естьянский дом в украинской или белорусской дерев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к называется ДОМ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32720" y="1125360"/>
            <a:ext cx="1439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95280" y="1773360"/>
            <a:ext cx="55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вигающееся жилище у цыг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659640" y="1773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б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68360" y="2349360"/>
            <a:ext cx="56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ижина из ветвей, кож, коры у индейцев Северной Америки, о которой упоминает Шарик в мультфильме «Зима в Простокваши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659640" y="270828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г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68360" y="386064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чевой шалаш у киргизского народа, а также у народов Азии и Южной Сиби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588000" y="3789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24000" y="4869000"/>
            <a:ext cx="56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орец, жилище, крепость феодала, рыц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6732720" y="5013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468360" y="602136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ойка из жердей, покрытых ветками, соломой, трав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732720" y="6021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ал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8" descr="h03009i"/>
          <p:cNvPicPr/>
          <p:nvPr/>
        </p:nvPicPr>
        <p:blipFill>
          <a:blip r:embed="rId1"/>
          <a:stretch/>
        </p:blipFill>
        <p:spPr>
          <a:xfrm>
            <a:off x="3851280" y="1268280"/>
            <a:ext cx="4875120" cy="3640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z6361i"/>
          <p:cNvPicPr/>
          <p:nvPr/>
        </p:nvPicPr>
        <p:blipFill>
          <a:blip r:embed="rId2"/>
          <a:stretch/>
        </p:blipFill>
        <p:spPr>
          <a:xfrm>
            <a:off x="539640" y="1484280"/>
            <a:ext cx="3776760" cy="420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v_043i"/>
          <p:cNvPicPr/>
          <p:nvPr/>
        </p:nvPicPr>
        <p:blipFill>
          <a:blip r:embed="rId3"/>
          <a:stretch/>
        </p:blipFill>
        <p:spPr>
          <a:xfrm>
            <a:off x="1790640" y="2060640"/>
            <a:ext cx="401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24000" y="40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ДРУЖ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84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ПО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ЗАИМОПОМОЩ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3357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ЛЮБОВ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ИСАНИ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8167680" y="6372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ОБЯЗАТЕ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250920" y="404280"/>
            <a:ext cx="3673440" cy="15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292720" y="404640"/>
            <a:ext cx="360036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2060640"/>
          <a:ext cx="8785440" cy="46832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К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УЖ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УВСТВО ЮМ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ЯЗА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РУДОЛЮ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27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malenkaya_strana.mp3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глобус 2"/>
          <p:cNvPicPr/>
          <p:nvPr/>
        </p:nvPicPr>
        <p:blipFill>
          <a:blip r:embed="rId2"/>
          <a:stretch/>
        </p:blipFill>
        <p:spPr>
          <a:xfrm>
            <a:off x="5435640" y="260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41-12"/>
          <p:cNvPicPr/>
          <p:nvPr/>
        </p:nvPicPr>
        <p:blipFill>
          <a:blip r:embed="rId3"/>
          <a:stretch/>
        </p:blipFill>
        <p:spPr>
          <a:xfrm>
            <a:off x="179280" y="1989000"/>
            <a:ext cx="3546720" cy="43927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7"/>
          <p:cNvSpPr txBox="1"/>
          <p:nvPr/>
        </p:nvSpPr>
        <p:spPr>
          <a:xfrm>
            <a:off x="900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 rot="21162000">
            <a:off x="3995280" y="2923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755640" y="404640"/>
            <a:ext cx="7632720" cy="38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й построи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8" descr="глобус 2"/>
          <p:cNvPicPr/>
          <p:nvPr/>
        </p:nvPicPr>
        <p:blipFill>
          <a:blip r:embed="rId1"/>
          <a:stretch/>
        </p:blipFill>
        <p:spPr>
          <a:xfrm>
            <a:off x="6407280" y="314172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684360" y="4653000"/>
            <a:ext cx="49622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ный час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ентябр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Учат в школе.wma" descr=""/>
          <p:cNvPicPr/>
          <p:nvPr/>
        </p:nvPicPr>
        <p:blipFill>
          <a:blip r:embed="rId2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27584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20021005_143652"/>
          <p:cNvPicPr/>
          <p:nvPr/>
        </p:nvPicPr>
        <p:blipFill>
          <a:blip r:embed="rId6"/>
          <a:stretch/>
        </p:blipFill>
        <p:spPr>
          <a:xfrm>
            <a:off x="0" y="4456080"/>
            <a:ext cx="3600360" cy="24019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216" name="Picture 4" descr="j0336775"/>
          <p:cNvPicPr/>
          <p:nvPr/>
        </p:nvPicPr>
        <p:blipFill>
          <a:blip r:embed="rId7"/>
          <a:stretch/>
        </p:blipFill>
        <p:spPr>
          <a:xfrm>
            <a:off x="702000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283653"/>
          <p:cNvPicPr/>
          <p:nvPr/>
        </p:nvPicPr>
        <p:blipFill>
          <a:blip r:embed="rId8"/>
          <a:stretch/>
        </p:blipFill>
        <p:spPr>
          <a:xfrm>
            <a:off x="5904000" y="3753000"/>
            <a:ext cx="3240000" cy="3105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455840" y="13644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каз старших товарищ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64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читель спросит- надо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5_clr"/>
          <p:cNvPicPr/>
          <p:nvPr/>
        </p:nvPicPr>
        <p:blipFill>
          <a:blip r:embed="rId1"/>
          <a:stretch/>
        </p:blipFill>
        <p:spPr>
          <a:xfrm>
            <a:off x="3780000" y="3284640"/>
            <a:ext cx="1403280" cy="2806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Итоги классного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онравилось сего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ть ли 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до ли ещё проводить такие классные ча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507520" cy="5281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альбомный лист приклеить свою фотографию, а ниже написать небольшой рассказ о себе, своей семье, о своих увлечениях и друз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ложить лист в мультифор и сдать классному руководителю не позднее пя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будут первые  страницы нашего классного альбома-лет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глобус 2"/>
          <p:cNvPicPr/>
          <p:nvPr/>
        </p:nvPicPr>
        <p:blipFill>
          <a:blip r:embed="rId2"/>
          <a:stretch/>
        </p:blipFill>
        <p:spPr>
          <a:xfrm>
            <a:off x="6012000" y="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41-12"/>
          <p:cNvPicPr/>
          <p:nvPr/>
        </p:nvPicPr>
        <p:blipFill>
          <a:blip r:embed="rId3"/>
          <a:stretch/>
        </p:blipFill>
        <p:spPr>
          <a:xfrm>
            <a:off x="0" y="2465280"/>
            <a:ext cx="3546360" cy="4392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1"/>
          <p:cNvSpPr txBox="1"/>
          <p:nvPr/>
        </p:nvSpPr>
        <p:spPr>
          <a:xfrm>
            <a:off x="2556000" y="249228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12" descr="C05-12"/>
          <p:cNvPicPr/>
          <p:nvPr/>
        </p:nvPicPr>
        <p:blipFill>
          <a:blip r:embed="rId4"/>
          <a:stretch/>
        </p:blipFill>
        <p:spPr>
          <a:xfrm>
            <a:off x="9325080" y="4264200"/>
            <a:ext cx="5940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9653E-006 L -0.66354 -0.00647 E">
                                      <p:cBhvr>
                                        <p:cTn id="31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j0427966[1]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79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00000" y="3213000"/>
            <a:ext cx="5904000" cy="3311640"/>
          </a:xfrm>
          <a:prstGeom prst="rect">
            <a:avLst/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900000" y="1628280"/>
            <a:ext cx="3024360" cy="1513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995640" y="1628640"/>
            <a:ext cx="27370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835280" y="3645000"/>
            <a:ext cx="410508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924360" y="3645000"/>
            <a:ext cx="0" cy="230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1835280" y="4869000"/>
            <a:ext cx="41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843280" y="5950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 К О Л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700360" y="2421000"/>
            <a:ext cx="22096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 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bouquet01[1]"/>
          <p:cNvPicPr/>
          <p:nvPr/>
        </p:nvPicPr>
        <p:blipFill>
          <a:blip r:embed="rId2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68480" y="765000"/>
            <a:ext cx="807552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М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озговой штур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0" y="2224080"/>
            <a:ext cx="74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дание, в котором живут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мейный оч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сто, где всег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ихая прист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ерритория для дружеских тус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лая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1" descr="j0434901[1]"/>
          <p:cNvPicPr/>
          <p:nvPr/>
        </p:nvPicPr>
        <p:blipFill>
          <a:blip r:embed="rId1"/>
          <a:stretch/>
        </p:blipFill>
        <p:spPr>
          <a:xfrm>
            <a:off x="6588000" y="4365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а “Собери слов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50920" y="1341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ВЕСЁЛ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242100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00"/>
                </a:solidFill>
                <a:latin typeface="Arial"/>
              </a:rPr>
              <a:t>НАХОДЧИ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24000" y="3573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УСПЕШ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j0398129[1]"/>
          <p:cNvPicPr/>
          <p:nvPr/>
        </p:nvPicPr>
        <p:blipFill>
          <a:blip r:embed="rId1"/>
          <a:stretch/>
        </p:blipFill>
        <p:spPr>
          <a:xfrm>
            <a:off x="0" y="4292640"/>
            <a:ext cx="237492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j0398137[1]"/>
          <p:cNvPicPr/>
          <p:nvPr/>
        </p:nvPicPr>
        <p:blipFill>
          <a:blip r:embed="rId2"/>
          <a:stretch/>
        </p:blipFill>
        <p:spPr>
          <a:xfrm>
            <a:off x="0" y="0"/>
            <a:ext cx="2050920" cy="1876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j0398139[1]"/>
          <p:cNvPicPr/>
          <p:nvPr/>
        </p:nvPicPr>
        <p:blipFill>
          <a:blip r:embed="rId3"/>
          <a:stretch/>
        </p:blipFill>
        <p:spPr>
          <a:xfrm>
            <a:off x="6227640" y="4597560"/>
            <a:ext cx="2916360" cy="226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2340000" y="5668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 rot="5400000">
            <a:off x="3534120" y="5042520"/>
            <a:ext cx="976320" cy="485640"/>
          </a:xfrm>
          <a:prstGeom prst="pi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авила работы в коллектив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ботаю активно сам, даю работать друг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казываю все свои лучшие качества, вижу их у друг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се, что сейчас узнаю – для всех, кроме нас, секр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твечаю честно, задаю вопросы если не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ыполняю все свои обещ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то много чит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енье – св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расна птица п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ен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рамоте учиться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03280" y="1341360"/>
            <a:ext cx="414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от много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 неученье –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 человек 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от лучшее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сегда пригод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234936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МУДР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>
            <a:hlinkClick r:id="rId2" action="ppaction://hlinksldjump"/>
          </p:cNvPr>
          <p:cNvSpPr/>
          <p:nvPr/>
        </p:nvSpPr>
        <p:spPr>
          <a:xfrm>
            <a:off x="2843280" y="692280"/>
            <a:ext cx="2016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395280" y="2205000"/>
            <a:ext cx="223200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>
            <a:hlinkClick r:id="rId4" action="ppaction://hlinksldjump"/>
          </p:cNvPr>
          <p:cNvSpPr/>
          <p:nvPr/>
        </p:nvSpPr>
        <p:spPr>
          <a:xfrm>
            <a:off x="1908000" y="5805360"/>
            <a:ext cx="223236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1547640" y="1484280"/>
            <a:ext cx="1944720" cy="6494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4284720" y="4581000"/>
            <a:ext cx="2663640" cy="15116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580000" y="3789360"/>
            <a:ext cx="2879640" cy="71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V="1">
            <a:off x="4643280" y="1196640"/>
            <a:ext cx="2592720" cy="158436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1547640" y="2997360"/>
            <a:ext cx="1656000" cy="2808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5724360" y="476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755640" y="4149720"/>
            <a:ext cx="3240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 flipH="1" flipV="1">
            <a:off x="5508360" y="3284640"/>
            <a:ext cx="2087640" cy="5032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4356000" y="2492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22:33Z</dcterms:created>
  <dc:creator>User</dc:creator>
  <dc:description/>
  <dc:language>en-US</dc:language>
  <cp:lastModifiedBy>София</cp:lastModifiedBy>
  <dcterms:modified xsi:type="dcterms:W3CDTF">2012-08-31T23:47:27Z</dcterms:modified>
  <cp:revision>130</cp:revision>
  <dc:subject/>
  <dc:title>Слайд 1</dc:title>
</cp:coreProperties>
</file>