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ECD-7CC5-4346-A429-627DBFE8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E15-CCB2-4600-8925-6A902A00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9852D-6CDC-41AC-B74A-CBE6FA00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96C25-532E-43D0-A473-90A1DF00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7D61C-B704-4501-B4F9-87526E59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9ECF3-EC85-4A98-8923-F41C22E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CD479-962E-43B4-A990-6636D919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45AC5-5D27-49A1-BD75-E4C7881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04F54-CCEF-45B2-88C9-B1535691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7C80D-5968-4C51-B306-41E5DCAD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59613-947C-462F-B57C-34D348F8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409D3-B642-477C-BABE-9FC002A2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CC6-E70D-4EC0-9828-6B51CCB8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270AE-D691-432C-A525-C8D3CEF3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155FA-67D7-48A6-B75F-ED022938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E87A2-5005-4894-8C0B-FFACC2FA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18E5A-F271-4EDA-B3C3-963B13A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538AB-110C-4EC5-9C7E-D41AFC7B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8E006-ABC0-4D74-B868-EF43D629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8A065-9CF7-476C-9D21-1963730E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FD5A2-5807-4383-9B5C-384D72AE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43C10-21B9-4065-B34E-6F86948C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388B8-EEE2-4699-B7FA-3DC2AF98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96A-B67B-4525-97EF-3289385F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70A14-6FDB-41D6-A270-209BB2A3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1FCD0-D847-47AD-AF56-D3965BF4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6482B-189B-48C0-9756-BF412C9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E0E61-940D-4536-92A7-472D8A19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AEACC-2DB7-46B9-A38A-05B22A15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A5FFA-63A4-46DD-8526-E5AD196B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DF76C-64B9-456D-80C3-51CE3BBD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72C8D-B241-4334-958A-C8ACB8E3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B0172-D61E-4269-BBB2-FE6E86D8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842DD-72C3-4242-BCE1-AEF0E35F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6F16-C102-4B0D-ABF9-EFDA5E50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2CA0C-79FD-42E1-ABA9-FCA28DF4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ED69A-FA26-48B3-894D-192814B5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7FDA9-6FDF-4328-8E75-3EBEC80B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EAE0D-CB86-4A21-8285-79370A30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95E1F-6C26-4C91-9364-2AB24D30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4C1B6-11DA-4C92-B82F-8DFD3CF8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207C8-4CDC-47F4-B198-DA550BBA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3CACE-0809-430B-9CC3-71DC184D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FDDFF-F252-4890-A8DE-F084D0AE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AD53D-3F75-4A12-8F8B-89B8B59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B7C4-1A6F-4561-AEC8-AC81E231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96661-FE0C-4D61-BF41-F0F7C97D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AFD79-DB15-47FD-94DA-206944A2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8FEBC-F5AA-4B86-A027-4939FE2F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6F89F-243D-4C7F-AF36-95306CCA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222E4-B4C7-49BD-8E78-A53CB49E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94293-155F-4072-9AFB-B5462988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18015-02A4-4508-A309-0B36EDC8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21B4A-5CF0-4DF9-A6C5-BBBC4163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4C670-B619-4C0E-8E8E-D00398F0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E5681-59BD-4F29-98A4-56AB2059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9123-BB88-4E6C-8A19-F7DA2B2C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162CE-2858-46A0-8BA3-F955C833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DCE47-C12B-4661-8A3B-CBE8528F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81832-4592-4BE3-8939-C23E49A7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068D3-3720-44EB-B51D-9770435C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094B6-A29E-496B-9A5E-13B22EF3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1A4BD-694A-447D-9104-2E78AFDB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4B9B0-4AAD-4141-825F-78CAA646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93D55-63E1-4565-8C96-72E9F074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AC308-D554-4CAB-BB3B-9FC69650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F0F8A-D34E-428B-8F8C-28874790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1751-1E8F-4BF5-829D-20D9844C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51A43-14EB-46EA-8767-6CFBF37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5952A-E1A8-4940-82DB-C4E38113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E7F9C-EAF7-4D1D-B6FE-8B85FB03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3089C-5621-4048-A95B-9839C849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A76FB-7E0F-4D1C-AF6B-47B3650C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1780B-574F-4C42-9F88-E07C354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2570E-BD72-4EC4-8033-C4D5C349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D81D7-DE74-4632-903F-1EF0812E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0580A-495D-41EC-BF6D-BFDF643C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D4034-BB1E-4AFA-B4C5-AD391A90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94C5-B4B4-497B-87BD-2BFBEBA3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9B4AD-232B-425D-BD66-8C43954F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C060E-71DC-42CB-B5D1-FA4E3273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7A3B4-D52B-4AF9-BB05-B86FF43D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D3BF6-D8B9-46D5-AFC4-962DCB8D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442FC-2E74-4F8D-ACA3-0BABD321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8E8DB-8EAD-431A-804C-084B3A0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274D0-C2E5-42AE-8B78-3A66B98E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83C34-92D3-4112-A62D-DBC3A53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D89CA-CCC7-4B26-B02B-969A8743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C57C7-C25A-4E4A-B42B-F5887518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1AF8-42A5-48B7-84CA-CEFBA159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D2143-D7A5-44A6-9D42-F4D977B5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FCA69-AC19-47E6-A05A-C7E50AB0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D4F5D-0E0F-461B-8DE9-20223EFD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18D24-7475-4CCB-856B-8D32311E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58C20-2E23-426F-AA30-F968F64A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B96A9-748F-4C9C-B0FE-439D7A8A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D6CC1-CA0F-4DF0-AB54-DF380E72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0F636-251B-433F-9007-3145BCA6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BBEBA-D18A-4BA4-8E67-8C188D67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327B1-C6D8-4424-8B04-CDBC0397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57F3-829C-4723-9D3F-4DC9F409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CBD57-9F39-4829-8656-F34419E1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4939A-92A9-43AE-9064-F68083CB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8F597-5305-4D72-895B-58B1014D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DF1-9D26-41DF-A6C7-B2DC286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87F9-7F86-4083-AC13-841BE7C4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0F55-0171-4096-9657-EC602118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F9B7-5EBD-4325-BCFB-5024C9DC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EDA7-388B-4C19-BEF4-96656B50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093D-0607-4D00-B43D-16ED034A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09D1-D957-429F-BE5E-679D1305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F2C5-D1BA-4835-92D2-7290BED5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611D-BAB1-4FCD-831D-5B0AEC9B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AAB7-F14D-4262-B643-63E5972B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DFCE-48E4-49AF-9345-34495F18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1A2-2E55-4B07-B961-828FB629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332E-A406-44A5-B316-6A248FF3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8098B-C7CD-4AD0-905F-45B2E08E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675E5-D51E-48AE-AD49-376C3CB4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FCD1-C5CF-4C50-A324-26A67F15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5FBE-61DD-46AD-BE5F-298EA080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F2815-5551-4E73-8086-01FFA29A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6C7F-177D-4182-ADE3-F56F756E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83A5-2A0A-42C1-90AA-E1F53FEA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713A7-F70D-4006-80E1-6116A67F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6C37A-65E7-4B2C-98C2-5B962BE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46B-6770-4CD4-933B-64BEF7CD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4845-BBBD-4015-B07D-0F25396F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EBB53-BEBE-48C2-B469-3CB8FE7B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1EBE5-EBAD-48B6-AFE7-CC388B1C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2288-5634-4CD1-9812-034DA880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4B5B7-222A-4096-A9DE-793C408D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EE7DA-50C4-40EE-993C-AA2F1D2F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FCC3F-435C-4729-B86E-9CC9B867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F562-9F2C-464C-ACB0-3BA74643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D043-FBBE-488B-A513-0B899C2A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01EC2-69F1-46AC-9FD3-F9563AD6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48D-2512-4151-9A71-6CFCAB7B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F808D-7F28-4C85-B3EB-821D8864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22F74-10BC-4A7E-ACA2-961B3892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89075-286B-493C-9045-4DBD9043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B9A12-DF45-4CC7-9CD7-80A5DAF7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50E34-4795-4220-BB7E-B205268E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F4D15-1D65-4309-A080-F96E6461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03080-D61B-49DE-87C5-AF82D954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0425A-6A24-4645-A1F9-19839062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9256-226B-4292-8787-E5B82CBB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BD720-7340-4FE2-B67D-624E24F7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FAC-8795-416F-A17E-1779B77C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E04FC-8F7C-4A50-800E-9B63A638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AC7D5-42E1-44DA-BAB0-C4DBB12B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4ACE7-9DF2-4C3F-8ABE-63B60E8B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30ED4-0FE3-4699-A52F-59CD4997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22844-EED4-4FD2-A642-9D8CE4C1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8BC1D-DE50-44CD-8F56-9306293A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455FD-0EFC-4D0B-B6A5-C970459E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68EC0-9E46-404F-963D-FC8C7F52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FFD55-A90F-4414-B96A-E323229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0A2A7-EA45-472B-BEFE-B552771F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0E7-ED5E-40D9-84B0-ACBEC039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CD46A-E83B-4644-A9E0-5517081E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9F9DA-8677-4C6F-85F5-178101D7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6011A-37FD-41C5-86BB-0CD98AF8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789C2-B744-438A-B35A-D8D2FB83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619C1-0999-461A-8E82-19F915D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76C3B-2376-454D-A905-BA1C82D4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BFBEA-7B00-45AD-8D60-4561D74E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9CF82-DE59-46A7-B2C9-29DE9616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36ACC-B398-4EB6-8728-3B5D0994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19E15-5E3E-443B-A778-41C0DE32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46A-39A0-4F91-83BF-F4DB1A75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9D305-CBD3-4A19-9C23-1913B64F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D7EA-8DF9-47D8-A095-A90B05F0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F5BA-976D-403A-9651-30A4333E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AFEAF-B039-4B95-9839-5333266C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39A42-FD8B-4507-B3D3-E7FB3297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E1769-86EC-45A7-ADCF-1D5CFB14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CF3D5-F5AC-4BFB-9DBB-E37F72D7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C100C-FF80-4A5D-AECD-7A22B18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73C1F-97C5-4916-A039-9863A661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F2F0C-5C7D-4653-8966-10080BB3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DE5-5C28-4E02-9AE7-8C13042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9C116-9E9F-4E9F-B41F-13ADC13F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67E0A-98F4-4653-97F1-7F276AD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5AF5E-6C55-4F5D-B265-829FEEDE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07767-B343-4F1E-AB53-DECD4A17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0ECBF-77A0-4A7E-8C72-2AB9BE05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9A747-5572-4707-98D5-69343EA2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ADA7B-ED10-4DD0-B456-2D5D9AA9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F09A1-FC14-4C58-815F-3CF25E48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79EB9-62C3-42D5-BBE8-EC3C2411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23AA5-BA1E-490D-B696-F23FF371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ACEF-A0B6-4C70-947A-B149AF83D5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DA39-2594-44BE-A670-4F8E506BA4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0DBE-B699-44F0-A5F3-36FDD5DCDA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1070-FAD7-4BAB-8EE8-6EC77F7F26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9AFD-F6B5-4F1A-94FC-6FCAE20EBE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11C8-DF9C-4B9E-9421-C684B26D7D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47DC-62F6-44A5-A7E9-62E697B5DB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7C13-23A1-4DA3-8C9E-63363E9A7C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55B5-4825-4B1E-BA29-7DD37E14FE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BC12-A2DD-40D7-ACB0-CD7908EC7B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60FA-E3CF-453D-B632-0712EE9E9C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656F-1E9E-4431-95AE-612906B408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7A7C-B13D-4358-98DE-4A41B7BCD6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15F0-9C7A-4DD1-A1F1-ABF9E4525B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19CD-5A49-48B4-B0B5-4C6D41C22A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93EE-0176-4B1B-BB04-2AFA95E876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" Target="slide25.xml"/><Relationship Id="rId13" Type="http://schemas.openxmlformats.org/officeDocument/2006/relationships/slide" Target="slide27.xml"/><Relationship Id="rId14" Type="http://schemas.openxmlformats.org/officeDocument/2006/relationships/slide" Target="slide29.xml"/><Relationship Id="rId15" Type="http://schemas.openxmlformats.org/officeDocument/2006/relationships/slide" Target="slide31.xml"/><Relationship Id="rId16" Type="http://schemas.openxmlformats.org/officeDocument/2006/relationships/slide" Target="slide33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" Target="slide43.xml"/><Relationship Id="rId22" Type="http://schemas.openxmlformats.org/officeDocument/2006/relationships/slide" Target="slide45.xml"/><Relationship Id="rId23" Type="http://schemas.openxmlformats.org/officeDocument/2006/relationships/slide" Target="slide47.xml"/><Relationship Id="rId24" Type="http://schemas.openxmlformats.org/officeDocument/2006/relationships/slide" Target="slide49.xml"/><Relationship Id="rId25" Type="http://schemas.openxmlformats.org/officeDocument/2006/relationships/slide" Target="slide51.xml"/><Relationship Id="rId26" Type="http://schemas.openxmlformats.org/officeDocument/2006/relationships/slide" Target="slide53.xml"/><Relationship Id="rId27" Type="http://schemas.openxmlformats.org/officeDocument/2006/relationships/slide" Target="slide53.xml"/><Relationship Id="rId28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0" y="3857400"/>
            <a:ext cx="9144000" cy="27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тературная виктор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учащихся 9 клас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ила 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Белкина Татьяна Алексе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14" descr="si"/>
          <p:cNvPicPr/>
          <p:nvPr/>
        </p:nvPicPr>
        <p:blipFill>
          <a:blip r:embed="rId1"/>
          <a:stretch/>
        </p:blipFill>
        <p:spPr>
          <a:xfrm>
            <a:off x="3143160" y="1500120"/>
            <a:ext cx="3000600" cy="2068560"/>
          </a:xfrm>
          <a:prstGeom prst="rect">
            <a:avLst/>
          </a:prstGeom>
          <a:ln w="0">
            <a:noFill/>
          </a:ln>
        </p:spPr>
      </p:pic>
      <p:sp>
        <p:nvSpPr>
          <p:cNvPr id="658" name="Прямоугольник 3"/>
          <p:cNvSpPr/>
          <p:nvPr/>
        </p:nvSpPr>
        <p:spPr>
          <a:xfrm>
            <a:off x="428760" y="28584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 «Макуловская СОШ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хнеуслонского райо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7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8" name="Rectangle 10"/>
          <p:cNvSpPr/>
          <p:nvPr/>
        </p:nvSpPr>
        <p:spPr>
          <a:xfrm>
            <a:off x="590400" y="8460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9" name="Прямоугольник 6"/>
          <p:cNvSpPr/>
          <p:nvPr/>
        </p:nvSpPr>
        <p:spPr>
          <a:xfrm>
            <a:off x="3009600" y="785880"/>
            <a:ext cx="27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А.А.Фету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00" name="Picture 7" descr="C:\Documents and Settings\User\Рабочий стол\новая игра\imgpreview.jpg"/>
          <p:cNvPicPr/>
          <p:nvPr/>
        </p:nvPicPr>
        <p:blipFill>
          <a:blip r:embed="rId3"/>
          <a:stretch/>
        </p:blipFill>
        <p:spPr>
          <a:xfrm>
            <a:off x="2857680" y="1785960"/>
            <a:ext cx="334296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з истории русской литературы 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857160" y="268596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1371600" y="1989000"/>
            <a:ext cx="64580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4" name="Прямоугольник 5"/>
          <p:cNvSpPr/>
          <p:nvPr/>
        </p:nvSpPr>
        <p:spPr>
          <a:xfrm>
            <a:off x="785880" y="1714680"/>
            <a:ext cx="735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зовите автора повестей «Левша», «Тупейный художник», «Зверь»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7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33160" y="800280"/>
            <a:ext cx="8172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Н.С.Леск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Picture 6" descr="C:\Documents and Settings\User\Рабочий стол\новая игра\3.jpg"/>
          <p:cNvPicPr/>
          <p:nvPr/>
        </p:nvPicPr>
        <p:blipFill>
          <a:blip r:embed="rId3"/>
          <a:stretch/>
        </p:blipFill>
        <p:spPr>
          <a:xfrm>
            <a:off x="3214800" y="2000160"/>
            <a:ext cx="2571480" cy="36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А.С.Пушкин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800280" y="224784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2" name="Rectangle 10"/>
          <p:cNvSpPr/>
          <p:nvPr/>
        </p:nvSpPr>
        <p:spPr>
          <a:xfrm>
            <a:off x="666720" y="25099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Где состоялась дуэль Пушкина и Дантеса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5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уэль состоялась на Чёрной речке. В 1937 году на месте дуэли был открыт обелис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7" descr="C:\Documents and Settings\User\Рабочий стол\детские конкурсы\фото Пушкина\8.jpg"/>
          <p:cNvPicPr/>
          <p:nvPr/>
        </p:nvPicPr>
        <p:blipFill>
          <a:blip r:embed="rId3"/>
          <a:stretch/>
        </p:blipFill>
        <p:spPr>
          <a:xfrm>
            <a:off x="3286080" y="2714760"/>
            <a:ext cx="2436840" cy="36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А.С.Пушкин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819000" y="228600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акой  эпиграф выбрал А.С.Пушкин к повести «Капитанская дочка»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42600" y="1285920"/>
            <a:ext cx="78678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Береги честь смолоду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22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23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24" name="Picture 10" descr="C:\Documents and Settings\User\Рабочий стол\детские конкурсы\фото Пушкина\1095412.jpg"/>
          <p:cNvPicPr/>
          <p:nvPr/>
        </p:nvPicPr>
        <p:blipFill>
          <a:blip r:embed="rId3"/>
          <a:stretch/>
        </p:blipFill>
        <p:spPr>
          <a:xfrm>
            <a:off x="2714760" y="35719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А.С.Пушкин</a:t>
            </a:r>
            <a:br>
              <a:rPr sz="4000"/>
            </a:br>
            <a:r>
              <a:rPr b="1" lang="en-US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42960" y="1856880"/>
            <a:ext cx="8143920" cy="38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ому из своих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рузей-декабристов Пушкин послал стихотворени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В Сибирь»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781200" y="45720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0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071960" y="2999880"/>
            <a:ext cx="45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.И.Пущину; оно начинается словами: «Мой первый друг, мой друг бесценный!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Picture 6" descr="C:\Documents and Settings\User\Рабочий стол\картинки к игре\250px-I__I__Pushchin,_1837.jpg"/>
          <p:cNvPicPr/>
          <p:nvPr/>
        </p:nvPicPr>
        <p:blipFill>
          <a:blip r:embed="rId3"/>
          <a:stretch/>
        </p:blipFill>
        <p:spPr>
          <a:xfrm>
            <a:off x="500040" y="1928880"/>
            <a:ext cx="3175200" cy="39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А.С.ПУШКИН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связи с чем и когда Жуковский подарил Пушкину свой портрет с надписью? Каково содержание надпис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"/>
          <p:cNvSpPr/>
          <p:nvPr/>
        </p:nvSpPr>
        <p:spPr>
          <a:xfrm>
            <a:off x="857160" y="2500200"/>
            <a:ext cx="72248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Литературная виктор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714240" y="1143000"/>
          <a:ext cx="7772400" cy="4651200"/>
        </p:xfrm>
        <a:graphic>
          <a:graphicData uri="http://schemas.openxmlformats.org/drawingml/2006/table">
            <a:tbl>
              <a:tblPr/>
              <a:tblGrid>
                <a:gridCol w="2792520"/>
                <a:gridCol w="1031760"/>
                <a:gridCol w="995400"/>
                <a:gridCol w="997200"/>
                <a:gridCol w="995040"/>
                <a:gridCol w="960480"/>
              </a:tblGrid>
              <a:tr h="112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истории русской литературы</a:t>
                      </a:r>
                      <a:endParaRPr b="0" lang="en-US" sz="2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.С.Пушкин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.Ю.Лермонтов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В.Гоголь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внерусская литература</a:t>
                      </a:r>
                      <a:endParaRPr b="0" lang="en-US" sz="24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1" name="Text Box 125">
            <a:hlinkClick r:id="rId26" action="ppaction://hlinksldjump"/>
          </p:cNvPr>
          <p:cNvSpPr/>
          <p:nvPr/>
        </p:nvSpPr>
        <p:spPr>
          <a:xfrm>
            <a:off x="3082680" y="627840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hlinkClick r:id="rId27" action="ppaction://hlinksldjump"/>
              </a:rPr>
              <a:t>ЗАВЕРШЕНИЕ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8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85520" y="1785960"/>
            <a:ext cx="43578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820 году, когда была напечатана поэма «Руслан и Людмила», Жуковский подарил Пушкину свой портрет с надписью «Победителю-ученику от побеждённого учителя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C:\Documents and Settings\User\Рабочий стол\картинки к игре\zhukovsky1.jpg"/>
          <p:cNvPicPr/>
          <p:nvPr/>
        </p:nvPicPr>
        <p:blipFill>
          <a:blip r:embed="rId3"/>
          <a:stretch/>
        </p:blipFill>
        <p:spPr>
          <a:xfrm>
            <a:off x="5857920" y="1357200"/>
            <a:ext cx="2784600" cy="35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04880" y="266400"/>
            <a:ext cx="781056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А.С.Пушкин 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723960" y="2209680"/>
            <a:ext cx="7638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Назовите шесть произведений Пушкина, в которых имя главной героини Мария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5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214800" y="2642760"/>
            <a:ext cx="528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ша Троекурова «Дубровский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ша Миронова «Капитанская дочка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рия «Бахчисарайский фонтан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рия «Полтава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ша «Выстрел»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рья Гавриловн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«Метел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6" descr="C:\Documents and Settings\User\Рабочий стол\детские конкурсы\фото Пушкина\№2.jpg"/>
          <p:cNvPicPr/>
          <p:nvPr/>
        </p:nvPicPr>
        <p:blipFill>
          <a:blip r:embed="rId3"/>
          <a:stretch/>
        </p:blipFill>
        <p:spPr>
          <a:xfrm>
            <a:off x="0" y="214200"/>
            <a:ext cx="3130560" cy="26528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" descr="C:\Documents and Settings\User\Рабочий стол\детские конкурсы\фото Пушкина\400_F_35893434_amEpsdJHcrfGB4nI8mydytstoKwVepn4.jpg"/>
          <p:cNvPicPr/>
          <p:nvPr/>
        </p:nvPicPr>
        <p:blipFill>
          <a:blip r:embed="rId4"/>
          <a:stretch/>
        </p:blipFill>
        <p:spPr>
          <a:xfrm>
            <a:off x="6910560" y="4214880"/>
            <a:ext cx="223344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М.Ю.Лермонтов 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50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му посвящены ранние юношеские стихи Лермонтов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Я не достоин, может бы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оей любви: не мне суди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ты обманом награди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и надежды и меч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я всегда скажу, что 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справедливо поступи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Мы случайно сведены судьбо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бя нашли один в друг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душа сдружилася с душо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ть пути не кончить им вдвоё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3"/>
          <p:cNvSpPr/>
          <p:nvPr/>
        </p:nvSpPr>
        <p:spPr>
          <a:xfrm>
            <a:off x="726372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3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334800" y="1036800"/>
            <a:ext cx="845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5319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Наталье Фёдоровне Ивановой, дочери драматурга Ф.Ф.Иванова, в которую был безумно влюблён Лермонтов, но она предпочла ему одного из его друзей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арваре Александровне Лопухиной, она не была красавицей, но Лермонтов полюбил её, не раз сопоставляя её с Наташей Иванов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8" descr="C:\Documents and Settings\User\Рабочий стол\картинки к игре\иванова.jpg"/>
          <p:cNvPicPr/>
          <p:nvPr/>
        </p:nvPicPr>
        <p:blipFill>
          <a:blip r:embed="rId3"/>
          <a:stretch/>
        </p:blipFill>
        <p:spPr>
          <a:xfrm>
            <a:off x="6357960" y="285840"/>
            <a:ext cx="2143080" cy="25351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9" descr="C:\Documents and Settings\User\Рабочий стол\картинки к игре\Лопухина.jpg"/>
          <p:cNvPicPr/>
          <p:nvPr/>
        </p:nvPicPr>
        <p:blipFill>
          <a:blip r:embed="rId4"/>
          <a:stretch/>
        </p:blipFill>
        <p:spPr>
          <a:xfrm>
            <a:off x="5857920" y="3857760"/>
            <a:ext cx="3035160" cy="227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М.Ю.Лермонтов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 каком романе Лермонтова Гоголь сказал, что «никто ещё не писал у нас такой правильной, прекрасной и благоуханной прозой», а Лев Толстой отметил, что роман произвёл на него «очень большое впечатление!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80880" y="219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3"/>
          <p:cNvSpPr/>
          <p:nvPr/>
        </p:nvSpPr>
        <p:spPr>
          <a:xfrm>
            <a:off x="72612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197080" y="1571760"/>
            <a:ext cx="694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Роман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Герой нашего времени»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65" name="Picture 6" descr="C:\Documents and Settings\User\Рабочий стол\картинки к игре\220px-Mikhail_Vrubel_Duel_Pechorin_vs_Grushnizky.jpg"/>
          <p:cNvPicPr/>
          <p:nvPr/>
        </p:nvPicPr>
        <p:blipFill>
          <a:blip r:embed="rId1"/>
          <a:stretch/>
        </p:blipFill>
        <p:spPr>
          <a:xfrm>
            <a:off x="500040" y="2286000"/>
            <a:ext cx="2793960" cy="4140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C:\Documents and Settings\User\Рабочий стол\картинки к игре\200px-Geroy_nashego_vremeni.gif"/>
          <p:cNvPicPr/>
          <p:nvPr/>
        </p:nvPicPr>
        <p:blipFill>
          <a:blip r:embed="rId2"/>
          <a:stretch/>
        </p:blipFill>
        <p:spPr>
          <a:xfrm>
            <a:off x="5500800" y="4143240"/>
            <a:ext cx="1904760" cy="271476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C:\Documents and Settings\User\Рабочий стол\картинки к игре\top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М.Ю.Лермонтов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42884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Где находится могила М.Ю.Лермонтов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819000" y="186696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4" name="AutoShape 8"/>
          <p:cNvSpPr/>
          <p:nvPr/>
        </p:nvSpPr>
        <p:spPr>
          <a:xfrm flipH="1">
            <a:off x="2146320" y="2019240"/>
            <a:ext cx="596880" cy="355680"/>
          </a:xfrm>
          <a:prstGeom prst="wedgeEllipseCallout">
            <a:avLst>
              <a:gd name="adj1" fmla="val -47875"/>
              <a:gd name="adj2" fmla="val 535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5" name="AutoShape 9"/>
          <p:cNvSpPr/>
          <p:nvPr/>
        </p:nvSpPr>
        <p:spPr>
          <a:xfrm>
            <a:off x="1333440" y="2019240"/>
            <a:ext cx="914400" cy="609840"/>
          </a:xfrm>
          <a:prstGeom prst="wedgeEllipseCallout">
            <a:avLst>
              <a:gd name="adj1" fmla="val 183333"/>
              <a:gd name="adj2" fmla="val 513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6" name="AutoShape 10"/>
          <p:cNvSpPr/>
          <p:nvPr/>
        </p:nvSpPr>
        <p:spPr>
          <a:xfrm>
            <a:off x="3200400" y="245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7" name="Line 13"/>
          <p:cNvSpPr/>
          <p:nvPr/>
        </p:nvSpPr>
        <p:spPr>
          <a:xfrm>
            <a:off x="2647800" y="1924200"/>
            <a:ext cx="857520" cy="476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8" name="Line 14"/>
          <p:cNvSpPr/>
          <p:nvPr/>
        </p:nvSpPr>
        <p:spPr>
          <a:xfrm>
            <a:off x="2590920" y="4400640"/>
            <a:ext cx="68580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9" name="Line 15"/>
          <p:cNvSpPr/>
          <p:nvPr/>
        </p:nvSpPr>
        <p:spPr>
          <a:xfrm flipH="1">
            <a:off x="6000840" y="2171880"/>
            <a:ext cx="914400" cy="514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0" name="Line 16"/>
          <p:cNvSpPr/>
          <p:nvPr/>
        </p:nvSpPr>
        <p:spPr>
          <a:xfrm flipH="1">
            <a:off x="4647960" y="4038480"/>
            <a:ext cx="93348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1" name="Line 17"/>
          <p:cNvSpPr/>
          <p:nvPr/>
        </p:nvSpPr>
        <p:spPr>
          <a:xfrm flipH="1">
            <a:off x="6648120" y="3543480"/>
            <a:ext cx="723960" cy="26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2" name="Text Box 18"/>
          <p:cNvSpPr/>
          <p:nvPr/>
        </p:nvSpPr>
        <p:spPr>
          <a:xfrm>
            <a:off x="3152880" y="19224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3" name="AutoShape 26"/>
          <p:cNvSpPr/>
          <p:nvPr/>
        </p:nvSpPr>
        <p:spPr>
          <a:xfrm>
            <a:off x="7867800" y="1390680"/>
            <a:ext cx="698400" cy="679320"/>
          </a:xfrm>
          <a:prstGeom prst="wedgeEllipseCallout">
            <a:avLst>
              <a:gd name="adj1" fmla="val -294546"/>
              <a:gd name="adj2" fmla="val 108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4" name="Rectangle 29"/>
          <p:cNvSpPr/>
          <p:nvPr/>
        </p:nvSpPr>
        <p:spPr>
          <a:xfrm>
            <a:off x="592200" y="228600"/>
            <a:ext cx="819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оначально Лермонтов был захоронен в Пятигорске, но в 1842 году бабушка поэта Е.А.Арсеньева перевезла прах в Тарханы. Здесь, в фамильной часовне Арсеньевых, стоит памятник поэту. Рядом покоится прах матери, а с 1974 года и прах отца.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785" name="Picture 16" descr="C:\Documents and Settings\User\Рабочий стол\картинки к игре\часовня в тарханах.jpg"/>
          <p:cNvPicPr/>
          <p:nvPr/>
        </p:nvPicPr>
        <p:blipFill>
          <a:blip r:embed="rId1"/>
          <a:stretch/>
        </p:blipFill>
        <p:spPr>
          <a:xfrm>
            <a:off x="285840" y="3071880"/>
            <a:ext cx="2043000" cy="27590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7" descr="C:\Documents and Settings\User\Рабочий стол\картинки к игре\tarhany2.jpg"/>
          <p:cNvPicPr/>
          <p:nvPr/>
        </p:nvPicPr>
        <p:blipFill>
          <a:blip r:embed="rId2"/>
          <a:stretch/>
        </p:blipFill>
        <p:spPr>
          <a:xfrm>
            <a:off x="6786720" y="3000240"/>
            <a:ext cx="2104920" cy="285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8" descr="C:\Documents and Settings\User\Рабочий стол\картинки к игре\тарханы.jpg"/>
          <p:cNvPicPr/>
          <p:nvPr/>
        </p:nvPicPr>
        <p:blipFill>
          <a:blip r:embed="rId3"/>
          <a:stretch/>
        </p:blipFill>
        <p:spPr>
          <a:xfrm>
            <a:off x="2428920" y="3429000"/>
            <a:ext cx="424980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М.Ю.Лермонтов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57160" y="2499840"/>
            <a:ext cx="7562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стихотворение Лермонтова было передано царю с надписью «воззвание к революции»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з истории русской литературы </a:t>
            </a:r>
            <a:br>
              <a:rPr sz="4000"/>
            </a:br>
            <a:r>
              <a:rPr b="1" lang="ru-RU" sz="44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704880" y="2266920"/>
            <a:ext cx="6229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664" name="Picture 9" descr="1159"/>
          <p:cNvPicPr/>
          <p:nvPr/>
        </p:nvPicPr>
        <p:blipFill>
          <a:blip r:embed="rId1"/>
          <a:stretch/>
        </p:blipFill>
        <p:spPr>
          <a:xfrm>
            <a:off x="7201080" y="3666960"/>
            <a:ext cx="1618920" cy="2905200"/>
          </a:xfrm>
          <a:prstGeom prst="rect">
            <a:avLst/>
          </a:prstGeom>
          <a:ln w="0">
            <a:noFill/>
          </a:ln>
        </p:spPr>
      </p:pic>
      <p:sp>
        <p:nvSpPr>
          <p:cNvPr id="665" name="Прямоугольник 4"/>
          <p:cNvSpPr/>
          <p:nvPr/>
        </p:nvSpPr>
        <p:spPr>
          <a:xfrm>
            <a:off x="428760" y="2500200"/>
            <a:ext cx="685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то из русских писателей был в юности «пожалован» Екатерино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в пажи, а затем стал ярым врагом самодержавия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3"/>
          <p:cNvSpPr/>
          <p:nvPr/>
        </p:nvSpPr>
        <p:spPr>
          <a:xfrm>
            <a:off x="7115040" y="63388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1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67760" cy="23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тихотворение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Смерть поэт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6" descr="C:\Documents and Settings\User\Рабочий стол\детские конкурсы\фото Пушкина\13.jpg"/>
          <p:cNvPicPr/>
          <p:nvPr/>
        </p:nvPicPr>
        <p:blipFill>
          <a:blip r:embed="rId1"/>
          <a:stretch/>
        </p:blipFill>
        <p:spPr>
          <a:xfrm>
            <a:off x="0" y="0"/>
            <a:ext cx="3191040" cy="23940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7" descr="C:\Documents and Settings\User\Рабочий стол\детские конкурсы\фото Пушкина\14.jpg"/>
          <p:cNvPicPr/>
          <p:nvPr/>
        </p:nvPicPr>
        <p:blipFill>
          <a:blip r:embed="rId2"/>
          <a:stretch/>
        </p:blipFill>
        <p:spPr>
          <a:xfrm>
            <a:off x="6500880" y="4000680"/>
            <a:ext cx="23511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М.Ю.Лермонтов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28760" y="198108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му герою Лермонтова посвящаются эти строк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Пройдёт стар человек – перекреститс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йдёт молодец – приосанитс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йдёт девица – пригорюни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 пройдут гусляры – споют песенку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1209600" y="2000520"/>
            <a:ext cx="672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3716280" y="2982960"/>
            <a:ext cx="4722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71840" y="214200"/>
            <a:ext cx="62006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упцу Калашникову из «Песни про купца Калашникова…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7" descr="C:\Documents and Settings\User\Рабочий стол\картинки к игре\imgpreviewCAWP1CWD.jpg"/>
          <p:cNvPicPr/>
          <p:nvPr/>
        </p:nvPicPr>
        <p:blipFill>
          <a:blip r:embed="rId1"/>
          <a:stretch/>
        </p:blipFill>
        <p:spPr>
          <a:xfrm>
            <a:off x="571680" y="357120"/>
            <a:ext cx="1873080" cy="27147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8" descr="C:\Documents and Settings\User\Рабочий стол\картинки к игре\imgpreviewCAYY8Q04.jpg"/>
          <p:cNvPicPr/>
          <p:nvPr/>
        </p:nvPicPr>
        <p:blipFill>
          <a:blip r:embed="rId2"/>
          <a:stretch/>
        </p:blipFill>
        <p:spPr>
          <a:xfrm>
            <a:off x="2571840" y="2571840"/>
            <a:ext cx="2071440" cy="32115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C:\Documents and Settings\User\Рабочий стол\картинки к игре\imgpreview.jpg"/>
          <p:cNvPicPr/>
          <p:nvPr/>
        </p:nvPicPr>
        <p:blipFill>
          <a:blip r:embed="rId3"/>
          <a:stretch/>
        </p:blipFill>
        <p:spPr>
          <a:xfrm>
            <a:off x="4929120" y="3929040"/>
            <a:ext cx="2273400" cy="26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Н.В.Гоголь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714240" y="1714680"/>
            <a:ext cx="750096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произведение Гоголя напоминает вам картина И.Е.Репина «Запорожцы пишут письмо турецкому султану»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"/>
          <p:cNvSpPr/>
          <p:nvPr/>
        </p:nvSpPr>
        <p:spPr>
          <a:xfrm>
            <a:off x="628560" y="70488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-360" y="3214440"/>
            <a:ext cx="47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ь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рас Бульб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Picture 6" descr="C:\Documents and Settings\User\Рабочий стол\картинки к игре\imgpreviewCA08IWSW.jpg"/>
          <p:cNvPicPr/>
          <p:nvPr/>
        </p:nvPicPr>
        <p:blipFill>
          <a:blip r:embed="rId1"/>
          <a:stretch/>
        </p:blipFill>
        <p:spPr>
          <a:xfrm>
            <a:off x="500040" y="357120"/>
            <a:ext cx="3786120" cy="24433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7" descr="C:\Documents and Settings\User\Рабочий стол\картинки к игре\imgpreviewCAWMYB77.jpg"/>
          <p:cNvPicPr/>
          <p:nvPr/>
        </p:nvPicPr>
        <p:blipFill>
          <a:blip r:embed="rId2"/>
          <a:stretch/>
        </p:blipFill>
        <p:spPr>
          <a:xfrm>
            <a:off x="4786200" y="3071880"/>
            <a:ext cx="3929040" cy="32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Н.В.Гоголь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785520" y="1785960"/>
            <a:ext cx="74293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южеты каких произведений были подсказаны Гоголю А.С.Пушкиным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3"/>
          <p:cNvSpPr/>
          <p:nvPr/>
        </p:nvSpPr>
        <p:spPr>
          <a:xfrm>
            <a:off x="357120" y="3357720"/>
            <a:ext cx="83296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1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142880" y="3428640"/>
            <a:ext cx="4581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.С.Пушкин подсказал Н.В.Гоголю сюжеты «Ревизора» и «Мёртвых душ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6" descr="C:\Documents and Settings\User\Рабочий стол\картинки к игре\imgpreviewCAG1QVCP.jpg"/>
          <p:cNvPicPr/>
          <p:nvPr/>
        </p:nvPicPr>
        <p:blipFill>
          <a:blip r:embed="rId1"/>
          <a:stretch/>
        </p:blipFill>
        <p:spPr>
          <a:xfrm>
            <a:off x="285840" y="285840"/>
            <a:ext cx="1643040" cy="24890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7" descr="C:\Documents and Settings\User\Рабочий стол\картинки к игре\imgpreviewCAFWJN8X.jpg"/>
          <p:cNvPicPr/>
          <p:nvPr/>
        </p:nvPicPr>
        <p:blipFill>
          <a:blip r:embed="rId2"/>
          <a:stretch/>
        </p:blipFill>
        <p:spPr>
          <a:xfrm>
            <a:off x="1500120" y="2071800"/>
            <a:ext cx="1562040" cy="233208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8" descr="C:\Documents and Settings\User\Рабочий стол\картинки к игре\imgpreviewCALGK9V0.jpg"/>
          <p:cNvPicPr/>
          <p:nvPr/>
        </p:nvPicPr>
        <p:blipFill>
          <a:blip r:embed="rId3"/>
          <a:stretch/>
        </p:blipFill>
        <p:spPr>
          <a:xfrm>
            <a:off x="2571840" y="421488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9" descr="C:\Documents and Settings\User\Рабочий стол\картинки к игре\imgpreviewCA1QSI7U.jpg"/>
          <p:cNvPicPr/>
          <p:nvPr/>
        </p:nvPicPr>
        <p:blipFill>
          <a:blip r:embed="rId4"/>
          <a:stretch/>
        </p:blipFill>
        <p:spPr>
          <a:xfrm>
            <a:off x="5500800" y="0"/>
            <a:ext cx="3262320" cy="21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Н.В.Гоголь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0040" y="1857240"/>
            <a:ext cx="807264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у принадлежат слова, сказанные после первого представления «Ревизора»: «Ну и пьеска! Всем досталось, а мне более всех!»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0" y="16574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135252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28800" y="450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лова принадлежат императору Николаю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Picture 6" descr="C:\Documents and Settings\User\Рабочий стол\картинки к игре\николай1.jpg"/>
          <p:cNvPicPr/>
          <p:nvPr/>
        </p:nvPicPr>
        <p:blipFill>
          <a:blip r:embed="rId1"/>
          <a:stretch/>
        </p:blipFill>
        <p:spPr>
          <a:xfrm>
            <a:off x="1143000" y="214200"/>
            <a:ext cx="3214800" cy="395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Н.В.Гоголь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85880" y="2143080"/>
            <a:ext cx="750096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акую поговорку взял Гоголь эпиграфом к комедии «Ревизор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3"/>
          <p:cNvSpPr/>
          <p:nvPr/>
        </p:nvSpPr>
        <p:spPr>
          <a:xfrm>
            <a:off x="743040" y="1962000"/>
            <a:ext cx="761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8" name="Rectangle 7"/>
          <p:cNvSpPr/>
          <p:nvPr/>
        </p:nvSpPr>
        <p:spPr>
          <a:xfrm>
            <a:off x="642960" y="571680"/>
            <a:ext cx="8086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7111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67" name="Rectangle 6">
            <a:hlinkClick r:id="rId2" action="ppaction://hlinksldjump"/>
          </p:cNvPr>
          <p:cNvSpPr/>
          <p:nvPr/>
        </p:nvSpPr>
        <p:spPr>
          <a:xfrm>
            <a:off x="146700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99920" y="1257120"/>
            <a:ext cx="535788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А.Н.Радище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5" descr="C:\Documents and Settings\User\Рабочий стол\Мой материал\Портреты\derzhawin 2.jpg"/>
          <p:cNvPicPr/>
          <p:nvPr/>
        </p:nvPicPr>
        <p:blipFill>
          <a:blip r:embed="rId3"/>
          <a:stretch/>
        </p:blipFill>
        <p:spPr>
          <a:xfrm>
            <a:off x="571680" y="1357200"/>
            <a:ext cx="300960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2" name="Rectangle 7"/>
          <p:cNvSpPr/>
          <p:nvPr/>
        </p:nvSpPr>
        <p:spPr>
          <a:xfrm>
            <a:off x="465120" y="487440"/>
            <a:ext cx="8291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499920" y="642960"/>
            <a:ext cx="52009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 зеркало неча пенять, коли рожа кри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4" name="Picture 7" descr="C:\Documents and Settings\User\Рабочий стол\картинки к игре\imgpreviewCASXYR3J.jpg"/>
          <p:cNvPicPr/>
          <p:nvPr/>
        </p:nvPicPr>
        <p:blipFill>
          <a:blip r:embed="rId1"/>
          <a:stretch/>
        </p:blipFill>
        <p:spPr>
          <a:xfrm>
            <a:off x="0" y="0"/>
            <a:ext cx="2357280" cy="322884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8" descr="C:\Documents and Settings\User\Рабочий стол\картинки к игре\imgpreviewCALJY5PE.jpg"/>
          <p:cNvPicPr/>
          <p:nvPr/>
        </p:nvPicPr>
        <p:blipFill>
          <a:blip r:embed="rId2"/>
          <a:stretch/>
        </p:blipFill>
        <p:spPr>
          <a:xfrm>
            <a:off x="2286000" y="3214800"/>
            <a:ext cx="26431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Н.В.Гоголь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357120" y="2143080"/>
            <a:ext cx="807264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 каких двух героев Гоголя головы были похожи: у одного на редьку хвостом вниз, а у другого на редьку хвостом вверх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3"/>
          <p:cNvSpPr/>
          <p:nvPr/>
        </p:nvSpPr>
        <p:spPr>
          <a:xfrm>
            <a:off x="838080" y="175248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1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28400" y="356760"/>
            <a:ext cx="77151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 Ивана Ивановича и Ивана Никифоровича; «Повесть о том, как Иван Иванович поссорился с Иваном Никифоровичем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Picture 7" descr="C:\Documents and Settings\User\Рабочий стол\картинки к игре\imgpreviewCAMPV13S.jpg"/>
          <p:cNvPicPr/>
          <p:nvPr/>
        </p:nvPicPr>
        <p:blipFill>
          <a:blip r:embed="rId1"/>
          <a:stretch/>
        </p:blipFill>
        <p:spPr>
          <a:xfrm>
            <a:off x="6094440" y="2714760"/>
            <a:ext cx="2349360" cy="32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ем была составлена первая славянская азбука, какое название она получил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"/>
          <p:cNvSpPr/>
          <p:nvPr/>
        </p:nvSpPr>
        <p:spPr>
          <a:xfrm>
            <a:off x="914400" y="209556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9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0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85840" y="14997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ратьями-славянами из г. Солуна Константином (в монашестве Кирилл) и Мефодием. Кириллица – на основе греческой азбуки (863-864 гг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Picture 6" descr="C:\Documents and Settings\User\Рабочий стол\картинки к игре\кирилл.jpg"/>
          <p:cNvPicPr/>
          <p:nvPr/>
        </p:nvPicPr>
        <p:blipFill>
          <a:blip r:embed="rId1"/>
          <a:stretch/>
        </p:blipFill>
        <p:spPr>
          <a:xfrm>
            <a:off x="2928960" y="3643200"/>
            <a:ext cx="307188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81200" y="2133360"/>
            <a:ext cx="77724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отомстила княгиня Ольга древлянам за смерть муж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"/>
          <p:cNvSpPr/>
          <p:nvPr/>
        </p:nvSpPr>
        <p:spPr>
          <a:xfrm>
            <a:off x="685800" y="62856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57760" y="285732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а потребовала от каждого двора по 3 голубя и 3 воробья вместо дани, приказала привязать к ним зажжённый трут, и они, вернувшись в гнёзда, сожгли город Искоросте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Picture 6" descr="C:\Documents and Settings\User\Рабочий стол\картинки к игре\ольга.jpg"/>
          <p:cNvPicPr/>
          <p:nvPr/>
        </p:nvPicPr>
        <p:blipFill>
          <a:blip r:embed="rId1"/>
          <a:stretch/>
        </p:blipFill>
        <p:spPr>
          <a:xfrm>
            <a:off x="285840" y="285840"/>
            <a:ext cx="1904760" cy="18097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7" descr="C:\Documents and Settings\User\Рабочий стол\картинки к игре\imgpreviewCA4F6Z4V.jpg"/>
          <p:cNvPicPr/>
          <p:nvPr/>
        </p:nvPicPr>
        <p:blipFill>
          <a:blip r:embed="rId2"/>
          <a:stretch/>
        </p:blipFill>
        <p:spPr>
          <a:xfrm>
            <a:off x="2000160" y="2428920"/>
            <a:ext cx="1552680" cy="190512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8" descr="C:\Documents and Settings\User\Рабочий стол\картинки к игре\imgpreviewCAE5ZGI4.jpg"/>
          <p:cNvPicPr/>
          <p:nvPr/>
        </p:nvPicPr>
        <p:blipFill>
          <a:blip r:embed="rId3"/>
          <a:stretch/>
        </p:blipFill>
        <p:spPr>
          <a:xfrm>
            <a:off x="428760" y="4857840"/>
            <a:ext cx="281916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642600" y="1928520"/>
            <a:ext cx="771516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то были первые русские святые и за что их канонизировали? Какое произведение им было посвящено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928800" y="500040"/>
            <a:ext cx="761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7" name="Rectangle 4"/>
          <p:cNvSpPr/>
          <p:nvPr/>
        </p:nvSpPr>
        <p:spPr>
          <a:xfrm>
            <a:off x="1352520" y="186696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8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79" name="AutoShape 10"/>
          <p:cNvSpPr/>
          <p:nvPr/>
        </p:nvSpPr>
        <p:spPr>
          <a:xfrm>
            <a:off x="590400" y="266760"/>
            <a:ext cx="3181680" cy="799920"/>
          </a:xfrm>
          <a:prstGeom prst="wedgeEllipseCallout">
            <a:avLst>
              <a:gd name="adj1" fmla="val -18263"/>
              <a:gd name="adj2" fmla="val 4128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0" name="AutoShape 12"/>
          <p:cNvSpPr/>
          <p:nvPr/>
        </p:nvSpPr>
        <p:spPr>
          <a:xfrm>
            <a:off x="609480" y="514440"/>
            <a:ext cx="3175200" cy="755640"/>
          </a:xfrm>
          <a:prstGeom prst="wedgeRoundRectCallout">
            <a:avLst>
              <a:gd name="adj1" fmla="val 5398"/>
              <a:gd name="adj2" fmla="val 50105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56800" y="1785600"/>
            <a:ext cx="60008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нязья, братья Борис и Глеб. Их канонизировали как «страстотерпцев» - невинно убиенных старшим братом Святополком (1015 г.), «Сказание о Борисе и Глеб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8" descr="C:\Documents and Settings\User\Рабочий стол\картинки к игре\глеб.jpg"/>
          <p:cNvPicPr/>
          <p:nvPr/>
        </p:nvPicPr>
        <p:blipFill>
          <a:blip r:embed="rId1"/>
          <a:stretch/>
        </p:blipFill>
        <p:spPr>
          <a:xfrm>
            <a:off x="2428920" y="4071960"/>
            <a:ext cx="3214800" cy="25398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9" descr="C:\Documents and Settings\User\Рабочий стол\картинки к игре\борис и глеб.jpg"/>
          <p:cNvPicPr/>
          <p:nvPr/>
        </p:nvPicPr>
        <p:blipFill>
          <a:blip r:embed="rId2"/>
          <a:stretch/>
        </p:blipFill>
        <p:spPr>
          <a:xfrm>
            <a:off x="7072200" y="357120"/>
            <a:ext cx="175104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66720" y="59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40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66400" y="1942920"/>
            <a:ext cx="85914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 какого вопроса начинается «Слово о полку Игореве»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                                   </a:t>
            </a: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723960" y="1542960"/>
            <a:ext cx="7620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4659480" y="6156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з истории русской литературы 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Прямоугольник 4"/>
          <p:cNvSpPr/>
          <p:nvPr/>
        </p:nvSpPr>
        <p:spPr>
          <a:xfrm>
            <a:off x="571680" y="2428920"/>
            <a:ext cx="8072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зовите известного русского поэта, бесстрашного партизана и организатора партизанской борьбы в период Отечественной войны 1812 год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3"/>
          <p:cNvSpPr/>
          <p:nvPr/>
        </p:nvSpPr>
        <p:spPr>
          <a:xfrm>
            <a:off x="725940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9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0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85480" y="642600"/>
            <a:ext cx="471492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Не лепо ли ны бяшет, братие, начяти старыми словесы трудных повестей о полку Игореве, Игоря Святославовича?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Picture 6" descr="C:\Documents and Settings\User\Рабочий стол\картинки к игре\imgpreviewCASEXDA2.jpg"/>
          <p:cNvPicPr/>
          <p:nvPr/>
        </p:nvPicPr>
        <p:blipFill>
          <a:blip r:embed="rId1"/>
          <a:stretch/>
        </p:blipFill>
        <p:spPr>
          <a:xfrm>
            <a:off x="3929040" y="35712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7" descr="C:\Documents and Settings\User\Рабочий стол\картинки к игре\imgpreviewCAMHA693.jpg"/>
          <p:cNvPicPr/>
          <p:nvPr/>
        </p:nvPicPr>
        <p:blipFill>
          <a:blip r:embed="rId2"/>
          <a:stretch/>
        </p:blipFill>
        <p:spPr>
          <a:xfrm>
            <a:off x="3071880" y="5000760"/>
            <a:ext cx="3571920" cy="185724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8" descr="C:\Documents and Settings\User\Рабочий стол\картинки к игре\слово о.jpg"/>
          <p:cNvPicPr/>
          <p:nvPr/>
        </p:nvPicPr>
        <p:blipFill>
          <a:blip r:embed="rId3"/>
          <a:stretch/>
        </p:blipFill>
        <p:spPr>
          <a:xfrm>
            <a:off x="5786280" y="21430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Древнерусск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99680" y="1928520"/>
            <a:ext cx="792972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акие повести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ека пародировали судопроизводство и изобличали взяточничество судей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3"/>
          <p:cNvSpPr/>
          <p:nvPr/>
        </p:nvSpPr>
        <p:spPr>
          <a:xfrm>
            <a:off x="285840" y="2019240"/>
            <a:ext cx="862956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3"/>
          <p:cNvSpPr/>
          <p:nvPr/>
        </p:nvSpPr>
        <p:spPr>
          <a:xfrm>
            <a:off x="7100640" y="633888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ff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0" name="Rectangle 5"/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857160" y="3929040"/>
            <a:ext cx="757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Повесть о Шемякином суде»,  «Повесть о Ерше Ершовиче»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902" name="Picture 6" descr="C:\Documents and Settings\User\Рабочий стол\картинки к игре\суд.jpg"/>
          <p:cNvPicPr/>
          <p:nvPr/>
        </p:nvPicPr>
        <p:blipFill>
          <a:blip r:embed="rId1"/>
          <a:stretch/>
        </p:blipFill>
        <p:spPr>
          <a:xfrm>
            <a:off x="714240" y="357120"/>
            <a:ext cx="2786040" cy="37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8124840" cy="512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спользованная литератур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. Л.Л.Бельская. Литературные викторины. М.: Просвещение, 2003, 301 с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В.А.Ильина. Литературные викторины. Волгоград: Учитель-АСТ, 200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ttp://www.akartinki.narod.ru/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3032280" y="603396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6"/>
          <p:cNvSpPr/>
          <p:nvPr/>
        </p:nvSpPr>
        <p:spPr>
          <a:xfrm>
            <a:off x="7111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74" name="Rectangle 9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75" name="Text Box 1036"/>
          <p:cNvSpPr/>
          <p:nvPr/>
        </p:nvSpPr>
        <p:spPr>
          <a:xfrm>
            <a:off x="0" y="5634000"/>
            <a:ext cx="14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071600" y="1285560"/>
            <a:ext cx="4815000" cy="15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Д.В.Давыдо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1061"/>
          <p:cNvSpPr/>
          <p:nvPr/>
        </p:nvSpPr>
        <p:spPr>
          <a:xfrm>
            <a:off x="4479840" y="3017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678" name="Picture 9" descr="C:\Documents and Settings\User\Рабочий стол\новая игра\280px-Denisdavydov.jpg"/>
          <p:cNvPicPr/>
          <p:nvPr/>
        </p:nvPicPr>
        <p:blipFill>
          <a:blip r:embed="rId3"/>
          <a:stretch/>
        </p:blipFill>
        <p:spPr>
          <a:xfrm>
            <a:off x="357120" y="2214720"/>
            <a:ext cx="3556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з истории русской литературы 300</a:t>
            </a:r>
            <a:r>
              <a:rPr b="1" lang="ru-RU" sz="5400" spc="-1" strike="noStrike">
                <a:solidFill>
                  <a:srgbClr val="005ce7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200240" y="2666520"/>
            <a:ext cx="573408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литературное произведение начинается картиной святочного гадани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38080" y="22860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3"/>
          <p:cNvSpPr/>
          <p:nvPr/>
        </p:nvSpPr>
        <p:spPr>
          <a:xfrm>
            <a:off x="7273440" y="6338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ТАБЛИЦА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84" name="Rectangle 5">
            <a:hlinkClick r:id="rId2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аллада В.А.Жуковского «Светла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7" descr="C:\Documents and Settings\User\Рабочий стол\новая игра\220px-Bryullov_portrait_of_Zhukovsky.jpg"/>
          <p:cNvPicPr/>
          <p:nvPr/>
        </p:nvPicPr>
        <p:blipFill>
          <a:blip r:embed="rId3"/>
          <a:stretch/>
        </p:blipFill>
        <p:spPr>
          <a:xfrm>
            <a:off x="285840" y="1285920"/>
            <a:ext cx="2408040" cy="32860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8" descr="C:\Documents and Settings\User\Рабочий стол\новая игра\250px-Svetlana_brullov.jpg"/>
          <p:cNvPicPr/>
          <p:nvPr/>
        </p:nvPicPr>
        <p:blipFill>
          <a:blip r:embed="rId4"/>
          <a:stretch/>
        </p:blipFill>
        <p:spPr>
          <a:xfrm>
            <a:off x="4786200" y="2000160"/>
            <a:ext cx="3381480" cy="412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Из истории русской литературы </a:t>
            </a:r>
            <a:r>
              <a:rPr b="1" lang="en-US" sz="4000" spc="-1" strike="noStrike">
                <a:solidFill>
                  <a:srgbClr val="005ce7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5ce7"/>
                </a:solidFill>
                <a:latin typeface="Times New Roman"/>
              </a:rPr>
              <a:t>00</a:t>
            </a:r>
            <a:r>
              <a:rPr b="1" lang="ru-RU" sz="5400" spc="-1" strike="noStrike">
                <a:solidFill>
                  <a:srgbClr val="005ce7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685800" y="295272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666720" y="2670120"/>
            <a:ext cx="7905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3" name="Прямоугольник 5"/>
          <p:cNvSpPr/>
          <p:nvPr/>
        </p:nvSpPr>
        <p:spPr>
          <a:xfrm>
            <a:off x="928800" y="1857240"/>
            <a:ext cx="764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у какого поэта принадлежит стихотворение, начинающееся словами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Я пришёл к тебе с привето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сказать, что солнце встало…»?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694" name="Picture 4" descr="C:\Documents and Settings\User\Рабочий стол\новая игра\пп.jpg"/>
          <p:cNvPicPr/>
          <p:nvPr/>
        </p:nvPicPr>
        <p:blipFill>
          <a:blip r:embed="rId1"/>
          <a:stretch/>
        </p:blipFill>
        <p:spPr>
          <a:xfrm>
            <a:off x="2357280" y="4000680"/>
            <a:ext cx="3786480" cy="23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Admin</cp:lastModifiedBy>
  <dcterms:modified xsi:type="dcterms:W3CDTF">2012-05-08T17:59:13Z</dcterms:modified>
  <cp:revision>593</cp:revision>
  <dc:subject/>
  <dc:title>Презентация PowerPoint</dc:title>
</cp:coreProperties>
</file>