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2F0-E657-4BCF-8795-56105DC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8E5-2F32-455D-86B9-1D8C8E97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C7214-A1FF-4746-A49E-22B9EF35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41F22-0851-442A-B308-8876F7E3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C0DAB-8D1E-4889-BF9C-9AAC5389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31173-F106-4ED0-B576-4247C6E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1230C-6BCD-43C9-AC44-9BFF9359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F9018-86FF-47E5-97B2-51F8C106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60B7B-FD17-4FD7-98C7-DC02E299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25A0D-3697-4EAE-88EB-2FA684A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CDFE3-3B8E-456D-9E0F-A79460A2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062CD-141F-4967-BA8B-6CD4C173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FD7-D628-409F-AB93-FADB12C3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F94CC-1EBF-4230-A694-839CE21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7EA16-EB99-4D4D-96A4-8A9419D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2A469-96D3-4C57-B379-36169A88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8591A-5585-42D0-B9BF-323AD82C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C836B-FE02-47BD-8C77-F25EA746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76731-B014-4B06-985D-2030F025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1CD66-19B6-4BBB-933A-4091D7C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417D2-5E04-46EB-B82B-33054A4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AAF04-A1EA-4896-8C3D-7610A777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965DA-3DCD-4435-A1BC-27D5FF79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E0F-7C7F-4D0A-9D02-B61AF02C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D3F4C-36F9-4094-B3F7-27237CD3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3EF30-5A47-459F-9B72-79AEE240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58305-7C8A-45A6-A209-71E1B23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E78E1-5532-4ECB-B8E8-D3903155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DCE0F-BF4F-4213-B0B9-827EABB0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3E556-AF10-42D8-9552-C5D36FFA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5CE4A-D141-4F10-907F-E1F85C15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5B0F-F4DF-4B69-886A-0EA1689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4F20F-10C9-4ACE-A160-1255847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D7CD-D92E-4D3A-947E-21DEBB3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9F87-B1C3-4997-B69B-B94C00CE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A5C17-9522-4F48-BCE6-CE760AD7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8A5E9-034D-4805-833F-5846C96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5F723-1255-4110-AECC-60DCC7AB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EBBB5-DBB3-4600-98A4-085921D6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6979B-9C64-416E-984C-937DC5E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0BDA-B509-41ED-8E9F-E5634A4E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4371C-BA21-40F5-8233-E207077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9F046-0806-49C0-89B1-799DA0EA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41131-8A54-44CC-A2E4-2A2F9C5D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B5203-3A30-4969-82EB-365EB2B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D1D-FD54-4FBC-8CC3-004E46C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04D2F-F0E0-4856-98D6-C216EBD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B123-3240-4E4B-9937-E3BB926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63273-7AB4-43AE-AF88-260B3AB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4401B-52A8-481D-B439-1190BFF4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257DA-92C4-497B-87FF-78A79FE5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0029F-9F99-4FDA-8205-8CFEA3A8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E6A65-2C0B-401A-9946-37380586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FBFD0-F0BB-4B18-9E2C-7D7B8C5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19C04-701C-4B3F-9163-85E8230D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2D73A-9F92-4847-B468-3A4ED02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E462-206C-494E-991A-B26B6F45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80B38-E4E7-4C88-9381-674AC4C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D98B9-9CCC-49C5-B318-5DDB031B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79DD1-32E4-40DC-8E84-47750EC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CE5F0-1E76-4A36-907F-DE4BB6A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0FF8D-B498-473C-9578-0CAEB471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B0D02-9486-49D3-8B07-0714C612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2B4AA-08AD-4A5C-8078-8931701E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D58FF-F4EF-4ED7-A767-0BB9600B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612AB-4E69-409C-B641-B7B1B25D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EDE08-C23A-49FB-9B53-71195C7B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3E0E-D01D-4ACF-AAEA-50E9857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B75B5-A0FF-4B2F-8A39-F54C8548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2D5BA-89F5-42CE-A2C8-FFE3875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53E00-1EF6-4375-BDE2-D8560D09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C22CA-3462-4E31-8939-CF409AC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DF577-D6EE-41E0-A8EB-73A5BB7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82241-9575-4720-B759-9CC0FE6E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57692-7C1F-4471-A381-1B68EC31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CA63D-E6C8-456E-9EF8-7C657878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BD99A-A4BB-443F-AAE6-45423BBF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C77E8-0ED1-4085-9167-81E430E9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4AF5-39C6-46DC-A7A5-0A87EA3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1FDAD-7742-4720-9016-764F164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A6ED3-9DB6-4EA2-A8E1-EFFE2B0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9B9EFA-9F4B-472C-8464-4649202A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8A41A-4A58-4CCB-AD46-D48526D4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996C0-62A1-49FA-9E65-B7515E1B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7B98B-3F56-4A33-B171-E134EA84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E7A2D-B727-4D0C-8B5E-3826606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01CCA-5BCE-409A-9C6E-E3DD737E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5F4CF-CE5E-441A-B576-7BA7D0B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65D48-055C-414E-B2C9-A3FDFE1C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EB39-3C4F-4CEB-9F07-5053739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8658E-544C-4DA9-A684-17DE8182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47221-8D18-42EC-B340-3A1FC648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E322E-04F0-466F-A011-1E5043A7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5A37B-EFD7-4C63-8F78-2F77690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6E1B8-655A-427C-B640-1630BFF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0D305-277F-47FE-AA80-76BA10B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A21AD-3808-48D1-9802-612A7DB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736CC-479F-4F76-8E60-5292EB1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B938A-2536-4F13-BF10-4A605971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E4EF5-3991-413F-9AC4-3DB2B43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7FB-C3BB-4315-B121-FB46C5D8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E92CB-A60A-40FC-8DAB-C09C1749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16F9C-4D3F-405F-BA45-7DFC784B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52375-2CAA-4278-AC1D-864CF4DF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B10-ED3D-4B2F-BC48-BFD823B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FAE2-748C-4A1C-93EC-85C1310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1077-FBCB-4FD4-929B-AF69AAFE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BC0F-A25B-4D9C-93E7-CB47D940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6551-DA0F-418A-83A9-9300E81E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E28-C113-4066-AEC9-D33B47C2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9310-B7B8-468B-8E80-68C2C020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4574-6002-4A9B-B559-1928E3A6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0280-8615-4AFB-A28F-4A1E3E78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352A-8922-4C92-ADDD-7BD97EBF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021C-E67B-42CB-8B0F-B950EDB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264-253F-42CC-9457-BDFB9D8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5CCB-D1FF-4BA0-9661-00491B5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0FFD-8DCD-48E7-84CB-51E9FA0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B731-C0CD-43D7-A585-4189BD5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75D1-A982-4685-BBFA-1E0A852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CD69-0506-49BB-B7E6-93ED943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F0E4-09B7-4AF8-A7FB-85BF2C60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1399-E81C-43D5-9302-94D78BC3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47A96-7ED9-4BFC-89B0-0A79BE4D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4E49-7540-4B87-8DBD-978E0327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1132-4890-472B-B166-61A9FE90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FD1-0EAC-41CE-8F38-858EA85C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E2BA-C3FA-44B7-8B8F-822E5564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25BBD-1CA9-4D81-B719-E2910207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A319D-ACE3-44CF-9BC2-2F3A4164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6572-62E9-44B5-A970-07AB56F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EFB63-8DFB-4FF7-99B6-C94DEC91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3087-F4DA-4354-84C4-F4150D2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51A7E-AE2F-44D6-9FEF-8ACA6031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7E90-479E-4B11-BF90-95C84670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DB46-80FA-4793-8983-4D05638B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854C-53D0-4270-96D3-F724E044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BE4-7B3A-49A2-89F6-4A962348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DF40-831B-4136-8EB5-19102256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DDEF-2742-431D-BC19-26DC423A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0D07-AF91-4E09-A7D6-597F6E98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8C7C-CE52-4F95-8360-B5E7CC7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BDFD-B901-4EF3-AC05-A182CD60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59910-FE90-463B-9A29-5EF35A4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BFF1-D946-4DEB-968E-D0617D79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B2444-C97E-4751-8610-4A7B17C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C8B9-E5FA-4D42-9A24-CC73B8C7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EF75-E968-46B4-8FA1-ECDC317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B64-6D51-46B1-85DC-34C55638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7CB1-B372-4246-9755-5C04278C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FCD5-7A9B-4A0B-9B97-CD013E99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B0C8A-B987-4747-B4F8-B26FDC0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EDFE-A8F8-4AB9-9D7B-8BE4BF1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4A10-8D61-4ED3-A9DF-ACD2072B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7B7E7-8972-47CB-BE59-480214F3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386A-22FD-49DF-AF3E-79771E0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7DEAA-E12E-49E5-87B0-BC43D7F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49157-6F8B-4ECA-9016-344AFEB1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CC3D-CAF9-4F87-8BC5-A666ED6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14B-CA88-41F2-A28B-0227341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2F60-C96C-4F99-9991-4060163D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B9AB4-3412-4C3F-9B7F-EE9795F0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9F190-0D81-4CBD-A75C-DFE324E4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E62D-2011-4CEB-AF1B-BE1F1D99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781CE-FA7B-4370-9C5D-E1DF6D8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F74B-A1D2-4792-A512-F5D7C2E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5818D-7238-4273-B887-52E4EF55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85B91-16C1-444E-A56A-5AA8E7D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A185-673C-4786-9A41-5BBE70ED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8660-2174-4A10-A4C3-23381FC4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925-C8C3-49F6-A73C-38DEC730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BF89-CDDD-40EA-BED4-FF297B9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4C3F-D0CD-40B4-AAA7-F506083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8C190-B471-47CC-B291-4BED33B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B123-3A98-4058-A35E-75DEE187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DB51D-F93B-4718-89DB-4C9E30D6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AB093-5609-42FD-A399-1E236484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A2EE-0CF7-4AFA-9754-570CF47F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DC000-9B3A-415B-AE10-79141DB3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5668-9852-4955-8084-87FCE84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F718-7AA0-48A0-A765-CAF8CE5F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413-AB43-4E2D-B618-BEC148A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27919-8956-4DC3-BFB9-ED2EF1E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5CE64-51B7-4DBE-9E2B-950543D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E056-260F-4CB7-917A-5F16215C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F3C79-897E-45C7-B302-2A51231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AE27-5BD6-4193-BB5B-47FFD39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BB96-D1F9-41AA-A80D-4DC5A015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949EB-0D58-472D-BB07-658CB6AD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05A12-27AA-4F17-83A6-C9737699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762D-F102-48AC-B8C2-E5EAF303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966DF-21F2-4156-BD34-088F58A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2363-F11A-49ED-A0C6-783290CE3D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27C2-BDD8-470E-83EC-4B2BCAF93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978-D03C-4883-8BFE-4398CFDDF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72D-0AF2-4D96-8895-E371C5D57D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83B7-B754-4161-AA4D-8B43A611A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599F-8EE1-4EA7-8384-E2D0120ACA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52DD-A442-4952-BFBC-5DA34EFA96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048-B1B6-4D25-8972-0E7302C4E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5EE-CEF2-4E02-982B-C901664CE1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CD48-0CB5-4D43-850E-6002C76F56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B81A-4DC1-4E9A-B2A0-1FB519E550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6A77-A13C-443E-824A-FFEEDC3274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BAA2-66D5-4292-91CE-92DD46B64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29C3-5449-44FD-AC63-5A9A18C0C2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F12-E931-41E0-B526-AB54EA32E2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144-1B66-4B50-9C76-73480C418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" Target="slide53.xml"/><Relationship Id="rId27" Type="http://schemas.openxmlformats.org/officeDocument/2006/relationships/slide" Target="slide53.xml"/><Relationship Id="rId28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0" y="3857400"/>
            <a:ext cx="91440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тературная виктор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учащихся 9 клас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ила 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елкина Татьяна Алексе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14" descr="si"/>
          <p:cNvPicPr/>
          <p:nvPr/>
        </p:nvPicPr>
        <p:blipFill>
          <a:blip r:embed="rId1"/>
          <a:stretch/>
        </p:blipFill>
        <p:spPr>
          <a:xfrm>
            <a:off x="3143160" y="1500120"/>
            <a:ext cx="3000600" cy="2068560"/>
          </a:xfrm>
          <a:prstGeom prst="rect">
            <a:avLst/>
          </a:prstGeom>
          <a:ln w="0">
            <a:noFill/>
          </a:ln>
        </p:spPr>
      </p:pic>
      <p:sp>
        <p:nvSpPr>
          <p:cNvPr id="658" name="Прямоугольник 3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«Макуловская СОШ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хнеуслонского рай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7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8" name="Rectangle 10"/>
          <p:cNvSpPr/>
          <p:nvPr/>
        </p:nvSpPr>
        <p:spPr>
          <a:xfrm>
            <a:off x="590400" y="8460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9" name="Прямоугольник 6"/>
          <p:cNvSpPr/>
          <p:nvPr/>
        </p:nvSpPr>
        <p:spPr>
          <a:xfrm>
            <a:off x="3009600" y="78588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.А.Фету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00" name="Picture 7" descr="C:\Documents and Settings\User\Рабочий стол\новая игра\imgpreview.jpg"/>
          <p:cNvPicPr/>
          <p:nvPr/>
        </p:nvPicPr>
        <p:blipFill>
          <a:blip r:embed="rId3"/>
          <a:stretch/>
        </p:blipFill>
        <p:spPr>
          <a:xfrm>
            <a:off x="2857680" y="1785960"/>
            <a:ext cx="3342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857160" y="26859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1371600" y="1989000"/>
            <a:ext cx="6458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785880" y="171468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зовите автора повестей «Левша», «Тупейный художник», «Зверь»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7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800280"/>
            <a:ext cx="817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.С.Лес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6" descr="C:\Documents and Settings\User\Рабочий стол\новая игра\3.jpg"/>
          <p:cNvPicPr/>
          <p:nvPr/>
        </p:nvPicPr>
        <p:blipFill>
          <a:blip r:embed="rId3"/>
          <a:stretch/>
        </p:blipFill>
        <p:spPr>
          <a:xfrm>
            <a:off x="3214800" y="2000160"/>
            <a:ext cx="257148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800280" y="224784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666720" y="25099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Где состоялась дуэль Пушкина и Дантес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5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уэль состоялась на Чёрной речке. В 1937 году на месте дуэли был открыт обелис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7" descr="C:\Documents and Settings\User\Рабочий стол\детские конкурсы\фото Пушкина\8.jpg"/>
          <p:cNvPicPr/>
          <p:nvPr/>
        </p:nvPicPr>
        <p:blipFill>
          <a:blip r:embed="rId3"/>
          <a:stretch/>
        </p:blipFill>
        <p:spPr>
          <a:xfrm>
            <a:off x="3286080" y="2714760"/>
            <a:ext cx="243684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819000" y="228600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ой  эпиграф выбрал А.С.Пушкин к повести «Капитанская дочка»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42600" y="1285920"/>
            <a:ext cx="78678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Береги честь смолоду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3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24" name="Picture 10" descr="C:\Documents and Settings\User\Рабочий стол\детские конкурсы\фото Пушкина\1095412.jpg"/>
          <p:cNvPicPr/>
          <p:nvPr/>
        </p:nvPicPr>
        <p:blipFill>
          <a:blip r:embed="rId3"/>
          <a:stretch/>
        </p:blipFill>
        <p:spPr>
          <a:xfrm>
            <a:off x="2714760" y="3571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en-US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814392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ому из своих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узей-декабристов Пушкин послал стихотворе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В Сибирь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781200" y="4572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0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71960" y="2999880"/>
            <a:ext cx="45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.И.Пущину; оно начинается словами: «Мой первый друг, мой друг бесценный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Picture 6" descr="C:\Documents and Settings\User\Рабочий стол\картинки к игре\250px-I__I__Pushchin,_1837.jpg"/>
          <p:cNvPicPr/>
          <p:nvPr/>
        </p:nvPicPr>
        <p:blipFill>
          <a:blip r:embed="rId3"/>
          <a:stretch/>
        </p:blipFill>
        <p:spPr>
          <a:xfrm>
            <a:off x="500040" y="1928880"/>
            <a:ext cx="317520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связи с чем и когда Жуковский подарил Пушкину свой портрет с надписью? Каково содержание надпис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857160" y="2500200"/>
            <a:ext cx="72248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714240" y="1143000"/>
          <a:ext cx="7772400" cy="4651200"/>
        </p:xfrm>
        <a:graphic>
          <a:graphicData uri="http://schemas.openxmlformats.org/drawingml/2006/table">
            <a:tbl>
              <a:tblPr/>
              <a:tblGrid>
                <a:gridCol w="2792520"/>
                <a:gridCol w="1031760"/>
                <a:gridCol w="995400"/>
                <a:gridCol w="997200"/>
                <a:gridCol w="995040"/>
                <a:gridCol w="960480"/>
              </a:tblGrid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истории русской литературы</a:t>
                      </a:r>
                      <a:endParaRPr b="0" lang="en-US" sz="2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С.Пушкин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Ю.Лермонтов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Гоголь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ерусская литература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Text Box 125">
            <a:hlinkClick r:id="rId26" action="ppaction://hlinksldjump"/>
          </p:cNvPr>
          <p:cNvSpPr/>
          <p:nvPr/>
        </p:nvSpPr>
        <p:spPr>
          <a:xfrm>
            <a:off x="3082680" y="627840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27" action="ppaction://hlinksldjump"/>
              </a:rPr>
              <a:t>ЗАВЕРШЕНИЕ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8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85520" y="1785960"/>
            <a:ext cx="43578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820 году, когда была напечатана поэма «Руслан и Людмила», Жуковский подарил Пушкину свой портрет с надписью «Победителю-ученику от побеждённого учителя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C:\Documents and Settings\User\Рабочий стол\картинки к игре\zhukovsky1.jpg"/>
          <p:cNvPicPr/>
          <p:nvPr/>
        </p:nvPicPr>
        <p:blipFill>
          <a:blip r:embed="rId3"/>
          <a:stretch/>
        </p:blipFill>
        <p:spPr>
          <a:xfrm>
            <a:off x="5857920" y="1357200"/>
            <a:ext cx="278460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04880" y="266400"/>
            <a:ext cx="781056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723960" y="2209680"/>
            <a:ext cx="7638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зовите шесть произведений Пушкина, в которых имя главной героини Мари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5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14800" y="264276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ша Троекурова «Дубровский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ша Миронова «Капитанская дочка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ия «Бахчисарайский фонтан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ия «Полтава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ша «Выстрел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ья Гаврил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Метел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6" descr="C:\Documents and Settings\User\Рабочий стол\детские конкурсы\фото Пушкина\№2.jpg"/>
          <p:cNvPicPr/>
          <p:nvPr/>
        </p:nvPicPr>
        <p:blipFill>
          <a:blip r:embed="rId3"/>
          <a:stretch/>
        </p:blipFill>
        <p:spPr>
          <a:xfrm>
            <a:off x="0" y="214200"/>
            <a:ext cx="3130560" cy="2652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" descr="C:\Documents and Settings\User\Рабочий стол\детские конкурсы\фото Пушкина\400_F_35893434_amEpsdJHcrfGB4nI8mydytstoKwVepn4.jpg"/>
          <p:cNvPicPr/>
          <p:nvPr/>
        </p:nvPicPr>
        <p:blipFill>
          <a:blip r:embed="rId4"/>
          <a:stretch/>
        </p:blipFill>
        <p:spPr>
          <a:xfrm>
            <a:off x="6910560" y="4214880"/>
            <a:ext cx="22334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у посвящены ранние юношеские стихи Лермонто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Я не достоин, может бы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ей любви: не мне суди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ты обманом наград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и надежды и меч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я всегда скажу, что 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праведливо поступи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Мы случайно сведены судьб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бя нашли один в друг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уша сдружилася с душ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ь пути не кончить им вдвоё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3"/>
          <p:cNvSpPr/>
          <p:nvPr/>
        </p:nvSpPr>
        <p:spPr>
          <a:xfrm>
            <a:off x="726372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3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334800" y="1036800"/>
            <a:ext cx="845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5319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Наталье Фёдоровне Ивановой, дочери драматурга Ф.Ф.Иванова, в которую был безумно влюблён Лермонтов, но она предпочла ему одного из его друзей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арваре Александровне Лопухиной, она не была красавицей, но Лермонтов полюбил её, не раз сопоставляя её с Наташей Иванов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8" descr="C:\Documents and Settings\User\Рабочий стол\картинки к игре\иванова.jpg"/>
          <p:cNvPicPr/>
          <p:nvPr/>
        </p:nvPicPr>
        <p:blipFill>
          <a:blip r:embed="rId3"/>
          <a:stretch/>
        </p:blipFill>
        <p:spPr>
          <a:xfrm>
            <a:off x="6357960" y="285840"/>
            <a:ext cx="2143080" cy="253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C:\Documents and Settings\User\Рабочий стол\картинки к игре\Лопухина.jpg"/>
          <p:cNvPicPr/>
          <p:nvPr/>
        </p:nvPicPr>
        <p:blipFill>
          <a:blip r:embed="rId4"/>
          <a:stretch/>
        </p:blipFill>
        <p:spPr>
          <a:xfrm>
            <a:off x="5857920" y="3857760"/>
            <a:ext cx="3035160" cy="22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 каком романе Лермонтова Гоголь сказал, что «никто ещё не писал у нас такой правильной, прекрасной и благоуханной прозой», а Лев Толстой отметил, что роман произвёл на него «очень большое впечатление!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219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3"/>
          <p:cNvSpPr/>
          <p:nvPr/>
        </p:nvSpPr>
        <p:spPr>
          <a:xfrm>
            <a:off x="72612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197080" y="1571760"/>
            <a:ext cx="694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ман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Герой нашего времени»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65" name="Picture 6" descr="C:\Documents and Settings\User\Рабочий стол\картинки к игре\220px-Mikhail_Vrubel_Duel_Pechorin_vs_Grushnizky.jpg"/>
          <p:cNvPicPr/>
          <p:nvPr/>
        </p:nvPicPr>
        <p:blipFill>
          <a:blip r:embed="rId1"/>
          <a:stretch/>
        </p:blipFill>
        <p:spPr>
          <a:xfrm>
            <a:off x="500040" y="2286000"/>
            <a:ext cx="2793960" cy="4140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C:\Documents and Settings\User\Рабочий стол\картинки к игре\200px-Geroy_nashego_vremeni.gif"/>
          <p:cNvPicPr/>
          <p:nvPr/>
        </p:nvPicPr>
        <p:blipFill>
          <a:blip r:embed="rId2"/>
          <a:stretch/>
        </p:blipFill>
        <p:spPr>
          <a:xfrm>
            <a:off x="5500800" y="4143240"/>
            <a:ext cx="1904760" cy="27147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C:\Documents and Settings\User\Рабочий стол\картинки к игре\t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42884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Где находится могила М.Ю.Лермонтов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819000" y="186696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4" name="AutoShape 8"/>
          <p:cNvSpPr/>
          <p:nvPr/>
        </p:nvSpPr>
        <p:spPr>
          <a:xfrm flipH="1">
            <a:off x="2146320" y="2019240"/>
            <a:ext cx="596880" cy="355680"/>
          </a:xfrm>
          <a:prstGeom prst="wedgeEllipseCallout">
            <a:avLst>
              <a:gd name="adj1" fmla="val -47875"/>
              <a:gd name="adj2" fmla="val 53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5" name="AutoShape 9"/>
          <p:cNvSpPr/>
          <p:nvPr/>
        </p:nvSpPr>
        <p:spPr>
          <a:xfrm>
            <a:off x="1333440" y="2019240"/>
            <a:ext cx="914400" cy="609840"/>
          </a:xfrm>
          <a:prstGeom prst="wedgeEllipseCallout">
            <a:avLst>
              <a:gd name="adj1" fmla="val 183333"/>
              <a:gd name="adj2" fmla="val 513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6" name="AutoShape 10"/>
          <p:cNvSpPr/>
          <p:nvPr/>
        </p:nvSpPr>
        <p:spPr>
          <a:xfrm>
            <a:off x="3200400" y="245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7" name="Line 13"/>
          <p:cNvSpPr/>
          <p:nvPr/>
        </p:nvSpPr>
        <p:spPr>
          <a:xfrm>
            <a:off x="2647800" y="1924200"/>
            <a:ext cx="857520" cy="4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8" name="Line 14"/>
          <p:cNvSpPr/>
          <p:nvPr/>
        </p:nvSpPr>
        <p:spPr>
          <a:xfrm>
            <a:off x="2590920" y="4400640"/>
            <a:ext cx="685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9" name="Line 15"/>
          <p:cNvSpPr/>
          <p:nvPr/>
        </p:nvSpPr>
        <p:spPr>
          <a:xfrm flipH="1">
            <a:off x="6000840" y="2171880"/>
            <a:ext cx="914400" cy="51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0" name="Line 16"/>
          <p:cNvSpPr/>
          <p:nvPr/>
        </p:nvSpPr>
        <p:spPr>
          <a:xfrm flipH="1">
            <a:off x="4647960" y="4038480"/>
            <a:ext cx="9334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1" name="Line 17"/>
          <p:cNvSpPr/>
          <p:nvPr/>
        </p:nvSpPr>
        <p:spPr>
          <a:xfrm flipH="1">
            <a:off x="6648120" y="3543480"/>
            <a:ext cx="723960" cy="26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2" name="Text Box 18"/>
          <p:cNvSpPr/>
          <p:nvPr/>
        </p:nvSpPr>
        <p:spPr>
          <a:xfrm>
            <a:off x="3152880" y="1922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3" name="AutoShape 26"/>
          <p:cNvSpPr/>
          <p:nvPr/>
        </p:nvSpPr>
        <p:spPr>
          <a:xfrm>
            <a:off x="7867800" y="1390680"/>
            <a:ext cx="698400" cy="679320"/>
          </a:xfrm>
          <a:prstGeom prst="wedgeEllipseCallout">
            <a:avLst>
              <a:gd name="adj1" fmla="val -294546"/>
              <a:gd name="adj2" fmla="val 108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4" name="Rectangle 29"/>
          <p:cNvSpPr/>
          <p:nvPr/>
        </p:nvSpPr>
        <p:spPr>
          <a:xfrm>
            <a:off x="592200" y="228600"/>
            <a:ext cx="819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оначально Лермонтов был захоронен в Пятигорске, но в 1842 году бабушка поэта Е.А.Арсеньева перевезла прах в Тарханы. Здесь, в фамильной часовне Арсеньевых, стоит памятник поэту. Рядом покоится прах матери, а с 1974 года и прах отца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85" name="Picture 16" descr="C:\Documents and Settings\User\Рабочий стол\картинки к игре\часовня в тарханах.jpg"/>
          <p:cNvPicPr/>
          <p:nvPr/>
        </p:nvPicPr>
        <p:blipFill>
          <a:blip r:embed="rId1"/>
          <a:stretch/>
        </p:blipFill>
        <p:spPr>
          <a:xfrm>
            <a:off x="285840" y="3071880"/>
            <a:ext cx="2043000" cy="27590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7" descr="C:\Documents and Settings\User\Рабочий стол\картинки к игре\tarhany2.jpg"/>
          <p:cNvPicPr/>
          <p:nvPr/>
        </p:nvPicPr>
        <p:blipFill>
          <a:blip r:embed="rId2"/>
          <a:stretch/>
        </p:blipFill>
        <p:spPr>
          <a:xfrm>
            <a:off x="6786720" y="3000240"/>
            <a:ext cx="2104920" cy="285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8" descr="C:\Documents and Settings\User\Рабочий стол\картинки к игре\тарханы.jpg"/>
          <p:cNvPicPr/>
          <p:nvPr/>
        </p:nvPicPr>
        <p:blipFill>
          <a:blip r:embed="rId3"/>
          <a:stretch/>
        </p:blipFill>
        <p:spPr>
          <a:xfrm>
            <a:off x="2428920" y="3429000"/>
            <a:ext cx="424980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57160" y="2499840"/>
            <a:ext cx="7562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стихотворение Лермонтова было передано царю с надписью «воззвание к революции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</a:t>
            </a:r>
            <a:br>
              <a:rPr sz="4000"/>
            </a:br>
            <a:r>
              <a:rPr b="1" lang="ru-RU" sz="44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704880" y="2266920"/>
            <a:ext cx="6229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64" name="Picture 9" descr="1159"/>
          <p:cNvPicPr/>
          <p:nvPr/>
        </p:nvPicPr>
        <p:blipFill>
          <a:blip r:embed="rId1"/>
          <a:stretch/>
        </p:blipFill>
        <p:spPr>
          <a:xfrm>
            <a:off x="7201080" y="3666960"/>
            <a:ext cx="1618920" cy="290520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4"/>
          <p:cNvSpPr/>
          <p:nvPr/>
        </p:nvSpPr>
        <p:spPr>
          <a:xfrm>
            <a:off x="428760" y="25002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был в юности «пожалован» Екатерино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в пажи, а затем стал ярым врагом самодержавия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3"/>
          <p:cNvSpPr/>
          <p:nvPr/>
        </p:nvSpPr>
        <p:spPr>
          <a:xfrm>
            <a:off x="7115040" y="63388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67760" cy="23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тихотворени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Смерть поэт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" descr="C:\Documents and Settings\User\Рабочий стол\детские конкурсы\фото Пушкина\13.jpg"/>
          <p:cNvPicPr/>
          <p:nvPr/>
        </p:nvPicPr>
        <p:blipFill>
          <a:blip r:embed="rId1"/>
          <a:stretch/>
        </p:blipFill>
        <p:spPr>
          <a:xfrm>
            <a:off x="0" y="0"/>
            <a:ext cx="3191040" cy="23940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7" descr="C:\Documents and Settings\User\Рабочий стол\детские конкурсы\фото Пушкина\14.jpg"/>
          <p:cNvPicPr/>
          <p:nvPr/>
        </p:nvPicPr>
        <p:blipFill>
          <a:blip r:embed="rId2"/>
          <a:stretch/>
        </p:blipFill>
        <p:spPr>
          <a:xfrm>
            <a:off x="6500880" y="4000680"/>
            <a:ext cx="23511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2876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му герою Лермонтова посвящаются эти стро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Пройдёт стар человек – перекрестит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йдёт молодец – приосанит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йдёт девица – пригорюни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пройдут гусляры – споют песенк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209600" y="2000520"/>
            <a:ext cx="672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3716280" y="2982960"/>
            <a:ext cx="472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62006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пцу Калашникову из «Песни про купца Калашникова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7" descr="C:\Documents and Settings\User\Рабочий стол\картинки к игре\imgpreviewCAWP1CWD.jpg"/>
          <p:cNvPicPr/>
          <p:nvPr/>
        </p:nvPicPr>
        <p:blipFill>
          <a:blip r:embed="rId1"/>
          <a:stretch/>
        </p:blipFill>
        <p:spPr>
          <a:xfrm>
            <a:off x="571680" y="357120"/>
            <a:ext cx="1873080" cy="27147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8" descr="C:\Documents and Settings\User\Рабочий стол\картинки к игре\imgpreviewCAYY8Q04.jpg"/>
          <p:cNvPicPr/>
          <p:nvPr/>
        </p:nvPicPr>
        <p:blipFill>
          <a:blip r:embed="rId2"/>
          <a:stretch/>
        </p:blipFill>
        <p:spPr>
          <a:xfrm>
            <a:off x="2571840" y="2571840"/>
            <a:ext cx="2071440" cy="32115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C:\Documents and Settings\User\Рабочий стол\картинки к игре\imgpreview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73400" cy="26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произведение Гоголя напоминает вам картина И.Е.Репина «Запорожцы пишут письмо турецкому султану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628560" y="70488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321444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рас Бульб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6" descr="C:\Documents and Settings\User\Рабочий стол\картинки к игре\imgpreviewCA08IWSW.jpg"/>
          <p:cNvPicPr/>
          <p:nvPr/>
        </p:nvPicPr>
        <p:blipFill>
          <a:blip r:embed="rId1"/>
          <a:stretch/>
        </p:blipFill>
        <p:spPr>
          <a:xfrm>
            <a:off x="500040" y="357120"/>
            <a:ext cx="3786120" cy="24433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C:\Documents and Settings\User\Рабочий стол\картинки к игре\imgpreviewCAWMYB77.jpg"/>
          <p:cNvPicPr/>
          <p:nvPr/>
        </p:nvPicPr>
        <p:blipFill>
          <a:blip r:embed="rId2"/>
          <a:stretch/>
        </p:blipFill>
        <p:spPr>
          <a:xfrm>
            <a:off x="4786200" y="3071880"/>
            <a:ext cx="3929040" cy="32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785520" y="1785960"/>
            <a:ext cx="74293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южеты каких произведений были подсказаны Гоголю А.С.Пушкиным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357120" y="3357720"/>
            <a:ext cx="83296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42880" y="3428640"/>
            <a:ext cx="4581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.С.Пушкин подсказал Н.В.Гоголю сюжеты «Ревизора» и «Мёртвых душ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6" descr="C:\Documents and Settings\User\Рабочий стол\картинки к игре\imgpreviewCAG1QVCP.jpg"/>
          <p:cNvPicPr/>
          <p:nvPr/>
        </p:nvPicPr>
        <p:blipFill>
          <a:blip r:embed="rId1"/>
          <a:stretch/>
        </p:blipFill>
        <p:spPr>
          <a:xfrm>
            <a:off x="285840" y="285840"/>
            <a:ext cx="1643040" cy="24890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7" descr="C:\Documents and Settings\User\Рабочий стол\картинки к игре\imgpreviewCAFWJN8X.jpg"/>
          <p:cNvPicPr/>
          <p:nvPr/>
        </p:nvPicPr>
        <p:blipFill>
          <a:blip r:embed="rId2"/>
          <a:stretch/>
        </p:blipFill>
        <p:spPr>
          <a:xfrm>
            <a:off x="1500120" y="2071800"/>
            <a:ext cx="1562040" cy="23320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C:\Documents and Settings\User\Рабочий стол\картинки к игре\imgpreviewCALGK9V0.jpg"/>
          <p:cNvPicPr/>
          <p:nvPr/>
        </p:nvPicPr>
        <p:blipFill>
          <a:blip r:embed="rId3"/>
          <a:stretch/>
        </p:blipFill>
        <p:spPr>
          <a:xfrm>
            <a:off x="2571840" y="421488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C:\Documents and Settings\User\Рабочий стол\картинки к игре\imgpreviewCA1QSI7U.jpg"/>
          <p:cNvPicPr/>
          <p:nvPr/>
        </p:nvPicPr>
        <p:blipFill>
          <a:blip r:embed="rId4"/>
          <a:stretch/>
        </p:blipFill>
        <p:spPr>
          <a:xfrm>
            <a:off x="5500800" y="0"/>
            <a:ext cx="326232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0726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у принадлежат слова, сказанные после первого представления «Ревизора»: «Ну и пьеска! Всем досталось, а мне более всех!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0" y="16574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135252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28800" y="450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лова принадлежат императору Николаю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6" descr="C:\Documents and Settings\User\Рабочий стол\картинки к игре\николай1.jpg"/>
          <p:cNvPicPr/>
          <p:nvPr/>
        </p:nvPicPr>
        <p:blipFill>
          <a:blip r:embed="rId1"/>
          <a:stretch/>
        </p:blipFill>
        <p:spPr>
          <a:xfrm>
            <a:off x="1143000" y="214200"/>
            <a:ext cx="3214800" cy="39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85880" y="2143080"/>
            <a:ext cx="750096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ую поговорку взял Гоголь эпиграфом к комедии «Ревизор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743040" y="196200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642960" y="571680"/>
            <a:ext cx="808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7111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67" name="Rectangle 6">
            <a:hlinkClick r:id="rId2" action="ppaction://hlinksldjump"/>
          </p:cNvPr>
          <p:cNvSpPr/>
          <p:nvPr/>
        </p:nvSpPr>
        <p:spPr>
          <a:xfrm>
            <a:off x="146700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99920" y="1257120"/>
            <a:ext cx="53578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.Н.Радище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5" descr="C:\Documents and Settings\User\Рабочий стол\Мой материал\Портреты\derzhawin 2.jpg"/>
          <p:cNvPicPr/>
          <p:nvPr/>
        </p:nvPicPr>
        <p:blipFill>
          <a:blip r:embed="rId3"/>
          <a:stretch/>
        </p:blipFill>
        <p:spPr>
          <a:xfrm>
            <a:off x="571680" y="1357200"/>
            <a:ext cx="300960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465120" y="48744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99920" y="642960"/>
            <a:ext cx="52009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зеркало неча пенять, коли рожа кри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Picture 7" descr="C:\Documents and Settings\User\Рабочий стол\картинки к игре\imgpreviewCASXYR3J.jpg"/>
          <p:cNvPicPr/>
          <p:nvPr/>
        </p:nvPicPr>
        <p:blipFill>
          <a:blip r:embed="rId1"/>
          <a:stretch/>
        </p:blipFill>
        <p:spPr>
          <a:xfrm>
            <a:off x="0" y="0"/>
            <a:ext cx="2357280" cy="32288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8" descr="C:\Documents and Settings\User\Рабочий стол\картинки к игре\imgpreviewCALJY5PE.jpg"/>
          <p:cNvPicPr/>
          <p:nvPr/>
        </p:nvPicPr>
        <p:blipFill>
          <a:blip r:embed="rId2"/>
          <a:stretch/>
        </p:blipFill>
        <p:spPr>
          <a:xfrm>
            <a:off x="2286000" y="3214800"/>
            <a:ext cx="2643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0726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 каких двух героев Гоголя головы были похожи: у одного на редьку хвостом вниз, а у другого на редьку хвостом вверх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838080" y="175248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28400" y="356760"/>
            <a:ext cx="7715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 Ивана Ивановича и Ивана Никифоровича; «Повесть о том, как Иван Иванович поссорился с Иваном Никифоровичем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7" descr="C:\Documents and Settings\User\Рабочий стол\картинки к игре\imgpreviewCAMPV13S.jpg"/>
          <p:cNvPicPr/>
          <p:nvPr/>
        </p:nvPicPr>
        <p:blipFill>
          <a:blip r:embed="rId1"/>
          <a:stretch/>
        </p:blipFill>
        <p:spPr>
          <a:xfrm>
            <a:off x="6094440" y="2714760"/>
            <a:ext cx="2349360" cy="32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ем была составлена первая славянская азбука, какое название она получил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"/>
          <p:cNvSpPr/>
          <p:nvPr/>
        </p:nvSpPr>
        <p:spPr>
          <a:xfrm>
            <a:off x="914400" y="209556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85840" y="14997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атьями-славянами из г. Солуна Константином (в монашестве Кирилл) и Мефодием. Кириллица – на основе греческой азбуки (863-864 гг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6" descr="C:\Documents and Settings\User\Рабочий стол\картинки к игре\кирилл.jpg"/>
          <p:cNvPicPr/>
          <p:nvPr/>
        </p:nvPicPr>
        <p:blipFill>
          <a:blip r:embed="rId1"/>
          <a:stretch/>
        </p:blipFill>
        <p:spPr>
          <a:xfrm>
            <a:off x="2928960" y="364320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77724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отомстила княгиня Ольга древлянам за смерть муж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"/>
          <p:cNvSpPr/>
          <p:nvPr/>
        </p:nvSpPr>
        <p:spPr>
          <a:xfrm>
            <a:off x="685800" y="6285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57760" y="285732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а потребовала от каждого двора по 3 голубя и 3 воробья вместо дани, приказала привязать к ним зажжённый трут, и они, вернувшись в гнёзда, сожгли город Искорост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6" descr="C:\Documents and Settings\User\Рабочий стол\картинки к игре\ольга.jpg"/>
          <p:cNvPicPr/>
          <p:nvPr/>
        </p:nvPicPr>
        <p:blipFill>
          <a:blip r:embed="rId1"/>
          <a:stretch/>
        </p:blipFill>
        <p:spPr>
          <a:xfrm>
            <a:off x="285840" y="285840"/>
            <a:ext cx="1904760" cy="18097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7" descr="C:\Documents and Settings\User\Рабочий стол\картинки к игре\imgpreviewCA4F6Z4V.jpg"/>
          <p:cNvPicPr/>
          <p:nvPr/>
        </p:nvPicPr>
        <p:blipFill>
          <a:blip r:embed="rId2"/>
          <a:stretch/>
        </p:blipFill>
        <p:spPr>
          <a:xfrm>
            <a:off x="2000160" y="2428920"/>
            <a:ext cx="1552680" cy="190512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8" descr="C:\Documents and Settings\User\Рабочий стол\картинки к игре\imgpreviewCAE5ZGI4.jpg"/>
          <p:cNvPicPr/>
          <p:nvPr/>
        </p:nvPicPr>
        <p:blipFill>
          <a:blip r:embed="rId3"/>
          <a:stretch/>
        </p:blipFill>
        <p:spPr>
          <a:xfrm>
            <a:off x="428760" y="4857840"/>
            <a:ext cx="281916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7715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то были первые русские святые и за что их канонизировали? Какое произведение им было посвящен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928800" y="50004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1352520" y="186696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9" name="AutoShape 10"/>
          <p:cNvSpPr/>
          <p:nvPr/>
        </p:nvSpPr>
        <p:spPr>
          <a:xfrm>
            <a:off x="590400" y="266760"/>
            <a:ext cx="3181680" cy="799920"/>
          </a:xfrm>
          <a:prstGeom prst="wedgeEllipseCallout">
            <a:avLst>
              <a:gd name="adj1" fmla="val -18263"/>
              <a:gd name="adj2" fmla="val 4128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0" name="AutoShape 12"/>
          <p:cNvSpPr/>
          <p:nvPr/>
        </p:nvSpPr>
        <p:spPr>
          <a:xfrm>
            <a:off x="609480" y="514440"/>
            <a:ext cx="3175200" cy="755640"/>
          </a:xfrm>
          <a:prstGeom prst="wedgeRoundRectCallout">
            <a:avLst>
              <a:gd name="adj1" fmla="val 5398"/>
              <a:gd name="adj2" fmla="val 501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56800" y="1785600"/>
            <a:ext cx="6000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нязья, братья Борис и Глеб. Их канонизировали как «страстотерпцев» - невинно убиенных старшим братом Святополком (1015 г.), «Сказание о Борисе и Глеб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8" descr="C:\Documents and Settings\User\Рабочий стол\картинки к игре\глеб.jpg"/>
          <p:cNvPicPr/>
          <p:nvPr/>
        </p:nvPicPr>
        <p:blipFill>
          <a:blip r:embed="rId1"/>
          <a:stretch/>
        </p:blipFill>
        <p:spPr>
          <a:xfrm>
            <a:off x="2428920" y="4071960"/>
            <a:ext cx="3214800" cy="25398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9" descr="C:\Documents and Settings\User\Рабочий стол\картинки к игре\борис и глеб.jpg"/>
          <p:cNvPicPr/>
          <p:nvPr/>
        </p:nvPicPr>
        <p:blipFill>
          <a:blip r:embed="rId2"/>
          <a:stretch/>
        </p:blipFill>
        <p:spPr>
          <a:xfrm>
            <a:off x="7072200" y="357120"/>
            <a:ext cx="175104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66400" y="1942920"/>
            <a:ext cx="85914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 какого вопроса начинается «Слово о полку Игореве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                                   </a:t>
            </a: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723960" y="15429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465948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Прямоугольник 4"/>
          <p:cNvSpPr/>
          <p:nvPr/>
        </p:nvSpPr>
        <p:spPr>
          <a:xfrm>
            <a:off x="571680" y="2428920"/>
            <a:ext cx="8072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овите известного русского поэта, бесстрашного партизана и организатора партизанской борьбы в период Отечественной войны 1812 год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471492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Не лепо ли ны бяшет, братие, начяти старыми словесы трудных повестей о полку Игореве, Игоря Святославовича?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Picture 6" descr="C:\Documents and Settings\User\Рабочий стол\картинки к игре\imgpreviewCASEXDA2.jpg"/>
          <p:cNvPicPr/>
          <p:nvPr/>
        </p:nvPicPr>
        <p:blipFill>
          <a:blip r:embed="rId1"/>
          <a:stretch/>
        </p:blipFill>
        <p:spPr>
          <a:xfrm>
            <a:off x="3929040" y="35712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7" descr="C:\Documents and Settings\User\Рабочий стол\картинки к игре\imgpreviewCAMHA693.jpg"/>
          <p:cNvPicPr/>
          <p:nvPr/>
        </p:nvPicPr>
        <p:blipFill>
          <a:blip r:embed="rId2"/>
          <a:stretch/>
        </p:blipFill>
        <p:spPr>
          <a:xfrm>
            <a:off x="3071880" y="5000760"/>
            <a:ext cx="3571920" cy="185724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8" descr="C:\Documents and Settings\User\Рабочий стол\картинки к игре\слово о.jpg"/>
          <p:cNvPicPr/>
          <p:nvPr/>
        </p:nvPicPr>
        <p:blipFill>
          <a:blip r:embed="rId3"/>
          <a:stretch/>
        </p:blipFill>
        <p:spPr>
          <a:xfrm>
            <a:off x="5786280" y="2143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99680" y="1928520"/>
            <a:ext cx="79297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ие повести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ека пародировали судопроизводство и изобличали взяточничество судей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285840" y="2019240"/>
            <a:ext cx="862956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3"/>
          <p:cNvSpPr/>
          <p:nvPr/>
        </p:nvSpPr>
        <p:spPr>
          <a:xfrm>
            <a:off x="710064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857160" y="3929040"/>
            <a:ext cx="75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Повесть о Шемякином суде»,  «Повесть о Ерше Ершовиче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02" name="Picture 6" descr="C:\Documents and Settings\User\Рабочий стол\картинки к игре\суд.jpg"/>
          <p:cNvPicPr/>
          <p:nvPr/>
        </p:nvPicPr>
        <p:blipFill>
          <a:blip r:embed="rId1"/>
          <a:stretch/>
        </p:blipFill>
        <p:spPr>
          <a:xfrm>
            <a:off x="714240" y="357120"/>
            <a:ext cx="278604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124840" cy="51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спользован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Л.Л.Бельская. Литературные викторины. М.: Просвещение, 2003, 301 с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В.А.Ильина. Литературные викторины. Волгоград: Учитель-АСТ, 200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ttp://www.akartinki.narod.ru/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3032280" y="603396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6"/>
          <p:cNvSpPr/>
          <p:nvPr/>
        </p:nvSpPr>
        <p:spPr>
          <a:xfrm>
            <a:off x="7111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4" name="Rectangle 9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5" name="Text Box 1036"/>
          <p:cNvSpPr/>
          <p:nvPr/>
        </p:nvSpPr>
        <p:spPr>
          <a:xfrm>
            <a:off x="0" y="5634000"/>
            <a:ext cx="14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71600" y="1285560"/>
            <a:ext cx="481500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.В.Давыд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061"/>
          <p:cNvSpPr/>
          <p:nvPr/>
        </p:nvSpPr>
        <p:spPr>
          <a:xfrm>
            <a:off x="4479840" y="3017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78" name="Picture 9" descr="C:\Documents and Settings\User\Рабочий стол\новая игра\280px-Denisdavydov.jpg"/>
          <p:cNvPicPr/>
          <p:nvPr/>
        </p:nvPicPr>
        <p:blipFill>
          <a:blip r:embed="rId3"/>
          <a:stretch/>
        </p:blipFill>
        <p:spPr>
          <a:xfrm>
            <a:off x="357120" y="2214720"/>
            <a:ext cx="3556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300</a:t>
            </a:r>
            <a:r>
              <a:rPr b="1" lang="ru-RU" sz="5400" spc="-1" strike="noStrike">
                <a:solidFill>
                  <a:srgbClr val="005ce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200240" y="2666520"/>
            <a:ext cx="573408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литературное произведение начинается картиной святочного гадани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38080" y="2286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4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ллада В.А.Жуковского «Светла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Documents and Settings\User\Рабочий стол\новая игра\220px-Bryullov_portrait_of_Zhukovsky.jpg"/>
          <p:cNvPicPr/>
          <p:nvPr/>
        </p:nvPicPr>
        <p:blipFill>
          <a:blip r:embed="rId3"/>
          <a:stretch/>
        </p:blipFill>
        <p:spPr>
          <a:xfrm>
            <a:off x="285840" y="1285920"/>
            <a:ext cx="2408040" cy="32860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C:\Documents and Settings\User\Рабочий стол\новая игра\250px-Svetlana_brullov.jpg"/>
          <p:cNvPicPr/>
          <p:nvPr/>
        </p:nvPicPr>
        <p:blipFill>
          <a:blip r:embed="rId4"/>
          <a:stretch/>
        </p:blipFill>
        <p:spPr>
          <a:xfrm>
            <a:off x="4786200" y="2000160"/>
            <a:ext cx="3381480" cy="41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</a:t>
            </a:r>
            <a:r>
              <a:rPr b="1" lang="en-US" sz="4000" spc="-1" strike="noStrike">
                <a:solidFill>
                  <a:srgbClr val="005ce7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00</a:t>
            </a:r>
            <a:r>
              <a:rPr b="1" lang="ru-RU" sz="5400" spc="-1" strike="noStrike">
                <a:solidFill>
                  <a:srgbClr val="005ce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685800" y="29527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666720" y="2670120"/>
            <a:ext cx="7905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3" name="Прямоугольник 5"/>
          <p:cNvSpPr/>
          <p:nvPr/>
        </p:nvSpPr>
        <p:spPr>
          <a:xfrm>
            <a:off x="928800" y="185724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у какого поэта принадлежит стихотворение, начинающееся словами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Я пришёл к тебе с привет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казать, что солнце встало…»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94" name="Picture 4" descr="C:\Documents and Settings\User\Рабочий стол\новая игра\пп.jpg"/>
          <p:cNvPicPr/>
          <p:nvPr/>
        </p:nvPicPr>
        <p:blipFill>
          <a:blip r:embed="rId1"/>
          <a:stretch/>
        </p:blipFill>
        <p:spPr>
          <a:xfrm>
            <a:off x="2357280" y="4000680"/>
            <a:ext cx="3786480" cy="23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Admin</cp:lastModifiedBy>
  <dcterms:modified xsi:type="dcterms:W3CDTF">2012-05-08T17:59:13Z</dcterms:modified>
  <cp:revision>593</cp:revision>
  <dc:subject/>
  <dc:title>Презентация PowerPoint</dc:title>
</cp:coreProperties>
</file>