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881-CC4E-4CF7-BB3D-77DF125C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72DE-490A-4B4E-BCE4-AF64B440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8F01-F954-45A4-88A1-84ACE5DA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F5C-D449-49A5-9C70-DEE3F91C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D81-E003-4942-9862-78C02A24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B7B-C7F7-4C70-8D2C-7578F4DA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BF9-E3B6-4BD3-854A-E89341EA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43D4-B577-414C-8216-2D1DA875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CCB-8AC7-4011-B1E3-A1847E1B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241-4156-46C9-9EEE-474D1FF0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3706-CA7C-4EFD-96AF-463C5EEB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96C-2092-472B-8ECF-41F75024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2769-ED81-473E-818C-1E93D4F55FA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91FF-9717-4109-BAD6-AAF3EBD2AC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ый треугольник 4"/>
          <p:cNvSpPr/>
          <p:nvPr/>
        </p:nvSpPr>
        <p:spPr>
          <a:xfrm flipV="1">
            <a:off x="0" y="0"/>
            <a:ext cx="8001000" cy="6858000"/>
          </a:xfrm>
          <a:prstGeom prst="rtTriangle">
            <a:avLst/>
          </a:prstGeom>
          <a:blipFill rotWithShape="0">
            <a:blip r:embed="rId2">
              <a:alphaModFix amt="94000"/>
            </a:blip>
            <a:srcRect/>
            <a:tile tx="0" ty="0" sx="100000" sy="100000" algn="ctr"/>
          </a:blip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14400" y="4428720"/>
            <a:ext cx="642924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Arial"/>
                <a:ea typeface="Arial"/>
              </a:rPr>
              <a:t>Абзац. Последовательность абзаце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Прямоугольник 6"/>
          <p:cNvGrpSpPr/>
          <p:nvPr/>
        </p:nvGrpSpPr>
        <p:grpSpPr>
          <a:xfrm>
            <a:off x="496080" y="-347760"/>
            <a:ext cx="6926760" cy="7626600"/>
            <a:chOff x="496080" y="-347760"/>
            <a:chExt cx="6926760" cy="7626600"/>
          </a:xfrm>
        </p:grpSpPr>
        <p:pic>
          <p:nvPicPr>
            <p:cNvPr id="44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496080" y="-347760"/>
              <a:ext cx="6926760" cy="762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909400">
              <a:off x="3902400" y="-832320"/>
              <a:ext cx="119160" cy="85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0"/>
          <p:cNvSpPr/>
          <p:nvPr/>
        </p:nvSpPr>
        <p:spPr>
          <a:xfrm rot="20815800">
            <a:off x="2741040" y="2422800"/>
            <a:ext cx="1447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c000"/>
                </a:solidFill>
                <a:latin typeface="Arial"/>
                <a:ea typeface="Arial"/>
              </a:rPr>
              <a:t>Д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 rot="20983800">
            <a:off x="766440" y="4186080"/>
            <a:ext cx="1465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57913"/>
                </a:solidFill>
                <a:latin typeface="Arial"/>
                <a:ea typeface="Arial"/>
              </a:rPr>
              <a:t>А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 rot="20314200">
            <a:off x="5446440" y="633600"/>
            <a:ext cx="1459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21443400">
            <a:off x="1557720" y="3531960"/>
            <a:ext cx="1459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0000"/>
                </a:solidFill>
                <a:latin typeface="Arial"/>
                <a:ea typeface="Arial"/>
              </a:rPr>
              <a:t>Б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 rot="20736000">
            <a:off x="2404800" y="2935440"/>
            <a:ext cx="1465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70c0"/>
                </a:solidFill>
                <a:latin typeface="Arial"/>
                <a:ea typeface="Arial"/>
              </a:rPr>
              <a:t>В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 rot="20803200">
            <a:off x="4025880" y="1535040"/>
            <a:ext cx="1788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77933c"/>
                </a:solidFill>
                <a:latin typeface="Arial"/>
                <a:ea typeface="Arial"/>
              </a:rPr>
              <a:t>Ж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 rot="21292200">
            <a:off x="3675960" y="2128320"/>
            <a:ext cx="1366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e46c0a"/>
                </a:solidFill>
                <a:latin typeface="Arial"/>
                <a:ea typeface="Arial"/>
              </a:rPr>
              <a:t>Е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 rot="21083400">
            <a:off x="4810320" y="1157400"/>
            <a:ext cx="1294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ff00"/>
                </a:solidFill>
                <a:latin typeface="Arial"/>
                <a:ea typeface="Arial"/>
              </a:rPr>
              <a:t>З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H:\Documents and Settings\Aida\Рабочий стол\НОвая ГРАФИКА сборник\КАРТИНКИ СБОРНИК_ школьные\s46.gif"/>
          <p:cNvPicPr/>
          <p:nvPr/>
        </p:nvPicPr>
        <p:blipFill>
          <a:blip r:embed="rId4"/>
          <a:stretch/>
        </p:blipFill>
        <p:spPr>
          <a:xfrm>
            <a:off x="1143000" y="1428840"/>
            <a:ext cx="2028960" cy="1396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0"/>
          <p:cNvSpPr/>
          <p:nvPr/>
        </p:nvSpPr>
        <p:spPr>
          <a:xfrm>
            <a:off x="6143760" y="0"/>
            <a:ext cx="1436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b0f0"/>
                </a:solidFill>
                <a:latin typeface="Arial"/>
                <a:ea typeface="Arial"/>
              </a:rPr>
              <a:t>К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 rot="20983800">
            <a:off x="318240" y="60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7913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 rot="21443400">
            <a:off x="938880" y="436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2"/>
          <p:cNvSpPr/>
          <p:nvPr/>
        </p:nvSpPr>
        <p:spPr>
          <a:xfrm rot="20736000">
            <a:off x="1400760" y="466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 rot="20803200">
            <a:off x="2039400" y="682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933c"/>
                </a:solidFill>
                <a:latin typeface="Arial"/>
                <a:ea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 rot="21083400">
            <a:off x="3170520" y="522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 rot="21292200">
            <a:off x="2587320" y="50796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3578400" y="2080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  <a:ea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24B5-58FF-4E23-899B-848B4F1E6A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357120" y="14288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открытия на уроке вы для себя сдел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3223440" y="285840"/>
            <a:ext cx="30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  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im8-tub-ru.yandex.net/i?id=520863804-36-72&amp;n=17"/>
          <p:cNvPicPr/>
          <p:nvPr/>
        </p:nvPicPr>
        <p:blipFill>
          <a:blip r:embed="rId1"/>
          <a:stretch/>
        </p:blipFill>
        <p:spPr>
          <a:xfrm>
            <a:off x="3357720" y="2857680"/>
            <a:ext cx="2214360" cy="32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9AB9-FA94-49CA-A1D4-5DE229FE525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DBEE-B197-4B72-8F18-C13B2BA927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1285920" y="1785960"/>
            <a:ext cx="66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на уроке не устать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доровым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аваться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гры весёлые будем играть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мы в классе всем 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лыбать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676520" y="285840"/>
            <a:ext cx="560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ый настр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http://im6-tub-ru.yandex.net/i?id=347627769-19-72&amp;n=21"/>
          <p:cNvPicPr/>
          <p:nvPr/>
        </p:nvPicPr>
        <p:blipFill>
          <a:blip r:embed="rId1"/>
          <a:stretch/>
        </p:blipFill>
        <p:spPr>
          <a:xfrm>
            <a:off x="500040" y="4572000"/>
            <a:ext cx="1504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6242-FBF4-44E5-B9FB-D22A58A6CF2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EC83-E93D-4C62-8B37-33436FB1ED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1239480" y="285840"/>
            <a:ext cx="55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утка   чистопис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729720" y="150012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\Ц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\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273600" y="2286000"/>
            <a:ext cx="865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 и напиши такие две гласные буквы, чтобы получ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1"/>
          <p:cNvSpPr/>
          <p:nvPr/>
        </p:nvSpPr>
        <p:spPr>
          <a:xfrm>
            <a:off x="1071720" y="357192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Группа 15"/>
          <p:cNvGrpSpPr/>
          <p:nvPr/>
        </p:nvGrpSpPr>
        <p:grpSpPr>
          <a:xfrm>
            <a:off x="500040" y="3000240"/>
            <a:ext cx="2212920" cy="1090800"/>
            <a:chOff x="500040" y="3000240"/>
            <a:chExt cx="2212920" cy="1090800"/>
          </a:xfrm>
        </p:grpSpPr>
        <p:pic>
          <p:nvPicPr>
            <p:cNvPr id="75" name="Picture 8" descr="http://www.ruslania.com/pictures/big/9785978003109.jpg"/>
            <p:cNvPicPr/>
            <p:nvPr/>
          </p:nvPicPr>
          <p:blipFill>
            <a:blip r:embed="rId1"/>
            <a:srcRect l="0" t="15609" r="86507" b="71544"/>
            <a:stretch/>
          </p:blipFill>
          <p:spPr>
            <a:xfrm>
              <a:off x="500040" y="3000240"/>
              <a:ext cx="642960" cy="10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10" descr="http://www.ruslania.com/pictures/big/9785978003109.jpg"/>
            <p:cNvPicPr/>
            <p:nvPr/>
          </p:nvPicPr>
          <p:blipFill>
            <a:blip r:embed="rId2"/>
            <a:srcRect l="82470" t="93884" r="5533" b="-1221"/>
            <a:stretch/>
          </p:blipFill>
          <p:spPr>
            <a:xfrm>
              <a:off x="1071360" y="342900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2" descr="http://www.ruslania.com/pictures/big/9785978003109.jpg"/>
            <p:cNvPicPr/>
            <p:nvPr/>
          </p:nvPicPr>
          <p:blipFill>
            <a:blip r:embed="rId3"/>
            <a:srcRect l="71971" t="89295" r="14536" b="-2137"/>
            <a:stretch/>
          </p:blipFill>
          <p:spPr>
            <a:xfrm>
              <a:off x="1571760" y="3071520"/>
              <a:ext cx="642960" cy="10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4" descr="http://www.ruslania.com/pictures/big/9785978003109.jpg"/>
            <p:cNvPicPr/>
            <p:nvPr/>
          </p:nvPicPr>
          <p:blipFill>
            <a:blip r:embed="rId4"/>
            <a:srcRect l="10500" t="21114" r="77542" b="70383"/>
            <a:stretch/>
          </p:blipFill>
          <p:spPr>
            <a:xfrm>
              <a:off x="2143080" y="3429000"/>
              <a:ext cx="569880" cy="66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extBox 16"/>
          <p:cNvSpPr/>
          <p:nvPr/>
        </p:nvSpPr>
        <p:spPr>
          <a:xfrm>
            <a:off x="357120" y="421488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 слова, которые получились. Выполни фонетический разбор слов. ( по вариант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19DB-A2E2-4290-8970-5B8895638E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2433240" y="285840"/>
            <a:ext cx="38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     подум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14200" y="128592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 слова на 2 столбика: в первый  выпиши слова, которые можно переносить, во второй- слова, которые переноси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527400" y="2214720"/>
            <a:ext cx="77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ень, станция, оса, метро, горка, летняя, сок, шея, р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85840" y="300024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вь буквы в алфавитном порядке и запиши получившееся сло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34880" y="3857760"/>
            <a:ext cx="402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.о,р,б 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,л,о,д 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,ы,о,т 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10"/>
          <p:cNvGrpSpPr/>
          <p:nvPr/>
        </p:nvGrpSpPr>
        <p:grpSpPr>
          <a:xfrm>
            <a:off x="214200" y="4929120"/>
            <a:ext cx="8448840" cy="1428840"/>
            <a:chOff x="214200" y="4929120"/>
            <a:chExt cx="8448840" cy="1428840"/>
          </a:xfrm>
        </p:grpSpPr>
        <p:sp>
          <p:nvSpPr>
            <p:cNvPr id="87" name="TextBox 8"/>
            <p:cNvSpPr/>
            <p:nvPr/>
          </p:nvSpPr>
          <p:spPr>
            <a:xfrm>
              <a:off x="214200" y="5072040"/>
              <a:ext cx="607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b050"/>
                  </a:solidFill>
                  <a:latin typeface="Arial"/>
                </a:rPr>
                <a:t>Работа в группах: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ставь и запиши в тетрадь предложение с одним из этих слов.  Подчеркни грамматическую основу, выполни синтаксический разбор сло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2" descr="http://im2-tub-ru.yandex.net/i?id=296120816-68-72&amp;n=21"/>
            <p:cNvPicPr/>
            <p:nvPr/>
          </p:nvPicPr>
          <p:blipFill>
            <a:blip r:embed="rId1"/>
            <a:stretch/>
          </p:blipFill>
          <p:spPr>
            <a:xfrm>
              <a:off x="7072560" y="4929120"/>
              <a:ext cx="1590480" cy="1428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A9A3-E25F-4A10-AF7C-1958ABE6C3C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3194-10B7-4EB7-8845-199F361F2A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076920" y="28584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301320" y="1357200"/>
            <a:ext cx="586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текс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их частей состоит текс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иды текста бываю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абза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1304-5A83-44D3-8028-C9E12BC449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217960" y="285840"/>
            <a:ext cx="434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85840" y="1428840"/>
            <a:ext cx="86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 текст и запиши его в тетр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оловок «Лесной бараба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щ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состоит из трех абза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абзац сообщает о том, что ребята пошли в лес собирать грибы и я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абзац  о том, как они услышали, что в лесу кто-то стучит на бараб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абзац  сообщает о том, как ребята тихонько подошли к лесной полянке и увидели зай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C59A-D4E1-48BC-8E30-62E33C2FB3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2357280" y="172692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ки видят всё вокруг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веду я ими круг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ком видеть всё дано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кно, а где кин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веду я ими круг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яжу на мир вок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1926720" y="214200"/>
            <a:ext cx="487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http://im3-tub-ru.yandex.net/i?id=103812040-61-72&amp;n=21"/>
          <p:cNvPicPr/>
          <p:nvPr/>
        </p:nvPicPr>
        <p:blipFill>
          <a:blip r:embed="rId1"/>
          <a:stretch/>
        </p:blipFill>
        <p:spPr>
          <a:xfrm>
            <a:off x="428760" y="485784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A818-6A0D-4285-A86D-5224AB4722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214200" y="442080"/>
            <a:ext cx="871560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уров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ить деформированный текст. Списать. В третьем предложении подчеркнуть главные чл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 Грачонок был черный, носатый. Он не умел летать. Миша кормил его червяками и личинками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 Миша нашел под деревом грачонка, который дрожал от холода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 У грачонка отросли крылья, и он уле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DD84-1702-410B-A394-834C96E66B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0" y="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уров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сставь абзацы правильно. Озаглавить текст и спиши его. (Варианты заголовков: «На улице», «Доброе дело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был пасмурный и дождливый. Миша бродил по улицам города. На душе у него было тоскливо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ех пор Миша понял, что добрые дела приносят радость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руг мальчик увидел старушку, которая не могла перейти дорогу. Миша помог бабушке перейти на противоположную сторону улицы. Старушка поблагодарила его за хороший поступок и улыбнулась. На душе у Миши стало радостно и светло, несмотря на ненастный день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3:20:31Z</dcterms:created>
  <dc:creator>Ира</dc:creator>
  <dc:description>http://aida.ucoz.ru</dc:description>
  <dc:language>en-US</dc:language>
  <cp:lastModifiedBy>Ира</cp:lastModifiedBy>
  <dcterms:modified xsi:type="dcterms:W3CDTF">2013-03-21T14:40:09Z</dcterms:modified>
  <cp:revision>8</cp:revision>
  <dc:subject/>
  <dc:title>Абзац. Последовательность абзацев.</dc:title>
</cp:coreProperties>
</file>