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A03-AA85-4AA7-919F-C10E9596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8E0-BB2D-4C0B-AFD9-B77964E6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711-659F-457A-AB1F-B9CE9DD5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7C5-CEF6-4A5F-9BDE-F09EC07C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EF4-E53D-4898-8FFB-184B2CBD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E0C-9C0D-4958-91AE-83E55F2B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8ED-CF59-4EB3-BA0D-0BA9E766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3B9-14CD-4930-B46D-01789838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34D-8185-4055-BB7E-156CE8F9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0BD-CF2B-46E4-8C4F-7D28EE9F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C4D-79DF-4FEA-9F60-2D5DEF31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BF6-C07E-44BE-AFF9-29197515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487C-CA1E-4D4A-8AB7-056284E2FEC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2DA4-CC39-4206-B70B-EFDBB84F68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14400" y="4428720"/>
            <a:ext cx="64292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Arial"/>
                <a:ea typeface="Arial"/>
              </a:rPr>
              <a:t>Абзац. Последовательность абзац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Прямоугольник 6"/>
          <p:cNvGrpSpPr/>
          <p:nvPr/>
        </p:nvGrpSpPr>
        <p:grpSpPr>
          <a:xfrm>
            <a:off x="496080" y="-347760"/>
            <a:ext cx="6926760" cy="7626600"/>
            <a:chOff x="496080" y="-347760"/>
            <a:chExt cx="6926760" cy="7626600"/>
          </a:xfrm>
        </p:grpSpPr>
        <p:pic>
          <p:nvPicPr>
            <p:cNvPr id="4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496080" y="-347760"/>
              <a:ext cx="69267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909400">
              <a:off x="3902400" y="-832320"/>
              <a:ext cx="119160" cy="85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4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3095-FA96-4C9B-8C7A-0771C9764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357120" y="14288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ткрытия на уроке вы для себя сдел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223440" y="28584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 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im8-tub-ru.yandex.net/i?id=520863804-36-72&amp;n=17"/>
          <p:cNvPicPr/>
          <p:nvPr/>
        </p:nvPicPr>
        <p:blipFill>
          <a:blip r:embed="rId1"/>
          <a:stretch/>
        </p:blipFill>
        <p:spPr>
          <a:xfrm>
            <a:off x="3357720" y="2857680"/>
            <a:ext cx="2214360" cy="32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2F4-7173-4473-8247-009633906C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7752-3AEB-4B9A-A426-365CF98EA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1285920" y="1785960"/>
            <a:ext cx="66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а уроке не уста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доровы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ваться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гры весёлые будем игра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мы в классе всем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лыба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676520" y="285840"/>
            <a:ext cx="56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ый наст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im6-tub-ru.yandex.net/i?id=347627769-19-72&amp;n=21"/>
          <p:cNvPicPr/>
          <p:nvPr/>
        </p:nvPicPr>
        <p:blipFill>
          <a:blip r:embed="rId1"/>
          <a:stretch/>
        </p:blipFill>
        <p:spPr>
          <a:xfrm>
            <a:off x="500040" y="4572000"/>
            <a:ext cx="150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5FBA-8579-4794-8391-C19F03B6EC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D041-E26D-4802-9557-CE2724161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239480" y="285840"/>
            <a:ext cx="55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ка   чистопис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29720" y="150012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\Ц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\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73600" y="2286000"/>
            <a:ext cx="865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 и напиши такие две гласные буквы, чтобы получ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1071720" y="357192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15"/>
          <p:cNvGrpSpPr/>
          <p:nvPr/>
        </p:nvGrpSpPr>
        <p:grpSpPr>
          <a:xfrm>
            <a:off x="500040" y="3000240"/>
            <a:ext cx="2212920" cy="1090800"/>
            <a:chOff x="500040" y="3000240"/>
            <a:chExt cx="2212920" cy="1090800"/>
          </a:xfrm>
        </p:grpSpPr>
        <p:pic>
          <p:nvPicPr>
            <p:cNvPr id="75" name="Picture 8" descr="http://www.ruslania.com/pictures/big/9785978003109.jpg"/>
            <p:cNvPicPr/>
            <p:nvPr/>
          </p:nvPicPr>
          <p:blipFill>
            <a:blip r:embed="rId1"/>
            <a:srcRect l="0" t="15609" r="86507" b="71544"/>
            <a:stretch/>
          </p:blipFill>
          <p:spPr>
            <a:xfrm>
              <a:off x="500040" y="3000240"/>
              <a:ext cx="64296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0" descr="http://www.ruslania.com/pictures/big/9785978003109.jpg"/>
            <p:cNvPicPr/>
            <p:nvPr/>
          </p:nvPicPr>
          <p:blipFill>
            <a:blip r:embed="rId2"/>
            <a:srcRect l="82470" t="93884" r="5533" b="-1221"/>
            <a:stretch/>
          </p:blipFill>
          <p:spPr>
            <a:xfrm>
              <a:off x="1071360" y="342900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2" descr="http://www.ruslania.com/pictures/big/9785978003109.jpg"/>
            <p:cNvPicPr/>
            <p:nvPr/>
          </p:nvPicPr>
          <p:blipFill>
            <a:blip r:embed="rId3"/>
            <a:srcRect l="71971" t="89295" r="14536" b="-2137"/>
            <a:stretch/>
          </p:blipFill>
          <p:spPr>
            <a:xfrm>
              <a:off x="1571760" y="3071520"/>
              <a:ext cx="642960" cy="10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4" descr="http://www.ruslania.com/pictures/big/9785978003109.jpg"/>
            <p:cNvPicPr/>
            <p:nvPr/>
          </p:nvPicPr>
          <p:blipFill>
            <a:blip r:embed="rId4"/>
            <a:srcRect l="10500" t="21114" r="77542" b="70383"/>
            <a:stretch/>
          </p:blipFill>
          <p:spPr>
            <a:xfrm>
              <a:off x="2143080" y="3429000"/>
              <a:ext cx="56988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16"/>
          <p:cNvSpPr/>
          <p:nvPr/>
        </p:nvSpPr>
        <p:spPr>
          <a:xfrm>
            <a:off x="357120" y="421488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слова, которые получились. Выполни фонетический разбор слов. ( по вариант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229B-2660-4185-86DB-BCB8B5F5C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433240" y="28584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     подум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14200" y="128592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 слова на 2 столбика: в первый  выпиши слова, которые можно переносить, во второй- слова, которые переноси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27400" y="221472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ь, станция, оса, метро, горка, летняя, сок, шея, 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85840" y="3000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буквы в алфавитном порядке и запиши получившееся сло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34880" y="385776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.о,р,б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л,о,д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,ы,о,т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214200" y="4929120"/>
            <a:ext cx="8448840" cy="1428840"/>
            <a:chOff x="214200" y="4929120"/>
            <a:chExt cx="8448840" cy="1428840"/>
          </a:xfrm>
        </p:grpSpPr>
        <p:sp>
          <p:nvSpPr>
            <p:cNvPr id="87" name="TextBox 8"/>
            <p:cNvSpPr/>
            <p:nvPr/>
          </p:nvSpPr>
          <p:spPr>
            <a:xfrm>
              <a:off x="214200" y="5072040"/>
              <a:ext cx="607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Arial"/>
                </a:rPr>
                <a:t>Работа в группах: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ставь и запиши в тетрадь предложение с одним из этих слов.  Подчеркни грамматическую основу, выполни синтаксический разбор с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" descr="http://im2-tub-ru.yandex.net/i?id=296120816-68-72&amp;n=21"/>
            <p:cNvPicPr/>
            <p:nvPr/>
          </p:nvPicPr>
          <p:blipFill>
            <a:blip r:embed="rId1"/>
            <a:stretch/>
          </p:blipFill>
          <p:spPr>
            <a:xfrm>
              <a:off x="7072560" y="4929120"/>
              <a:ext cx="1590480" cy="142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097-2927-42CD-9386-BABC7C9DEC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349-C016-4F44-BEB8-ED582D7AC5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076920" y="2858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01320" y="1357200"/>
            <a:ext cx="586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тек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их частей состоит тек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текста быва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абза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FACD-8920-4C70-96C1-AC2E32C0B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217960" y="285840"/>
            <a:ext cx="434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85840" y="1428840"/>
            <a:ext cx="864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текст и запиши его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«Лесной бараба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щ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состоит из трех абза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абзац сообщает о том, что ребята пошли в лес собирать грибы и я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абзац  о том, как они услышали, что в лесу кто-то стучит на бар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абзац  сообщает о том, как ребята тихонько подошли к лесной полянке и увидели за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A03-D2DF-4CD6-A626-2C9BAA070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2357280" y="17269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видят всё вокруг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ом видеть всё дан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кно, а где ки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еду я ими круг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жу на мир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926720" y="214200"/>
            <a:ext cx="487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http://im3-tub-ru.yandex.net/i?id=103812040-61-72&amp;n=21"/>
          <p:cNvPicPr/>
          <p:nvPr/>
        </p:nvPicPr>
        <p:blipFill>
          <a:blip r:embed="rId1"/>
          <a:stretch/>
        </p:blipFill>
        <p:spPr>
          <a:xfrm>
            <a:off x="428760" y="48578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7A6-EDB5-4045-896B-65EB96D1E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214200" y="442080"/>
            <a:ext cx="8715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ить деформированный текст. Списать. В третьем предложении подчеркнуть главные чл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 Грачонок был черный, носатый. Он не умел летать. Миша кормил его червяками и личинкам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Миша нашел под деревом грачонка, который дрожал от холод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У грачонка отросли крылья, и он уле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1CA6-31B6-40D1-8F34-74569267D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ставь абзацы правильно. Озаглавить текст и спиши его. (Варианты заголовков: «На улице», «Доброе дело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был пасмурный и дождливый. Миша бродил по улицам города. На душе у него было тосклив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ех пор Миша понял, что добрые дела приносят радост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мальчик увидел старушку, которая не могла перейти дорогу. Миша помог бабушке перейти на противоположную сторону улицы. Старушка поблагодарила его за хороший поступок и улыбнулась. На душе у Миши стало радостно и светло, несмотря на ненастный день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3:20:31Z</dcterms:created>
  <dc:creator>Ира</dc:creator>
  <dc:description>http://aida.ucoz.ru</dc:description>
  <dc:language>en-US</dc:language>
  <cp:lastModifiedBy>Ира</cp:lastModifiedBy>
  <dcterms:modified xsi:type="dcterms:W3CDTF">2013-03-21T14:40:09Z</dcterms:modified>
  <cp:revision>8</cp:revision>
  <dc:subject/>
  <dc:title>Абзац. Последовательность абзацев.</dc:title>
</cp:coreProperties>
</file>