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wmf" ContentType="image/x-wmf"/>
  <Override PartName="/ppt/media/image17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36D-8457-415D-883F-6363DA48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AF2-3FCA-419A-A34E-E1579471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924-22E5-4ED1-9964-54956674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1D1-BCB5-4963-BCE3-382F4E21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9F6-4DE5-44BB-8258-7ADD1AA0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6EE-6B4B-45AF-82CA-A240F7F5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703-7578-493C-9D14-8AA50850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75F-1DCD-451C-8687-4AF5E17A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0F1D-056F-4F01-8CB9-FC5AA3E2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4D6-B243-4F03-AC3F-E6362482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319-B625-4E21-8BDD-EA104B27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600-455F-4AFB-BA24-0EC300A3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F40B-2D8C-4530-9722-1BD6227247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79280" y="1890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1332000" y="1628640"/>
            <a:ext cx="16556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1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700360" y="260280"/>
            <a:ext cx="309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ОД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79280" y="255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Users\Кобзев\Documents\Оля\Рисунки\Буратино.jpg"/>
          <p:cNvPicPr/>
          <p:nvPr/>
        </p:nvPicPr>
        <p:blipFill>
          <a:blip r:embed="rId1"/>
          <a:stretch/>
        </p:blipFill>
        <p:spPr>
          <a:xfrm>
            <a:off x="3780000" y="1521000"/>
            <a:ext cx="4174920" cy="41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6" descr="5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111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AutoShape 2"/>
          <p:cNvSpPr/>
          <p:nvPr/>
        </p:nvSpPr>
        <p:spPr>
          <a:xfrm rot="531600">
            <a:off x="4038120" y="609480"/>
            <a:ext cx="574920" cy="513000"/>
          </a:xfrm>
          <a:custGeom>
            <a:avLst/>
            <a:gdLst>
              <a:gd name="textAreaLeft" fmla="*/ 131040 w 574920"/>
              <a:gd name="textAreaRight" fmla="*/ 443880 w 57492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2771640" y="260280"/>
            <a:ext cx="396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ШЕ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611280" y="1557360"/>
            <a:ext cx="16556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6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121" name="Picture 12" descr="УЛИТКА"/>
          <p:cNvPicPr/>
          <p:nvPr/>
        </p:nvPicPr>
        <p:blipFill>
          <a:blip r:embed="rId1"/>
          <a:stretch/>
        </p:blipFill>
        <p:spPr>
          <a:xfrm>
            <a:off x="2987640" y="1628640"/>
            <a:ext cx="1973160" cy="251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УЛИТКА"/>
          <p:cNvPicPr/>
          <p:nvPr/>
        </p:nvPicPr>
        <p:blipFill>
          <a:blip r:embed="rId2"/>
          <a:stretch/>
        </p:blipFill>
        <p:spPr>
          <a:xfrm>
            <a:off x="7020000" y="1628640"/>
            <a:ext cx="1973160" cy="251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УЛИТКА"/>
          <p:cNvPicPr/>
          <p:nvPr/>
        </p:nvPicPr>
        <p:blipFill>
          <a:blip r:embed="rId3"/>
          <a:stretch/>
        </p:blipFill>
        <p:spPr>
          <a:xfrm>
            <a:off x="5003640" y="1628640"/>
            <a:ext cx="1973520" cy="25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УЛИТКА"/>
          <p:cNvPicPr/>
          <p:nvPr/>
        </p:nvPicPr>
        <p:blipFill>
          <a:blip r:embed="rId4"/>
          <a:stretch/>
        </p:blipFill>
        <p:spPr>
          <a:xfrm>
            <a:off x="2987640" y="4149720"/>
            <a:ext cx="1973160" cy="251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УЛИТКА"/>
          <p:cNvPicPr/>
          <p:nvPr/>
        </p:nvPicPr>
        <p:blipFill>
          <a:blip r:embed="rId5"/>
          <a:stretch/>
        </p:blipFill>
        <p:spPr>
          <a:xfrm>
            <a:off x="5003640" y="4149720"/>
            <a:ext cx="1973520" cy="251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УЛИТКА"/>
          <p:cNvPicPr/>
          <p:nvPr/>
        </p:nvPicPr>
        <p:blipFill>
          <a:blip r:embed="rId6"/>
          <a:stretch/>
        </p:blipFill>
        <p:spPr>
          <a:xfrm>
            <a:off x="7020000" y="4149720"/>
            <a:ext cx="197316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7" descr="6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7451640" y="5950080"/>
            <a:ext cx="720720" cy="69192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22499" h="21600">
                <a:moveTo>
                  <a:pt x="0" y="0"/>
                </a:moveTo>
                <a:lnTo>
                  <a:pt x="22499" y="0"/>
                </a:lnTo>
                <a:lnTo>
                  <a:pt x="22499" y="21600"/>
                </a:lnTo>
                <a:lnTo>
                  <a:pt x="0" y="21600"/>
                </a:lnTo>
                <a:close/>
              </a:path>
              <a:path fill="lightenLess" w="22499" h="21600">
                <a:moveTo>
                  <a:pt x="0" y="0"/>
                </a:moveTo>
                <a:lnTo>
                  <a:pt x="22499" y="0"/>
                </a:lnTo>
                <a:lnTo>
                  <a:pt x="21099" y="1400"/>
                </a:lnTo>
                <a:lnTo>
                  <a:pt x="1400" y="1400"/>
                </a:lnTo>
                <a:close/>
              </a:path>
              <a:path fill="darken" w="22499" h="21600">
                <a:moveTo>
                  <a:pt x="22499" y="0"/>
                </a:moveTo>
                <a:lnTo>
                  <a:pt x="22499" y="21600"/>
                </a:lnTo>
                <a:lnTo>
                  <a:pt x="21099" y="20200"/>
                </a:lnTo>
                <a:lnTo>
                  <a:pt x="21099" y="1400"/>
                </a:lnTo>
                <a:close/>
              </a:path>
              <a:path fill="darkenLess" w="22499" h="21600">
                <a:moveTo>
                  <a:pt x="224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9" y="20200"/>
                </a:lnTo>
                <a:close/>
              </a:path>
              <a:path fill="lighten" w="224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99" h="21600">
                <a:moveTo>
                  <a:pt x="11249" y="3837"/>
                </a:moveTo>
                <a:lnTo>
                  <a:pt x="13826" y="6448"/>
                </a:lnTo>
                <a:lnTo>
                  <a:pt x="13826" y="4707"/>
                </a:lnTo>
                <a:lnTo>
                  <a:pt x="15601" y="4707"/>
                </a:lnTo>
                <a:lnTo>
                  <a:pt x="15601" y="8224"/>
                </a:lnTo>
                <a:lnTo>
                  <a:pt x="18212" y="10800"/>
                </a:lnTo>
                <a:lnTo>
                  <a:pt x="16559" y="10800"/>
                </a:lnTo>
                <a:lnTo>
                  <a:pt x="16559" y="17989"/>
                </a:lnTo>
                <a:lnTo>
                  <a:pt x="5940" y="17989"/>
                </a:lnTo>
                <a:lnTo>
                  <a:pt x="5940" y="10800"/>
                </a:lnTo>
                <a:lnTo>
                  <a:pt x="4286" y="10800"/>
                </a:lnTo>
                <a:close/>
              </a:path>
              <a:path fill="darkenLess" w="22499" h="21600">
                <a:moveTo>
                  <a:pt x="13826" y="6448"/>
                </a:moveTo>
                <a:lnTo>
                  <a:pt x="13826" y="4707"/>
                </a:lnTo>
                <a:lnTo>
                  <a:pt x="15601" y="4707"/>
                </a:lnTo>
                <a:lnTo>
                  <a:pt x="15601" y="8224"/>
                </a:lnTo>
                <a:close/>
              </a:path>
              <a:path fill="darkenLess" w="22499" h="21600">
                <a:moveTo>
                  <a:pt x="10327" y="14299"/>
                </a:moveTo>
                <a:lnTo>
                  <a:pt x="12172" y="14299"/>
                </a:lnTo>
                <a:lnTo>
                  <a:pt x="12172" y="17989"/>
                </a:lnTo>
                <a:lnTo>
                  <a:pt x="16559" y="17989"/>
                </a:lnTo>
                <a:lnTo>
                  <a:pt x="16559" y="10800"/>
                </a:lnTo>
                <a:lnTo>
                  <a:pt x="5940" y="10800"/>
                </a:lnTo>
                <a:lnTo>
                  <a:pt x="5940" y="17989"/>
                </a:lnTo>
                <a:lnTo>
                  <a:pt x="1032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651672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4891" y="7493"/>
                </a:moveTo>
                <a:lnTo>
                  <a:pt x="8398" y="7493"/>
                </a:lnTo>
                <a:lnTo>
                  <a:pt x="8398" y="12828"/>
                </a:lnTo>
                <a:cubicBezTo>
                  <a:pt x="8398" y="13751"/>
                  <a:pt x="9199" y="14482"/>
                  <a:pt x="10235" y="14482"/>
                </a:cubicBezTo>
                <a:lnTo>
                  <a:pt x="11897" y="14482"/>
                </a:lnTo>
                <a:cubicBezTo>
                  <a:pt x="12933" y="14482"/>
                  <a:pt x="13734" y="13751"/>
                  <a:pt x="13734" y="12828"/>
                </a:cubicBezTo>
                <a:lnTo>
                  <a:pt x="13734" y="7493"/>
                </a:lnTo>
                <a:lnTo>
                  <a:pt x="11897" y="7493"/>
                </a:lnTo>
                <a:lnTo>
                  <a:pt x="15405" y="3985"/>
                </a:lnTo>
                <a:lnTo>
                  <a:pt x="19078" y="7493"/>
                </a:lnTo>
                <a:lnTo>
                  <a:pt x="17241" y="7493"/>
                </a:lnTo>
                <a:lnTo>
                  <a:pt x="17241" y="12828"/>
                </a:lnTo>
                <a:cubicBezTo>
                  <a:pt x="17241" y="15596"/>
                  <a:pt x="14665" y="18155"/>
                  <a:pt x="11897" y="18155"/>
                </a:cubicBezTo>
                <a:lnTo>
                  <a:pt x="10235" y="18155"/>
                </a:lnTo>
                <a:cubicBezTo>
                  <a:pt x="7467" y="18155"/>
                  <a:pt x="4891" y="15596"/>
                  <a:pt x="489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131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AutoShape 2"/>
          <p:cNvSpPr/>
          <p:nvPr/>
        </p:nvSpPr>
        <p:spPr>
          <a:xfrm rot="531600">
            <a:off x="5866920" y="1447920"/>
            <a:ext cx="574920" cy="512640"/>
          </a:xfrm>
          <a:custGeom>
            <a:avLst/>
            <a:gdLst>
              <a:gd name="textAreaLeft" fmla="*/ 131040 w 574920"/>
              <a:gd name="textAreaRight" fmla="*/ 443880 w 574920"/>
              <a:gd name="textAreaTop" fmla="*/ 117000 h 512640"/>
              <a:gd name="textAreaBottom" fmla="*/ 3956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PEN"/>
          <p:cNvPicPr/>
          <p:nvPr/>
        </p:nvPicPr>
        <p:blipFill>
          <a:blip r:embed="rId2"/>
          <a:stretch/>
        </p:blipFill>
        <p:spPr>
          <a:xfrm rot="478200">
            <a:off x="7358040" y="2212560"/>
            <a:ext cx="1441440" cy="26560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5">
            <a:hlinkClick r:id="" action="ppaction://hlinkshowjump?jump=endshow"/>
          </p:cNvPr>
          <p:cNvSpPr/>
          <p:nvPr/>
        </p:nvSpPr>
        <p:spPr>
          <a:xfrm>
            <a:off x="8244000" y="5950080"/>
            <a:ext cx="755640" cy="718920"/>
          </a:xfrm>
          <a:custGeom>
            <a:avLst/>
            <a:gdLst>
              <a:gd name="textAreaLeft" fmla="*/ 46440 w 755640"/>
              <a:gd name="textAreaRight" fmla="*/ 709200 w 755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2703" h="21600">
                <a:moveTo>
                  <a:pt x="0" y="0"/>
                </a:moveTo>
                <a:lnTo>
                  <a:pt x="22703" y="0"/>
                </a:lnTo>
                <a:lnTo>
                  <a:pt x="22703" y="21600"/>
                </a:lnTo>
                <a:lnTo>
                  <a:pt x="0" y="21600"/>
                </a:lnTo>
                <a:close/>
              </a:path>
              <a:path fill="lightenLess" w="22703" h="21600">
                <a:moveTo>
                  <a:pt x="0" y="0"/>
                </a:moveTo>
                <a:lnTo>
                  <a:pt x="22703" y="0"/>
                </a:lnTo>
                <a:lnTo>
                  <a:pt x="21303" y="1400"/>
                </a:lnTo>
                <a:lnTo>
                  <a:pt x="1400" y="1400"/>
                </a:lnTo>
                <a:close/>
              </a:path>
              <a:path fill="darken" w="22703" h="21600">
                <a:moveTo>
                  <a:pt x="22703" y="0"/>
                </a:moveTo>
                <a:lnTo>
                  <a:pt x="22703" y="21600"/>
                </a:lnTo>
                <a:lnTo>
                  <a:pt x="21303" y="20200"/>
                </a:lnTo>
                <a:lnTo>
                  <a:pt x="21303" y="1400"/>
                </a:lnTo>
                <a:close/>
              </a:path>
              <a:path fill="darkenLess" w="22703" h="21600">
                <a:moveTo>
                  <a:pt x="22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03" y="20200"/>
                </a:lnTo>
                <a:close/>
              </a:path>
              <a:path fill="lighten" w="22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5f5f"/>
                </a:solidFill>
                <a:latin typeface="Times New Roman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3.06358E-006 L -0.11684 -0.44902 E">
                                      <p:cBhvr>
                                        <p:cTn id="180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path" presetID="51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11684 -0.44925 L -0.13611 -0.51353 C -0.15139 -0.54682 -0.15851 -0.5496 -0.1717 -0.55838 C -0.18525 -0.5681 -0.19948 -0.57388 -0.21736 -0.57203 C -0.23525 -0.57018 -0.25469 -0.56625 -0.27917 -0.54752 C -0.30365 -0.54081 -0.35174 -0.47492 -0.36389 -0.46012 L -0.425 -0.33827 L -0.45886 -0.22035 L -0.47917 -0.08047 L -0.47587 0.01896 L -0.45469 0.10057 L -0.40973 0.16115 L -0.35886 0.17688 L -0.30122 0.17688 L -0.25886 0.16115 E">
                                      <p:cBhvr>
                                        <p:cTn id="183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" nodeType="after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86 0.16115 L -0.20764 0.11884 L -0.18559 0.08716 C -0.17934 0.07907 -0.16702 0.06589 -0.15973 0.05318 C -0.15087 0.0356 -0.13854 0.00693 -0.13264 -0.01896 C -0.12587 -0.05064 -0.12604 -0.07862 -0.12448 -0.10243 L -0.13646 -0.19052 L -0.17535 -0.25827 L -0.22622 -0.2807 L -0.30087 -0.28763 L -0.36337 -0.26035 L -0.40226 -0.2289 L -0.44809 -0.15885 L -0.48351 -0.06867 E">
                                      <p:cBhvr>
                                        <p:cTn id="186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8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48351 -0.06867 L 0.00816 -0.02729 E">
                                      <p:cBhvr>
                                        <p:cTn id="18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74840" y="49068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3"/>
          <p:cNvSpPr txBox="1"/>
          <p:nvPr/>
        </p:nvSpPr>
        <p:spPr>
          <a:xfrm>
            <a:off x="2411280" y="260280"/>
            <a:ext cx="309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СЕМ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755640" y="1557360"/>
            <a:ext cx="16556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7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143" name="Picture 12" descr="C:\Users\Кобзев\Documents\Оля\Рисунки\гномик синяк.jpg"/>
          <p:cNvPicPr/>
          <p:nvPr/>
        </p:nvPicPr>
        <p:blipFill>
          <a:blip r:embed="rId1"/>
          <a:stretch/>
        </p:blipFill>
        <p:spPr>
          <a:xfrm>
            <a:off x="3132000" y="1785960"/>
            <a:ext cx="1289160" cy="1868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C:\Users\Кобзев\Documents\Оля\Рисунки\гномик синяк.jpg"/>
          <p:cNvPicPr/>
          <p:nvPr/>
        </p:nvPicPr>
        <p:blipFill>
          <a:blip r:embed="rId2"/>
          <a:stretch/>
        </p:blipFill>
        <p:spPr>
          <a:xfrm>
            <a:off x="5502240" y="2720880"/>
            <a:ext cx="976320" cy="1411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C:\Users\Кобзев\Documents\Оля\Рисунки\гномик синяк.jpg"/>
          <p:cNvPicPr/>
          <p:nvPr/>
        </p:nvPicPr>
        <p:blipFill>
          <a:blip r:embed="rId3"/>
          <a:stretch/>
        </p:blipFill>
        <p:spPr>
          <a:xfrm>
            <a:off x="3276720" y="3760920"/>
            <a:ext cx="1212840" cy="1755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C:\Users\Кобзев\Documents\Оля\Рисунки\гномик синяк.jpg"/>
          <p:cNvPicPr/>
          <p:nvPr/>
        </p:nvPicPr>
        <p:blipFill>
          <a:blip r:embed="rId4"/>
          <a:stretch/>
        </p:blipFill>
        <p:spPr>
          <a:xfrm>
            <a:off x="5051520" y="4365720"/>
            <a:ext cx="1112760" cy="1611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C:\Users\Кобзев\Documents\Оля\Рисунки\гномик синяк.jpg"/>
          <p:cNvPicPr/>
          <p:nvPr/>
        </p:nvPicPr>
        <p:blipFill>
          <a:blip r:embed="rId5"/>
          <a:stretch/>
        </p:blipFill>
        <p:spPr>
          <a:xfrm>
            <a:off x="6084720" y="1060560"/>
            <a:ext cx="1001880" cy="1452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C:\Users\Кобзев\Documents\Оля\Рисунки\гномик синяк.jpg"/>
          <p:cNvPicPr/>
          <p:nvPr/>
        </p:nvPicPr>
        <p:blipFill>
          <a:blip r:embed="rId6"/>
          <a:stretch/>
        </p:blipFill>
        <p:spPr>
          <a:xfrm>
            <a:off x="7466040" y="2604960"/>
            <a:ext cx="1022400" cy="147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C:\Users\Кобзев\Documents\Оля\Рисунки\гномик синяк.jpg"/>
          <p:cNvPicPr/>
          <p:nvPr/>
        </p:nvPicPr>
        <p:blipFill>
          <a:blip r:embed="rId7"/>
          <a:stretch/>
        </p:blipFill>
        <p:spPr>
          <a:xfrm>
            <a:off x="7078680" y="4869000"/>
            <a:ext cx="914400" cy="132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7" descr="7"/>
          <p:cNvPicPr/>
          <p:nvPr/>
        </p:nvPicPr>
        <p:blipFill>
          <a:blip r:embed="rId1"/>
          <a:stretch/>
        </p:blipFill>
        <p:spPr>
          <a:xfrm>
            <a:off x="468360" y="765000"/>
            <a:ext cx="5846760" cy="533412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2"/>
          <p:cNvSpPr/>
          <p:nvPr/>
        </p:nvSpPr>
        <p:spPr>
          <a:xfrm rot="531600">
            <a:off x="2819160" y="1295280"/>
            <a:ext cx="574560" cy="51300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153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AutoShape 14"/>
          <p:cNvSpPr/>
          <p:nvPr/>
        </p:nvSpPr>
        <p:spPr>
          <a:xfrm rot="531600">
            <a:off x="3733560" y="3200400"/>
            <a:ext cx="574560" cy="51264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2640"/>
              <a:gd name="textAreaBottom" fmla="*/ 3956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3"/>
          <p:cNvSpPr txBox="1"/>
          <p:nvPr/>
        </p:nvSpPr>
        <p:spPr>
          <a:xfrm>
            <a:off x="2627280" y="189000"/>
            <a:ext cx="396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ВОСЕМ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8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Picture 19" descr="птица"/>
          <p:cNvPicPr/>
          <p:nvPr/>
        </p:nvPicPr>
        <p:blipFill>
          <a:blip r:embed="rId1"/>
          <a:stretch/>
        </p:blipFill>
        <p:spPr>
          <a:xfrm>
            <a:off x="7164360" y="479736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птица"/>
          <p:cNvPicPr/>
          <p:nvPr/>
        </p:nvPicPr>
        <p:blipFill>
          <a:blip r:embed="rId2"/>
          <a:stretch/>
        </p:blipFill>
        <p:spPr>
          <a:xfrm>
            <a:off x="7164360" y="321300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птица"/>
          <p:cNvPicPr/>
          <p:nvPr/>
        </p:nvPicPr>
        <p:blipFill>
          <a:blip r:embed="rId3"/>
          <a:stretch/>
        </p:blipFill>
        <p:spPr>
          <a:xfrm>
            <a:off x="7164360" y="1773360"/>
            <a:ext cx="1700280" cy="180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птица"/>
          <p:cNvPicPr/>
          <p:nvPr/>
        </p:nvPicPr>
        <p:blipFill>
          <a:blip r:embed="rId4"/>
          <a:stretch/>
        </p:blipFill>
        <p:spPr>
          <a:xfrm>
            <a:off x="7164360" y="26028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птица"/>
          <p:cNvPicPr/>
          <p:nvPr/>
        </p:nvPicPr>
        <p:blipFill>
          <a:blip r:embed="rId5"/>
          <a:stretch/>
        </p:blipFill>
        <p:spPr>
          <a:xfrm>
            <a:off x="5580000" y="285264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птица"/>
          <p:cNvPicPr/>
          <p:nvPr/>
        </p:nvPicPr>
        <p:blipFill>
          <a:blip r:embed="rId6"/>
          <a:stretch/>
        </p:blipFill>
        <p:spPr>
          <a:xfrm>
            <a:off x="5580000" y="126828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2" descr="птица"/>
          <p:cNvPicPr/>
          <p:nvPr/>
        </p:nvPicPr>
        <p:blipFill>
          <a:blip r:embed="rId7"/>
          <a:stretch/>
        </p:blipFill>
        <p:spPr>
          <a:xfrm>
            <a:off x="5580000" y="4653000"/>
            <a:ext cx="1700280" cy="180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3" descr="птица"/>
          <p:cNvPicPr/>
          <p:nvPr/>
        </p:nvPicPr>
        <p:blipFill>
          <a:blip r:embed="rId8"/>
          <a:stretch/>
        </p:blipFill>
        <p:spPr>
          <a:xfrm>
            <a:off x="3995640" y="3573360"/>
            <a:ext cx="17002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7" descr="8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"/>
          <p:cNvSpPr/>
          <p:nvPr/>
        </p:nvSpPr>
        <p:spPr>
          <a:xfrm rot="531600">
            <a:off x="3809520" y="1676520"/>
            <a:ext cx="574920" cy="512640"/>
          </a:xfrm>
          <a:custGeom>
            <a:avLst/>
            <a:gdLst>
              <a:gd name="textAreaLeft" fmla="*/ 131040 w 574920"/>
              <a:gd name="textAreaRight" fmla="*/ 443880 w 574920"/>
              <a:gd name="textAreaTop" fmla="*/ 117000 h 512640"/>
              <a:gd name="textAreaBottom" fmla="*/ 3956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174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9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2556000" y="189000"/>
            <a:ext cx="396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ДЕВЯ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183" name="Picture 19" descr="БОЖЬЯ КОРОВКА"/>
          <p:cNvPicPr/>
          <p:nvPr/>
        </p:nvPicPr>
        <p:blipFill>
          <a:blip r:embed="rId1"/>
          <a:stretch/>
        </p:blipFill>
        <p:spPr>
          <a:xfrm>
            <a:off x="7236000" y="4941720"/>
            <a:ext cx="1692000" cy="1743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БОЖЬЯ КОРОВКА"/>
          <p:cNvPicPr/>
          <p:nvPr/>
        </p:nvPicPr>
        <p:blipFill>
          <a:blip r:embed="rId2"/>
          <a:stretch/>
        </p:blipFill>
        <p:spPr>
          <a:xfrm>
            <a:off x="7236000" y="3500280"/>
            <a:ext cx="169200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" descr="БОЖЬЯ КОРОВКА"/>
          <p:cNvPicPr/>
          <p:nvPr/>
        </p:nvPicPr>
        <p:blipFill>
          <a:blip r:embed="rId3"/>
          <a:stretch/>
        </p:blipFill>
        <p:spPr>
          <a:xfrm>
            <a:off x="7164360" y="1773360"/>
            <a:ext cx="1763640" cy="1815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БОЖЬЯ КОРОВКА"/>
          <p:cNvPicPr/>
          <p:nvPr/>
        </p:nvPicPr>
        <p:blipFill>
          <a:blip r:embed="rId4"/>
          <a:stretch/>
        </p:blipFill>
        <p:spPr>
          <a:xfrm>
            <a:off x="7164360" y="189000"/>
            <a:ext cx="1692360" cy="1743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БОЖЬЯ КОРОВКА"/>
          <p:cNvPicPr/>
          <p:nvPr/>
        </p:nvPicPr>
        <p:blipFill>
          <a:blip r:embed="rId5"/>
          <a:stretch/>
        </p:blipFill>
        <p:spPr>
          <a:xfrm>
            <a:off x="5508720" y="4869000"/>
            <a:ext cx="1692360" cy="1742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БОЖЬЯ КОРОВКА"/>
          <p:cNvPicPr/>
          <p:nvPr/>
        </p:nvPicPr>
        <p:blipFill>
          <a:blip r:embed="rId6"/>
          <a:stretch/>
        </p:blipFill>
        <p:spPr>
          <a:xfrm>
            <a:off x="5435640" y="3141720"/>
            <a:ext cx="1692360" cy="1743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2" descr="БОЖЬЯ КОРОВКА"/>
          <p:cNvPicPr/>
          <p:nvPr/>
        </p:nvPicPr>
        <p:blipFill>
          <a:blip r:embed="rId7"/>
          <a:stretch/>
        </p:blipFill>
        <p:spPr>
          <a:xfrm>
            <a:off x="5219640" y="1413000"/>
            <a:ext cx="1692360" cy="1743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БОЖЬЯ КОРОВКА"/>
          <p:cNvPicPr/>
          <p:nvPr/>
        </p:nvPicPr>
        <p:blipFill>
          <a:blip r:embed="rId8"/>
          <a:stretch/>
        </p:blipFill>
        <p:spPr>
          <a:xfrm>
            <a:off x="3492360" y="2205000"/>
            <a:ext cx="1692360" cy="1743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БОЖЬЯ КОРОВКА"/>
          <p:cNvPicPr/>
          <p:nvPr/>
        </p:nvPicPr>
        <p:blipFill>
          <a:blip r:embed="rId9"/>
          <a:stretch/>
        </p:blipFill>
        <p:spPr>
          <a:xfrm>
            <a:off x="3635280" y="4221000"/>
            <a:ext cx="1692360" cy="17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9"/>
          <p:cNvPicPr/>
          <p:nvPr/>
        </p:nvPicPr>
        <p:blipFill>
          <a:blip r:embed="rId1"/>
          <a:stretch/>
        </p:blipFill>
        <p:spPr>
          <a:xfrm>
            <a:off x="468360" y="765000"/>
            <a:ext cx="5864040" cy="533412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194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2"/>
          <p:cNvSpPr/>
          <p:nvPr/>
        </p:nvSpPr>
        <p:spPr>
          <a:xfrm rot="531600">
            <a:off x="5790960" y="2209680"/>
            <a:ext cx="574560" cy="51300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3"/>
          <p:cNvSpPr txBox="1"/>
          <p:nvPr/>
        </p:nvSpPr>
        <p:spPr>
          <a:xfrm>
            <a:off x="2771640" y="333360"/>
            <a:ext cx="30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НУ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0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1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4"/>
          <p:cNvSpPr/>
          <p:nvPr/>
        </p:nvSpPr>
        <p:spPr>
          <a:xfrm rot="531600">
            <a:off x="3962160" y="2590920"/>
            <a:ext cx="574560" cy="51264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2640"/>
              <a:gd name="textAreaBottom" fmla="*/ 3956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1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49" name="Line 12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6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7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8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9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0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7" descr="0"/>
          <p:cNvPicPr/>
          <p:nvPr/>
        </p:nvPicPr>
        <p:blipFill>
          <a:blip r:embed="rId1"/>
          <a:stretch/>
        </p:blipFill>
        <p:spPr>
          <a:xfrm>
            <a:off x="468360" y="765000"/>
            <a:ext cx="5844960" cy="533412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206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AutoShape 2"/>
          <p:cNvSpPr/>
          <p:nvPr/>
        </p:nvSpPr>
        <p:spPr>
          <a:xfrm rot="531600">
            <a:off x="5028840" y="609480"/>
            <a:ext cx="574560" cy="51300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50920" y="1890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132000" y="260280"/>
            <a:ext cx="2592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Д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2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58" name="Picture 8" descr="C:\Users\Кобзев\Documents\Оля\Рисунки\заяц.jpg"/>
          <p:cNvPicPr/>
          <p:nvPr/>
        </p:nvPicPr>
        <p:blipFill>
          <a:blip r:embed="rId1"/>
          <a:stretch/>
        </p:blipFill>
        <p:spPr>
          <a:xfrm>
            <a:off x="3294000" y="2081160"/>
            <a:ext cx="1979640" cy="2911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C:\Users\Кобзев\Documents\Оля\Рисунки\заяц.jpg"/>
          <p:cNvPicPr/>
          <p:nvPr/>
        </p:nvPicPr>
        <p:blipFill>
          <a:blip r:embed="rId2"/>
          <a:stretch/>
        </p:blipFill>
        <p:spPr>
          <a:xfrm>
            <a:off x="5724360" y="2492280"/>
            <a:ext cx="1979640" cy="291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7" descr="2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62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AutoShape 2"/>
          <p:cNvSpPr/>
          <p:nvPr/>
        </p:nvSpPr>
        <p:spPr>
          <a:xfrm rot="531600">
            <a:off x="3200040" y="1752480"/>
            <a:ext cx="574560" cy="51300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50920" y="1890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3"/>
          <p:cNvSpPr txBox="1"/>
          <p:nvPr/>
        </p:nvSpPr>
        <p:spPr>
          <a:xfrm>
            <a:off x="2987640" y="260280"/>
            <a:ext cx="273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Т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3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72" name="Picture 10" descr="бабочка"/>
          <p:cNvPicPr/>
          <p:nvPr/>
        </p:nvPicPr>
        <p:blipFill>
          <a:blip r:embed="rId1"/>
          <a:stretch/>
        </p:blipFill>
        <p:spPr>
          <a:xfrm rot="19122000">
            <a:off x="6186600" y="457200"/>
            <a:ext cx="2381040" cy="2643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бабочка"/>
          <p:cNvPicPr/>
          <p:nvPr/>
        </p:nvPicPr>
        <p:blipFill>
          <a:blip r:embed="rId2"/>
          <a:stretch/>
        </p:blipFill>
        <p:spPr>
          <a:xfrm rot="20443800">
            <a:off x="5890680" y="3513240"/>
            <a:ext cx="2643480" cy="2381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бабочка"/>
          <p:cNvPicPr/>
          <p:nvPr/>
        </p:nvPicPr>
        <p:blipFill>
          <a:blip r:embed="rId3"/>
          <a:stretch/>
        </p:blipFill>
        <p:spPr>
          <a:xfrm rot="20828400">
            <a:off x="3478320" y="1731600"/>
            <a:ext cx="238104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9" descr="3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4136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2"/>
          <p:cNvSpPr/>
          <p:nvPr/>
        </p:nvSpPr>
        <p:spPr>
          <a:xfrm rot="531600">
            <a:off x="3580920" y="1295280"/>
            <a:ext cx="574920" cy="513000"/>
          </a:xfrm>
          <a:custGeom>
            <a:avLst/>
            <a:gdLst>
              <a:gd name="textAreaLeft" fmla="*/ 131040 w 574920"/>
              <a:gd name="textAreaRight" fmla="*/ 443880 w 57492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78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2556000" y="260280"/>
            <a:ext cx="41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ЧЕТЫР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4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87" name="Picture 8" descr="пингвинчик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140360" y="1700280"/>
            <a:ext cx="1830240" cy="239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пингвинчик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211640" y="4149720"/>
            <a:ext cx="1830240" cy="2394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пингвинчик1"/>
          <p:cNvPicPr/>
          <p:nvPr/>
        </p:nvPicPr>
        <p:blipFill>
          <a:blip r:embed="rId3"/>
          <a:stretch/>
        </p:blipFill>
        <p:spPr>
          <a:xfrm>
            <a:off x="6372360" y="1700280"/>
            <a:ext cx="1828800" cy="2395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пингвинчик1"/>
          <p:cNvPicPr/>
          <p:nvPr/>
        </p:nvPicPr>
        <p:blipFill>
          <a:blip r:embed="rId4"/>
          <a:stretch/>
        </p:blipFill>
        <p:spPr>
          <a:xfrm>
            <a:off x="6443640" y="4149720"/>
            <a:ext cx="1828800" cy="23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7" descr="4"/>
          <p:cNvPicPr/>
          <p:nvPr/>
        </p:nvPicPr>
        <p:blipFill>
          <a:blip r:embed="rId1"/>
          <a:stretch/>
        </p:blipFill>
        <p:spPr>
          <a:xfrm>
            <a:off x="468360" y="765000"/>
            <a:ext cx="5870520" cy="533412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6"/>
          <p:cNvGrpSpPr/>
          <p:nvPr/>
        </p:nvGrpSpPr>
        <p:grpSpPr>
          <a:xfrm>
            <a:off x="457200" y="762120"/>
            <a:ext cx="5867280" cy="5333760"/>
            <a:chOff x="457200" y="762120"/>
            <a:chExt cx="5867280" cy="5333760"/>
          </a:xfrm>
        </p:grpSpPr>
        <p:sp>
          <p:nvSpPr>
            <p:cNvPr id="93" name="Line 7"/>
            <p:cNvSpPr/>
            <p:nvPr/>
          </p:nvSpPr>
          <p:spPr>
            <a:xfrm>
              <a:off x="457200" y="76212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8"/>
            <p:cNvSpPr/>
            <p:nvPr/>
          </p:nvSpPr>
          <p:spPr>
            <a:xfrm>
              <a:off x="45720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9"/>
            <p:cNvSpPr/>
            <p:nvPr/>
          </p:nvSpPr>
          <p:spPr>
            <a:xfrm>
              <a:off x="457200" y="6095880"/>
              <a:ext cx="5867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>
              <a:off x="6324480" y="762120"/>
              <a:ext cx="0" cy="5333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>
              <a:off x="3429000" y="762120"/>
              <a:ext cx="0" cy="533376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2"/>
            <p:cNvSpPr/>
            <p:nvPr/>
          </p:nvSpPr>
          <p:spPr>
            <a:xfrm>
              <a:off x="457200" y="3352680"/>
              <a:ext cx="5867280" cy="0"/>
            </a:xfrm>
            <a:prstGeom prst="line">
              <a:avLst/>
            </a:prstGeom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2"/>
          <p:cNvSpPr/>
          <p:nvPr/>
        </p:nvSpPr>
        <p:spPr>
          <a:xfrm rot="531600">
            <a:off x="4419360" y="609480"/>
            <a:ext cx="574560" cy="51300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3000"/>
              <a:gd name="textAreaBottom" fmla="*/ 396000 h 5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 rot="531600">
            <a:off x="5714640" y="2362320"/>
            <a:ext cx="574560" cy="512640"/>
          </a:xfrm>
          <a:custGeom>
            <a:avLst/>
            <a:gdLst>
              <a:gd name="textAreaLeft" fmla="*/ 131040 w 574560"/>
              <a:gd name="textAreaRight" fmla="*/ 443520 w 574560"/>
              <a:gd name="textAreaTop" fmla="*/ 117000 h 512640"/>
              <a:gd name="textAreaBottom" fmla="*/ 395640 h 51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3132000" y="260280"/>
            <a:ext cx="2735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ПЯ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900000" y="1557360"/>
            <a:ext cx="165600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5</a:t>
            </a:r>
            <a:endParaRPr b="1" lang="en-US" sz="7200" spc="1" strike="noStrike">
              <a:ln w="38160">
                <a:solidFill>
                  <a:srgbClr val="00ccff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pic>
        <p:nvPicPr>
          <p:cNvPr id="104" name="Picture 7" descr="025347b94d58"/>
          <p:cNvPicPr/>
          <p:nvPr/>
        </p:nvPicPr>
        <p:blipFill>
          <a:blip r:embed="rId1"/>
          <a:stretch/>
        </p:blipFill>
        <p:spPr>
          <a:xfrm>
            <a:off x="6869160" y="1413000"/>
            <a:ext cx="1913040" cy="205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025347b94d58"/>
          <p:cNvPicPr/>
          <p:nvPr/>
        </p:nvPicPr>
        <p:blipFill>
          <a:blip r:embed="rId2"/>
          <a:stretch/>
        </p:blipFill>
        <p:spPr>
          <a:xfrm>
            <a:off x="7020000" y="4365720"/>
            <a:ext cx="1778040" cy="1914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025347b94d58"/>
          <p:cNvPicPr/>
          <p:nvPr/>
        </p:nvPicPr>
        <p:blipFill>
          <a:blip r:embed="rId3"/>
          <a:stretch/>
        </p:blipFill>
        <p:spPr>
          <a:xfrm>
            <a:off x="5572080" y="3068640"/>
            <a:ext cx="1778040" cy="1914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025347b94d58"/>
          <p:cNvPicPr/>
          <p:nvPr/>
        </p:nvPicPr>
        <p:blipFill>
          <a:blip r:embed="rId4"/>
          <a:stretch/>
        </p:blipFill>
        <p:spPr>
          <a:xfrm>
            <a:off x="4132440" y="1916280"/>
            <a:ext cx="1777680" cy="1914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025347b94d58"/>
          <p:cNvPicPr/>
          <p:nvPr/>
        </p:nvPicPr>
        <p:blipFill>
          <a:blip r:embed="rId5"/>
          <a:stretch/>
        </p:blipFill>
        <p:spPr>
          <a:xfrm>
            <a:off x="4140360" y="4292640"/>
            <a:ext cx="1777680" cy="19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5:26:48Z</dcterms:created>
  <dc:creator>Оксана Анатольевна</dc:creator>
  <dc:description/>
  <dc:language>en-US</dc:language>
  <cp:lastModifiedBy>Кобзев</cp:lastModifiedBy>
  <dcterms:modified xsi:type="dcterms:W3CDTF">2013-03-23T21:29:45Z</dcterms:modified>
  <cp:revision>10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