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wmf" ContentType="image/x-wmf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437-075F-4F8D-9F67-F7A1D100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9FC-A588-448F-B8F9-66BBFDC6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5F6-E137-4E39-AD2A-58B362FA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492-23C4-451C-810E-1E93E4A1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478-43E4-46A5-B499-6076350E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558-6148-4BC2-BD58-41856D29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7D0-5E61-4CE3-B1C2-16D09BA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45C9-D454-42BB-A177-53FE7AB8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795-7670-429A-8057-41C0D5E5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E30-99F1-4E85-9562-679FC31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05B-3ABF-4336-87A4-7D96404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A71-CA22-4BCC-B387-CE041E7E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FAE-3DA7-4A05-8637-E12CB6366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332000" y="162864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1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700360" y="26028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О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79280" y="255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Кобзев\Documents\Оля\Рисунки\Буратино.jpg"/>
          <p:cNvPicPr/>
          <p:nvPr/>
        </p:nvPicPr>
        <p:blipFill>
          <a:blip r:embed="rId1"/>
          <a:stretch/>
        </p:blipFill>
        <p:spPr>
          <a:xfrm>
            <a:off x="3780000" y="1521000"/>
            <a:ext cx="4174920" cy="41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6" descr="5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11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"/>
          <p:cNvSpPr/>
          <p:nvPr/>
        </p:nvSpPr>
        <p:spPr>
          <a:xfrm rot="531600">
            <a:off x="4038120" y="609480"/>
            <a:ext cx="574920" cy="51300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2771640" y="260280"/>
            <a:ext cx="396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ШЕ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155736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6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12" descr="УЛИТКА"/>
          <p:cNvPicPr/>
          <p:nvPr/>
        </p:nvPicPr>
        <p:blipFill>
          <a:blip r:embed="rId1"/>
          <a:stretch/>
        </p:blipFill>
        <p:spPr>
          <a:xfrm>
            <a:off x="2987640" y="1628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УЛИТКА"/>
          <p:cNvPicPr/>
          <p:nvPr/>
        </p:nvPicPr>
        <p:blipFill>
          <a:blip r:embed="rId2"/>
          <a:stretch/>
        </p:blipFill>
        <p:spPr>
          <a:xfrm>
            <a:off x="7020000" y="1628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УЛИТКА"/>
          <p:cNvPicPr/>
          <p:nvPr/>
        </p:nvPicPr>
        <p:blipFill>
          <a:blip r:embed="rId3"/>
          <a:stretch/>
        </p:blipFill>
        <p:spPr>
          <a:xfrm>
            <a:off x="5003640" y="1628640"/>
            <a:ext cx="1973520" cy="25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УЛИТКА"/>
          <p:cNvPicPr/>
          <p:nvPr/>
        </p:nvPicPr>
        <p:blipFill>
          <a:blip r:embed="rId4"/>
          <a:stretch/>
        </p:blipFill>
        <p:spPr>
          <a:xfrm>
            <a:off x="2987640" y="4149720"/>
            <a:ext cx="19731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УЛИТКА"/>
          <p:cNvPicPr/>
          <p:nvPr/>
        </p:nvPicPr>
        <p:blipFill>
          <a:blip r:embed="rId5"/>
          <a:stretch/>
        </p:blipFill>
        <p:spPr>
          <a:xfrm>
            <a:off x="5003640" y="4149720"/>
            <a:ext cx="197352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УЛИТКА"/>
          <p:cNvPicPr/>
          <p:nvPr/>
        </p:nvPicPr>
        <p:blipFill>
          <a:blip r:embed="rId6"/>
          <a:stretch/>
        </p:blipFill>
        <p:spPr>
          <a:xfrm>
            <a:off x="7020000" y="4149720"/>
            <a:ext cx="19731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6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7451640" y="5950080"/>
            <a:ext cx="720720" cy="69192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2499" h="21600">
                <a:moveTo>
                  <a:pt x="0" y="0"/>
                </a:moveTo>
                <a:lnTo>
                  <a:pt x="22499" y="0"/>
                </a:lnTo>
                <a:lnTo>
                  <a:pt x="22499" y="21600"/>
                </a:lnTo>
                <a:lnTo>
                  <a:pt x="0" y="21600"/>
                </a:lnTo>
                <a:close/>
              </a:path>
              <a:path fill="lightenLess" w="22499" h="21600">
                <a:moveTo>
                  <a:pt x="0" y="0"/>
                </a:moveTo>
                <a:lnTo>
                  <a:pt x="22499" y="0"/>
                </a:lnTo>
                <a:lnTo>
                  <a:pt x="21099" y="1400"/>
                </a:lnTo>
                <a:lnTo>
                  <a:pt x="1400" y="1400"/>
                </a:lnTo>
                <a:close/>
              </a:path>
              <a:path fill="darken" w="22499" h="21600">
                <a:moveTo>
                  <a:pt x="22499" y="0"/>
                </a:moveTo>
                <a:lnTo>
                  <a:pt x="22499" y="21600"/>
                </a:lnTo>
                <a:lnTo>
                  <a:pt x="21099" y="20200"/>
                </a:lnTo>
                <a:lnTo>
                  <a:pt x="21099" y="1400"/>
                </a:lnTo>
                <a:close/>
              </a:path>
              <a:path fill="darkenLess" w="22499" h="21600">
                <a:moveTo>
                  <a:pt x="22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9" y="20200"/>
                </a:lnTo>
                <a:close/>
              </a:path>
              <a:path fill="lighten" w="22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9" h="21600">
                <a:moveTo>
                  <a:pt x="11249" y="3837"/>
                </a:moveTo>
                <a:lnTo>
                  <a:pt x="13826" y="6448"/>
                </a:lnTo>
                <a:lnTo>
                  <a:pt x="13826" y="4707"/>
                </a:lnTo>
                <a:lnTo>
                  <a:pt x="15601" y="4707"/>
                </a:lnTo>
                <a:lnTo>
                  <a:pt x="15601" y="8224"/>
                </a:lnTo>
                <a:lnTo>
                  <a:pt x="18212" y="10800"/>
                </a:lnTo>
                <a:lnTo>
                  <a:pt x="16559" y="10800"/>
                </a:lnTo>
                <a:lnTo>
                  <a:pt x="16559" y="17989"/>
                </a:lnTo>
                <a:lnTo>
                  <a:pt x="5940" y="17989"/>
                </a:lnTo>
                <a:lnTo>
                  <a:pt x="5940" y="10800"/>
                </a:lnTo>
                <a:lnTo>
                  <a:pt x="4286" y="10800"/>
                </a:lnTo>
                <a:close/>
              </a:path>
              <a:path fill="darkenLess" w="22499" h="21600">
                <a:moveTo>
                  <a:pt x="13826" y="6448"/>
                </a:moveTo>
                <a:lnTo>
                  <a:pt x="13826" y="4707"/>
                </a:lnTo>
                <a:lnTo>
                  <a:pt x="15601" y="4707"/>
                </a:lnTo>
                <a:lnTo>
                  <a:pt x="15601" y="8224"/>
                </a:lnTo>
                <a:close/>
              </a:path>
              <a:path fill="darkenLess" w="22499" h="21600">
                <a:moveTo>
                  <a:pt x="10327" y="14299"/>
                </a:moveTo>
                <a:lnTo>
                  <a:pt x="12172" y="14299"/>
                </a:lnTo>
                <a:lnTo>
                  <a:pt x="12172" y="17989"/>
                </a:lnTo>
                <a:lnTo>
                  <a:pt x="16559" y="17989"/>
                </a:lnTo>
                <a:lnTo>
                  <a:pt x="16559" y="10800"/>
                </a:lnTo>
                <a:lnTo>
                  <a:pt x="5940" y="10800"/>
                </a:lnTo>
                <a:lnTo>
                  <a:pt x="5940" y="17989"/>
                </a:lnTo>
                <a:lnTo>
                  <a:pt x="1032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651672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7493"/>
                </a:moveTo>
                <a:lnTo>
                  <a:pt x="8398" y="7493"/>
                </a:lnTo>
                <a:lnTo>
                  <a:pt x="8398" y="12828"/>
                </a:lnTo>
                <a:cubicBezTo>
                  <a:pt x="8398" y="13751"/>
                  <a:pt x="9199" y="14482"/>
                  <a:pt x="10235" y="14482"/>
                </a:cubicBezTo>
                <a:lnTo>
                  <a:pt x="11897" y="14482"/>
                </a:lnTo>
                <a:cubicBezTo>
                  <a:pt x="12933" y="14482"/>
                  <a:pt x="13734" y="13751"/>
                  <a:pt x="13734" y="12828"/>
                </a:cubicBezTo>
                <a:lnTo>
                  <a:pt x="13734" y="7493"/>
                </a:lnTo>
                <a:lnTo>
                  <a:pt x="11897" y="7493"/>
                </a:lnTo>
                <a:lnTo>
                  <a:pt x="15405" y="3985"/>
                </a:lnTo>
                <a:lnTo>
                  <a:pt x="19078" y="7493"/>
                </a:lnTo>
                <a:lnTo>
                  <a:pt x="17241" y="7493"/>
                </a:lnTo>
                <a:lnTo>
                  <a:pt x="17241" y="12828"/>
                </a:lnTo>
                <a:cubicBezTo>
                  <a:pt x="17241" y="15596"/>
                  <a:pt x="14665" y="18155"/>
                  <a:pt x="11897" y="18155"/>
                </a:cubicBezTo>
                <a:lnTo>
                  <a:pt x="10235" y="18155"/>
                </a:lnTo>
                <a:cubicBezTo>
                  <a:pt x="7467" y="18155"/>
                  <a:pt x="4891" y="15596"/>
                  <a:pt x="48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31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2"/>
          <p:cNvSpPr/>
          <p:nvPr/>
        </p:nvSpPr>
        <p:spPr>
          <a:xfrm rot="531600">
            <a:off x="5866920" y="1447920"/>
            <a:ext cx="574920" cy="51264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EN"/>
          <p:cNvPicPr/>
          <p:nvPr/>
        </p:nvPicPr>
        <p:blipFill>
          <a:blip r:embed="rId2"/>
          <a:stretch/>
        </p:blipFill>
        <p:spPr>
          <a:xfrm rot="478200">
            <a:off x="7358040" y="2212560"/>
            <a:ext cx="1441440" cy="2656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>
            <a:hlinkClick r:id="" action="ppaction://hlinkshowjump?jump=endshow"/>
          </p:cNvPr>
          <p:cNvSpPr/>
          <p:nvPr/>
        </p:nvSpPr>
        <p:spPr>
          <a:xfrm>
            <a:off x="8244000" y="5950080"/>
            <a:ext cx="755640" cy="7189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2703" h="21600">
                <a:moveTo>
                  <a:pt x="0" y="0"/>
                </a:moveTo>
                <a:lnTo>
                  <a:pt x="22703" y="0"/>
                </a:lnTo>
                <a:lnTo>
                  <a:pt x="22703" y="21600"/>
                </a:lnTo>
                <a:lnTo>
                  <a:pt x="0" y="21600"/>
                </a:lnTo>
                <a:close/>
              </a:path>
              <a:path fill="lightenLess" w="22703" h="21600">
                <a:moveTo>
                  <a:pt x="0" y="0"/>
                </a:moveTo>
                <a:lnTo>
                  <a:pt x="22703" y="0"/>
                </a:lnTo>
                <a:lnTo>
                  <a:pt x="21303" y="1400"/>
                </a:lnTo>
                <a:lnTo>
                  <a:pt x="1400" y="1400"/>
                </a:lnTo>
                <a:close/>
              </a:path>
              <a:path fill="darken" w="22703" h="21600">
                <a:moveTo>
                  <a:pt x="22703" y="0"/>
                </a:moveTo>
                <a:lnTo>
                  <a:pt x="22703" y="21600"/>
                </a:lnTo>
                <a:lnTo>
                  <a:pt x="21303" y="20200"/>
                </a:lnTo>
                <a:lnTo>
                  <a:pt x="21303" y="1400"/>
                </a:lnTo>
                <a:close/>
              </a:path>
              <a:path fill="darkenLess" w="22703" h="21600">
                <a:moveTo>
                  <a:pt x="22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3" y="20200"/>
                </a:lnTo>
                <a:close/>
              </a:path>
              <a:path fill="lighten" w="22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Times New Roman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3.06358E-006 L -0.11684 -0.44902 E">
                                      <p:cBhvr>
                                        <p:cTn id="180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51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1684 -0.44925 L -0.13611 -0.51353 C -0.15139 -0.54682 -0.15851 -0.5496 -0.1717 -0.55838 C -0.18525 -0.5681 -0.19948 -0.57388 -0.21736 -0.57203 C -0.23525 -0.57018 -0.25469 -0.56625 -0.27917 -0.54752 C -0.30365 -0.54081 -0.35174 -0.47492 -0.36389 -0.46012 L -0.425 -0.33827 L -0.45886 -0.22035 L -0.47917 -0.08047 L -0.47587 0.01896 L -0.45469 0.10057 L -0.40973 0.16115 L -0.35886 0.17688 L -0.30122 0.17688 L -0.25886 0.16115 E">
                                      <p:cBhvr>
                                        <p:cTn id="183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86 0.16115 L -0.20764 0.11884 L -0.18559 0.08716 C -0.17934 0.07907 -0.16702 0.06589 -0.15973 0.05318 C -0.15087 0.0356 -0.13854 0.00693 -0.13264 -0.01896 C -0.12587 -0.05064 -0.12604 -0.07862 -0.12448 -0.10243 L -0.13646 -0.19052 L -0.17535 -0.25827 L -0.22622 -0.2807 L -0.30087 -0.28763 L -0.36337 -0.26035 L -0.40226 -0.2289 L -0.44809 -0.15885 L -0.48351 -0.06867 E">
                                      <p:cBhvr>
                                        <p:cTn id="186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8351 -0.06867 L 0.00816 -0.02729 E">
                                      <p:cBhvr>
                                        <p:cTn id="18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4840" y="49068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2411280" y="26028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СЕМ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755640" y="155736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7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43" name="Picture 12" descr="C:\Users\Кобзев\Documents\Оля\Рисунки\гномик синяк.jpg"/>
          <p:cNvPicPr/>
          <p:nvPr/>
        </p:nvPicPr>
        <p:blipFill>
          <a:blip r:embed="rId1"/>
          <a:stretch/>
        </p:blipFill>
        <p:spPr>
          <a:xfrm>
            <a:off x="3132000" y="1785960"/>
            <a:ext cx="1289160" cy="1868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C:\Users\Кобзев\Documents\Оля\Рисунки\гномик синяк.jpg"/>
          <p:cNvPicPr/>
          <p:nvPr/>
        </p:nvPicPr>
        <p:blipFill>
          <a:blip r:embed="rId2"/>
          <a:stretch/>
        </p:blipFill>
        <p:spPr>
          <a:xfrm>
            <a:off x="5502240" y="2720880"/>
            <a:ext cx="976320" cy="141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C:\Users\Кобзев\Documents\Оля\Рисунки\гномик синяк.jpg"/>
          <p:cNvPicPr/>
          <p:nvPr/>
        </p:nvPicPr>
        <p:blipFill>
          <a:blip r:embed="rId3"/>
          <a:stretch/>
        </p:blipFill>
        <p:spPr>
          <a:xfrm>
            <a:off x="3276720" y="3760920"/>
            <a:ext cx="1212840" cy="17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C:\Users\Кобзев\Documents\Оля\Рисунки\гномик синяк.jpg"/>
          <p:cNvPicPr/>
          <p:nvPr/>
        </p:nvPicPr>
        <p:blipFill>
          <a:blip r:embed="rId4"/>
          <a:stretch/>
        </p:blipFill>
        <p:spPr>
          <a:xfrm>
            <a:off x="5051520" y="4365720"/>
            <a:ext cx="1112760" cy="161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C:\Users\Кобзев\Documents\Оля\Рисунки\гномик синяк.jpg"/>
          <p:cNvPicPr/>
          <p:nvPr/>
        </p:nvPicPr>
        <p:blipFill>
          <a:blip r:embed="rId5"/>
          <a:stretch/>
        </p:blipFill>
        <p:spPr>
          <a:xfrm>
            <a:off x="6084720" y="1060560"/>
            <a:ext cx="1001880" cy="1452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C:\Users\Кобзев\Documents\Оля\Рисунки\гномик синяк.jpg"/>
          <p:cNvPicPr/>
          <p:nvPr/>
        </p:nvPicPr>
        <p:blipFill>
          <a:blip r:embed="rId6"/>
          <a:stretch/>
        </p:blipFill>
        <p:spPr>
          <a:xfrm>
            <a:off x="7466040" y="2604960"/>
            <a:ext cx="1022400" cy="14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C:\Users\Кобзев\Documents\Оля\Рисунки\гномик синяк.jpg"/>
          <p:cNvPicPr/>
          <p:nvPr/>
        </p:nvPicPr>
        <p:blipFill>
          <a:blip r:embed="rId7"/>
          <a:stretch/>
        </p:blipFill>
        <p:spPr>
          <a:xfrm>
            <a:off x="7078680" y="4869000"/>
            <a:ext cx="914400" cy="132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7" descr="7"/>
          <p:cNvPicPr/>
          <p:nvPr/>
        </p:nvPicPr>
        <p:blipFill>
          <a:blip r:embed="rId1"/>
          <a:stretch/>
        </p:blipFill>
        <p:spPr>
          <a:xfrm>
            <a:off x="468360" y="765000"/>
            <a:ext cx="5846760" cy="5334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"/>
          <p:cNvSpPr/>
          <p:nvPr/>
        </p:nvSpPr>
        <p:spPr>
          <a:xfrm rot="531600">
            <a:off x="2819160" y="12952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53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14"/>
          <p:cNvSpPr/>
          <p:nvPr/>
        </p:nvSpPr>
        <p:spPr>
          <a:xfrm rot="531600">
            <a:off x="3733560" y="320040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2627280" y="18900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ОСЕМ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8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19" descr="птица"/>
          <p:cNvPicPr/>
          <p:nvPr/>
        </p:nvPicPr>
        <p:blipFill>
          <a:blip r:embed="rId1"/>
          <a:stretch/>
        </p:blipFill>
        <p:spPr>
          <a:xfrm>
            <a:off x="7164360" y="479736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птица"/>
          <p:cNvPicPr/>
          <p:nvPr/>
        </p:nvPicPr>
        <p:blipFill>
          <a:blip r:embed="rId2"/>
          <a:stretch/>
        </p:blipFill>
        <p:spPr>
          <a:xfrm>
            <a:off x="7164360" y="321300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птица"/>
          <p:cNvPicPr/>
          <p:nvPr/>
        </p:nvPicPr>
        <p:blipFill>
          <a:blip r:embed="rId3"/>
          <a:stretch/>
        </p:blipFill>
        <p:spPr>
          <a:xfrm>
            <a:off x="7164360" y="1773360"/>
            <a:ext cx="1700280" cy="180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птица"/>
          <p:cNvPicPr/>
          <p:nvPr/>
        </p:nvPicPr>
        <p:blipFill>
          <a:blip r:embed="rId4"/>
          <a:stretch/>
        </p:blipFill>
        <p:spPr>
          <a:xfrm>
            <a:off x="7164360" y="26028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птица"/>
          <p:cNvPicPr/>
          <p:nvPr/>
        </p:nvPicPr>
        <p:blipFill>
          <a:blip r:embed="rId5"/>
          <a:stretch/>
        </p:blipFill>
        <p:spPr>
          <a:xfrm>
            <a:off x="5580000" y="285264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птица"/>
          <p:cNvPicPr/>
          <p:nvPr/>
        </p:nvPicPr>
        <p:blipFill>
          <a:blip r:embed="rId6"/>
          <a:stretch/>
        </p:blipFill>
        <p:spPr>
          <a:xfrm>
            <a:off x="5580000" y="126828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птица"/>
          <p:cNvPicPr/>
          <p:nvPr/>
        </p:nvPicPr>
        <p:blipFill>
          <a:blip r:embed="rId7"/>
          <a:stretch/>
        </p:blipFill>
        <p:spPr>
          <a:xfrm>
            <a:off x="5580000" y="465300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птица"/>
          <p:cNvPicPr/>
          <p:nvPr/>
        </p:nvPicPr>
        <p:blipFill>
          <a:blip r:embed="rId8"/>
          <a:stretch/>
        </p:blipFill>
        <p:spPr>
          <a:xfrm>
            <a:off x="3995640" y="3573360"/>
            <a:ext cx="17002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8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"/>
          <p:cNvSpPr/>
          <p:nvPr/>
        </p:nvSpPr>
        <p:spPr>
          <a:xfrm rot="531600">
            <a:off x="3809520" y="1676520"/>
            <a:ext cx="574920" cy="51264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74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9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556000" y="189000"/>
            <a:ext cx="39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ДЕВ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83" name="Picture 19" descr="БОЖЬЯ КОРОВКА"/>
          <p:cNvPicPr/>
          <p:nvPr/>
        </p:nvPicPr>
        <p:blipFill>
          <a:blip r:embed="rId1"/>
          <a:stretch/>
        </p:blipFill>
        <p:spPr>
          <a:xfrm>
            <a:off x="7236000" y="4941720"/>
            <a:ext cx="1692000" cy="1743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БОЖЬЯ КОРОВКА"/>
          <p:cNvPicPr/>
          <p:nvPr/>
        </p:nvPicPr>
        <p:blipFill>
          <a:blip r:embed="rId2"/>
          <a:stretch/>
        </p:blipFill>
        <p:spPr>
          <a:xfrm>
            <a:off x="7236000" y="3500280"/>
            <a:ext cx="169200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БОЖЬЯ КОРОВКА"/>
          <p:cNvPicPr/>
          <p:nvPr/>
        </p:nvPicPr>
        <p:blipFill>
          <a:blip r:embed="rId3"/>
          <a:stretch/>
        </p:blipFill>
        <p:spPr>
          <a:xfrm>
            <a:off x="7164360" y="1773360"/>
            <a:ext cx="1763640" cy="1815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БОЖЬЯ КОРОВКА"/>
          <p:cNvPicPr/>
          <p:nvPr/>
        </p:nvPicPr>
        <p:blipFill>
          <a:blip r:embed="rId4"/>
          <a:stretch/>
        </p:blipFill>
        <p:spPr>
          <a:xfrm>
            <a:off x="7164360" y="189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БОЖЬЯ КОРОВКА"/>
          <p:cNvPicPr/>
          <p:nvPr/>
        </p:nvPicPr>
        <p:blipFill>
          <a:blip r:embed="rId5"/>
          <a:stretch/>
        </p:blipFill>
        <p:spPr>
          <a:xfrm>
            <a:off x="5508720" y="4869000"/>
            <a:ext cx="1692360" cy="1742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БОЖЬЯ КОРОВКА"/>
          <p:cNvPicPr/>
          <p:nvPr/>
        </p:nvPicPr>
        <p:blipFill>
          <a:blip r:embed="rId6"/>
          <a:stretch/>
        </p:blipFill>
        <p:spPr>
          <a:xfrm>
            <a:off x="5435640" y="314172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БОЖЬЯ КОРОВКА"/>
          <p:cNvPicPr/>
          <p:nvPr/>
        </p:nvPicPr>
        <p:blipFill>
          <a:blip r:embed="rId7"/>
          <a:stretch/>
        </p:blipFill>
        <p:spPr>
          <a:xfrm>
            <a:off x="5219640" y="1413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БОЖЬЯ КОРОВКА"/>
          <p:cNvPicPr/>
          <p:nvPr/>
        </p:nvPicPr>
        <p:blipFill>
          <a:blip r:embed="rId8"/>
          <a:stretch/>
        </p:blipFill>
        <p:spPr>
          <a:xfrm>
            <a:off x="3492360" y="2205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БОЖЬЯ КОРОВКА"/>
          <p:cNvPicPr/>
          <p:nvPr/>
        </p:nvPicPr>
        <p:blipFill>
          <a:blip r:embed="rId9"/>
          <a:stretch/>
        </p:blipFill>
        <p:spPr>
          <a:xfrm>
            <a:off x="3635280" y="4221000"/>
            <a:ext cx="16923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9"/>
          <p:cNvPicPr/>
          <p:nvPr/>
        </p:nvPicPr>
        <p:blipFill>
          <a:blip r:embed="rId1"/>
          <a:stretch/>
        </p:blipFill>
        <p:spPr>
          <a:xfrm>
            <a:off x="468360" y="765000"/>
            <a:ext cx="586404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94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 rot="531600">
            <a:off x="5790960" y="22096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771640" y="33336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НУ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0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1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 rot="531600">
            <a:off x="3962160" y="259092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1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49" name="Line 12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6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7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9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0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7" descr="0"/>
          <p:cNvPicPr/>
          <p:nvPr/>
        </p:nvPicPr>
        <p:blipFill>
          <a:blip r:embed="rId1"/>
          <a:stretch/>
        </p:blipFill>
        <p:spPr>
          <a:xfrm>
            <a:off x="468360" y="765000"/>
            <a:ext cx="5844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206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2"/>
          <p:cNvSpPr/>
          <p:nvPr/>
        </p:nvSpPr>
        <p:spPr>
          <a:xfrm rot="531600">
            <a:off x="5028840" y="609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132000" y="26028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Д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2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8" descr="C:\Users\Кобзев\Documents\Оля\Рисунки\заяц.jpg"/>
          <p:cNvPicPr/>
          <p:nvPr/>
        </p:nvPicPr>
        <p:blipFill>
          <a:blip r:embed="rId1"/>
          <a:stretch/>
        </p:blipFill>
        <p:spPr>
          <a:xfrm>
            <a:off x="3294000" y="2081160"/>
            <a:ext cx="1979640" cy="2911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Users\Кобзев\Documents\Оля\Рисунки\заяц.jpg"/>
          <p:cNvPicPr/>
          <p:nvPr/>
        </p:nvPicPr>
        <p:blipFill>
          <a:blip r:embed="rId2"/>
          <a:stretch/>
        </p:blipFill>
        <p:spPr>
          <a:xfrm>
            <a:off x="5724360" y="2492280"/>
            <a:ext cx="1979640" cy="29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2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62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"/>
          <p:cNvSpPr/>
          <p:nvPr/>
        </p:nvSpPr>
        <p:spPr>
          <a:xfrm rot="531600">
            <a:off x="3200040" y="1752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2987640" y="260280"/>
            <a:ext cx="27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Т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3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Picture 10" descr="бабочка"/>
          <p:cNvPicPr/>
          <p:nvPr/>
        </p:nvPicPr>
        <p:blipFill>
          <a:blip r:embed="rId1"/>
          <a:stretch/>
        </p:blipFill>
        <p:spPr>
          <a:xfrm rot="19122000">
            <a:off x="6186600" y="457200"/>
            <a:ext cx="2381040" cy="2643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бабочка"/>
          <p:cNvPicPr/>
          <p:nvPr/>
        </p:nvPicPr>
        <p:blipFill>
          <a:blip r:embed="rId2"/>
          <a:stretch/>
        </p:blipFill>
        <p:spPr>
          <a:xfrm rot="20443800">
            <a:off x="5890680" y="3513240"/>
            <a:ext cx="2643480" cy="238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бабочка"/>
          <p:cNvPicPr/>
          <p:nvPr/>
        </p:nvPicPr>
        <p:blipFill>
          <a:blip r:embed="rId3"/>
          <a:stretch/>
        </p:blipFill>
        <p:spPr>
          <a:xfrm rot="20828400">
            <a:off x="3478320" y="1731600"/>
            <a:ext cx="23810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9" descr="3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4136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 rot="531600">
            <a:off x="3580920" y="1295280"/>
            <a:ext cx="574920" cy="51300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78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556000" y="26028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ЧЕТЫ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4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icture 8" descr="пингвинчик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140360" y="1700280"/>
            <a:ext cx="1830240" cy="239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пингвинчик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11640" y="4149720"/>
            <a:ext cx="1830240" cy="239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пингвинчик1"/>
          <p:cNvPicPr/>
          <p:nvPr/>
        </p:nvPicPr>
        <p:blipFill>
          <a:blip r:embed="rId3"/>
          <a:stretch/>
        </p:blipFill>
        <p:spPr>
          <a:xfrm>
            <a:off x="6372360" y="1700280"/>
            <a:ext cx="1828800" cy="239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пингвинчик1"/>
          <p:cNvPicPr/>
          <p:nvPr/>
        </p:nvPicPr>
        <p:blipFill>
          <a:blip r:embed="rId4"/>
          <a:stretch/>
        </p:blipFill>
        <p:spPr>
          <a:xfrm>
            <a:off x="6443640" y="4149720"/>
            <a:ext cx="182880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4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93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2"/>
          <p:cNvSpPr/>
          <p:nvPr/>
        </p:nvSpPr>
        <p:spPr>
          <a:xfrm rot="531600">
            <a:off x="4419360" y="609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531600">
            <a:off x="5714640" y="236232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132000" y="260280"/>
            <a:ext cx="2735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П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5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7" descr="025347b94d58"/>
          <p:cNvPicPr/>
          <p:nvPr/>
        </p:nvPicPr>
        <p:blipFill>
          <a:blip r:embed="rId1"/>
          <a:stretch/>
        </p:blipFill>
        <p:spPr>
          <a:xfrm>
            <a:off x="6869160" y="1413000"/>
            <a:ext cx="19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025347b94d58"/>
          <p:cNvPicPr/>
          <p:nvPr/>
        </p:nvPicPr>
        <p:blipFill>
          <a:blip r:embed="rId2"/>
          <a:stretch/>
        </p:blipFill>
        <p:spPr>
          <a:xfrm>
            <a:off x="7020000" y="4365720"/>
            <a:ext cx="1778040" cy="191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025347b94d58"/>
          <p:cNvPicPr/>
          <p:nvPr/>
        </p:nvPicPr>
        <p:blipFill>
          <a:blip r:embed="rId3"/>
          <a:stretch/>
        </p:blipFill>
        <p:spPr>
          <a:xfrm>
            <a:off x="5572080" y="3068640"/>
            <a:ext cx="177804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025347b94d58"/>
          <p:cNvPicPr/>
          <p:nvPr/>
        </p:nvPicPr>
        <p:blipFill>
          <a:blip r:embed="rId4"/>
          <a:stretch/>
        </p:blipFill>
        <p:spPr>
          <a:xfrm>
            <a:off x="4132440" y="1916280"/>
            <a:ext cx="177768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025347b94d58"/>
          <p:cNvPicPr/>
          <p:nvPr/>
        </p:nvPicPr>
        <p:blipFill>
          <a:blip r:embed="rId5"/>
          <a:stretch/>
        </p:blipFill>
        <p:spPr>
          <a:xfrm>
            <a:off x="4140360" y="4292640"/>
            <a:ext cx="177768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5:26:48Z</dcterms:created>
  <dc:creator>Оксана Анатольевна</dc:creator>
  <dc:description/>
  <dc:language>en-US</dc:language>
  <cp:lastModifiedBy>Кобзев</cp:lastModifiedBy>
  <dcterms:modified xsi:type="dcterms:W3CDTF">2013-03-23T21:29:4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