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9E7-903A-4080-8D6E-3FA63057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580-659F-4245-BF4F-E6A8A6AD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152-13C5-4E2A-B1F8-19C23622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98E-8530-484E-BA5D-7F78FA72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4136-E8DD-4011-B967-4CFECCFB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99D2-6A68-48AE-B79F-4610A8E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CCAB-B799-4952-95BA-89F64BC0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BC74-E16B-4E50-9096-29FA2B1B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7FFE-0A98-4333-98DA-7BF2A4DE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C51A-B895-46E3-A651-69F73991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CB4D-AC0B-4D7E-BE13-D83EC2F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2A7-94AE-4E67-AAF8-1358212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B834-0367-4C46-9A10-C7ACD0D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F827-AF39-4735-BE03-77890E5B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B878-C7D3-44AB-9AA3-05333764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4433-5AE8-4BEC-96F4-E56F258D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79AC-253D-408E-BB24-4AE58B6E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A1E-EFF2-4675-8062-8DCC02A2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50A-9BF8-44C0-A927-C4D88491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346-3A96-4B52-8D31-B29B2411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2E7-361E-4E17-B248-90179595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131-B0D0-4C43-A337-68F1660B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471-6791-406A-8B50-D57F98C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5F9-CD0D-4CB8-AF5A-C7E033F4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FF5B-B2DF-4162-94FF-70791D5EA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8496-4446-4B95-974E-F4FCB1754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91856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99"/>
                </a:solidFill>
                <a:latin typeface="Blackadder ITC"/>
              </a:rPr>
              <a:t>ЭЛЕКТРИЧЕСКАЯ </a:t>
            </a:r>
            <a:br>
              <a:rPr sz="6600"/>
            </a:br>
            <a:r>
              <a:rPr b="0" lang="en-US" sz="6600" spc="-1" strike="noStrike">
                <a:solidFill>
                  <a:srgbClr val="cc0099"/>
                </a:solidFill>
                <a:latin typeface="Blackadder ITC"/>
              </a:rPr>
              <a:t>ЦЕПЬ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полнила ученица 8 класса Полтевской средней школы Усачёва Евг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ША ЛАБОРАТОРНАЯ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РАБОТ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362800" cy="13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ЭЛЕКТРИЧЕСКОЙ ЦЕП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20" y="1682640"/>
            <a:ext cx="91044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КЛЮЧ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НИЗКОВОЛЬТНАЯ ЛАМПА НА ПОДСТАВК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СОЕДИНИТЕЛЬНЫЕ ПРОВО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РЕЗИСТО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Измерение силы тока в цеп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ЭТО НУЖНО ЗАПОМНИ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Электрическая схема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– чертеж, на котором изображены способы соединения электрических приборов в цепь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4537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0:13:45Z</dcterms:created>
  <dc:creator>Admin</dc:creator>
  <dc:description/>
  <dc:language>en-US</dc:language>
  <cp:lastModifiedBy>Admin</cp:lastModifiedBy>
  <dcterms:modified xsi:type="dcterms:W3CDTF">2013-03-24T07:36:11Z</dcterms:modified>
  <cp:revision>3</cp:revision>
  <dc:subject/>
  <dc:title>ЭЛЕКТРИЧЕСКАЯ  ЦЕПЬ</dc:title>
</cp:coreProperties>
</file>