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2BD-CE2F-404B-A9F7-20945F46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86A-9FD5-4FEA-A810-83E66FB6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711-9672-4ED7-9FB6-4F411404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8EF-4B21-4EA1-973E-86BB4D8A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981A-19C6-4C6A-81C2-58403EB4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055-B417-4232-B708-8D8FA707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A2E5-BAAC-4C91-8C0B-1695646D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BE2A-5C21-4C83-A05F-91C33DC7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9BA4-B1CD-4491-BEBA-24C7351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116F-28EC-4848-BD7B-7F1BB956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858B-DDA5-42DE-B8F8-8BF354E6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A56-B8BA-49F8-BF37-960B72C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C40-3957-45EC-B08F-F46CB88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FCC5-5E44-40F8-98F6-2D6F4CCF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E690-387E-4FB7-B9F5-2384092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5218-02DD-4F6C-8474-40EF2E47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E474-3D24-4016-B91A-BA29050E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7B4-646D-4A54-BEFE-A6FC98D1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F92-A2EE-43BA-9398-64CF7C78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0A1-286F-46C3-B93D-FCAEFFD8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7FA-8A84-494F-8E21-B334C11B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AAA-1351-4053-9CD0-E3B7FC3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CC6-E72C-42CF-AB30-E0672B2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8A8-44F5-434F-A6B2-4B50697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177-DE52-44D2-9DA7-C4E69D07B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09F-2868-4FB4-8571-DB2065ECF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185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99"/>
                </a:solidFill>
                <a:latin typeface="Blackadder ITC"/>
              </a:rPr>
              <a:t>ЭЛЕКТРИЧЕСКАЯ </a:t>
            </a:r>
            <a:br>
              <a:rPr sz="6600"/>
            </a:br>
            <a:r>
              <a:rPr b="0" lang="en-US" sz="6600" spc="-1" strike="noStrike">
                <a:solidFill>
                  <a:srgbClr val="cc0099"/>
                </a:solidFill>
                <a:latin typeface="Blackadder ITC"/>
              </a:rPr>
              <a:t>ЦЕПЬ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полнила ученица 8 класса Полтевской средней школы Усачёва Евг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ША ЛАБОРАТОРНАЯ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РАБОТ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362800" cy="13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ЭЛЕКТРИЧЕСКОЙ ЦЕП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20" y="1682640"/>
            <a:ext cx="91044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КЛЮ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НИЗКОВОЛЬТНАЯ ЛАМПА НА ПОДСТАВ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СОЕДИНИТЕЛЬНЫЕ ПРОВО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РЕЗИСТО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Измерение силы тока в цеп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ЭТО НУЖНО ЗАПОМНИ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лектрическая схема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– чертеж, на котором изображены способы соединения электрических приборов в цеп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0:13:45Z</dcterms:created>
  <dc:creator>Admin</dc:creator>
  <dc:description/>
  <dc:language>en-US</dc:language>
  <cp:lastModifiedBy>Admin</cp:lastModifiedBy>
  <dcterms:modified xsi:type="dcterms:W3CDTF">2013-03-24T07:36:11Z</dcterms:modified>
  <cp:revision>3</cp:revision>
  <dc:subject/>
  <dc:title>ЭЛЕКТРИЧЕСКАЯ  ЦЕПЬ</dc:title>
</cp:coreProperties>
</file>