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C1E-B820-41A2-A892-7FADAD9E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E99-A5B0-4CFC-8B99-F528B5A1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91E-59E1-4AF8-A58E-598B1638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524-641A-4BC7-A86E-70F74CB5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07F9-EC38-4EC6-89D5-0EDB96AA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A3AF-F88E-4A2B-9762-F606585D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392-F396-4E71-B403-DCB50AC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0576-0DFF-4FFE-84AD-4E3EE1DC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A2AD-36FE-43AE-8562-050E883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DB79-5F57-4F63-A186-55323D68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EFA-9A3F-4446-8B3B-5A78191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22D4-6433-4AED-9120-B03D52E0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905B-4343-4D98-A865-47CB2CF5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EBE6-8316-44B5-852F-94B8352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884-516A-41C2-A027-D9661DC8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BFC5-544A-4A2F-BC9E-7FD1D431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3E08-015F-47E3-ACAA-364E413B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CD0-17CD-42C6-A441-D4A32B0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757-646E-45C3-9993-11AC3ED0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480-02C8-4CA4-8F37-DCFEFFE6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C7F-1D0C-43B1-AC33-9120675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F74-972A-460F-8826-0E5117D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341-8948-44AF-B478-A12F863D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F99-CA7E-4220-A6A1-5BF8946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F163-18D6-4D17-A8BB-7CD543A6E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F5A-A545-45CF-AC58-B2BCA3AC5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24.jpeg"/><Relationship Id="rId7" Type="http://schemas.openxmlformats.org/officeDocument/2006/relationships/image" Target="../media/image32.jpeg"/><Relationship Id="rId8" Type="http://schemas.openxmlformats.org/officeDocument/2006/relationships/image" Target="../media/image19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81080" y="2143080"/>
            <a:ext cx="6981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m Deutsch  herum - kreativer  Boom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lche Katzenrasse kann braungebrannt werd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Sphinx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st die einzige Katze, die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"schwitzt"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nd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braungebrannt wir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arüber hinaus ist durch die Haut eine besondere braune Substanz, die die Sphinxe schmutzig macht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lches Tier kann nicht spring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Elefant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ist   das   einzige Tier auf der Erde, das </a:t>
            </a:r>
            <a:r>
              <a:rPr b="0" lang="de-DE" sz="3600" spc="-1" strike="noStrike">
                <a:solidFill>
                  <a:srgbClr val="ff0066"/>
                </a:solidFill>
                <a:latin typeface="Arial"/>
              </a:rPr>
              <a:t>nicht springen kann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17960" y="3048120"/>
            <a:ext cx="3927600" cy="3047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191120" y="3079800"/>
            <a:ext cx="49528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Im Mai 2012 wurde es in Berliner Zoo geboren. Wer ist das? Wie heisst das Bab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42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m 8.Mai wurde ein </a:t>
            </a:r>
            <a:r>
              <a:rPr b="0" lang="de-DE" sz="2800" spc="-1" strike="noStrike">
                <a:solidFill>
                  <a:srgbClr val="ff0066"/>
                </a:solidFill>
                <a:latin typeface="Arial"/>
              </a:rPr>
              <a:t>Elefantenbaby  in Berliner Zoo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geboren. Es heißt Bulli. Sein Gewicht is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102 kg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 Es is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91 cm groß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5105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b7"/>
                </a:solidFill>
                <a:latin typeface="Arial Black"/>
              </a:rPr>
              <a:t>Welche Tiere wollen den Fluss überqueren?</a:t>
            </a:r>
            <a:br>
              <a:rPr sz="2400"/>
            </a:br>
            <a:r>
              <a:rPr b="1" lang="de-DE" sz="2000" spc="-1" strike="noStrike">
                <a:solidFill>
                  <a:srgbClr val="ff0066"/>
                </a:solidFill>
                <a:latin typeface="Arial Black"/>
              </a:rPr>
              <a:t>WOLFUCHSAUHUNKECHSENTERPELUCHSPERBEREHIRSCH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1905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WO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F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S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UN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CH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ERP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L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SPER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Re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Hirsch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666880" y="137160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095960" y="1371600"/>
            <a:ext cx="204804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10080" y="129528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324480" y="2819520"/>
            <a:ext cx="1914480" cy="142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7086600" y="403848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4648320" y="41911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2666880" y="542916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6477120" y="542916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In den folgenden Sätzen sind 10 Tiernamen versteckt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38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 steht ein Na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pf Erd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s Schiff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kam 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fwä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us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ti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er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ählt er über seine Abenteu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ier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in Ki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ese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lag am Str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rete muss in die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chu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isc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ha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lt ban</a:t>
            </a:r>
            <a:r>
              <a:rPr b="0" lang="de-DE" sz="2000" spc="-1" strike="noStrike">
                <a:solidFill>
                  <a:srgbClr val="ff0066"/>
                </a:solidFill>
                <a:latin typeface="Arial"/>
              </a:rPr>
              <a:t>g an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Uf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u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dem Ha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t einen Tannenba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1904760"/>
            <a:ext cx="457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fe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am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lef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uc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Lam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238880" y="2286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238880" y="37339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334120" y="4343400"/>
            <a:ext cx="200016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238880" y="51814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7238880" y="838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5257800" y="5562720"/>
            <a:ext cx="2048040" cy="142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3733920" y="5257800"/>
            <a:ext cx="160956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tretch/>
        </p:blipFill>
        <p:spPr>
          <a:xfrm>
            <a:off x="2666880" y="525780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78680" y="32457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e kann ein Elefant Wasser finden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2819520"/>
            <a:ext cx="6877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ie kann ein Elefant Wasser finden?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Das Projekt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“</a:t>
            </a:r>
            <a:r>
              <a:rPr b="1" lang="de-DE" sz="4800" spc="-1" strike="noStrike">
                <a:solidFill>
                  <a:srgbClr val="ff0066"/>
                </a:solidFill>
                <a:latin typeface="Arial Black"/>
              </a:rPr>
              <a:t>Tier und Pflanzenwelt“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s Projekt von Lemu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 Stadt -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strac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Schule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Klasse 4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Wir heißen Lemuren. Wir sind auch freundlich, hilfsbereit und neugierig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2720" y="1905120"/>
            <a:ext cx="5578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r hat den längsten Schwanz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en längsten Schwanz hat eine Hähnerasse aus Japan. Dort nennt man sie </a:t>
            </a: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Onagadori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I n Europa nennt man diese Rasse  Phönix. Der Schwanz von einem siebzehnjärigen Phönix ist  </a:t>
            </a:r>
            <a:r>
              <a:rPr b="0" lang="de-DE" sz="4400" spc="-1" strike="noStrike">
                <a:solidFill>
                  <a:srgbClr val="ff0066"/>
                </a:solidFill>
                <a:latin typeface="Arial"/>
              </a:rPr>
              <a:t>13 Meter lang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918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er kann Kopf stehen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Elefant kann Kopf stehen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17960" y="1941480"/>
            <a:ext cx="39276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b7"/>
                </a:solidFill>
                <a:latin typeface="Arial Black"/>
              </a:rPr>
              <a:t>Warum haben die Pflanzen keine Nase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e Pflanzen empfangen lebenswichtigen  Sauerstoff durch die Blätter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Rote Blume"/>
          <p:cNvPicPr/>
          <p:nvPr/>
        </p:nvPicPr>
        <p:blipFill>
          <a:blip r:embed="rId1"/>
          <a:stretch/>
        </p:blipFill>
        <p:spPr>
          <a:xfrm>
            <a:off x="4419720" y="175248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8880" y="16765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10440" y="542916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19720" y="5257800"/>
            <a:ext cx="2371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Wie viel Zähne hat eine Schnecke?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ine Schnecke hat </a:t>
            </a:r>
            <a:r>
              <a:rPr b="0" lang="de-DE" sz="4000" spc="-1" strike="noStrike">
                <a:solidFill>
                  <a:srgbClr val="ff0066"/>
                </a:solidFill>
                <a:latin typeface="Arial"/>
              </a:rPr>
              <a:t>25000 Zähne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17960" y="2041560"/>
            <a:ext cx="392760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Möchte wohl wissen,wer das ist, der immer</a:t>
            </a:r>
            <a:br>
              <a:rPr sz="4000"/>
            </a:br>
            <a:r>
              <a:rPr b="1" lang="de-DE" sz="4000" spc="-1" strike="noStrike">
                <a:solidFill>
                  <a:srgbClr val="ffffb7"/>
                </a:solidFill>
                <a:latin typeface="Arial Black"/>
              </a:rPr>
              <a:t>mit zwei Löffeln frisst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s sitz ein braunes Tier im Klee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ut niemand was zuleide.</a:t>
            </a:r>
            <a:br>
              <a:rPr sz="2400"/>
            </a:br>
            <a:r>
              <a:rPr b="0" lang="de-DE" sz="2400" spc="-1" strike="noStrike">
                <a:solidFill>
                  <a:srgbClr val="ff0066"/>
                </a:solidFill>
                <a:latin typeface="Arial"/>
              </a:rPr>
              <a:t>Zwei Löffe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hat er auch dabei,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ch nicht für Suppe oder Brei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r frisst gern Rüben und auch Kohl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lches Tier ist das wohl?</a:t>
            </a:r>
            <a:br>
              <a:rPr sz="2400"/>
            </a:br>
            <a:r>
              <a:rPr b="0" lang="de-DE" sz="3600" spc="-1" strike="noStrike">
                <a:solidFill>
                  <a:srgbClr val="ff0066"/>
                </a:solidFill>
                <a:latin typeface="Arial"/>
              </a:rPr>
              <a:t>(H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b7"/>
                </a:solidFill>
                <a:latin typeface="Arial Black"/>
              </a:rPr>
              <a:t>Wie heisst dieser Vogel?-Er ist zwei Meter hoch,läuft sehr schnell und lebt in Australien?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Strauß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st </a:t>
            </a:r>
            <a:r>
              <a:rPr b="0" lang="de-DE" sz="3200" spc="-1" strike="noStrike">
                <a:solidFill>
                  <a:srgbClr val="ff0066"/>
                </a:solidFill>
                <a:latin typeface="Arial"/>
              </a:rPr>
              <a:t>zwei Meter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hoch,läuft sehr schnell und lebt in Australien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2190600" cy="142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43400" y="1828800"/>
            <a:ext cx="480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la</cp:lastModifiedBy>
  <dcterms:modified xsi:type="dcterms:W3CDTF">2013-03-20T14:0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