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2CF-7A72-4526-9BAE-908ECAB7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FF6-C5D2-4F5D-9629-C9EDFF34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7D9-8C61-4A6B-86E9-D30AE361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345-13EF-4DBB-AE4F-A866C00E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8F67-31C6-4C16-BD56-6BA42E0E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98CB-6D12-4B3E-9DDE-B46B6120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6AEC-66AE-4B96-BB3B-7B185A80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CE88-C211-4701-83BA-67D08EE8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4CEA-FE23-4B67-88A5-40DF2AB6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C1A2-C07F-404A-96B7-D4CFDB85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D97D-A34B-40EE-8962-988101B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46A-CD92-4388-AB36-7C15277E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B74F-021A-4932-A3BB-7ABB5235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4C99-FB04-44C0-99A8-C71C1092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56A7-EDDF-4B5E-AAAB-C2C89354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C653-35E5-4D28-80C1-849B61DB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F9ED-F572-4C0E-B6F5-6D51FDEC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9A6-56CA-4E5C-8591-D2AEDF2B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E9C-FA40-4DE3-B851-4387614E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B24-9D45-430C-9703-B047666A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E03-8184-4791-9AFA-C9ACCF35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610-1EFF-4EAE-825A-CE6D099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5A2-7A51-417E-95EA-AADAC912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3A9-F479-4660-8B5A-FC8AB5D0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7547-DFBE-4580-80A0-51C0F2840E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4466-E97F-480F-A648-96AF54394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24.jpeg"/><Relationship Id="rId7" Type="http://schemas.openxmlformats.org/officeDocument/2006/relationships/image" Target="../media/image32.jpeg"/><Relationship Id="rId8" Type="http://schemas.openxmlformats.org/officeDocument/2006/relationships/image" Target="../media/image19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81080" y="2143080"/>
            <a:ext cx="69818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m Deutsch  herum - kreativer  Boom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elche Katzenrasse kann braungebrannt werden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Sphinx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ist die einzige Katze, die </a:t>
            </a:r>
            <a:r>
              <a:rPr b="0" lang="de-DE" sz="3200" spc="-1" strike="noStrike">
                <a:solidFill>
                  <a:srgbClr val="ff0066"/>
                </a:solidFill>
                <a:latin typeface="Arial"/>
              </a:rPr>
              <a:t>"schwitzt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und </a:t>
            </a:r>
            <a:r>
              <a:rPr b="0" lang="de-DE" sz="3200" spc="-1" strike="noStrike">
                <a:solidFill>
                  <a:srgbClr val="ff0066"/>
                </a:solidFill>
                <a:latin typeface="Arial"/>
              </a:rPr>
              <a:t>braungebrannt wir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Darüber hinaus ist durch die Haut eine besondere braune Substanz, die die Sphinxe schmutzig macht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419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elches Tier kann nicht springen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66"/>
                </a:solidFill>
                <a:latin typeface="Arial"/>
              </a:rPr>
              <a:t>Elefant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ist   das   einzige Tier auf der Erde, das </a:t>
            </a:r>
            <a:r>
              <a:rPr b="0" lang="de-DE" sz="3600" spc="-1" strike="noStrike">
                <a:solidFill>
                  <a:srgbClr val="ff0066"/>
                </a:solidFill>
                <a:latin typeface="Arial"/>
              </a:rPr>
              <a:t>nicht springen kann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17960" y="3048120"/>
            <a:ext cx="3927600" cy="3047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191120" y="3079800"/>
            <a:ext cx="49528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Im Mai 2012 wurde es in Berliner Zoo geboren. Wer ist das? Wie heisst das Baby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342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m 8.Mai wurde ein 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Elefantenbaby  in Berliner Zoo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geboren. Es heißt Bulli. Sein Gewicht ist </a:t>
            </a:r>
            <a:r>
              <a:rPr b="0" lang="de-DE" sz="4000" spc="-1" strike="noStrike">
                <a:solidFill>
                  <a:srgbClr val="ff0066"/>
                </a:solidFill>
                <a:latin typeface="Arial"/>
              </a:rPr>
              <a:t>102 kg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 Es ist </a:t>
            </a:r>
            <a:r>
              <a:rPr b="0" lang="de-DE" sz="4000" spc="-1" strike="noStrike">
                <a:solidFill>
                  <a:srgbClr val="ff0066"/>
                </a:solidFill>
                <a:latin typeface="Arial"/>
              </a:rPr>
              <a:t>91 cm groß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b7"/>
                </a:solidFill>
                <a:latin typeface="Arial Black"/>
              </a:rPr>
              <a:t>Welche Tiere wollen den Fluss überqueren?</a:t>
            </a:r>
            <a:br>
              <a:rPr sz="2400"/>
            </a:br>
            <a:r>
              <a:rPr b="1" lang="de-DE" sz="2000" spc="-1" strike="noStrike">
                <a:solidFill>
                  <a:srgbClr val="ff0066"/>
                </a:solidFill>
                <a:latin typeface="Arial Black"/>
              </a:rPr>
              <a:t>WOLFUCHSAUHUNKECHSENTERPELUCHSPERBEREHIRSCH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190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WOL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FUC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S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U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UN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ECH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ERP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LUC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SPER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Re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Hirsch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6668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095960" y="1371600"/>
            <a:ext cx="204804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410080" y="1295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324480" y="2819520"/>
            <a:ext cx="1914480" cy="142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2590920" y="3581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7086600" y="403848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4648320" y="41911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2666880" y="542916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6477120" y="54291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In den folgenden Sätzen sind 10 Tiernamen versteckt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38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ort steht ein Na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pf Er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e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s Schiff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kam 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ufwä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us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ti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er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zählt er über seine Abenteu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ier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in Ki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esel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lag am Str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Grete muss in die 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chul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isc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ha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gelt ban</a:t>
            </a: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g ans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Uf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u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dem Ha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t einen Tannenba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67080" y="1904760"/>
            <a:ext cx="457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fe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am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lef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uc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am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238880" y="2286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238880" y="3733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334120" y="4343400"/>
            <a:ext cx="200016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238880" y="51814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7238880" y="838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5257800" y="5562720"/>
            <a:ext cx="2048040" cy="1428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3733920" y="5257800"/>
            <a:ext cx="160956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tretch/>
        </p:blipFill>
        <p:spPr>
          <a:xfrm>
            <a:off x="2666880" y="525780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78680" y="324576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e kann ein Elefant Wasser finden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2819520"/>
            <a:ext cx="68770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e kann ein Elefant Wasser finden?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 Black"/>
              </a:rPr>
              <a:t>Das Projekt</a:t>
            </a: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Arial Black"/>
              </a:rPr>
              <a:t>“</a:t>
            </a:r>
            <a:r>
              <a:rPr b="1" lang="de-DE" sz="4800" spc="-1" strike="noStrike">
                <a:solidFill>
                  <a:srgbClr val="ff0066"/>
                </a:solidFill>
                <a:latin typeface="Arial Black"/>
              </a:rPr>
              <a:t>Tier und Pflanzenwelt“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s Projekt von Lemu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 Stadt -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strac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 Schule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 Klasse 4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Wir heißen Lemuren. Wir sind auch freundlich, hilfsbereit und neugierig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2720" y="1905120"/>
            <a:ext cx="5578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er hat den längsten Schwanz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en längsten Schwanz hat eine Hähnerasse aus Japan. Dort nennt man sie </a:t>
            </a: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Onagadori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I n Europa nennt man diese Rasse  Phönix. Der Schwanz von einem siebzehnjärigen Phönix ist  </a:t>
            </a:r>
            <a:r>
              <a:rPr b="0" lang="de-DE" sz="4400" spc="-1" strike="noStrike">
                <a:solidFill>
                  <a:srgbClr val="ff0066"/>
                </a:solidFill>
                <a:latin typeface="Arial"/>
              </a:rPr>
              <a:t>13 Meter lang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918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er kann Kopf stehen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 Elefant kann Kopf stehen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17960" y="1941480"/>
            <a:ext cx="39276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arum haben die Pflanzen keine Nase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 Pflanzen empfangen lebenswichtigen  Sauerstoff durch die Blätter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Rote Blume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8880" y="16765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10440" y="5429160"/>
            <a:ext cx="19335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419720" y="5257800"/>
            <a:ext cx="2371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Wie viel Zähne hat eine Schnecke?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e Schnecke hat </a:t>
            </a:r>
            <a:r>
              <a:rPr b="0" lang="de-DE" sz="4000" spc="-1" strike="noStrike">
                <a:solidFill>
                  <a:srgbClr val="ff0066"/>
                </a:solidFill>
                <a:latin typeface="Arial"/>
              </a:rPr>
              <a:t>25000 Zähne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17960" y="2041560"/>
            <a:ext cx="39276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Möchte wohl wissen,wer das ist, der immer</a:t>
            </a:r>
            <a:br>
              <a:rPr sz="4000"/>
            </a:b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mit zwei Löffeln frisst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s sitz ein braunes Tier im Klee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ut niemand was zuleide.</a:t>
            </a:r>
            <a:br>
              <a:rPr sz="2400"/>
            </a:b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Zwei Löffe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hat er auch dabei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och nicht für Suppe oder Brei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 frisst gern Rüben und auch Kohl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lches Tier ist das wohl?</a:t>
            </a:r>
            <a:br>
              <a:rPr sz="2400"/>
            </a:br>
            <a:r>
              <a:rPr b="0" lang="de-DE" sz="3600" spc="-1" strike="noStrike">
                <a:solidFill>
                  <a:srgbClr val="ff0066"/>
                </a:solidFill>
                <a:latin typeface="Arial"/>
              </a:rPr>
              <a:t>(Ha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88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b7"/>
                </a:solidFill>
                <a:latin typeface="Arial Black"/>
              </a:rPr>
              <a:t>Wie heisst dieser Vogel?-Er ist zwei Meter hoch,läuft sehr schnell und lebt in Australien?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 Strauß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t </a:t>
            </a:r>
            <a:r>
              <a:rPr b="0" lang="de-DE" sz="3200" spc="-1" strike="noStrike">
                <a:solidFill>
                  <a:srgbClr val="ff0066"/>
                </a:solidFill>
                <a:latin typeface="Arial"/>
              </a:rPr>
              <a:t>zwei Meter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hoch,läuft sehr schnell und lebt in Australien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2190600" cy="142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343400" y="18288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la</cp:lastModifiedBy>
  <dcterms:modified xsi:type="dcterms:W3CDTF">2013-03-20T14:0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