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86C6-A2B9-418E-89BE-6853E9F24E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DBC-5FBB-4879-A37B-C9AFC4FD0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FBB-66B4-48A5-B347-B1CEC2A0D2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170-690F-44AB-B7FB-C3593FA2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5BE-E9CD-4693-94B2-447CD3D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974-3368-4A38-8ECF-DB27C046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101-52D1-4136-8016-47D7BA4D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2337-08D8-4A5C-9486-361E51CD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CCD-3F2E-43A1-BDB6-5BB18B73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945-9DF7-46C7-9417-95A6D93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0BC2-C063-47D7-A6AA-EF9AD52D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58B5-44FE-4C7F-BD9D-0328349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8EA-3215-4DFC-BF41-94DB758A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BD03-83F6-42C1-B251-82A8EF2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9C8-AECB-4548-97ED-CFD173F6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184A-A680-4128-8923-1E2C2C7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73C7-327D-484E-BCCF-202ABFB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3CCE-7B93-4345-B46C-5FC834E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55F-3D83-4B0A-AC31-DD285752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A9E9-1AAB-40ED-A083-5AAEC156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F174-3B93-401F-A052-0402A887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B5A6-33FA-4C2F-A04E-0E76155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A86C-5D44-4CB9-9C78-1EF73368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FB95-F340-4070-AE77-CCB5C640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8FFB-689B-4F41-8335-366B9255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0AA-0A79-48CA-BC44-7E1726A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EC25-54D7-40B3-81B4-3A3BC394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0FF1-C191-4FF7-83B5-534E4ED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5769-5503-4CE6-BB1D-4524D3D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5AD0-C52F-4EC8-919D-ED80068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6BC0-C40A-44F4-A35A-B70B7CC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7D8A-57DA-4BE6-88B4-C4637B05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7F9C-8F70-41A0-9F13-D8BFD62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AC3D-01D7-401E-9FC8-87E2B636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8E56-4921-46EE-84CF-93AF7F9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DC9F-3FFC-46C6-9A25-B7C781A3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745-ADF2-4D1C-BE29-223B445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B830-EE2E-494C-B3D6-7FA81B3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6A9C-1EA5-48D5-A006-AAC6E41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B226-E770-4D1C-91D4-9022B849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CB6F-23B9-42F6-89F2-FC77C93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3B80-8BBF-4AFB-9F0A-14A29A6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E4AA-BFCE-4AE0-A757-838C6DF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7303-6898-47C9-B816-DE00F9B7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5EFF-527F-4547-8E4E-FF2BA809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A2E3-91B6-485F-86B8-C7286C72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61491-1A1B-417F-8E37-84D46F72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E17-1C36-4B1E-9D16-07FC410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7AC7-62F2-4F7D-BE88-FE7D2CB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79E8-4029-4698-861E-704B22D6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6AE4-1930-4D3A-BF21-C3BF64D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AAFC-6D6F-4842-B6C1-21B0D17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BDF3-3DA1-421C-BD5D-EFD66790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EA42-1B00-47CF-8FA7-B81F71C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CCFB-832B-4B2E-9670-06F2942A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A5B7-42B0-4BF2-9C4F-9A1F1E9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F309-0E3B-46F6-AD04-ACC273FA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45468-AE47-4F7C-8291-7B90A54B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911-8F17-4CBB-9544-2C2CD3E5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2AE0-25B8-4495-8F49-4AD651E1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469-5D12-4488-857A-654B9B7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129-40E9-45F1-993B-3E444F3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680-FDC4-4D34-ACAF-AFB5B16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7DE4-E9E4-4F33-9D54-94281952A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ACF0-4E10-4235-A7E5-52305A1749A7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A2C2-6E67-495C-80A9-98DC8043CAD5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BEF-FF49-42C1-8638-1069609C5F3E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122-1BEC-48DD-8665-9462ABD5BC21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579600" y="853920"/>
            <a:ext cx="7918200" cy="3510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5929200" y="550080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по развитию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000080" y="2858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етский сад комбинированного вида второй категории«Снегирёк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. Бел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звитие ощущений движения органов д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льность : 4 не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й: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пражнение – 1 нед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–  3-5 мину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чение дня – 2-3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DSCN3969"/>
          <p:cNvPicPr/>
          <p:nvPr/>
        </p:nvPicPr>
        <p:blipFill>
          <a:blip r:embed="rId1"/>
          <a:stretch/>
        </p:blipFill>
        <p:spPr>
          <a:xfrm>
            <a:off x="622440" y="466560"/>
            <a:ext cx="7478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2286000" y="28335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3" descr="DSCN3971"/>
          <p:cNvPicPr/>
          <p:nvPr/>
        </p:nvPicPr>
        <p:blipFill>
          <a:blip r:embed="rId1"/>
          <a:stretch/>
        </p:blipFill>
        <p:spPr>
          <a:xfrm>
            <a:off x="324000" y="476280"/>
            <a:ext cx="7900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DSCN3972"/>
          <p:cNvPicPr/>
          <p:nvPr/>
        </p:nvPicPr>
        <p:blipFill>
          <a:blip r:embed="rId1"/>
          <a:stretch/>
        </p:blipFill>
        <p:spPr>
          <a:xfrm>
            <a:off x="468360" y="476280"/>
            <a:ext cx="72532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SCN3973"/>
          <p:cNvPicPr/>
          <p:nvPr/>
        </p:nvPicPr>
        <p:blipFill>
          <a:blip r:embed="rId1"/>
          <a:stretch/>
        </p:blipFill>
        <p:spPr>
          <a:xfrm>
            <a:off x="1979640" y="260280"/>
            <a:ext cx="52308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785880" y="1714680"/>
            <a:ext cx="77151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координаторных отношений между дыханием, туловищем и конеч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: 12-14 не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й: 3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DSCN3974"/>
          <p:cNvPicPr/>
          <p:nvPr/>
        </p:nvPicPr>
        <p:blipFill>
          <a:blip r:embed="rId1"/>
          <a:stretch/>
        </p:blipFill>
        <p:spPr>
          <a:xfrm>
            <a:off x="2124000" y="404640"/>
            <a:ext cx="448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DSCN3976"/>
          <p:cNvPicPr/>
          <p:nvPr/>
        </p:nvPicPr>
        <p:blipFill>
          <a:blip r:embed="rId1"/>
          <a:stretch/>
        </p:blipFill>
        <p:spPr>
          <a:xfrm>
            <a:off x="1116000" y="333360"/>
            <a:ext cx="5924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DSCN3977"/>
          <p:cNvPicPr/>
          <p:nvPr/>
        </p:nvPicPr>
        <p:blipFill>
          <a:blip r:embed="rId1"/>
          <a:srcRect l="0" t="-145" r="0" b="0"/>
          <a:stretch/>
        </p:blipFill>
        <p:spPr>
          <a:xfrm>
            <a:off x="2043000" y="260280"/>
            <a:ext cx="49881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DSCN3975"/>
          <p:cNvPicPr/>
          <p:nvPr/>
        </p:nvPicPr>
        <p:blipFill>
          <a:blip r:embed="rId1"/>
          <a:stretch/>
        </p:blipFill>
        <p:spPr>
          <a:xfrm>
            <a:off x="1609560" y="260280"/>
            <a:ext cx="4805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95600"/>
            <a:ext cx="568656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еспечить правильный газообмен, поддерживая ГОМЕОСТ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71920" y="3714480"/>
            <a:ext cx="473544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еспечить энергетическую основу нашей ре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DSCN3979"/>
          <p:cNvPicPr/>
          <p:nvPr/>
        </p:nvPicPr>
        <p:blipFill>
          <a:blip r:embed="rId1"/>
          <a:stretch/>
        </p:blipFill>
        <p:spPr>
          <a:xfrm>
            <a:off x="1476360" y="333360"/>
            <a:ext cx="5729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DSCN3978"/>
          <p:cNvPicPr/>
          <p:nvPr/>
        </p:nvPicPr>
        <p:blipFill>
          <a:blip r:embed="rId1"/>
          <a:stretch/>
        </p:blipFill>
        <p:spPr>
          <a:xfrm>
            <a:off x="1258920" y="260280"/>
            <a:ext cx="5603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3071880"/>
            <a:ext cx="8394840" cy="121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928800" y="5716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SCN3980"/>
          <p:cNvPicPr/>
          <p:nvPr/>
        </p:nvPicPr>
        <p:blipFill>
          <a:blip r:embed="rId1"/>
          <a:stretch/>
        </p:blipFill>
        <p:spPr>
          <a:xfrm>
            <a:off x="1476360" y="260280"/>
            <a:ext cx="5234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DSCN3981"/>
          <p:cNvPicPr/>
          <p:nvPr/>
        </p:nvPicPr>
        <p:blipFill>
          <a:blip r:embed="rId1"/>
          <a:stretch/>
        </p:blipFill>
        <p:spPr>
          <a:xfrm>
            <a:off x="1476360" y="189000"/>
            <a:ext cx="5492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DSCN3982"/>
          <p:cNvPicPr/>
          <p:nvPr/>
        </p:nvPicPr>
        <p:blipFill>
          <a:blip r:embed="rId1"/>
          <a:stretch/>
        </p:blipFill>
        <p:spPr>
          <a:xfrm>
            <a:off x="1476360" y="260280"/>
            <a:ext cx="55846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DSCN3983"/>
          <p:cNvPicPr/>
          <p:nvPr/>
        </p:nvPicPr>
        <p:blipFill>
          <a:blip r:embed="rId1"/>
          <a:stretch/>
        </p:blipFill>
        <p:spPr>
          <a:xfrm>
            <a:off x="1042920" y="404640"/>
            <a:ext cx="5924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DSCN3984"/>
          <p:cNvPicPr/>
          <p:nvPr/>
        </p:nvPicPr>
        <p:blipFill>
          <a:blip r:embed="rId1"/>
          <a:stretch/>
        </p:blipFill>
        <p:spPr>
          <a:xfrm>
            <a:off x="1332000" y="260280"/>
            <a:ext cx="59245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DSCN3985"/>
          <p:cNvPicPr/>
          <p:nvPr/>
        </p:nvPicPr>
        <p:blipFill>
          <a:blip r:embed="rId1"/>
          <a:stretch/>
        </p:blipFill>
        <p:spPr>
          <a:xfrm>
            <a:off x="1187280" y="404640"/>
            <a:ext cx="5924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DSCN3986"/>
          <p:cNvPicPr/>
          <p:nvPr/>
        </p:nvPicPr>
        <p:blipFill>
          <a:blip r:embed="rId1"/>
          <a:stretch/>
        </p:blipFill>
        <p:spPr>
          <a:xfrm>
            <a:off x="1476360" y="260280"/>
            <a:ext cx="5173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395280" y="285264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ИЧ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572000" y="2852640"/>
            <a:ext cx="33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Р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900000" y="465300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РЮШ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НИЖНЕ-ДИАФРАГМА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4427640" y="1413000"/>
            <a:ext cx="1800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1979280" y="1413000"/>
            <a:ext cx="1871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140360" y="1484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DSCN3987"/>
          <p:cNvPicPr/>
          <p:nvPr/>
        </p:nvPicPr>
        <p:blipFill>
          <a:blip r:embed="rId1"/>
          <a:stretch/>
        </p:blipFill>
        <p:spPr>
          <a:xfrm>
            <a:off x="1476360" y="260280"/>
            <a:ext cx="5324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DSCN3988"/>
          <p:cNvPicPr/>
          <p:nvPr/>
        </p:nvPicPr>
        <p:blipFill>
          <a:blip r:embed="rId1"/>
          <a:stretch/>
        </p:blipFill>
        <p:spPr>
          <a:xfrm>
            <a:off x="1839960" y="316080"/>
            <a:ext cx="49388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 rot="20352000">
            <a:off x="27000" y="1712520"/>
            <a:ext cx="8547120" cy="34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848000"/>
                </a:gradFill>
                <a:latin typeface="Palatino Linotype"/>
              </a:rPr>
              <a:t>СПАСИБО    ЗА    ВНИМАНИЕ  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848000"/>
              </a:gra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8212320" cy="725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5680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ПОКОЙНОЕ ДЫХА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5748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ДЫХАНИЕ ПРИ РЕЧ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Диаграмма 4" descr=""/>
          <p:cNvPicPr/>
          <p:nvPr/>
        </p:nvPicPr>
        <p:blipFill>
          <a:blip r:embed="rId2"/>
          <a:stretch/>
        </p:blipFill>
        <p:spPr>
          <a:xfrm>
            <a:off x="781200" y="2779560"/>
            <a:ext cx="3297240" cy="3224520"/>
          </a:xfrm>
          <a:prstGeom prst="rect">
            <a:avLst/>
          </a:prstGeom>
          <a:ln w="0">
            <a:noFill/>
          </a:ln>
        </p:spPr>
      </p:pic>
      <p:pic>
        <p:nvPicPr>
          <p:cNvPr id="237" name="Диаграмма 5" descr=""/>
          <p:cNvPicPr/>
          <p:nvPr/>
        </p:nvPicPr>
        <p:blipFill>
          <a:blip r:embed="rId3"/>
          <a:stretch/>
        </p:blipFill>
        <p:spPr>
          <a:xfrm>
            <a:off x="4780080" y="2919240"/>
            <a:ext cx="308448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кругленный прямоугольник 2"/>
          <p:cNvSpPr/>
          <p:nvPr/>
        </p:nvSpPr>
        <p:spPr>
          <a:xfrm>
            <a:off x="928800" y="285840"/>
            <a:ext cx="75009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966600" y="50004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6da7"/>
                </a:solidFill>
                <a:latin typeface="Arial"/>
              </a:rPr>
              <a:t>Влияние стрессовой ситуации на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455040" y="1785960"/>
            <a:ext cx="66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ышается артериаль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28760" y="1643040"/>
            <a:ext cx="664344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2928960" y="3714840"/>
            <a:ext cx="571500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бивается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428920" y="2714760"/>
            <a:ext cx="571500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рдце бьётся ча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11"/>
          <p:cNvSpPr/>
          <p:nvPr/>
        </p:nvSpPr>
        <p:spPr>
          <a:xfrm>
            <a:off x="3929040" y="235728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низ 12"/>
          <p:cNvSpPr/>
          <p:nvPr/>
        </p:nvSpPr>
        <p:spPr>
          <a:xfrm>
            <a:off x="5072040" y="342900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000080" y="4714920"/>
            <a:ext cx="7429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хотелось сказать – заб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ются запинки 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зы не договар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сль остается невысказ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углом 17"/>
          <p:cNvSpPr/>
          <p:nvPr/>
        </p:nvSpPr>
        <p:spPr>
          <a:xfrm flipV="1" rot="5400000">
            <a:off x="2093040" y="4049280"/>
            <a:ext cx="102852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85840" y="714240"/>
            <a:ext cx="44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ИТЕЛЬНЫЙ ПЛАВНЫЙ ВЫД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право 2"/>
          <p:cNvSpPr/>
          <p:nvPr/>
        </p:nvSpPr>
        <p:spPr>
          <a:xfrm rot="2639400">
            <a:off x="2579400" y="3035160"/>
            <a:ext cx="2533680" cy="428760"/>
          </a:xfrm>
          <a:prstGeom prst="rightArrow">
            <a:avLst>
              <a:gd name="adj1" fmla="val 50306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357720" y="550080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БЕЗУСИ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66080" cy="7318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928800" y="1071720"/>
            <a:ext cx="70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4a7b"/>
                </a:solidFill>
                <a:latin typeface="Calibri"/>
              </a:rPr>
              <a:t>РЕЧЬ, КОТОРАЯ ОТНИМАЕТ У НАС МЕНЬШЕ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сканирование0003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143000" y="1714680"/>
            <a:ext cx="67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ЖНЕДИАФРАГМАЛЬНОЕ ДЫХАНИ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дохе брюшная стенка выпячивается, округляется, на выдохе- втяги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х делается через нос, а выдох через чуть приоткрытые губы, с легким сопротивл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ох как можно длин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е условие: дыхание должно проводиться без усилий (релаксационное, как песня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Формирование диафрагмального и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Содержимое 6" descr=""/>
          <p:cNvPicPr/>
          <p:nvPr/>
        </p:nvPicPr>
        <p:blipFill>
          <a:blip r:embed="rId1"/>
          <a:stretch/>
        </p:blipFill>
        <p:spPr>
          <a:xfrm>
            <a:off x="365040" y="1536840"/>
            <a:ext cx="8340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32Z</dcterms:created>
  <dc:creator>Учитель</dc:creator>
  <dc:description/>
  <dc:language>en-US</dc:language>
  <cp:lastModifiedBy>user</cp:lastModifiedBy>
  <dcterms:modified xsi:type="dcterms:W3CDTF">2013-03-24T10:15:24Z</dcterms:modified>
  <cp:revision>44</cp:revision>
  <dc:subject/>
  <dc:title>РАЗВИТИЕ РЕЧЕВОГО ДЫХАНИЯ У ДОШКОЛЬНИКОВ.</dc:title>
</cp:coreProperties>
</file>