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7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5347-9C08-4696-A991-9B8B99C47B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F6AD-062F-4A95-A4CF-F134ECD195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655B-7E6E-4589-ADE7-0A5331BC5E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5ABD-CF08-47B4-AA7B-1FA243A3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C9B4-7E67-46FE-A091-30636CCB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6E87-02E7-4E8B-8943-2841DC83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6981-6BD8-4337-A995-8D9FD652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9CF9-CE7F-4A03-84C8-B28A724F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A788-8A94-4E40-911C-ECAE8603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AB9B-7A8B-41AD-BFE0-6F45AF3B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CF1D-5A3B-4676-B9E0-15CFB0CB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2706-8D06-4BCE-A28E-5932A84A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E136-3BF9-4ACC-BD0F-CC3A5B35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D7EC-F943-4C82-A7FB-ECF56C5A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D744-E640-4F30-835B-6C8CDAE2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4172-3662-4B7F-AD28-E91A29CE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BE76-7FEC-4D26-8C0E-024726D9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E165-D920-459A-A11C-D5E44432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F8FB-0DD4-4D66-921F-6FD7D7B1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33A8-BBB1-4069-A88A-BA4F5B6E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6DA3E-1E03-4E3C-ACA7-CEB159AB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2D575-C753-44E5-8A4B-13E819B5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654CD-D3EB-4BF3-8335-D79E02DE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1398F-4433-46ED-9A8F-6482ABAA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EC1C4-8811-49EA-B046-FE8969CA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DD30-AD4C-418E-87AB-1AA5591D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DB875-8A9B-40AA-8276-1EBEF698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465E0-0AAF-467F-B036-767631AF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2F5DD-D21C-47C7-8AD1-9196C943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47716-D3C0-4573-AB50-A442932F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9B5EC-1B2E-480E-9FC5-90E22A4A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0E4F6-564C-4096-9EA5-5FE4A22A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17876-2D6A-46FB-84C1-D617783A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0DE4B-B9C5-4B4E-A7CB-B9E1B0DF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F3D54-C70E-4DC0-9648-45FE0CB6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D7D1E-ADB7-49AE-A08B-8F71CF7F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2FF5-C69A-4B07-8DFC-057FC966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D3687-9AD4-41F5-BEC9-85F582D7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07910-3218-4538-B616-B612660E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D801D-45F2-4D2C-8397-38001930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2FACF-79B8-44B4-AE2B-D0D929FC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3DA6A-53E6-4EA8-BD32-F7783C9F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0BC07-18AC-47DD-81FF-6B42A786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BE46F-32AC-4F4E-97B5-976A7F73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9644A-1836-438A-AA3B-A09398B7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CEDD6-2AC0-454F-BE29-2C38B992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EFC0B-E758-42C7-BA25-D697A000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BC96-A6E7-45A2-8077-79B3FA51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7D017-8671-4EB2-9EF0-AB9EDA55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31483-8628-469D-982D-51A6B831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AC71B-FE50-4FE9-AE1B-B61DEC89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B0AD2-D958-4577-A4AE-A7ACC57B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A32CF-5499-4F89-A5D5-93D8DE13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54CA7-9D5B-442B-8B64-6771FCC5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097B2-6BD9-41CC-A4D0-00D325A9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54DFB-7811-4CE3-8300-45132B50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B843B-2042-458E-A91B-94FADC3A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D8DCC-71A5-488B-8AC9-1697F71D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2510-BDC8-4949-8592-5BB9D197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5DB96-DC1F-4B75-A971-D1A78631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9766-2D72-4C10-971A-22B339F4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BF90-8EB1-4BB0-A5B2-A173B214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E754-6082-46C2-8081-9F9BFEED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2EF5-7433-4E31-8415-94C879C640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e5b6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F5D7-386D-4725-9E4E-B4D110234213}" type="slidenum">
              <a:rPr b="0" lang="ru-RU" sz="1100" spc="-1" strike="noStrike">
                <a:solidFill>
                  <a:srgbClr val="4e5b6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Прямоугольник 6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83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e5b6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78AE-EC99-4693-B787-11FAD6D3394A}" type="slidenum">
              <a:rPr b="0" lang="ru-RU" sz="1100" spc="-1" strike="noStrike">
                <a:solidFill>
                  <a:srgbClr val="4e5b6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6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e5b6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31E8-7111-464F-9AF6-82E3F3813D73}" type="slidenum">
              <a:rPr b="0" lang="ru-RU" sz="1100" spc="-1" strike="noStrike">
                <a:solidFill>
                  <a:srgbClr val="4e5b6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Прямоугольник 6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0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5b6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00ad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00add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00addc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e5b6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7E68-F822-4EA4-A369-199E2C147F50}" type="slidenum">
              <a:rPr b="0" lang="ru-RU" sz="1100" spc="-1" strike="noStrike">
                <a:solidFill>
                  <a:srgbClr val="4e5b6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579600" y="853920"/>
            <a:ext cx="7918200" cy="3510000"/>
          </a:xfrm>
          <a:prstGeom prst="rect">
            <a:avLst/>
          </a:prstGeom>
          <a:ln w="0">
            <a:noFill/>
          </a:ln>
        </p:spPr>
      </p:pic>
      <p:sp>
        <p:nvSpPr>
          <p:cNvPr id="221" name="TextBox 2"/>
          <p:cNvSpPr/>
          <p:nvPr/>
        </p:nvSpPr>
        <p:spPr>
          <a:xfrm>
            <a:off x="5929200" y="5500800"/>
            <a:ext cx="2857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уб В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дагог по развитию ре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"/>
          <p:cNvSpPr/>
          <p:nvPr/>
        </p:nvSpPr>
        <p:spPr>
          <a:xfrm>
            <a:off x="1000080" y="285840"/>
            <a:ext cx="75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дошкольное 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Детский сад комбинированного вида второй категории«Снегирёк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г. Белоя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азвитие ощущений движения органов дых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олжительность : 4 нед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жнений: 4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упражнение – 1 недел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ительность –  3-5 минут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течение дня – 2-3 р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DSCN3969"/>
          <p:cNvPicPr/>
          <p:nvPr/>
        </p:nvPicPr>
        <p:blipFill>
          <a:blip r:embed="rId1"/>
          <a:stretch/>
        </p:blipFill>
        <p:spPr>
          <a:xfrm>
            <a:off x="622440" y="466560"/>
            <a:ext cx="747864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1"/>
          <p:cNvSpPr/>
          <p:nvPr/>
        </p:nvSpPr>
        <p:spPr>
          <a:xfrm>
            <a:off x="2286000" y="28335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3" descr="DSCN3971"/>
          <p:cNvPicPr/>
          <p:nvPr/>
        </p:nvPicPr>
        <p:blipFill>
          <a:blip r:embed="rId1"/>
          <a:stretch/>
        </p:blipFill>
        <p:spPr>
          <a:xfrm>
            <a:off x="324000" y="476280"/>
            <a:ext cx="790092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DSCN3972"/>
          <p:cNvPicPr/>
          <p:nvPr/>
        </p:nvPicPr>
        <p:blipFill>
          <a:blip r:embed="rId1"/>
          <a:stretch/>
        </p:blipFill>
        <p:spPr>
          <a:xfrm>
            <a:off x="468360" y="476280"/>
            <a:ext cx="725328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DSCN3973"/>
          <p:cNvPicPr/>
          <p:nvPr/>
        </p:nvPicPr>
        <p:blipFill>
          <a:blip r:embed="rId1"/>
          <a:stretch/>
        </p:blipFill>
        <p:spPr>
          <a:xfrm>
            <a:off x="1979640" y="260280"/>
            <a:ext cx="52308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3"/>
          <p:cNvSpPr/>
          <p:nvPr/>
        </p:nvSpPr>
        <p:spPr>
          <a:xfrm>
            <a:off x="785880" y="1714680"/>
            <a:ext cx="771516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звитие координаторных отношений между дыханием, туловищем и конечност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олжительность: 12-14 не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жнений: 3 комплек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DSCN3974"/>
          <p:cNvPicPr/>
          <p:nvPr/>
        </p:nvPicPr>
        <p:blipFill>
          <a:blip r:embed="rId1"/>
          <a:stretch/>
        </p:blipFill>
        <p:spPr>
          <a:xfrm>
            <a:off x="2124000" y="404640"/>
            <a:ext cx="44816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DSCN3976"/>
          <p:cNvPicPr/>
          <p:nvPr/>
        </p:nvPicPr>
        <p:blipFill>
          <a:blip r:embed="rId1"/>
          <a:stretch/>
        </p:blipFill>
        <p:spPr>
          <a:xfrm>
            <a:off x="1116000" y="333360"/>
            <a:ext cx="59245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DSCN3977"/>
          <p:cNvPicPr/>
          <p:nvPr/>
        </p:nvPicPr>
        <p:blipFill>
          <a:blip r:embed="rId1"/>
          <a:srcRect l="0" t="-145" r="0" b="0"/>
          <a:stretch/>
        </p:blipFill>
        <p:spPr>
          <a:xfrm>
            <a:off x="2043000" y="260280"/>
            <a:ext cx="498816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DSCN3975"/>
          <p:cNvPicPr/>
          <p:nvPr/>
        </p:nvPicPr>
        <p:blipFill>
          <a:blip r:embed="rId1"/>
          <a:stretch/>
        </p:blipFill>
        <p:spPr>
          <a:xfrm>
            <a:off x="1609560" y="260280"/>
            <a:ext cx="48056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3" descr=""/>
          <p:cNvPicPr/>
          <p:nvPr/>
        </p:nvPicPr>
        <p:blipFill>
          <a:blip r:embed="rId1"/>
          <a:stretch/>
        </p:blipFill>
        <p:spPr>
          <a:xfrm>
            <a:off x="182520" y="28116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1695600"/>
            <a:ext cx="568656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еспечить правильный газообмен, поддерживая ГОМЕОСТАЗ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571920" y="3714480"/>
            <a:ext cx="4735440" cy="23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еспечить энергетическую основу нашей реч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DSCN3979"/>
          <p:cNvPicPr/>
          <p:nvPr/>
        </p:nvPicPr>
        <p:blipFill>
          <a:blip r:embed="rId1"/>
          <a:stretch/>
        </p:blipFill>
        <p:spPr>
          <a:xfrm>
            <a:off x="1476360" y="333360"/>
            <a:ext cx="57294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" descr="DSCN3978"/>
          <p:cNvPicPr/>
          <p:nvPr/>
        </p:nvPicPr>
        <p:blipFill>
          <a:blip r:embed="rId1"/>
          <a:stretch/>
        </p:blipFill>
        <p:spPr>
          <a:xfrm>
            <a:off x="1258920" y="260280"/>
            <a:ext cx="56037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Прямоугольник 2" descr=""/>
          <p:cNvPicPr/>
          <p:nvPr/>
        </p:nvPicPr>
        <p:blipFill>
          <a:blip r:embed="rId1"/>
          <a:stretch/>
        </p:blipFill>
        <p:spPr>
          <a:xfrm>
            <a:off x="554040" y="3071880"/>
            <a:ext cx="8394840" cy="1214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C:\Program Files\Microsoft Office\MEDIA\CAGCAT10\j0299125.wmf"/>
          <p:cNvPicPr/>
          <p:nvPr/>
        </p:nvPicPr>
        <p:blipFill>
          <a:blip r:embed="rId2"/>
          <a:stretch/>
        </p:blipFill>
        <p:spPr>
          <a:xfrm>
            <a:off x="928800" y="571680"/>
            <a:ext cx="110016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DSCN3980"/>
          <p:cNvPicPr/>
          <p:nvPr/>
        </p:nvPicPr>
        <p:blipFill>
          <a:blip r:embed="rId1"/>
          <a:stretch/>
        </p:blipFill>
        <p:spPr>
          <a:xfrm>
            <a:off x="1476360" y="260280"/>
            <a:ext cx="52340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DSCN3981"/>
          <p:cNvPicPr/>
          <p:nvPr/>
        </p:nvPicPr>
        <p:blipFill>
          <a:blip r:embed="rId1"/>
          <a:stretch/>
        </p:blipFill>
        <p:spPr>
          <a:xfrm>
            <a:off x="1476360" y="189000"/>
            <a:ext cx="54928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DSCN3982"/>
          <p:cNvPicPr/>
          <p:nvPr/>
        </p:nvPicPr>
        <p:blipFill>
          <a:blip r:embed="rId1"/>
          <a:stretch/>
        </p:blipFill>
        <p:spPr>
          <a:xfrm>
            <a:off x="1476360" y="260280"/>
            <a:ext cx="55846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DSCN3983"/>
          <p:cNvPicPr/>
          <p:nvPr/>
        </p:nvPicPr>
        <p:blipFill>
          <a:blip r:embed="rId1"/>
          <a:stretch/>
        </p:blipFill>
        <p:spPr>
          <a:xfrm>
            <a:off x="1042920" y="404640"/>
            <a:ext cx="59245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DSCN3984"/>
          <p:cNvPicPr/>
          <p:nvPr/>
        </p:nvPicPr>
        <p:blipFill>
          <a:blip r:embed="rId1"/>
          <a:stretch/>
        </p:blipFill>
        <p:spPr>
          <a:xfrm>
            <a:off x="1332000" y="260280"/>
            <a:ext cx="5924520" cy="63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DSCN3985"/>
          <p:cNvPicPr/>
          <p:nvPr/>
        </p:nvPicPr>
        <p:blipFill>
          <a:blip r:embed="rId1"/>
          <a:stretch/>
        </p:blipFill>
        <p:spPr>
          <a:xfrm>
            <a:off x="1187280" y="404640"/>
            <a:ext cx="59248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DSCN3986"/>
          <p:cNvPicPr/>
          <p:nvPr/>
        </p:nvPicPr>
        <p:blipFill>
          <a:blip r:embed="rId1"/>
          <a:stretch/>
        </p:blipFill>
        <p:spPr>
          <a:xfrm>
            <a:off x="1476360" y="260280"/>
            <a:ext cx="51735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2"/>
          <p:cNvSpPr/>
          <p:nvPr/>
        </p:nvSpPr>
        <p:spPr>
          <a:xfrm>
            <a:off x="395280" y="285264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ЮЧИЧНОЕ ДЫХ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4572000" y="2852640"/>
            <a:ext cx="336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ЕРНОЕ ДЫХ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900000" y="465300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БРЮШНОЕ ДЫХ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(НИЖНЕ-ДИАФРАГМАЛЬНО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4427640" y="1413000"/>
            <a:ext cx="1800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"/>
          <p:cNvSpPr/>
          <p:nvPr/>
        </p:nvSpPr>
        <p:spPr>
          <a:xfrm flipH="1">
            <a:off x="1979280" y="1413000"/>
            <a:ext cx="187164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4140360" y="148428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1000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1000" autoRev="1" fill="hold"/>
                                        <p:tgtEl>
                                          <p:spTgt spid="2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2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DSCN3987"/>
          <p:cNvPicPr/>
          <p:nvPr/>
        </p:nvPicPr>
        <p:blipFill>
          <a:blip r:embed="rId1"/>
          <a:stretch/>
        </p:blipFill>
        <p:spPr>
          <a:xfrm>
            <a:off x="1476360" y="260280"/>
            <a:ext cx="53244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DSCN3988"/>
          <p:cNvPicPr/>
          <p:nvPr/>
        </p:nvPicPr>
        <p:blipFill>
          <a:blip r:embed="rId1"/>
          <a:stretch/>
        </p:blipFill>
        <p:spPr>
          <a:xfrm>
            <a:off x="1839960" y="316080"/>
            <a:ext cx="4938840" cy="63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4"/>
          <p:cNvSpPr txBox="1"/>
          <p:nvPr/>
        </p:nvSpPr>
        <p:spPr>
          <a:xfrm rot="20352000">
            <a:off x="27000" y="1712520"/>
            <a:ext cx="8547120" cy="34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7848000"/>
                </a:gradFill>
                <a:latin typeface="Palatino Linotype"/>
              </a:rPr>
              <a:t>СПАСИБО    ЗА    ВНИМАНИЕ  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7848000"/>
              </a:gradFill>
              <a:latin typeface="Palatino Linotype"/>
              <a:ea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450720" y="281160"/>
            <a:ext cx="8212320" cy="725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856800" y="150012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СПОКОЙНОЕ ДЫХАНИЕ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857480" y="150012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ДЫХАНИЕ ПРИ РЕЧИ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Диаграмма 4" descr=""/>
          <p:cNvPicPr/>
          <p:nvPr/>
        </p:nvPicPr>
        <p:blipFill>
          <a:blip r:embed="rId2"/>
          <a:stretch/>
        </p:blipFill>
        <p:spPr>
          <a:xfrm>
            <a:off x="781200" y="2779560"/>
            <a:ext cx="3297240" cy="3224520"/>
          </a:xfrm>
          <a:prstGeom prst="rect">
            <a:avLst/>
          </a:prstGeom>
          <a:ln w="0">
            <a:noFill/>
          </a:ln>
        </p:spPr>
      </p:pic>
      <p:pic>
        <p:nvPicPr>
          <p:cNvPr id="237" name="Диаграмма 5" descr=""/>
          <p:cNvPicPr/>
          <p:nvPr/>
        </p:nvPicPr>
        <p:blipFill>
          <a:blip r:embed="rId3"/>
          <a:stretch/>
        </p:blipFill>
        <p:spPr>
          <a:xfrm>
            <a:off x="4780080" y="2919240"/>
            <a:ext cx="3084480" cy="34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Скругленный прямоугольник 2"/>
          <p:cNvSpPr/>
          <p:nvPr/>
        </p:nvSpPr>
        <p:spPr>
          <a:xfrm>
            <a:off x="928800" y="285840"/>
            <a:ext cx="750096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966600" y="500040"/>
            <a:ext cx="70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76da7"/>
                </a:solidFill>
                <a:latin typeface="Arial"/>
              </a:rPr>
              <a:t>Влияние стрессовой ситуации на ре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455040" y="1785960"/>
            <a:ext cx="666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вышается артериальное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6"/>
          <p:cNvSpPr/>
          <p:nvPr/>
        </p:nvSpPr>
        <p:spPr>
          <a:xfrm>
            <a:off x="428760" y="1643040"/>
            <a:ext cx="6643440" cy="714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7"/>
          <p:cNvSpPr/>
          <p:nvPr/>
        </p:nvSpPr>
        <p:spPr>
          <a:xfrm>
            <a:off x="2928960" y="3714840"/>
            <a:ext cx="5715000" cy="714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бивается дых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8"/>
          <p:cNvSpPr/>
          <p:nvPr/>
        </p:nvSpPr>
        <p:spPr>
          <a:xfrm>
            <a:off x="2428920" y="2714760"/>
            <a:ext cx="5715000" cy="714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ердце бьётся ча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трелка вниз 11"/>
          <p:cNvSpPr/>
          <p:nvPr/>
        </p:nvSpPr>
        <p:spPr>
          <a:xfrm>
            <a:off x="3929040" y="2357280"/>
            <a:ext cx="2858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трелка вниз 12"/>
          <p:cNvSpPr/>
          <p:nvPr/>
        </p:nvSpPr>
        <p:spPr>
          <a:xfrm>
            <a:off x="5072040" y="3429000"/>
            <a:ext cx="2858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3"/>
          <p:cNvSpPr/>
          <p:nvPr/>
        </p:nvSpPr>
        <p:spPr>
          <a:xfrm>
            <a:off x="1000080" y="4714920"/>
            <a:ext cx="74296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хотелось сказать – заб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являются запинки в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разы не договарив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сль остается невысказа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углом 17"/>
          <p:cNvSpPr/>
          <p:nvPr/>
        </p:nvSpPr>
        <p:spPr>
          <a:xfrm flipV="1" rot="5400000">
            <a:off x="2093040" y="4049280"/>
            <a:ext cx="1028520" cy="6429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285840" y="714240"/>
            <a:ext cx="440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ДЛИТЕЛЬНЫЙ ПЛАВНЫЙ ВЫДО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трелка вправо 2"/>
          <p:cNvSpPr/>
          <p:nvPr/>
        </p:nvSpPr>
        <p:spPr>
          <a:xfrm rot="2639400">
            <a:off x="2579400" y="3035160"/>
            <a:ext cx="2533680" cy="428760"/>
          </a:xfrm>
          <a:prstGeom prst="rightArrow">
            <a:avLst>
              <a:gd name="adj1" fmla="val 50306"/>
              <a:gd name="adj2" fmla="val 499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3357720" y="5500800"/>
            <a:ext cx="42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Calibri"/>
              </a:rPr>
              <a:t>БЕЗУСИЛЬН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Р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500" autoRev="1" fill="hold"/>
                                        <p:tgtEl>
                                          <p:spTgt spid="2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500" autoRev="1" fill="hold"/>
                                        <p:tgtEl>
                                          <p:spTgt spid="2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7966080" cy="731880"/>
          </a:xfrm>
          <a:prstGeom prst="rect">
            <a:avLst/>
          </a:prstGeom>
          <a:ln w="0">
            <a:noFill/>
          </a:ln>
        </p:spPr>
      </p:pic>
      <p:sp>
        <p:nvSpPr>
          <p:cNvPr id="252" name="TextBox 2"/>
          <p:cNvSpPr/>
          <p:nvPr/>
        </p:nvSpPr>
        <p:spPr>
          <a:xfrm>
            <a:off x="928800" y="1071720"/>
            <a:ext cx="707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04a7b"/>
                </a:solidFill>
                <a:latin typeface="Calibri"/>
              </a:rPr>
              <a:t>РЕЧЬ, КОТОРАЯ ОТНИМАЕТ У НАС МЕНЬШЕ ЭНЕРГ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Рисунок 3" descr="сканирование0003.jpg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1143000" y="1714680"/>
            <a:ext cx="6796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ИЖНЕДИАФРАГМАЛЬНОЕ ДЫХАНИЕ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вдохе брюшная стенка выпячивается, округляется, на выдохе- втягива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дох делается через нос, а выдох через чуть приоткрытые губы, с легким сопротивле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ох как можно длинне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язательное условие: дыхание должно проводиться без усилий (релаксационное, как песня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Формирование диафрагмального и речевого дых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Содержимое 6" descr=""/>
          <p:cNvPicPr/>
          <p:nvPr/>
        </p:nvPicPr>
        <p:blipFill>
          <a:blip r:embed="rId1"/>
          <a:stretch/>
        </p:blipFill>
        <p:spPr>
          <a:xfrm>
            <a:off x="365040" y="1536840"/>
            <a:ext cx="83408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5:18:32Z</dcterms:created>
  <dc:creator>Учитель</dc:creator>
  <dc:description/>
  <dc:language>en-US</dc:language>
  <cp:lastModifiedBy>user</cp:lastModifiedBy>
  <dcterms:modified xsi:type="dcterms:W3CDTF">2013-03-24T10:15:24Z</dcterms:modified>
  <cp:revision>44</cp:revision>
  <dc:subject/>
  <dc:title>РАЗВИТИЕ РЕЧЕВОГО ДЫХАНИЯ У ДОШКОЛЬНИКОВ.</dc:title>
</cp:coreProperties>
</file>