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3FA-6DCE-43C7-9AFE-E448CA78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6EA-3544-4F2C-8646-2EDD976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FA8-519E-4A8E-AF0F-3DF2193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125-4ABA-4AF7-A786-F8D96AA3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8B1-0178-44EF-B575-FE5BBCD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781-477B-4FB5-8BE0-20ED523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FB1-8335-4AC6-A1F9-CD6041D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21E-209E-4564-8FA3-A85AB6A2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F7A-1424-48C9-BD25-DB51408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744-E03D-4522-9EA4-7BBD6F0D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F4B-373A-462C-AF17-F233B17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9F5-BD01-4520-A1F2-6CF1258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2EE3-415C-4E31-90E3-61AD71FB5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9600" y="853920"/>
            <a:ext cx="7918200" cy="351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929200" y="550080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по развитию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2858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етский сад комбинированного вида второй категории«Снегирёк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. Бел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N3979"/>
          <p:cNvPicPr/>
          <p:nvPr/>
        </p:nvPicPr>
        <p:blipFill>
          <a:blip r:embed="rId1"/>
          <a:stretch/>
        </p:blipFill>
        <p:spPr>
          <a:xfrm>
            <a:off x="1476360" y="333360"/>
            <a:ext cx="5729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143000" y="4287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2 комплекс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тап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357200" y="2286000"/>
            <a:ext cx="692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диафрагмального типа дыхания в процессе ходь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 комплекс упражнений – это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е усвоенные в 1 комплексе упражнения </a:t>
            </a: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+ ходьб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SCN3983"/>
          <p:cNvPicPr/>
          <p:nvPr/>
        </p:nvPicPr>
        <p:blipFill>
          <a:blip r:embed="rId1"/>
          <a:stretch/>
        </p:blipFill>
        <p:spPr>
          <a:xfrm>
            <a:off x="1042920" y="404640"/>
            <a:ext cx="5924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N3981"/>
          <p:cNvPicPr/>
          <p:nvPr/>
        </p:nvPicPr>
        <p:blipFill>
          <a:blip r:embed="rId1"/>
          <a:stretch/>
        </p:blipFill>
        <p:spPr>
          <a:xfrm>
            <a:off x="1476360" y="189000"/>
            <a:ext cx="5492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SCN3982"/>
          <p:cNvPicPr/>
          <p:nvPr/>
        </p:nvPicPr>
        <p:blipFill>
          <a:blip r:embed="rId1"/>
          <a:stretch/>
        </p:blipFill>
        <p:spPr>
          <a:xfrm>
            <a:off x="1476360" y="260280"/>
            <a:ext cx="55846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SCN3980"/>
          <p:cNvPicPr/>
          <p:nvPr/>
        </p:nvPicPr>
        <p:blipFill>
          <a:blip r:embed="rId1"/>
          <a:stretch/>
        </p:blipFill>
        <p:spPr>
          <a:xfrm>
            <a:off x="1476360" y="260280"/>
            <a:ext cx="5234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SCN3984"/>
          <p:cNvPicPr/>
          <p:nvPr/>
        </p:nvPicPr>
        <p:blipFill>
          <a:blip r:embed="rId1"/>
          <a:stretch/>
        </p:blipFill>
        <p:spPr>
          <a:xfrm>
            <a:off x="1332000" y="260280"/>
            <a:ext cx="59245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3071880"/>
            <a:ext cx="8394840" cy="1214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928800" y="5716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 комплекс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ап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357200" y="1571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нировка диафрагмального дыхания и увеличение объема лег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Выноска со стрелкой вниз 3"/>
          <p:cNvSpPr/>
          <p:nvPr/>
        </p:nvSpPr>
        <p:spPr>
          <a:xfrm>
            <a:off x="1285920" y="3286080"/>
            <a:ext cx="6786360" cy="428760"/>
          </a:xfrm>
          <a:prstGeom prst="downArrowCallout">
            <a:avLst>
              <a:gd name="adj1" fmla="val 25063"/>
              <a:gd name="adj2" fmla="val 24988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714680" y="428616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жнение двигательной нагру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звитие ощущений движения органов д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льность : 4 не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й: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пражнение – 1 нед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–  3-5 мину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чение дня – 2-3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эффективн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ость и релуля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ение во все виды деятель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ые за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изкультурные занятия, за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использование усвоенных упражнений в ви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ческих и релаксационных пауз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ях всех в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течение 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SCN3985"/>
          <p:cNvPicPr/>
          <p:nvPr/>
        </p:nvPicPr>
        <p:blipFill>
          <a:blip r:embed="rId1"/>
          <a:stretch/>
        </p:blipFill>
        <p:spPr>
          <a:xfrm>
            <a:off x="1187280" y="404640"/>
            <a:ext cx="5924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SCN3986"/>
          <p:cNvPicPr/>
          <p:nvPr/>
        </p:nvPicPr>
        <p:blipFill>
          <a:blip r:embed="rId1"/>
          <a:stretch/>
        </p:blipFill>
        <p:spPr>
          <a:xfrm>
            <a:off x="1476360" y="260280"/>
            <a:ext cx="5173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CN3987"/>
          <p:cNvPicPr/>
          <p:nvPr/>
        </p:nvPicPr>
        <p:blipFill>
          <a:blip r:embed="rId1"/>
          <a:stretch/>
        </p:blipFill>
        <p:spPr>
          <a:xfrm>
            <a:off x="1476360" y="260280"/>
            <a:ext cx="5324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SCN3988"/>
          <p:cNvPicPr/>
          <p:nvPr/>
        </p:nvPicPr>
        <p:blipFill>
          <a:blip r:embed="rId1"/>
          <a:stretch/>
        </p:blipFill>
        <p:spPr>
          <a:xfrm>
            <a:off x="1839960" y="316080"/>
            <a:ext cx="49388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 rot="20352000">
            <a:off x="27000" y="1712520"/>
            <a:ext cx="8547120" cy="34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848000"/>
                </a:gradFill>
                <a:latin typeface="Palatino Linotype"/>
              </a:rPr>
              <a:t>СПАСИБО    ЗА    ВНИМАНИЕ  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848000"/>
              </a:gra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785880" y="1714680"/>
            <a:ext cx="77151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координаторных отношений между дыханием, туловищем и конеч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: 12-14 не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й: 3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2"/>
          <p:cNvSpPr/>
          <p:nvPr/>
        </p:nvSpPr>
        <p:spPr>
          <a:xfrm>
            <a:off x="2286000" y="500040"/>
            <a:ext cx="500076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глубленный вд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2786040" y="2286000"/>
            <a:ext cx="400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ипервент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приводит к головокруж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928880" y="4286160"/>
            <a:ext cx="592920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тодика дозированных «быстрых вдох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8"/>
          <p:cNvSpPr/>
          <p:nvPr/>
        </p:nvSpPr>
        <p:spPr>
          <a:xfrm>
            <a:off x="4643280" y="1571760"/>
            <a:ext cx="260640" cy="64296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9"/>
          <p:cNvSpPr/>
          <p:nvPr/>
        </p:nvSpPr>
        <p:spPr>
          <a:xfrm>
            <a:off x="4643280" y="350028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1 комплекс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ап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071720" y="1714680"/>
            <a:ext cx="678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детей выполнению двойных «быстрых вдохов» через нос в положении стоя с одновременным выполнением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N3974"/>
          <p:cNvPicPr/>
          <p:nvPr/>
        </p:nvPicPr>
        <p:blipFill>
          <a:blip r:embed="rId1"/>
          <a:stretch/>
        </p:blipFill>
        <p:spPr>
          <a:xfrm>
            <a:off x="2124000" y="404640"/>
            <a:ext cx="448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N3976"/>
          <p:cNvPicPr/>
          <p:nvPr/>
        </p:nvPicPr>
        <p:blipFill>
          <a:blip r:embed="rId1"/>
          <a:stretch/>
        </p:blipFill>
        <p:spPr>
          <a:xfrm>
            <a:off x="1116000" y="333360"/>
            <a:ext cx="5924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N3977"/>
          <p:cNvPicPr/>
          <p:nvPr/>
        </p:nvPicPr>
        <p:blipFill>
          <a:blip r:embed="rId1"/>
          <a:srcRect l="0" t="-145" r="0" b="0"/>
          <a:stretch/>
        </p:blipFill>
        <p:spPr>
          <a:xfrm>
            <a:off x="2043000" y="260280"/>
            <a:ext cx="49881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N3978"/>
          <p:cNvPicPr/>
          <p:nvPr/>
        </p:nvPicPr>
        <p:blipFill>
          <a:blip r:embed="rId1"/>
          <a:stretch/>
        </p:blipFill>
        <p:spPr>
          <a:xfrm>
            <a:off x="1258920" y="260280"/>
            <a:ext cx="5603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32Z</dcterms:created>
  <dc:creator>Учитель</dc:creator>
  <dc:description/>
  <dc:language>en-US</dc:language>
  <cp:lastModifiedBy>user</cp:lastModifiedBy>
  <dcterms:modified xsi:type="dcterms:W3CDTF">2013-03-24T10:14:36Z</dcterms:modified>
  <cp:revision>49</cp:revision>
  <dc:subject/>
  <dc:title>РАЗВИТИЕ РЕЧЕВОГО ДЫХАНИЯ У ДОШКОЛЬНИКОВ.</dc:title>
</cp:coreProperties>
</file>