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B79-3A29-459E-817C-8392AD52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B02-FA94-4F29-9ECE-5F08E536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B2E666-C6D7-4497-97C9-09DE0D7F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3AE154-B43D-47DA-8940-169832B1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EA1819-2C94-46A6-BE62-80DBFF4F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D956DB-6CF8-4A63-B062-70381A11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98A80E-37F6-43A8-8F3F-D9D20DE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98A5CD-6101-4C6E-A68E-4C76AEBE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53D01D-F116-47E1-A1CA-05E60E81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3663A0-4845-4620-A633-66CC8A5A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2DA1F-9929-4631-9D2B-1104133D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D8B-370A-44FB-9442-50E723D9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F94-F9FB-499B-A8FA-4213253E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4C42-A222-4000-87B8-E7CB0C26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8C2D-12AB-4A6F-83F4-90F7D9B9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D90F-47A6-4A37-B664-57027B06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D68D-2EE4-48AF-A726-F2729E79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B377-1ACD-4D6F-B2CA-FBA4B100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8D38-561D-432B-B8C3-C985A36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D11-ADA0-4828-8A25-0B332AC5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9E2-E674-432A-A17C-98E057D7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66D6-7FC0-4928-8E95-9EA95DA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0B2B-28F5-45B3-BE78-A7CC964C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3FBF-7B59-48BF-BAD1-9F795079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48E4-21F5-4760-B6D0-83BFCBD7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B0C8-55A7-4CF8-93AD-E9B0ED35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0017-C111-4B7E-9026-A0D464F6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987EF-BDCE-49AB-85FE-D489EDA4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97A4-3453-4341-AB00-2843016B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352D-87F3-4520-AA87-8CA8327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0D58-7374-4960-A3A9-A209E9E1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070-3065-495A-8D09-CC73A325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65EE-78F7-4F70-A43C-6B287F3C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6BC8-1FA3-45E5-83D4-FA27A437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C8A4-9E8D-4B58-B695-BBD64486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1DB9-4398-47DB-914B-0FDBF314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1A25-84D8-4ECE-BF48-40D4B387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BDEB-F1B9-48C5-B60C-9A03C530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950F-6486-40B3-92C4-431B2AA9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4977-9653-4B89-92F6-D160ABA6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9694-1BEF-421B-A7B6-4392994F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23D10-D25B-4B93-B33A-52D51098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06D-A2EF-4344-82E3-0F000618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E284-DC67-4B0D-B3D9-2BD47361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8557-B958-451E-9EA6-59DB4EA2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18C6-75D6-49E5-8FE9-C4E82DFD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42BD-12AA-4302-B8B6-F37E1EA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BA6A-7F7F-400F-80A6-B8FF96C5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7067-9538-489D-B80E-E1AACDB3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892D7-E1D6-41AB-B227-8CC7517C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89AD-5949-4177-91BC-67EB1767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A719-76AB-4F59-B9A5-D7F4B8EF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555A9-6425-45F0-8395-2BD667EC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463-343C-4C07-915D-AC3BFAE5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31B5-9A23-4112-943A-4EF68FAE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83FE-D3E1-46EB-AA64-52D43A48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228CB-947A-4BB9-A730-24CEA98F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8A446-1ED6-4EEB-B7C2-300140B5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FD01C-7687-452B-A2FF-51461F16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8280B-AD0F-48B2-936C-FBF2775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A35B-1F2A-4AF8-8E93-D639D718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08AA7-7C97-46FD-B3F2-05CD04D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AC7B8-4362-4C12-901F-404A1E6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A3AD9-F945-441F-A6AE-3005198B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BCD-210C-46B6-A2FD-3604DD5C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CB111-45C6-434A-BD6E-0E37874D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8F154-93F8-4F9F-B240-57C9F230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D7EA-BCD5-4C2B-BA48-8B7A27AE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1D012-FF0F-4095-9BD1-C78B934A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183A1-679D-490D-A6AB-A4A8E130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8308-3412-4AAD-A921-C32C0F37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F4461-341B-485D-B326-F8F6ED0D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D386-32EB-4761-9335-7C62E3E4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A6394-65B1-441E-9545-F54A5C4E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80511-2C29-4B9E-AB0F-FF9C7A43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2A8-D9C5-4215-A49A-6784C9F2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F2CA-E0DA-4669-B7A4-EED933CF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FDAA-15CB-4005-BD75-F81BE5C8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B5CA-E62E-4D84-8E78-230440CB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540FB-8F1B-4A29-8E0F-293EECF4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F5FA1-F1C5-4A10-97C8-71F3DE68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10C0A-1BC1-430B-A3BB-355AF405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E9A18-9F32-4EDE-8A2D-62CE88FA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B97D-F312-4C77-B0E3-B56ABBB8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E22CC-206A-4608-8333-A9879242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6EC45-9CBC-470C-873F-5C4AA4B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295-12C5-413E-8B92-8A6FAB8C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13F90-F731-424F-8261-812AA33D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B320-D4B1-4C76-BFFF-5C21C8A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26D0C-7912-4460-94D8-57528466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BA997-8EFF-4CBB-8B58-853F615F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DBEF1-9E4E-4E71-B829-AB31D056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26742-2563-498A-974C-2AB601C7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F55BA-8E42-480D-B509-874FB6D1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FF807-3347-4164-BF4D-7CEFE146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7B2CB-5836-4238-878A-ACDB13E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38A68-0AEF-4E93-9AB4-7E009121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863-1323-497B-95A4-10629539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F3C4D-65B1-4632-B696-E00F3EE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5268-D32B-4E7F-8C85-96B07D38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3F3CD-B76F-4EF4-A507-A7B701BB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1477D-63AB-4C74-A2C2-8BA3703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4CFDD-B899-4E44-865D-2FF2F061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78AAA-A3DC-4E41-A6DA-0C6F5377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D86FB-5E81-407C-9EF4-E8563611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499E1D-C324-4455-BB47-A71EEA97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5622C5-0D04-47ED-82EA-11B9787B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59261B-3AAD-4C2E-8DA0-15EEB76B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B66DB4-3265-49FF-839D-07E6AA9B23C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2E3141-86D0-4AAF-87F9-C2EC2F5FC33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2FF484-B75B-4A8B-9F47-BD19F3CC4B8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86FFD3-8830-4343-914D-F9645EF9115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98B2E0-0B42-46EC-BFD4-FCDF60346D8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EB7E04-6D0A-4CFE-86B0-3FDC4E3FB7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37B4EC-BF4F-4B99-B2C8-353449F303E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3AB50C-97C7-45A8-AF0C-41A0B3040D2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D35B73-D409-487E-96A1-725816F7573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7200" spc="-1" strike="noStrike">
                <a:solidFill>
                  <a:srgbClr val="a0d62e"/>
                </a:solidFill>
                <a:latin typeface="Trebuchet MS"/>
                <a:ea typeface="Times New Roman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a0d62e"/>
                </a:solidFill>
                <a:latin typeface="Trebuchet MS"/>
                <a:ea typeface="Times New Roman"/>
              </a:rPr>
              <a:t>Ислам</a:t>
            </a:r>
            <a:r>
              <a:rPr b="0" lang="en-US" sz="7200" spc="-1" strike="noStrike">
                <a:solidFill>
                  <a:srgbClr val="a0d62e"/>
                </a:solidFill>
                <a:latin typeface="Trebuchet MS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a0d62e"/>
                </a:solidFill>
                <a:latin typeface="Arial"/>
                <a:ea typeface="Times New Roman"/>
              </a:rPr>
              <a:t>дине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94920" y="4365360"/>
            <a:ext cx="848988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Башкарды: 4 сыйныф укучылары Багавиев Дани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                                      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Яруллин Инсаф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2700360" y="5580000"/>
            <a:ext cx="4876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76640"/>
            <a:ext cx="6348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90c226"/>
                </a:solidFill>
                <a:latin typeface="Times New Roman"/>
              </a:rPr>
              <a:t>Иг</a:t>
            </a:r>
            <a:r>
              <a:rPr b="1" lang="ru-RU" sz="4000" spc="-1" strike="noStrike">
                <a:solidFill>
                  <a:srgbClr val="90c226"/>
                </a:solidFill>
                <a:latin typeface="Times New Roman"/>
              </a:rPr>
              <a:t>ъ</a:t>
            </a:r>
            <a:r>
              <a:rPr b="1" lang="tt-RU" sz="4000" spc="-1" strike="noStrike">
                <a:solidFill>
                  <a:srgbClr val="90c226"/>
                </a:solidFill>
                <a:latin typeface="Times New Roman"/>
              </a:rPr>
              <a:t>тибарыгыз өчен зур рәхмәт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539640" y="378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лам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арәпчәдән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ar-AE" sz="2400" spc="-1" strike="noStrike">
                <a:solidFill>
                  <a:srgbClr val="404040"/>
                </a:solidFill>
                <a:latin typeface="Times New Roman"/>
                <a:cs typeface="Times New Roman"/>
              </a:rPr>
              <a:t>الإسلا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‎‎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-Islām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«Аллаһ тагәләгә буйсыну») дөнь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күләм диннәрнең берсе.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VII гасырда, гарәп җәмгыятендә монотеистик дин буларак барлыкка килә. Исламга нигез салучы булып “Аллаһ илчесе”, ягъни Чын Диннең төп һәм соңгы пәйгамбәре дип аталган Мөхәммәд тора. Ислам динен тотучыларны – мөселманнар дип атыйла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72010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-93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зге китаплары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39640" y="4800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Ислам диненә өйрәтүнең төп чыганагы – мөселманнарның изге китабы Коръән. Ул Мөхәммәд пәйгамбәргә Аллаһтан ирештерелгән, Аллаһның эч серләре җыентыгыннан гыйбарәт. «Коръән» сүзе – «укыла, әйтелә торган әйбер» дигәнне аңлат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832360" cy="38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63482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90c226"/>
                </a:solidFill>
                <a:latin typeface="Times New Roman"/>
              </a:rPr>
              <a:t>Гыйбадәтханә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211640" y="1052280"/>
            <a:ext cx="424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Мөселманнарның гыйбадәт кылуы өчен төзелгән корылмалары – мәчетләр. Мөселманнар тормышында мәчет аерым урын алын тора. Ул — гыйбадәтханә генә түгел, ә төрле вазифалар башкаручы җәмәгать йорты д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7" name="Text Placeholder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0258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600" spc="-1" strike="noStrike">
                <a:solidFill>
                  <a:srgbClr val="90c226"/>
                </a:solidFill>
                <a:latin typeface="Trebuchet MS"/>
              </a:rPr>
              <a:t>Ислам йолала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284360" y="1341000"/>
            <a:ext cx="309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Никах - гарәп теленнән кергән, өйләнешү дигән сүз, ягъни, мөселманнар-ның өйләнешү йоласы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0" name="Text Placeholder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4437000"/>
            <a:ext cx="7562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Ислам диненең гаилә йолалары арасыннан үзенчәлекле бер йоласы бар. Бу бала туу белән бәйле булган ир баланы 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сөннәткә утырту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 йоласы. Элек – электән ир балалары булган гаиләләр сөннәт йоласын үтиләр, чөнки бу ата-ананың изге бурычы. 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2" name="Text Placeholder 2" descr=""/>
          <p:cNvPicPr/>
          <p:nvPr/>
        </p:nvPicPr>
        <p:blipFill>
          <a:blip r:embed="rId1"/>
          <a:stretch/>
        </p:blipFill>
        <p:spPr>
          <a:xfrm>
            <a:off x="1403280" y="0"/>
            <a:ext cx="5113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564000" y="333360"/>
            <a:ext cx="43228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Гаиләдә бала туган көн ата-ана өчен зур шатлыклы көн. Дөньяга тагын бер кеше килү уңаеннан барысы да бер-берсен котлый. Шул вакытта алар өчен тагын бер җитди вакыйга—исем кушу йоласы уздырыла. Исем кеше язмышына зур йогынты ясый. 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4" name="Text Placeholder 2" descr=""/>
          <p:cNvPicPr/>
          <p:nvPr/>
        </p:nvPicPr>
        <p:blipFill>
          <a:blip r:embed="rId1"/>
          <a:stretch/>
        </p:blipFill>
        <p:spPr>
          <a:xfrm>
            <a:off x="0" y="260280"/>
            <a:ext cx="376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276720" y="259920"/>
            <a:ext cx="4114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600" spc="-1" strike="noStrike">
                <a:solidFill>
                  <a:srgbClr val="90c226"/>
                </a:solidFill>
                <a:latin typeface="Trebuchet MS"/>
              </a:rPr>
              <a:t>Бәйрәмнәр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3116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Мөселманнарда борынгыдан килгән ел фасылларына бәйле Сабан туйлары, Нәүрүз, Сөмбелә; ислам диненә бәйле Рамазан һәм Корбан бәйрәмнәре; йолаларга бәйле каз өмәсе, аулак өйләр бүгенге көндә дә сакланган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" name="Text Placeholder 2" descr=""/>
          <p:cNvPicPr/>
          <p:nvPr/>
        </p:nvPicPr>
        <p:blipFill>
          <a:blip r:embed="rId1"/>
          <a:stretch/>
        </p:blipFill>
        <p:spPr>
          <a:xfrm>
            <a:off x="0" y="233280"/>
            <a:ext cx="3780000" cy="21258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4608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600" spc="-1" strike="noStrike">
                <a:solidFill>
                  <a:srgbClr val="90c226"/>
                </a:solidFill>
                <a:latin typeface="Times New Roman"/>
              </a:rPr>
              <a:t>Йомгакла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4920" y="4076280"/>
            <a:ext cx="7777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1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</a:rPr>
              <a:t>Ислам - сафлык , тазалык, хаклык мәгънәсендә дә кулланыла. Ислам дине кешелек дөньясының яшәешен мәгънәле итәргә тырыша, сафлык , илаһилык белән сугара. Мөселман кешесе барлык эш – гамәлләрен сабырлык белән, уйлап башкарырга, игелекле һәм йомшак күңелле булырга тиеш.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</a:rPr>
              <a:t>Имансызлык - иң зур гөнаһларның беренчес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501" name="Text Placeholder 2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0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4:00:31Z</dcterms:created>
  <dc:creator>Customer</dc:creator>
  <dc:description/>
  <dc:language>en-US</dc:language>
  <cp:lastModifiedBy>Admin</cp:lastModifiedBy>
  <dcterms:modified xsi:type="dcterms:W3CDTF">2013-02-26T18:56:54Z</dcterms:modified>
  <cp:revision>13</cp:revision>
  <dc:subject/>
  <dc:title>Презентация ученика 10&lt;А&gt; класса на тему:&lt;Религии мира: Ислам&gt;</dc:title>
</cp:coreProperties>
</file>