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79C-A931-44E3-8E7D-6B5FF0D5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895-8F28-4A88-BA14-BABAC5BD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BC0D0-5C89-4DB1-ADAD-66D3DEE4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9BC20-520C-41AF-A2F3-2A333865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AA201-5116-4F9A-91E0-1785A243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E31CA-91A2-408B-A2E4-8BC1E18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6FC1B-95B0-4C66-81A1-93A51F1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6E66E-9DF5-4FB5-92F3-542D5C19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497E3-61D2-4CCD-AA69-E5A5EC2D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AA5D7A-72DC-4E4A-A834-7653C73B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C2F3A1-5A67-49E4-A197-C51D55EF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319-5542-4FB4-B9B4-47F794CB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C02-2C64-411A-962E-542A0457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604-0DB4-4C15-A983-DD59DDA8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5CF9-EBE6-458B-B547-3C8925E7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7B3D-B5AD-4E21-89A0-5D26B6E2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ABF2-3013-4C64-89C1-34419C9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1119-2BF0-40B7-A720-09C7CF46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E0F8-1AF9-42D3-844C-EDB5F5F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039-31DA-4E39-A793-C208E787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F9B-E00D-4403-9D98-C23D7968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855B-4EEE-4433-9C7C-E392B0B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C249-B855-4C7D-8C6B-9C74662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B230-CE00-44E7-AE27-360DE4AA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A96-3E4B-418A-A015-338007CA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67A6-43D7-49A4-95AB-7D41F1A1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C82B1-817D-4AC3-9D83-4C2B0F4F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2C93-30A9-4DEA-B6AB-A8F4EE44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9DA2-22BE-477D-960F-D3B13BD0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4074-C7CE-49C4-9E21-92F259B9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D77C-37B8-4137-8548-DE761EE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0DE-E15E-4EFE-BA28-4F48B982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995F-76BA-4937-B7FE-6F48F654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F3BF-262F-42BE-A730-46CC10FD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26AB-56BF-43B4-B1BC-87E269D1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66C91-A2CB-464E-871B-BA6F3CA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F28E-FD6B-4F2A-8C5D-1761038A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861B-68F2-4BF8-91B2-B66B0210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3EE43-C880-4C8C-BA5A-D0B4ABE3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A486-94D3-41CF-BB0A-9B31A10F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70F6D-9C58-40BC-BA6A-3F1F97E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AD5B-43C1-4977-8B61-F9BDF911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9D0-1F7B-4FB2-863B-5F5CB765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4BB6-682E-40B3-8F15-01DD894F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1401-E30F-4CD2-938B-64C3C030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31D69-B4F2-492A-8486-A4A2848C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B2E2-A092-48AB-B36A-ADE70AE8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5D0CD-7840-4DA3-81C0-AD1CE78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7C19-972F-4D62-B09E-0D778F5E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54C3-EFEC-4D2C-8098-EB4ECBB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68B1A-0D67-4E8F-8F69-F9E9B8A5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7BB3-70AA-4DF9-AADA-ABBD313E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14F0-8457-46AD-AF84-4F938BA8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F45-D2E8-42EB-8E71-CB7AB78B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788B-36A6-4DB5-988E-AFBD233D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F89E4-23BF-4902-914C-9B824E7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7C9C-FE70-4B42-A67E-6F1C195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5546-AC3D-4D60-BEEF-FE3CB98F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C898-A617-4EC7-836B-F7BD8F2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FBF8-1B85-40C3-92DF-69D9849C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D8CA8-8BBE-4D8D-BE7C-0E4F1A3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6EF5-B236-4B3D-82A9-A3D45DC3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B15D-71B2-4460-B648-4216C8DC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3504-61DF-42B1-BF99-90938CB8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395-9B0F-4692-BA5A-6CEF86A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8F19E-C70E-4E6F-8F9E-B76B2DAF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F254-D11C-45CF-9F12-76ABEA42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1788-8884-4B25-A382-A702D3F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BDA8-ABDA-48FB-AA4D-1F0909D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29A87-1245-4082-97CA-3E8AAE6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807B-DB24-4DC8-802E-2277D23C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5DBA-8D2C-4676-869C-452CB3A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AD5F-C660-47A9-8C6E-3FF827F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7CD4C-617C-4F66-91AD-440C8DD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641BF-4036-4935-9672-FA0E203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02A-5088-4EB2-895C-322259B4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EFD90-FDA3-4540-81D5-92DEFBF9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60BA-0837-43D7-888E-C7425907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F187-CBB6-4D18-B425-1C45ABC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92798-4C09-40AF-ACC9-B9FE9DBF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6C85-DC90-4283-9E99-34E8FDEC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A403-A6CE-4C73-A5D2-BD6D340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9831-D81D-4F2D-8395-EA1D09A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BBBD2-C3D6-4E2B-889C-A15D7491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40CFB-A06F-48D0-8DD1-AE86F4C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E7BA-A1E4-4E42-BB26-ACC78FFF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FBD-18A3-4037-AB0F-350A1A90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5B36-707D-474E-AF39-A549D84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DF66-2972-4EA9-BD00-E44837C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3EA7F-3F9B-4483-955D-098709C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8845-0634-4DB9-AF9A-1FE226D0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DD57-ABDC-46EE-985C-B153212F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EBB9F-E8ED-4DB1-AA9E-378DCA55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126CA-AA38-4BC3-A669-B85CE90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3F10E-2BFC-4E5F-A813-E0241EE9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40CD-93E8-48FD-9A82-D2DB7569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4BB06-AF2C-4EB2-B245-2A476E63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EFC-3817-454F-95E5-1DB188C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CBBE2-482D-4530-9631-8AFC592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5DAAF-773A-4CEF-BDA1-FDDDE319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2C8EB-1F13-49DB-B175-CDEEB32F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7D7C7-AC1C-42C2-94A8-9CD5DB75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11AD8-EA98-4CE0-A493-9DB640B6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6C73A-28C6-47DE-9176-00A3D525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AD86E-F17D-4993-847A-8F935CC5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70B8B-366E-4558-AF5C-5F0D888D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85167C-7745-47DA-AF61-5744CB8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7FBB99-0678-4C70-90E5-5E346B55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61F930-7589-4912-9C36-C81092F9AA9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252D54-FBF8-4C07-A2A5-3993305BFE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3E0E80-C8EF-463E-8C83-26B145C6FD7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EE9342-84A2-46A5-8A22-44865ABB73C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6D28BA-52A1-4BF5-A120-873013A6446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C28441-27F2-4089-A554-9FBA6E41969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791B5A-ADA2-476A-9AD6-ECDB05AF39B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390A08-7755-4217-A963-04859973EF2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2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2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6ECA2E-5F77-4609-92DB-DAE3571ED1D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2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7200" spc="-1" strike="noStrike">
                <a:solidFill>
                  <a:srgbClr val="a0d62e"/>
                </a:solidFill>
                <a:latin typeface="Trebuchet MS"/>
                <a:ea typeface="Times New Roman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a0d62e"/>
                </a:solidFill>
                <a:latin typeface="Trebuchet MS"/>
                <a:ea typeface="Times New Roman"/>
              </a:rPr>
              <a:t>Ислам</a:t>
            </a:r>
            <a:r>
              <a:rPr b="0" lang="en-US" sz="7200" spc="-1" strike="noStrike">
                <a:solidFill>
                  <a:srgbClr val="a0d62e"/>
                </a:solidFill>
                <a:latin typeface="Trebuchet MS"/>
                <a:ea typeface="Times New Roman"/>
              </a:rPr>
              <a:t> </a:t>
            </a:r>
            <a:r>
              <a:rPr b="0" lang="ru-RU" sz="7200" spc="-1" strike="noStrike">
                <a:solidFill>
                  <a:srgbClr val="a0d62e"/>
                </a:solidFill>
                <a:latin typeface="Arial"/>
                <a:ea typeface="Times New Roman"/>
              </a:rPr>
              <a:t>дине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94920" y="4365360"/>
            <a:ext cx="848988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Башкарды: 4 сыйныф укучылары Багавиев Дани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                                                         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Яруллин Инсаф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2700360" y="5580000"/>
            <a:ext cx="487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76640"/>
            <a:ext cx="6348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90c226"/>
                </a:solidFill>
                <a:latin typeface="Times New Roman"/>
              </a:rPr>
              <a:t>Иг</a:t>
            </a:r>
            <a:r>
              <a:rPr b="1" lang="ru-RU" sz="4000" spc="-1" strike="noStrike">
                <a:solidFill>
                  <a:srgbClr val="90c226"/>
                </a:solidFill>
                <a:latin typeface="Times New Roman"/>
              </a:rPr>
              <a:t>ъ</a:t>
            </a:r>
            <a:r>
              <a:rPr b="1" lang="tt-RU" sz="4000" spc="-1" strike="noStrike">
                <a:solidFill>
                  <a:srgbClr val="90c226"/>
                </a:solidFill>
                <a:latin typeface="Times New Roman"/>
              </a:rPr>
              <a:t>тибарыгыз өчен зур рәхмәт!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539640" y="378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лам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рәпчәдән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ar-AE" sz="2400" spc="-1" strike="noStrike">
                <a:solidFill>
                  <a:srgbClr val="404040"/>
                </a:solidFill>
                <a:latin typeface="Times New Roman"/>
                <a:cs typeface="Times New Roman"/>
              </a:rPr>
              <a:t>الإسلا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‎‎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l-Islām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«Аллаһ тагәләгә буйсыну») дөнь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күләм диннәрнең берсе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VII гасырда, гарәп җәмгыятендә монотеистик дин буларак барлыкка килә. Исламга нигез салучы булып “Аллаһ илчесе”, ягъни Чын Диннең төп һәм соңгы пәйгамбәре дип аталган Мөхәммәд тора. Ислам динен тотучыларны – мөселманнар дип атыйлар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2010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-93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Изге китаплары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39640" y="4800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Ислам диненә өйрәтүнең төп чыганагы – мөселманнарның изге китабы Коръән. Ул Мөхәммәд пәйгамбәргә Аллаһтан ирештерелгән, Аллаһның эч серләре җыентыгыннан гыйбарәт. «Коръән» сүзе – «укыла, әйтелә торган әйбер» дигәнне аңлат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83236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63482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90c226"/>
                </a:solidFill>
                <a:latin typeface="Times New Roman"/>
              </a:rPr>
              <a:t>Гыйбадәтханә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211640" y="1052280"/>
            <a:ext cx="424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Мөселманнарның гыйбадәт кылуы өчен төзелгән корылмалары – мәчетләр. Мөселманнар тормышында мәчет аерым урын алын тора. Ул — гыйбадәтханә генә түгел, ә төрле вазифалар башкаручы җәмәгать йорты д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7" name="Text Placeholder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258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>
                <a:solidFill>
                  <a:srgbClr val="90c226"/>
                </a:solidFill>
                <a:latin typeface="Trebuchet MS"/>
              </a:rPr>
              <a:t>Ислам йолалар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284360" y="1341000"/>
            <a:ext cx="309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Никах - гарәп теленнән кергән, өйләнешү дигән сүз, ягъни, мөселманнар-ның өйләнешү йоласы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0" name="Text Placeholder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4437000"/>
            <a:ext cx="7562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Ислам диненең гаилә йолалары арасыннан үзенчәлекле бер йоласы бар. Бу бала туу белән бәйле булган ир баланы 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сөннәткә утырту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 йоласы. Элек – электән ир балалары булган гаиләләр сөннәт йоласын үтиләр, чөнки бу ата-ананың изге бурычы. 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2" name="Text Placeholder 2" descr=""/>
          <p:cNvPicPr/>
          <p:nvPr/>
        </p:nvPicPr>
        <p:blipFill>
          <a:blip r:embed="rId1"/>
          <a:stretch/>
        </p:blipFill>
        <p:spPr>
          <a:xfrm>
            <a:off x="1403280" y="0"/>
            <a:ext cx="5113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564000" y="333360"/>
            <a:ext cx="43228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Гаиләдә бала туган көн ата-ана өчен зур шатлыклы көн. Дөньяга тагын бер кеше килү уңаеннан барысы да бер-берсен котлый. Шул вакытта алар өчен тагын бер җитди вакыйга—исем кушу йоласы уздырыла. Исем кеше язмышына зур йогынты ясый. 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4" name="Text Placeholder 2" descr=""/>
          <p:cNvPicPr/>
          <p:nvPr/>
        </p:nvPicPr>
        <p:blipFill>
          <a:blip r:embed="rId1"/>
          <a:stretch/>
        </p:blipFill>
        <p:spPr>
          <a:xfrm>
            <a:off x="0" y="260280"/>
            <a:ext cx="376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4114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>
                <a:solidFill>
                  <a:srgbClr val="90c226"/>
                </a:solidFill>
                <a:latin typeface="Trebuchet MS"/>
              </a:rPr>
              <a:t>Бәйрәмнәр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3116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Мөселманнарда борынгыдан килгән ел фасылларына бәйле Сабан туйлары, Нәүрүз, Сөмбелә; ислам диненә бәйле Рамазан һәм Корбан бәйрәмнәре; йолаларга бәйле каз өмәсе, аулак өйләр бүгенге көндә дә сакланган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97" name="Text Placeholder 2" descr=""/>
          <p:cNvPicPr/>
          <p:nvPr/>
        </p:nvPicPr>
        <p:blipFill>
          <a:blip r:embed="rId1"/>
          <a:stretch/>
        </p:blipFill>
        <p:spPr>
          <a:xfrm>
            <a:off x="0" y="233280"/>
            <a:ext cx="3780000" cy="21258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46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600" spc="-1" strike="noStrike">
                <a:solidFill>
                  <a:srgbClr val="90c226"/>
                </a:solidFill>
                <a:latin typeface="Times New Roman"/>
              </a:rPr>
              <a:t>Йомгаклау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4920" y="4076280"/>
            <a:ext cx="7777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</a:rPr>
              <a:t>Ислам - сафлык , тазалык, хаклык мәгънәсендә дә кулланыла. Ислам дине кешелек дөньясының яшәешен мәгънәле итәргә тырыша, сафлык , илаһилык белән сугара. Мөселман кешесе барлык эш – гамәлләрен сабырлык белән, уйлап башкарырга, игелекле һәм йомшак күңелле булырга тиеш.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tt-RU" sz="2400" spc="-1" strike="noStrike">
                <a:solidFill>
                  <a:srgbClr val="404040"/>
                </a:solidFill>
                <a:latin typeface="Times New Roman"/>
              </a:rPr>
              <a:t>Имансызлык - иң зур гөнаһларның беренчес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501" name="Text Placeholder 2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0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00:31Z</dcterms:created>
  <dc:creator>Customer</dc:creator>
  <dc:description/>
  <dc:language>en-US</dc:language>
  <cp:lastModifiedBy>Admin</cp:lastModifiedBy>
  <dcterms:modified xsi:type="dcterms:W3CDTF">2013-02-26T18:56:54Z</dcterms:modified>
  <cp:revision>13</cp:revision>
  <dc:subject/>
  <dc:title>Презентация ученика 10&lt;А&gt; класса на тему:&lt;Религии мира: Ислам&gt;</dc:title>
</cp:coreProperties>
</file>