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590-19F4-47DD-A369-7F45E752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C7C-3B39-4014-BA36-851386A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9E8-37F7-4D15-B2F2-4E85CC23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B8D-DD66-4C97-852C-19479364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40A-055B-4803-8D39-57A5427D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8A27-D1E5-4EC1-A9A4-CE99051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CE21-3A44-4FE1-A154-FB86BB9F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324-E580-4573-AA4D-B0CAB14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780B-C719-4CE4-98F8-AE700D08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9A1-D346-42D7-89F5-2DB3583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614-186D-40BF-A017-3FE34FD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9F2-DC7E-4FFD-A463-5EE05B1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16EC-1A6B-4D79-8E53-6DC9B9F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EE1B-381E-4331-8FBD-7195B3A1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3131-6120-4073-AF27-FFC4AEC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828C-83FF-4A8E-8664-C8716451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E5A2-43C9-43FC-A454-8DB3FE3C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42B4-9B69-4BCC-8F5C-A67AC3B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D690-49C5-4459-A008-6F196097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24EA9-3072-4B2C-B5F8-7B88276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2659-A038-4A92-A037-A4E330E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528B-AC36-47B9-B3FA-A20190F8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46C-8A65-42AB-8525-410016F3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8A4E-D2B6-4EBF-B11A-6C0F2F5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9F8E-A096-4306-A94E-3706C3B4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BE09-0AF4-4AEC-8AB7-B15B0BF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55F4-94A9-4249-87B5-92B37EE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0784-56BF-4679-A907-F48400DD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34A0-B9A9-4D1A-832F-159C2F02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CB68-33FE-4263-A3B4-9E33F83B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2425-FCDD-4183-9560-5A698282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D254-6ACC-4315-9B2D-293EF35C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3413C-FECD-479B-8D16-C0487D2B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5CA-DD92-48F5-B3C4-8504B698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767C-12A9-4B27-BCCD-5C3876D3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09D2-7F40-4CC6-A10E-73AF8B83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C1EC-488B-465D-BFCF-15C9852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5909-5945-4F87-8C3D-3D94BBE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4F56-44DC-4F7A-B360-A302431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B42E-2F07-41AF-BB07-A07E978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F265-071B-4A12-8ECF-C1165A46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6DD7-72FF-450A-9A51-FA5B4E47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EBDF9-CD6E-4502-B8B6-0795A82E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1370-1603-40C9-BD94-B2B92CE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9B4-CDDC-4AA8-BC75-DD5D5BE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DF04-6C3B-4932-AFBD-76C969D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915B-CB1E-4E8B-A407-ADC15E33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FBB5-4E6B-457D-B438-92DBA8D1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6F99-0F88-43DA-9BE5-77A6934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0E8E9-C014-4F9E-8548-F8BC1530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C748-EA61-48A6-A72A-11EAFCA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93429-3AC3-4338-8AC7-A997883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D315D-E00F-48B9-869A-409AF9A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6DBF-E7F4-41A9-B3D0-FD11BAD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B201D-74E2-499A-8635-17D90F9F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6AE-2307-45D1-83DF-855708C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72B6-A344-4DF2-96D1-BAE34AAA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85F0C-4170-4688-B05F-B002E252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B873-F37B-4701-BE3B-DEC08BC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4513-7C77-4227-8420-4F60DDC0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1487-6902-4D56-ADD2-7C337FE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5457-6BF8-4559-8DF5-4D931E22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BE223-609A-407A-AD63-F4FD37B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AA693-279D-41B7-9FD8-062C0AD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9C3C-EC6E-42AC-BB9C-35EE79D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3A75-23D2-41F0-A0E1-5FAC103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F9E-062D-42E3-B116-A3737588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6328-2DFB-4A6F-B30F-C2D6F212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B3DF-2F8D-49B8-9741-7FDB12E5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827E-FD5E-47DD-93F8-1D2FABE8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B415A-D06D-405E-84D8-B4B301F2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324C-7E81-448E-A67C-1ED58227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C01F1-8B17-47BE-A116-5A3D9E55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2BDBF-BAD5-4112-9373-6D1E11C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4DFF-A017-41AC-B3F2-21DF4D9C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65605-6922-40BE-98FF-D4F1DAEC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24CD5-FA21-41A3-9599-70BC43B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C78-E75C-4EA3-A86D-4AF45FD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E2441-4DD7-43C0-873B-DA8621A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86666-8324-4986-8CD0-95687E7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B10CF-176C-4F8D-AFD9-35F4B72E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34474-87D1-48B8-AE9F-0DF0C701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14D1-C41F-4C45-A036-16C1DB6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C31-C71D-4DCD-AFD9-6F0809AB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E2CC-F126-4BED-9E8B-8F22AE68E6A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0A69-C0DA-47BB-B9EC-B4846B4DA2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8AD-8FC2-4053-92A0-9065362E5FE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DB39-EDA6-44A2-880E-8E780745DF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3891-8931-474E-9A45-4B6EDC2890E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FA56-890E-44E8-891F-305A87885C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1E52-C81B-4F66-A0ED-8FCB2FD9CCF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4D6F-62DD-4BBA-AEBB-A162FDA3E3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ABE3-22C4-401E-8128-0792DBB1A32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E8CD-2C32-4107-A99F-B43754F2B92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D6A-A5E7-4313-AC52-C0A2E53C68A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8C07-6EC4-4BCC-8811-81FC308722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096-096F-4E2A-A19C-F1C945EDBD7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264D-A56A-4EF0-A616-488A2E6161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Documents and Settings\Loner-XP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 rot="580200">
            <a:off x="5866920" y="2421000"/>
            <a:ext cx="1800360" cy="2781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58560" y="1267920"/>
            <a:ext cx="4815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b1d15"/>
                </a:solidFill>
                <a:latin typeface="Corbel"/>
              </a:rPr>
              <a:t>Использование ИКТ на уроках </a:t>
            </a:r>
            <a:br>
              <a:rPr sz="3900"/>
            </a:br>
            <a:r>
              <a:rPr b="1" lang="ru-RU" sz="3900" spc="-1" strike="noStrike">
                <a:solidFill>
                  <a:srgbClr val="3b1d15"/>
                </a:solidFill>
                <a:latin typeface="Corbel"/>
              </a:rPr>
              <a:t>русского языка </a:t>
            </a:r>
            <a:br>
              <a:rPr sz="3900"/>
            </a:br>
            <a:r>
              <a:rPr b="1" lang="ru-RU" sz="3900" spc="-1" strike="noStrike">
                <a:solidFill>
                  <a:srgbClr val="3b1d15"/>
                </a:solidFill>
                <a:latin typeface="Corbel"/>
              </a:rPr>
              <a:t>при подготовке учащихся к ГИА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Corbel"/>
              </a:rPr>
              <a:t>Михайленко Т.В.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Corbel"/>
              </a:rPr>
              <a:t>учитель русского языка и литературы МАОУ СОШ №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Corbel"/>
              </a:rPr>
              <a:t>ст. Павловск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A47-7911-4EFB-B9F8-0B00FC87CC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7168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 В слове БЕСКОРЫСТНАЯ (предложение 32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СЧАСТЬЮ (предложение 2) первый звук – [щ’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БОЛЬШАЯ (предложение 29) мягкость согласного [л’]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(О) ЗВЕРЬЕ (предложение 15)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Прямоугольник 5" descr=""/>
          <p:cNvPicPr/>
          <p:nvPr/>
        </p:nvPicPr>
        <p:blipFill>
          <a:blip r:embed="rId1"/>
          <a:stretch/>
        </p:blipFill>
        <p:spPr>
          <a:xfrm>
            <a:off x="7711920" y="5357880"/>
            <a:ext cx="1292400" cy="1146240"/>
          </a:xfrm>
          <a:prstGeom prst="rect">
            <a:avLst/>
          </a:prstGeom>
          <a:ln w="0">
            <a:noFill/>
          </a:ln>
        </p:spPr>
      </p:pic>
      <p:sp>
        <p:nvSpPr>
          <p:cNvPr id="41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F1BB-D56B-45A8-B5C9-ACB0861CA4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7168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 В слове НЕИЗВЕСТНО (предложение 13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ВПРИСЯДКУ (предложение 22) первый звук [ф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УЛЫБАЯСЬ (предложение 26) мягкость согласного [с ] 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РУЧЬЁМ (предложение 5)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2928960" y="2786040"/>
            <a:ext cx="214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Прямоугольник 5" descr=""/>
          <p:cNvPicPr/>
          <p:nvPr/>
        </p:nvPicPr>
        <p:blipFill>
          <a:blip r:embed="rId1"/>
          <a:stretch/>
        </p:blipFill>
        <p:spPr>
          <a:xfrm>
            <a:off x="7711920" y="5357880"/>
            <a:ext cx="12924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6DE0-B47A-4654-9A09-95971C09EEF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71680" y="42876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 В слове СЧАСТЛИВ (предложение 34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УПРЯЖЬ (предложение 11) последний звук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– [ш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УБЕДИТЕЛЬНО (предложение 14) мягкость согласного [л '] 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ВЗДЫМАЮТСЯ (предложение 33)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71680" y="285840"/>
            <a:ext cx="811512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Прямоугольник 5" descr=""/>
          <p:cNvPicPr/>
          <p:nvPr/>
        </p:nvPicPr>
        <p:blipFill>
          <a:blip r:embed="rId1"/>
          <a:stretch/>
        </p:blipFill>
        <p:spPr>
          <a:xfrm>
            <a:off x="7924680" y="5499000"/>
            <a:ext cx="12924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AB7-5069-4299-A2FB-9230F8E3B3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7168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 В слове ИНТЕРЕСНЕЙШИЕ (предложение 9) количество букв и звуков совпада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ВСКОЧИЛ (предложение 14) первый звук – [ф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ДЕРЕВЬЯ (предложение 11) мягкость согласного [в’] 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ГРУСТНО (предложение 19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Прямоугольник 4" descr=""/>
          <p:cNvPicPr/>
          <p:nvPr/>
        </p:nvPicPr>
        <p:blipFill>
          <a:blip r:embed="rId1"/>
          <a:stretch/>
        </p:blipFill>
        <p:spPr>
          <a:xfrm>
            <a:off x="7723080" y="5284800"/>
            <a:ext cx="126864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EE9-9455-4FB5-9293-3FBE93DC62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292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8a14"/>
                </a:solidFill>
                <a:latin typeface="Georgia"/>
              </a:rPr>
              <a:t>Прочитайте предложения и подчеркните в них главную информацию. Используя прием свертывания, </a:t>
            </a:r>
            <a:r>
              <a:rPr b="1" lang="en-US" sz="1800" spc="-1" strike="noStrike">
                <a:solidFill>
                  <a:srgbClr val="aa8a14"/>
                </a:solidFill>
                <a:latin typeface="Georgia"/>
              </a:rPr>
              <a:t>     </a:t>
            </a:r>
            <a:r>
              <a:rPr b="1" lang="ru-RU" sz="1800" spc="-1" strike="noStrike">
                <a:solidFill>
                  <a:srgbClr val="aa8a14"/>
                </a:solidFill>
                <a:latin typeface="Georgia"/>
              </a:rPr>
              <a:t>сократите текст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84360" y="4221000"/>
            <a:ext cx="8064360" cy="222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нято считать, чт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чистый воздух нужен только людям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одтверждением тому являет­ся устойчивый оборот «как без воздуха», 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чистый воздух необходи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и в осо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точном производстве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так как из-за пыли машины преждевременно изнаш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истый воздух нужен не только людям, он необходим и в точном производ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755640" y="1557360"/>
            <a:ext cx="808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I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инято считать, что чистый воздух нужен только людям, подтверждением тому является устойчивый оборот «как без воздуха», но чистый воздух необходим и в особо точном производстве, так как из-за пыли машины преждевременно изнаш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ем свертывания суждений позволяет при анализе этого предложения выделить следующие ч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283680" y="18900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rbel"/>
              </a:rPr>
              <a:t>С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0B0A-EE60-4AC3-BCAF-286CA3FC6C6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353880"/>
            <a:ext cx="8351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Прочитайте предложения, рассказывающие об истории происхождения некоторых крылатых выражений. Сверните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ти предложения, выдел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a14"/>
                </a:solidFill>
                <a:latin typeface="Georgia"/>
              </a:rPr>
              <a:t>1) только значение крылатого вы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a14"/>
                </a:solidFill>
                <a:latin typeface="Georgia"/>
              </a:rPr>
              <a:t>2) только информацию об истории происхождения этого вы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редл.1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ражение «довести до белого каления» (разозлить до предела, до бешенства) основано на свойстве металла при нагревании светиться по-разному в зависимости от температуры: сначала красным светом, потом желтым и наконец ослепительно бе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редл.2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иск алхимиками, предшественниками современных химиков, философского камня, овладение которым считалось верхом удачи и счастья, пределом всех желаний, породил выражение, употребляемое сейчас в тех случаях, когда мы хотим сказать о поиске чего-то невозможного или попытке найти универсальный ключ к решению многи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редл.3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ражение «цепная реакция», обозначающее сейчас любой процесс, над которым человек потерял власть и контроль, все то, что, раз начавшись, развивается все шире и шире, изначально было введено учеными для обо­значения последовательного ряда чередующихся химических реа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5A0-E425-488B-8FBD-CD3E76705D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808200" y="1506600"/>
            <a:ext cx="78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a8a14"/>
                </a:solidFill>
                <a:uFillTx/>
                <a:latin typeface="Georgia"/>
              </a:rPr>
              <a:t>Предложение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) Довести до белого каления - очень сильно разоз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Выражение основано на свойстве металлов светиться при нагре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a8a14"/>
                </a:solidFill>
                <a:uFillTx/>
                <a:latin typeface="Georgia"/>
              </a:rPr>
              <a:t>Предложен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) Искать философский камень - пытаться решить невозмож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Выражение «искать философский ка­мень» возникло в то время, когда была широко распространена алхи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a8a14"/>
                </a:solidFill>
                <a:uFillTx/>
                <a:latin typeface="Georgia"/>
              </a:rPr>
              <a:t>Предложение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) Цепная реакция - вышедший из-под контроля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Выражение «цепная реакция» употреблялось учеными-химиками для обозначения ряда чередующихся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A57-DF88-4BF5-9AFA-C55CCE728F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6840" y="1599840"/>
            <a:ext cx="818676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6" name="Содержимое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704440" cy="62974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5"/>
          <p:cNvSpPr/>
          <p:nvPr/>
        </p:nvSpPr>
        <p:spPr>
          <a:xfrm>
            <a:off x="428760" y="1760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rbel"/>
              </a:rPr>
              <a:t>С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992-5976-4608-8444-E06F00CD3B1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1403280" y="836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rbel"/>
              </a:rPr>
              <a:t>Подготовка к написанию сочинения-рассуждения  на основе прочитанного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11200" y="1760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rbel"/>
              </a:rPr>
              <a:t>С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826920" y="2508480"/>
            <a:ext cx="743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ЛАН СОЧИНЕНИЯ-РАССУ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)Формулировка тезиса, связанного с темой сочинения и основной мыс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)Теоретически обоснованный и подтвержденный лингвистическими примерами из текста для чтения ответ на поставленный в теме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)Вывод (подтверждение тезиса).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DE6-729D-45DD-836A-3DD4C577BE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Виды сложносочиненных предложе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Определить вид ССП. Расставить знаки препинания, составить схему предл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) Гр…за прошла и ветка белых роз в окно мне дыш…т ароматом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) В ветер л..са шумят великим океанским гулом и в…ршины сосен гнутся (в)след пролетающим облакам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) Скромно вошла зима в березовую рощу ул…глась и сразу все вокруг заискрилось и поб…л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)Еще р…са в кустах густа и небо в ясной просини но лег на щеки августа густой румянец осени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5)В начале апреля уже шумели скворцы и л…тали в саду желтые бабочк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ГИА (В1-В9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В.3. Выпишите грамматическую основу предложения 4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В.6. Укажите количество грамматических основ в предложении 3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250920" y="765000"/>
            <a:ext cx="2592360" cy="790920"/>
          </a:xfrm>
          <a:prstGeom prst="rect">
            <a:avLst/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С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 соединительными сою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6227640" y="692280"/>
            <a:ext cx="2592360" cy="790560"/>
          </a:xfrm>
          <a:prstGeom prst="rect">
            <a:avLst/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С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 разделительными сою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3276720" y="765000"/>
            <a:ext cx="2590560" cy="790920"/>
          </a:xfrm>
          <a:prstGeom prst="rect">
            <a:avLst/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С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 противительными сою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BD9F-C68D-49BD-A28C-237638F03C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j0440424"/>
          <p:cNvPicPr/>
          <p:nvPr/>
        </p:nvPicPr>
        <p:blipFill>
          <a:blip r:embed="rId1"/>
          <a:stretch/>
        </p:blipFill>
        <p:spPr>
          <a:xfrm>
            <a:off x="7380360" y="4653000"/>
            <a:ext cx="1547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Текст 2"/>
          <p:cNvGrpSpPr/>
          <p:nvPr/>
        </p:nvGrpSpPr>
        <p:grpSpPr>
          <a:xfrm>
            <a:off x="378000" y="1231920"/>
            <a:ext cx="4200480" cy="871560"/>
            <a:chOff x="378000" y="1231920"/>
            <a:chExt cx="4200480" cy="871560"/>
          </a:xfrm>
        </p:grpSpPr>
        <p:pic>
          <p:nvPicPr>
            <p:cNvPr id="331" name="Текст 2" descr=""/>
            <p:cNvPicPr/>
            <p:nvPr/>
          </p:nvPicPr>
          <p:blipFill>
            <a:blip r:embed="rId1"/>
            <a:stretch/>
          </p:blipFill>
          <p:spPr>
            <a:xfrm>
              <a:off x="378000" y="1231920"/>
              <a:ext cx="42004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57200" y="1285920"/>
              <a:ext cx="40402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3360"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00000"/>
                  </a:solidFill>
                  <a:latin typeface="Corbel"/>
                </a:rPr>
                <a:t>Прочитайт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Содержимое 3"/>
          <p:cNvGrpSpPr/>
          <p:nvPr/>
        </p:nvGrpSpPr>
        <p:grpSpPr>
          <a:xfrm>
            <a:off x="60480" y="2077920"/>
            <a:ext cx="4518000" cy="4151520"/>
            <a:chOff x="60480" y="2077920"/>
            <a:chExt cx="4518000" cy="4151520"/>
          </a:xfrm>
        </p:grpSpPr>
        <p:pic>
          <p:nvPicPr>
            <p:cNvPr id="334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60480" y="2077920"/>
              <a:ext cx="451800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42920" y="2174760"/>
              <a:ext cx="435456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Гроза,(1) нахлынувшая тучей,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Смутит небесную лазур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И опрометчиво- безум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Вдруг на дубраву набежит,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И вся дубрава задрожит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(Ф. Тютче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Текст 4"/>
          <p:cNvGrpSpPr/>
          <p:nvPr/>
        </p:nvGrpSpPr>
        <p:grpSpPr>
          <a:xfrm>
            <a:off x="4565520" y="1231920"/>
            <a:ext cx="4200480" cy="871560"/>
            <a:chOff x="4565520" y="1231920"/>
            <a:chExt cx="4200480" cy="871560"/>
          </a:xfrm>
        </p:grpSpPr>
        <p:pic>
          <p:nvPicPr>
            <p:cNvPr id="337" name="Текст 4" descr=""/>
            <p:cNvPicPr/>
            <p:nvPr/>
          </p:nvPicPr>
          <p:blipFill>
            <a:blip r:embed="rId3"/>
            <a:stretch/>
          </p:blipFill>
          <p:spPr>
            <a:xfrm>
              <a:off x="4565520" y="1231920"/>
              <a:ext cx="42004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645080" y="1285920"/>
              <a:ext cx="40417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3360"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00000"/>
                  </a:solidFill>
                  <a:latin typeface="Corbel"/>
                </a:rPr>
                <a:t>Выполните зад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Содержимое 5"/>
          <p:cNvGrpSpPr/>
          <p:nvPr/>
        </p:nvGrpSpPr>
        <p:grpSpPr>
          <a:xfrm>
            <a:off x="4565520" y="2097000"/>
            <a:ext cx="4445280" cy="1579680"/>
            <a:chOff x="4565520" y="2097000"/>
            <a:chExt cx="4445280" cy="1579680"/>
          </a:xfrm>
        </p:grpSpPr>
        <p:pic>
          <p:nvPicPr>
            <p:cNvPr id="340" name="Содержимое 5" descr=""/>
            <p:cNvPicPr/>
            <p:nvPr/>
          </p:nvPicPr>
          <p:blipFill>
            <a:blip r:embed="rId4"/>
            <a:stretch/>
          </p:blipFill>
          <p:spPr>
            <a:xfrm>
              <a:off x="4565520" y="2097000"/>
              <a:ext cx="44452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645080" y="2174760"/>
              <a:ext cx="42847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1. Укажите слово, в котором написание гласного в окончании после шипящих зависит от ударен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TextBox 6"/>
          <p:cNvGrpSpPr/>
          <p:nvPr/>
        </p:nvGrpSpPr>
        <p:grpSpPr>
          <a:xfrm>
            <a:off x="1395360" y="304920"/>
            <a:ext cx="6353280" cy="811080"/>
            <a:chOff x="1395360" y="304920"/>
            <a:chExt cx="6353280" cy="811080"/>
          </a:xfrm>
        </p:grpSpPr>
        <p:pic>
          <p:nvPicPr>
            <p:cNvPr id="343" name="TextBox 6" descr=""/>
            <p:cNvPicPr/>
            <p:nvPr/>
          </p:nvPicPr>
          <p:blipFill>
            <a:blip r:embed="rId5"/>
            <a:stretch/>
          </p:blipFill>
          <p:spPr>
            <a:xfrm>
              <a:off x="1395360" y="304920"/>
              <a:ext cx="63532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476360" y="428760"/>
              <a:ext cx="619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Работа с мини-текст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10-конечная звезда 7"/>
          <p:cNvSpPr/>
          <p:nvPr/>
        </p:nvSpPr>
        <p:spPr>
          <a:xfrm>
            <a:off x="7572240" y="2357280"/>
            <a:ext cx="1357560" cy="121464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у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TextBox 8"/>
          <p:cNvGrpSpPr/>
          <p:nvPr/>
        </p:nvGrpSpPr>
        <p:grpSpPr>
          <a:xfrm>
            <a:off x="4511520" y="3638520"/>
            <a:ext cx="4424400" cy="1195560"/>
            <a:chOff x="4511520" y="3638520"/>
            <a:chExt cx="4424400" cy="1195560"/>
          </a:xfrm>
        </p:grpSpPr>
        <p:pic>
          <p:nvPicPr>
            <p:cNvPr id="347" name="TextBox 8" descr=""/>
            <p:cNvPicPr/>
            <p:nvPr/>
          </p:nvPicPr>
          <p:blipFill>
            <a:blip r:embed="rId6"/>
            <a:stretch/>
          </p:blipFill>
          <p:spPr>
            <a:xfrm>
              <a:off x="4511520" y="3638520"/>
              <a:ext cx="44244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4643280" y="3714840"/>
              <a:ext cx="4214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2. Укажите № запятой, которая выделяет обособленное определен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10-конечная звезда 9"/>
          <p:cNvSpPr/>
          <p:nvPr/>
        </p:nvSpPr>
        <p:spPr>
          <a:xfrm>
            <a:off x="7715160" y="3857760"/>
            <a:ext cx="914400" cy="914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TextBox 11"/>
          <p:cNvGrpSpPr/>
          <p:nvPr/>
        </p:nvGrpSpPr>
        <p:grpSpPr>
          <a:xfrm>
            <a:off x="4578480" y="4784760"/>
            <a:ext cx="4357440" cy="884160"/>
            <a:chOff x="4578480" y="4784760"/>
            <a:chExt cx="4357440" cy="884160"/>
          </a:xfrm>
        </p:grpSpPr>
        <p:pic>
          <p:nvPicPr>
            <p:cNvPr id="351" name="TextBox 11" descr=""/>
            <p:cNvPicPr/>
            <p:nvPr/>
          </p:nvPicPr>
          <p:blipFill>
            <a:blip r:embed="rId7"/>
            <a:stretch/>
          </p:blipFill>
          <p:spPr>
            <a:xfrm>
              <a:off x="4578480" y="4784760"/>
              <a:ext cx="4357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714920" y="4857840"/>
              <a:ext cx="414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3. Укажите № запятой, которая разделяет части ССП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10-конечная звезда 12"/>
          <p:cNvSpPr/>
          <p:nvPr/>
        </p:nvSpPr>
        <p:spPr>
          <a:xfrm>
            <a:off x="7929720" y="4857840"/>
            <a:ext cx="914400" cy="914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TextBox 13"/>
          <p:cNvGrpSpPr/>
          <p:nvPr/>
        </p:nvGrpSpPr>
        <p:grpSpPr>
          <a:xfrm>
            <a:off x="4651200" y="5565600"/>
            <a:ext cx="4432320" cy="890640"/>
            <a:chOff x="4651200" y="5565600"/>
            <a:chExt cx="4432320" cy="890640"/>
          </a:xfrm>
        </p:grpSpPr>
        <p:pic>
          <p:nvPicPr>
            <p:cNvPr id="355" name="TextBox 13" descr=""/>
            <p:cNvPicPr/>
            <p:nvPr/>
          </p:nvPicPr>
          <p:blipFill>
            <a:blip r:embed="rId8"/>
            <a:stretch/>
          </p:blipFill>
          <p:spPr>
            <a:xfrm>
              <a:off x="4651200" y="5565600"/>
              <a:ext cx="4432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786200" y="5643720"/>
              <a:ext cx="421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4. Подберите синоним к слову 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набежи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10-конечная звезда 14"/>
          <p:cNvSpPr/>
          <p:nvPr/>
        </p:nvSpPr>
        <p:spPr>
          <a:xfrm>
            <a:off x="6858000" y="5572080"/>
            <a:ext cx="200016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ле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7947-04B6-487F-A53E-3B7009CE6E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здничный подъем и оживление испытывали оглушенные грохотом люди, с лицами, мокрыми от водяной пыли..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689400" y="533520"/>
            <a:ext cx="827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ГИА (А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Укажите, в каком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в предложении слово </a:t>
            </a:r>
            <a:r>
              <a:rPr b="1" i="1" lang="ru-RU" sz="2800" spc="-1" strike="noStrike">
                <a:solidFill>
                  <a:srgbClr val="1e6439"/>
                </a:solidFill>
                <a:latin typeface="Corbel"/>
              </a:rPr>
              <a:t>«подъё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6000840" y="490644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12193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694880" y="434664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рога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48769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12193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48769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1765800" y="526104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5413320" y="434340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5438880" y="52610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рас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3918240" y="6019920"/>
            <a:ext cx="11516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j0440424"/>
          <p:cNvPicPr/>
          <p:nvPr/>
        </p:nvPicPr>
        <p:blipFill>
          <a:blip r:embed="rId1"/>
          <a:stretch/>
        </p:blipFill>
        <p:spPr>
          <a:xfrm>
            <a:off x="179280" y="147600"/>
            <a:ext cx="1224000" cy="1009800"/>
          </a:xfrm>
          <a:prstGeom prst="rect">
            <a:avLst/>
          </a:prstGeom>
          <a:ln w="0">
            <a:noFill/>
          </a:ln>
        </p:spPr>
      </p:pic>
      <p:sp>
        <p:nvSpPr>
          <p:cNvPr id="372" name="Номер слайда 1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C07-B26E-4D4C-A3A6-F8F653C0F1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 вдруг среди этого нежив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остранства берёзка. Тонкая и тиха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689400" y="533520"/>
            <a:ext cx="827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ГИА (А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Укажите, в каком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в предложении слово </a:t>
            </a:r>
            <a:r>
              <a:rPr b="1" i="1" lang="ru-RU" sz="2800" spc="-1" strike="noStrike">
                <a:solidFill>
                  <a:srgbClr val="1e6439"/>
                </a:solidFill>
                <a:latin typeface="Corbel"/>
              </a:rPr>
              <a:t>«тиха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6000840" y="490644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12193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704960" y="43466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або звуча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>
            <a:off x="48769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12193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9"/>
          <p:cNvSpPr/>
          <p:nvPr/>
        </p:nvSpPr>
        <p:spPr>
          <a:xfrm>
            <a:off x="48769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1743120" y="5261040"/>
            <a:ext cx="24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гружённа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мол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5420520" y="43434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пок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5372640" y="5261040"/>
            <a:ext cx="34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большой скор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быст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18240" y="6019920"/>
            <a:ext cx="11516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j0440424"/>
          <p:cNvPicPr/>
          <p:nvPr/>
        </p:nvPicPr>
        <p:blipFill>
          <a:blip r:embed="rId1"/>
          <a:stretch/>
        </p:blipFill>
        <p:spPr>
          <a:xfrm>
            <a:off x="179280" y="147600"/>
            <a:ext cx="1298520" cy="1069920"/>
          </a:xfrm>
          <a:prstGeom prst="rect">
            <a:avLst/>
          </a:prstGeom>
          <a:ln w="0">
            <a:noFill/>
          </a:ln>
        </p:spPr>
      </p:pic>
      <p:sp>
        <p:nvSpPr>
          <p:cNvPr id="386" name="Номер слайда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02DC-BFA5-48E3-907E-4F47AE2247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товимся к ГИ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258920" y="1412640"/>
            <a:ext cx="7423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кажите слово с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чередующейс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ласной в корн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сконально                  3)положен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исалось                          4) замечталос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каком слове правописание приставки определяется ее значением – «присоединение»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)подталкивают                  3)прислушал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) приобщился                     4) предыдуще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каком слове правописание НН определено правилом: «В именах существительных пишется столько же букв Н, сколько их пишется в производящей основе»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мственное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) жизненн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временнейших        4) письмен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20640" y="1413000"/>
            <a:ext cx="58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693000" y="2852640"/>
            <a:ext cx="58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693720" y="4508640"/>
            <a:ext cx="58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DCC3-A64C-4973-868B-F6C450A7E92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j0440424"/>
          <p:cNvPicPr/>
          <p:nvPr/>
        </p:nvPicPr>
        <p:blipFill>
          <a:blip r:embed="rId1"/>
          <a:stretch/>
        </p:blipFill>
        <p:spPr>
          <a:xfrm>
            <a:off x="7093080" y="5157720"/>
            <a:ext cx="15858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товимся к ГИ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8920" y="1557000"/>
            <a:ext cx="8463240" cy="718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приведенном ниже предложении из прочитанного текста пронумерованы все запятые. Выпишите цифры, обозначающие запятые при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вводно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слов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Если мы замечаем манеру человека себя держать, (1) его походку, (2) его поведение, (3) и по ним судим о человеке, (4) иногда, (5) впрочем, (6) ошибочно, (7) то язык человека – гораздо более точный показатель его человеческих качеств, его культур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приведенном ниже предложении из прочитанного текста пронумерованы все запятые. Выпишите цифру(ы), обозначающую(ие) запятую (ые) между частями сложного предложения, связанным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дчинительной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вязь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так, (1) есть язык народа, (2) как показатель его культуры, (3) и язык отдельного человека, (4) как показатель его личных качеств, (5) который пользуется языком наро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1270440" y="1268280"/>
            <a:ext cx="58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479160" y="3860640"/>
            <a:ext cx="58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FAE3-0B8A-42A7-BA3F-008E10C08D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j0440424"/>
          <p:cNvPicPr/>
          <p:nvPr/>
        </p:nvPicPr>
        <p:blipFill>
          <a:blip r:embed="rId1"/>
          <a:stretch/>
        </p:blipFill>
        <p:spPr>
          <a:xfrm>
            <a:off x="7164360" y="260280"/>
            <a:ext cx="1397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684360" y="765000"/>
            <a:ext cx="817704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6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 приведённых ниже предложениях из прочитанного текста пронумерованы все запятые.    Выпишите цифры, обозначающие  запятые  между  частям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ложносочинённого предлож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Лес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очень ранимое существо(1) и правила поведения в нём должны быть строгими. Лес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это дом для человека,(2) даже больше,(3) чем дом,(4) и правила поведения в нём,(5) уважение к его жителям должны быть не менее строгими,(6) чем в собственном дом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7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 приведённых ниже предложениях из прочитанного текста пронумерованы все запятые.     Выпишите     цифры,     обозначающие     запятые     между    частям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ложноподчинённого предлож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Это приводит к изменению растительности,(1) что,(2) в свою очередь,(3) уже сказывается на нас(4) людях. В жаркое время года банки,(5) бутылки,(6) особенно если они побиты,(7) превращаются в линзы,(8) концентрирующие, солнечные лучи и приводящие к самовозгоранию лесной подстил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52B0-8D70-4A3D-8784-EBA9432FD9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j0440424"/>
          <p:cNvPicPr/>
          <p:nvPr/>
        </p:nvPicPr>
        <p:blipFill>
          <a:blip r:embed="rId1"/>
          <a:stretch/>
        </p:blipFill>
        <p:spPr>
          <a:xfrm>
            <a:off x="179280" y="147600"/>
            <a:ext cx="93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Содержимое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11" descr=""/>
          <p:cNvPicPr/>
          <p:nvPr/>
        </p:nvPicPr>
        <p:blipFill>
          <a:blip r:embed="rId2"/>
          <a:stretch/>
        </p:blipFill>
        <p:spPr>
          <a:xfrm>
            <a:off x="1096920" y="-208080"/>
            <a:ext cx="6389640" cy="2256120"/>
          </a:xfrm>
          <a:prstGeom prst="rect">
            <a:avLst/>
          </a:prstGeom>
          <a:ln w="0">
            <a:noFill/>
          </a:ln>
        </p:spPr>
      </p:pic>
      <p:sp>
        <p:nvSpPr>
          <p:cNvPr id="40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D955-6A07-4D7A-AFFE-808F8E30ED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720" y="98100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2d2e"/>
                </a:solidFill>
                <a:latin typeface="Corbel"/>
              </a:rPr>
              <a:t>ГИА . Задания А1-А7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1-12T14:59:51Z</dcterms:modified>
  <cp:revision>22</cp:revision>
  <dc:subject/>
  <dc:title>Использование ИКТ при подготовке учащихся к ГИА</dc:title>
</cp:coreProperties>
</file>