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1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6.jpeg" ContentType="image/jpeg"/>
  <Override PartName="/ppt/media/image10.png" ContentType="image/png"/>
  <Override PartName="/ppt/media/image2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F9A1-0C92-4BA9-9E7F-B1313CA01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3C50-3F50-48C1-A8AC-FF603BC24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A7A3-1584-446F-8D7C-29CC91F2A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E72D-DB9D-4C1E-AAE7-86B7F188E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ED96B-FD09-4290-8247-CFD3E936D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E212A-9664-4224-8245-092340D0E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DD1E5-BCDA-4673-BCAD-991C0C894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1852C-2ECD-49C9-AACD-B4B36448A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32A2D-C354-488C-9055-3AF8DAB56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95AEA-3D21-42BA-99E8-1733AC935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0D597-9F7B-40B9-9CB0-200FD4EC9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4220-19DF-48B7-AF69-CC6FB16B7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323BB-7D6F-4BA9-B3FF-CC36B602E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84560-3C3E-4143-B27D-E26F7458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2545F-4B9E-454D-BECD-EBF936EB6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CDCC7-6999-48F4-BF21-BC61F16A2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16DB1-9566-41F7-9921-94A8329DD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465CF-3179-4ACB-A6A8-73B251847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365F4-402A-4BFC-BB42-B01B0E7EC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5DA04-03C9-403C-84E8-1F3E1C7DA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FB751-E3E0-40C3-8609-DCA71EB21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65430-F71C-4213-A032-94D7C0CA2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254B-1AF3-4D01-947A-69344E934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02474-0814-42E1-A84E-7BC72F7C8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1203D-B1CE-4937-9FEB-D50BEB494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08607-F24C-4E7B-AB64-64ABC3D6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D3E8B-8DE4-49AF-97CD-3258EF33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0BA17-31BB-4FBE-91D3-653257514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0386F-5B80-4053-8DBF-D1D9CE03A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D0A61-852A-44F2-B358-8D4660DE4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07F12-F790-4B4E-B5B5-86F3B3D91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AE7CD-26CA-40E5-B489-F3C4294BE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10E79-CFFF-4090-AC6B-4123C71DA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F988-7E40-4284-A992-BA9EF268D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76CB8-3AFE-46B7-A93E-86AE89C55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C0FD6-9CE7-4104-B8E9-93ED5F293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87AB9-E7B1-4308-BBC5-6760BA17B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7862F-AA10-43C1-9B75-4FDB255C1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420B8-5712-458D-B860-A723DA63C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B5BBF-53C2-47E9-8E1F-4F98F7BC0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37913-E997-465B-8C4B-38A38F386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858AB-2BC8-4CE9-B0E5-F59771792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5E9C0-1557-4637-B9F5-D295F1647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648ECF-4FDE-4C6E-818A-EEF6C3F5D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BA48-E32B-42E0-8D9B-C387ECF40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844A14-AF5A-4585-8A97-74638DD77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CDFF9D-B199-4085-BFDA-911807D28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A1A3E4-C43B-418A-8606-C3720E427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39401-53E4-42C9-AD6F-13A5E487C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3629A-D3BE-431F-BC6B-F7676CE2B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2AF47-171B-451C-97F2-CBB8E822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AD17E4-224B-4524-8D1D-172DD8C5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DAF0C3-B321-4F8B-8A77-1120FA4C2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BD6931-696B-4A91-8C1A-D36041E25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07310-EA5B-42B0-A7DD-DFE8DAAEA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4D52-9998-49C2-854D-2CBD5D4E7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95611-B698-46AB-A965-F60DAC9A0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C3E8DB-DC22-4356-BC10-869E0513B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FD732E-9B1F-4ADA-94F8-EE30E5047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84CD7D-6319-458F-A426-9FE2F9395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B623A-A475-4B5D-8184-D47929064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0AFD19-F3CB-4A59-AB35-F1815554C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FC1112-D260-4152-9561-F5FCFFB1D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2E1DEA-BBD2-4646-BEE4-0771370C9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203774-0385-4DCC-B901-91E7E052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63FF2-FC6F-4227-B34D-1AE9A8EF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8398-952A-419F-954F-9D4640A5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F449D3-310E-4065-A738-BBAD8228C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5EAEA0-9198-4EC8-AA52-6098ABE55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0A492-90B4-43C9-A3E4-324448598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601BF5-A3B7-477E-AA68-72766873D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AC28C6-B74C-48EB-A952-7880F7DCD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8FF383-BFE6-472D-8A93-85C9D8F95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AA17DF-DB99-4B6D-80AD-C20241D53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A7899F-32C3-4DB5-9F0B-5D902CDDD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73B1BE-59CD-4678-A50D-C558588B9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31E476-7262-45C2-9962-42DCEB936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9777-E3B5-4892-AEC6-721B60CD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21CA72-F84B-4F0D-B182-1E45022F0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37B30C-EDBD-4C04-BA0C-80B690A4A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A73B91-2418-44A1-9C1E-224855777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FEC2A8-AA0C-45EA-9923-DB49D2B59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75BD23-E2A6-4ACF-9DBE-33767CFB0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D50E-1032-4F2D-A549-BD87BC23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FA9CD-AE58-4B05-A00B-3B620A4D8A4B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27648-0104-4FCF-AB8F-E8D64EA217A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13202-2077-493C-836C-89C22ACF3660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66D23-9F93-44D9-851A-FB91CE019B4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CB272-32EB-46E7-9FCD-5161F10E9A0C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1BC13-479B-4636-8253-3280B91D57F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76BF7-FAEE-4345-90A7-67B4842B5C83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41635-B5C2-4142-A04D-C14E0E139C7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695F8-A48C-4EAB-A63F-E5995C50BC41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EA3AA-0197-41A9-BA0B-EBFBE24C989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4AFBA-3A91-44BD-A1C4-B295B992660B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D86B0-82D1-414D-98C3-6239007759F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DBF0D-C18B-49E5-8150-2524472DCBA9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D318A-CF17-4B44-BFAF-FE2A2A2EDEA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3" descr="C:\Documents and Settings\Loner-XP\Мои документы\Мои рисунки\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2" descr=""/>
          <p:cNvPicPr/>
          <p:nvPr/>
        </p:nvPicPr>
        <p:blipFill>
          <a:blip r:embed="rId2"/>
          <a:stretch/>
        </p:blipFill>
        <p:spPr>
          <a:xfrm rot="580200">
            <a:off x="5866920" y="2421000"/>
            <a:ext cx="1800360" cy="278136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258560" y="1267920"/>
            <a:ext cx="48150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b1d15"/>
                </a:solidFill>
                <a:latin typeface="Corbel"/>
              </a:rPr>
              <a:t>Использование ИКТ на уроках </a:t>
            </a:r>
            <a:br>
              <a:rPr sz="3900"/>
            </a:br>
            <a:r>
              <a:rPr b="1" lang="ru-RU" sz="3900" spc="-1" strike="noStrike">
                <a:solidFill>
                  <a:srgbClr val="3b1d15"/>
                </a:solidFill>
                <a:latin typeface="Corbel"/>
              </a:rPr>
              <a:t>русского языка </a:t>
            </a:r>
            <a:br>
              <a:rPr sz="3900"/>
            </a:br>
            <a:r>
              <a:rPr b="1" lang="ru-RU" sz="3900" spc="-1" strike="noStrike">
                <a:solidFill>
                  <a:srgbClr val="3b1d15"/>
                </a:solidFill>
                <a:latin typeface="Corbel"/>
              </a:rPr>
              <a:t>при подготовке учащихся к ГИА 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684000" y="5516640"/>
            <a:ext cx="8064360" cy="79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b1d15"/>
                </a:solidFill>
                <a:latin typeface="Corbel"/>
              </a:rPr>
              <a:t>Михайленко Т.В.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b1d15"/>
                </a:solidFill>
                <a:latin typeface="Corbel"/>
              </a:rPr>
              <a:t>учитель русского языка и литературы МАОУ СОШ №2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b1d15"/>
                </a:solidFill>
                <a:latin typeface="Corbel"/>
              </a:rPr>
              <a:t>ст. Павловско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Номер слайда 6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43EFF-61E5-462D-BE52-50C6C625DC7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571680" y="213840"/>
            <a:ext cx="822960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A4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Укажите ошибочное суждение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) В слове БЕСКОРЫСТНАЯ (предложение 32) согласный звук [т] является непроизносимым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2) В слове СЧАСТЬЮ (предложение 2) первый звук – [щ’]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3) В слове БОЛЬШАЯ (предложение 29) мягкость согласного [л’]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а письме обозначена буквой Ь (мягкий знак) 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4) В слове (О) ЗВЕРЬЕ (предложение 15) звуков больше, чем букв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9" name="Rectangle 3"/>
          <p:cNvSpPr/>
          <p:nvPr/>
        </p:nvSpPr>
        <p:spPr>
          <a:xfrm>
            <a:off x="571680" y="928800"/>
            <a:ext cx="8115120" cy="53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Прямоугольник 5" descr=""/>
          <p:cNvPicPr/>
          <p:nvPr/>
        </p:nvPicPr>
        <p:blipFill>
          <a:blip r:embed="rId1"/>
          <a:stretch/>
        </p:blipFill>
        <p:spPr>
          <a:xfrm>
            <a:off x="7711920" y="5357880"/>
            <a:ext cx="1292400" cy="1146240"/>
          </a:xfrm>
          <a:prstGeom prst="rect">
            <a:avLst/>
          </a:prstGeom>
          <a:ln w="0">
            <a:noFill/>
          </a:ln>
        </p:spPr>
      </p:pic>
      <p:sp>
        <p:nvSpPr>
          <p:cNvPr id="411" name="Номер слайда 4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456A9-26F1-4207-AA04-C132A5E2ECA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571680" y="213840"/>
            <a:ext cx="822960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A4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Укажите ошибочное суждение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1) В слове НЕИЗВЕСТНО (предложение 13) согласный звук [т] является непроизносимым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2) В слове ВПРИСЯДКУ (предложение 22) первый звук [ф]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3) В слове УЛЫБАЯСЬ (предложение 26) мягкость согласного [с ] на письме обозначена буквой Ь (мягкий знак) 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4) В слове РУЧЬЁМ (предложение 5) звуков больше, чем букв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Rectangle 3"/>
          <p:cNvSpPr/>
          <p:nvPr/>
        </p:nvSpPr>
        <p:spPr>
          <a:xfrm>
            <a:off x="571680" y="928800"/>
            <a:ext cx="8115120" cy="53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Содержимое 2"/>
          <p:cNvSpPr/>
          <p:nvPr/>
        </p:nvSpPr>
        <p:spPr>
          <a:xfrm>
            <a:off x="2928960" y="2786040"/>
            <a:ext cx="2142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Прямоугольник 5" descr=""/>
          <p:cNvPicPr/>
          <p:nvPr/>
        </p:nvPicPr>
        <p:blipFill>
          <a:blip r:embed="rId1"/>
          <a:stretch/>
        </p:blipFill>
        <p:spPr>
          <a:xfrm>
            <a:off x="7711920" y="5357880"/>
            <a:ext cx="1292400" cy="1146240"/>
          </a:xfrm>
          <a:prstGeom prst="rect">
            <a:avLst/>
          </a:prstGeom>
          <a:ln w="0">
            <a:noFill/>
          </a:ln>
        </p:spPr>
      </p:pic>
      <p:sp>
        <p:nvSpPr>
          <p:cNvPr id="416" name="Номер слайда 6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69D24-8500-4821-B1B1-8D0DB108583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571680" y="428760"/>
            <a:ext cx="857232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A4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Укажите ошибочное суждение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1) В слове СЧАСТЛИВ (предложение 34) согласный звук [т] является непроизносимым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2) В слове УПРЯЖЬ (предложение 11) последний звук 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– [ш]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3) В слове УБЕДИТЕЛЬНО (предложение 14) мягкость согласного [л '] на письме обозначена буквой Ь (мягкий знак) 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4) В слове ВЗДЫМАЮТСЯ (предложение 33) звуков больше, чем букв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8" name="Rectangle 3"/>
          <p:cNvSpPr/>
          <p:nvPr/>
        </p:nvSpPr>
        <p:spPr>
          <a:xfrm>
            <a:off x="571680" y="285840"/>
            <a:ext cx="8115120" cy="60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Прямоугольник 5" descr=""/>
          <p:cNvPicPr/>
          <p:nvPr/>
        </p:nvPicPr>
        <p:blipFill>
          <a:blip r:embed="rId1"/>
          <a:stretch/>
        </p:blipFill>
        <p:spPr>
          <a:xfrm>
            <a:off x="7924680" y="5499000"/>
            <a:ext cx="1292400" cy="1146240"/>
          </a:xfrm>
          <a:prstGeom prst="rect">
            <a:avLst/>
          </a:prstGeom>
          <a:ln w="0">
            <a:noFill/>
          </a:ln>
        </p:spPr>
      </p:pic>
      <p:sp>
        <p:nvSpPr>
          <p:cNvPr id="420" name="Номер слайда 4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2C428-077C-4689-ABFD-A40F7E850B9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571680" y="213840"/>
            <a:ext cx="822960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A4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Укажите ошибочное суждение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1) В слове ИНТЕРЕСНЕЙШИЕ (предложение 9) количество букв и звуков совпадает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2) В слове ВСКОЧИЛ (предложение 14) первый звук – [ф]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3) В слове ДЕРЕВЬЯ (предложение 11) мягкость согласного [в’] на письме обозначена буквой Ь (мягкий знак) 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4) В слове ГРУСТНО (предложение 19) согласный звук [т] является непроизносимым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Rectangle 3"/>
          <p:cNvSpPr/>
          <p:nvPr/>
        </p:nvSpPr>
        <p:spPr>
          <a:xfrm>
            <a:off x="571680" y="928800"/>
            <a:ext cx="8115120" cy="53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Прямоугольник 4" descr=""/>
          <p:cNvPicPr/>
          <p:nvPr/>
        </p:nvPicPr>
        <p:blipFill>
          <a:blip r:embed="rId1"/>
          <a:stretch/>
        </p:blipFill>
        <p:spPr>
          <a:xfrm>
            <a:off x="7723080" y="5284800"/>
            <a:ext cx="1268640" cy="1146240"/>
          </a:xfrm>
          <a:prstGeom prst="rect">
            <a:avLst/>
          </a:prstGeom>
          <a:ln w="0">
            <a:noFill/>
          </a:ln>
        </p:spPr>
      </p:pic>
      <p:sp>
        <p:nvSpPr>
          <p:cNvPr id="424" name="Номер слайда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4E446-C9D4-48F1-8943-8DCD920CB47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476360" y="260280"/>
            <a:ext cx="7292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a8a14"/>
                </a:solidFill>
                <a:latin typeface="Georgia"/>
              </a:rPr>
              <a:t>Прочитайте предложения и подчеркните в них главную информацию. Используя прием свертывания, </a:t>
            </a:r>
            <a:r>
              <a:rPr b="1" lang="en-US" sz="1800" spc="-1" strike="noStrike">
                <a:solidFill>
                  <a:srgbClr val="aa8a14"/>
                </a:solidFill>
                <a:latin typeface="Georgia"/>
              </a:rPr>
              <a:t>     </a:t>
            </a:r>
            <a:r>
              <a:rPr b="1" lang="ru-RU" sz="1800" spc="-1" strike="noStrike">
                <a:solidFill>
                  <a:srgbClr val="aa8a14"/>
                </a:solidFill>
                <a:latin typeface="Georgia"/>
              </a:rPr>
              <a:t>сократите текст.</a:t>
            </a:r>
            <a:br>
              <a:rPr sz="1800"/>
            </a:b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6" name="Text Box 3"/>
          <p:cNvSpPr/>
          <p:nvPr/>
        </p:nvSpPr>
        <p:spPr>
          <a:xfrm>
            <a:off x="684360" y="4221000"/>
            <a:ext cx="8064360" cy="2228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ринято считать, что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чистый воздух нужен только людям,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подтверждением тому являет­ся устойчивый оборот «как без воздуха», но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чистый воздух необходим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и в особо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точном производстве,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так как из-за пыли машины преждевременно изнашиваю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Georgia"/>
              </a:rPr>
              <a:t>Чистый воздух нужен не только людям, он необходим и в точном производст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4"/>
          <p:cNvSpPr/>
          <p:nvPr/>
        </p:nvSpPr>
        <p:spPr>
          <a:xfrm>
            <a:off x="755640" y="1557360"/>
            <a:ext cx="8083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I.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Принято считать, что чистый воздух нужен только людям, подтверждением тому является устойчивый оборот «как без воздуха», но чистый воздух необходим и в особо точном производстве, так как из-за пыли машины преждевременно изнашиваю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рием свертывания суждений позволяет при анализе этого предложения выделить следующие ча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283680" y="189000"/>
            <a:ext cx="112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Corbel"/>
              </a:rPr>
              <a:t>С2.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Номер слайда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65786-17CA-4E46-908C-EDB24CC9AC0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 Box 2"/>
          <p:cNvSpPr/>
          <p:nvPr/>
        </p:nvSpPr>
        <p:spPr>
          <a:xfrm>
            <a:off x="468360" y="353880"/>
            <a:ext cx="835164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II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. Прочитайте предложения, рассказывающие об истории происхождения некоторых крылатых выражений. Сверните 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эти предложения, выдели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a8a14"/>
                </a:solidFill>
                <a:latin typeface="Georgia"/>
              </a:rPr>
              <a:t>1) только значение крылатого выраж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a8a14"/>
                </a:solidFill>
                <a:latin typeface="Georgia"/>
              </a:rPr>
              <a:t>2) только информацию об истории происхождения этого выра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Предл.1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ыражение «довести до белого каления» (разозлить до предела, до бешенства) основано на свойстве металла при нагревании светиться по-разному в зависимости от температуры: сначала красным светом, потом желтым и наконец ослепительно бел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Предл.2.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оиск алхимиками, предшественниками современных химиков, философского камня, овладение которым считалось верхом удачи и счастья, пределом всех желаний, породил выражение, употребляемое сейчас в тех случаях, когда мы хотим сказать о поиске чего-то невозможного или попытке найти универсальный ключ к решению многих зада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Предл.3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ыражение «цепная реакция», обозначающее сейчас любой процесс, над которым человек потерял власть и контроль, все то, что, раз начавшись, развивается все шире и шире, изначально было введено учеными для обо­значения последовательного ряда чередующихся химических реакц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Номер слайда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B6689-6F52-4F3B-A5E6-B54BE9B51EC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роверим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3" name="Text Box 3"/>
          <p:cNvSpPr/>
          <p:nvPr/>
        </p:nvSpPr>
        <p:spPr>
          <a:xfrm>
            <a:off x="808200" y="1506600"/>
            <a:ext cx="78674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тве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aa8a14"/>
                </a:solidFill>
                <a:uFillTx/>
                <a:latin typeface="Georgia"/>
              </a:rPr>
              <a:t>Предложение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1) Довести до белого каления - очень сильно разозли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2) Выражение основано на свойстве металлов светиться при нагрева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aa8a14"/>
                </a:solidFill>
                <a:uFillTx/>
                <a:latin typeface="Georgia"/>
              </a:rPr>
              <a:t>Предложение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1) Искать философский камень - пытаться решить невозможн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2) Выражение «искать философский ка­мень» возникло в то время, когда была широко распространена алхим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aa8a14"/>
                </a:solidFill>
                <a:uFillTx/>
                <a:latin typeface="Georgia"/>
              </a:rPr>
              <a:t>Предложение 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1) Цепная реакция - вышедший из-под контроля процес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2) Выражение «цепная реакция» употреблялось учеными-химиками для обозначения ряда чередующихся химических реак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Номер слайда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42047-A5EE-4391-ABC1-4AF1009F834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456840" y="1599840"/>
            <a:ext cx="818676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36" name="Содержимое 2" descr=""/>
          <p:cNvPicPr/>
          <p:nvPr/>
        </p:nvPicPr>
        <p:blipFill>
          <a:blip r:embed="rId1"/>
          <a:stretch/>
        </p:blipFill>
        <p:spPr>
          <a:xfrm>
            <a:off x="195120" y="96840"/>
            <a:ext cx="8704440" cy="6297480"/>
          </a:xfrm>
          <a:prstGeom prst="rect">
            <a:avLst/>
          </a:prstGeom>
          <a:ln w="0">
            <a:noFill/>
          </a:ln>
        </p:spPr>
      </p:pic>
      <p:sp>
        <p:nvSpPr>
          <p:cNvPr id="437" name="Rectangle 5"/>
          <p:cNvSpPr/>
          <p:nvPr/>
        </p:nvSpPr>
        <p:spPr>
          <a:xfrm>
            <a:off x="428760" y="176040"/>
            <a:ext cx="112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Corbel"/>
              </a:rPr>
              <a:t>С2.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Номер слайда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63C64-0280-44AE-A0C0-23E49818CF5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Text Box 4"/>
          <p:cNvSpPr/>
          <p:nvPr/>
        </p:nvSpPr>
        <p:spPr>
          <a:xfrm>
            <a:off x="1403280" y="836640"/>
            <a:ext cx="69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Corbel"/>
              </a:rPr>
              <a:t>Подготовка к написанию сочинения-рассуждения  на основе прочитанного текс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511200" y="176040"/>
            <a:ext cx="112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Corbel"/>
              </a:rPr>
              <a:t>С2.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7"/>
          <p:cNvSpPr/>
          <p:nvPr/>
        </p:nvSpPr>
        <p:spPr>
          <a:xfrm>
            <a:off x="826920" y="2508480"/>
            <a:ext cx="74376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ПЛАН СОЧИНЕНИЯ-РАССУЖД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1)Формулировка тезиса, связанного с темой сочинения и основной мысл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2)Теоретически обоснованный и подтвержденный лингвистическими примерами из текста для чтения ответ на поставленный в теме вопро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3)Вывод (подтверждение тезиса).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Номер слайда 4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2C27C-8E5C-4F6C-A581-94111549FD5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3516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rbel"/>
              </a:rPr>
              <a:t>Виды сложносочиненных предложений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395280" y="1773000"/>
            <a:ext cx="8569440" cy="48956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Corbel"/>
              </a:rPr>
              <a:t>Определить вид ССП. Расставить знаки препинания, составить схему предложения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1) Гр…за прошла и ветка белых роз в окно мне дыш…т ароматом.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2) В ветер л..са шумят великим океанским гулом и в…ршины сосен гнутся (в)след пролетающим облакам.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3) Скромно вошла зима в березовую рощу ул…глась и сразу все вокруг заискрилось и поб…лело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4)Еще р…са в кустах густа и небо в ясной просини но лег на щеки августа густой румянец осени.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 5)В начале апреля уже шумели скворцы и л…тали в саду желтые бабочки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rbel"/>
              </a:rPr>
              <a:t>ГИА (В1-В9)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В.3. Выпишите грамматическую основу предложения 4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В.6. Укажите количество грамматических основ в предложении 3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Прямоугольник 3"/>
          <p:cNvSpPr/>
          <p:nvPr/>
        </p:nvSpPr>
        <p:spPr>
          <a:xfrm>
            <a:off x="250920" y="765000"/>
            <a:ext cx="2592360" cy="790920"/>
          </a:xfrm>
          <a:prstGeom prst="rect">
            <a:avLst/>
          </a:prstGeom>
          <a:solidFill>
            <a:srgbClr val="e7dec9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СС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с соединительными союз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Прямоугольник 4"/>
          <p:cNvSpPr/>
          <p:nvPr/>
        </p:nvSpPr>
        <p:spPr>
          <a:xfrm>
            <a:off x="6227640" y="692280"/>
            <a:ext cx="2592360" cy="790560"/>
          </a:xfrm>
          <a:prstGeom prst="rect">
            <a:avLst/>
          </a:prstGeom>
          <a:solidFill>
            <a:srgbClr val="e7dec9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СС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с разделительными союз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оугольник 5"/>
          <p:cNvSpPr/>
          <p:nvPr/>
        </p:nvSpPr>
        <p:spPr>
          <a:xfrm>
            <a:off x="3276720" y="765000"/>
            <a:ext cx="2590560" cy="790920"/>
          </a:xfrm>
          <a:prstGeom prst="rect">
            <a:avLst/>
          </a:prstGeom>
          <a:solidFill>
            <a:srgbClr val="e7dec9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СС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с противительными союз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омер слайда 6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F80CD-AFBB-4622-BE52-672AF5C0EAA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4" descr="j0440424"/>
          <p:cNvPicPr/>
          <p:nvPr/>
        </p:nvPicPr>
        <p:blipFill>
          <a:blip r:embed="rId1"/>
          <a:stretch/>
        </p:blipFill>
        <p:spPr>
          <a:xfrm>
            <a:off x="7380360" y="4653000"/>
            <a:ext cx="154764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Текст 2"/>
          <p:cNvGrpSpPr/>
          <p:nvPr/>
        </p:nvGrpSpPr>
        <p:grpSpPr>
          <a:xfrm>
            <a:off x="378000" y="1231920"/>
            <a:ext cx="4200480" cy="871560"/>
            <a:chOff x="378000" y="1231920"/>
            <a:chExt cx="4200480" cy="871560"/>
          </a:xfrm>
        </p:grpSpPr>
        <p:pic>
          <p:nvPicPr>
            <p:cNvPr id="331" name="Текст 2" descr=""/>
            <p:cNvPicPr/>
            <p:nvPr/>
          </p:nvPicPr>
          <p:blipFill>
            <a:blip r:embed="rId1"/>
            <a:stretch/>
          </p:blipFill>
          <p:spPr>
            <a:xfrm>
              <a:off x="378000" y="1231920"/>
              <a:ext cx="42004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457200" y="1285920"/>
              <a:ext cx="404028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63360"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c00000"/>
                  </a:solidFill>
                  <a:latin typeface="Corbel"/>
                </a:rPr>
                <a:t>Прочитайте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Содержимое 3"/>
          <p:cNvGrpSpPr/>
          <p:nvPr/>
        </p:nvGrpSpPr>
        <p:grpSpPr>
          <a:xfrm>
            <a:off x="60480" y="2077920"/>
            <a:ext cx="4518000" cy="4151520"/>
            <a:chOff x="60480" y="2077920"/>
            <a:chExt cx="4518000" cy="4151520"/>
          </a:xfrm>
        </p:grpSpPr>
        <p:pic>
          <p:nvPicPr>
            <p:cNvPr id="334" name="Содержимое 3" descr=""/>
            <p:cNvPicPr/>
            <p:nvPr/>
          </p:nvPicPr>
          <p:blipFill>
            <a:blip r:embed="rId2"/>
            <a:stretch/>
          </p:blipFill>
          <p:spPr>
            <a:xfrm>
              <a:off x="60480" y="2077920"/>
              <a:ext cx="4518000" cy="415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142920" y="2174760"/>
              <a:ext cx="4354560" cy="39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92040" indent="-2728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rbel"/>
                </a:rPr>
                <a:t>Гроза,(1) нахлынувшая тучей,(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92040" indent="-2728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rbel"/>
                </a:rPr>
                <a:t>Смутит небесную лазур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92040" indent="-2728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rbel"/>
                </a:rPr>
                <a:t>И опрометчиво- безумн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92040" indent="-2728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rbel"/>
                </a:rPr>
                <a:t>Вдруг на дубраву набежит,(3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92040" indent="-2728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rbel"/>
                </a:rPr>
                <a:t>И вся дубрава задрожит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92040" indent="-2728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rbel"/>
                </a:rPr>
                <a:t>                 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Corbel"/>
                </a:rPr>
                <a:t>(Ф. Тютчев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Текст 4"/>
          <p:cNvGrpSpPr/>
          <p:nvPr/>
        </p:nvGrpSpPr>
        <p:grpSpPr>
          <a:xfrm>
            <a:off x="4565520" y="1231920"/>
            <a:ext cx="4200480" cy="871560"/>
            <a:chOff x="4565520" y="1231920"/>
            <a:chExt cx="4200480" cy="871560"/>
          </a:xfrm>
        </p:grpSpPr>
        <p:pic>
          <p:nvPicPr>
            <p:cNvPr id="337" name="Текст 4" descr=""/>
            <p:cNvPicPr/>
            <p:nvPr/>
          </p:nvPicPr>
          <p:blipFill>
            <a:blip r:embed="rId3"/>
            <a:stretch/>
          </p:blipFill>
          <p:spPr>
            <a:xfrm>
              <a:off x="4565520" y="1231920"/>
              <a:ext cx="42004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4645080" y="1285920"/>
              <a:ext cx="404172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63360"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c00000"/>
                  </a:solidFill>
                  <a:latin typeface="Corbel"/>
                </a:rPr>
                <a:t>Выполните задания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Содержимое 5"/>
          <p:cNvGrpSpPr/>
          <p:nvPr/>
        </p:nvGrpSpPr>
        <p:grpSpPr>
          <a:xfrm>
            <a:off x="4565520" y="2097000"/>
            <a:ext cx="4445280" cy="1579680"/>
            <a:chOff x="4565520" y="2097000"/>
            <a:chExt cx="4445280" cy="1579680"/>
          </a:xfrm>
        </p:grpSpPr>
        <p:pic>
          <p:nvPicPr>
            <p:cNvPr id="340" name="Содержимое 5" descr=""/>
            <p:cNvPicPr/>
            <p:nvPr/>
          </p:nvPicPr>
          <p:blipFill>
            <a:blip r:embed="rId4"/>
            <a:stretch/>
          </p:blipFill>
          <p:spPr>
            <a:xfrm>
              <a:off x="4565520" y="2097000"/>
              <a:ext cx="4445280" cy="157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4645080" y="2174760"/>
              <a:ext cx="4284720" cy="13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92040" indent="-2728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rbel"/>
                </a:rPr>
                <a:t>1. Укажите слово, в котором написание гласного в окончании после шипящих зависит от ударения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TextBox 6"/>
          <p:cNvGrpSpPr/>
          <p:nvPr/>
        </p:nvGrpSpPr>
        <p:grpSpPr>
          <a:xfrm>
            <a:off x="1395360" y="304920"/>
            <a:ext cx="6353280" cy="811080"/>
            <a:chOff x="1395360" y="304920"/>
            <a:chExt cx="6353280" cy="811080"/>
          </a:xfrm>
        </p:grpSpPr>
        <p:pic>
          <p:nvPicPr>
            <p:cNvPr id="343" name="TextBox 6" descr=""/>
            <p:cNvPicPr/>
            <p:nvPr/>
          </p:nvPicPr>
          <p:blipFill>
            <a:blip r:embed="rId5"/>
            <a:stretch/>
          </p:blipFill>
          <p:spPr>
            <a:xfrm>
              <a:off x="1395360" y="304920"/>
              <a:ext cx="635328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1476360" y="428760"/>
              <a:ext cx="6191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00000"/>
                  </a:solidFill>
                  <a:latin typeface="Corbel"/>
                </a:rPr>
                <a:t>  </a:t>
              </a:r>
              <a:r>
                <a:rPr b="1" lang="ru-RU" sz="3200" spc="-1" strike="noStrike">
                  <a:solidFill>
                    <a:srgbClr val="c00000"/>
                  </a:solidFill>
                  <a:latin typeface="Corbel"/>
                </a:rPr>
                <a:t>Работа с мини-тексто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10-конечная звезда 7"/>
          <p:cNvSpPr/>
          <p:nvPr/>
        </p:nvSpPr>
        <p:spPr>
          <a:xfrm>
            <a:off x="7572240" y="2357280"/>
            <a:ext cx="1357560" cy="1214640"/>
          </a:xfrm>
          <a:prstGeom prst="pi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туч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TextBox 8"/>
          <p:cNvGrpSpPr/>
          <p:nvPr/>
        </p:nvGrpSpPr>
        <p:grpSpPr>
          <a:xfrm>
            <a:off x="4511520" y="3638520"/>
            <a:ext cx="4424400" cy="1195560"/>
            <a:chOff x="4511520" y="3638520"/>
            <a:chExt cx="4424400" cy="1195560"/>
          </a:xfrm>
        </p:grpSpPr>
        <p:pic>
          <p:nvPicPr>
            <p:cNvPr id="347" name="TextBox 8" descr=""/>
            <p:cNvPicPr/>
            <p:nvPr/>
          </p:nvPicPr>
          <p:blipFill>
            <a:blip r:embed="rId6"/>
            <a:stretch/>
          </p:blipFill>
          <p:spPr>
            <a:xfrm>
              <a:off x="4511520" y="3638520"/>
              <a:ext cx="4424400" cy="11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4643280" y="3714840"/>
              <a:ext cx="42148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rbel"/>
                </a:rPr>
                <a:t>2. Укажите № запятой, которая выделяет обособленное определение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10-конечная звезда 9"/>
          <p:cNvSpPr/>
          <p:nvPr/>
        </p:nvSpPr>
        <p:spPr>
          <a:xfrm>
            <a:off x="7715160" y="3857760"/>
            <a:ext cx="914400" cy="914400"/>
          </a:xfrm>
          <a:prstGeom prst="pi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1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TextBox 11"/>
          <p:cNvGrpSpPr/>
          <p:nvPr/>
        </p:nvGrpSpPr>
        <p:grpSpPr>
          <a:xfrm>
            <a:off x="4578480" y="4784760"/>
            <a:ext cx="4357440" cy="884160"/>
            <a:chOff x="4578480" y="4784760"/>
            <a:chExt cx="4357440" cy="884160"/>
          </a:xfrm>
        </p:grpSpPr>
        <p:pic>
          <p:nvPicPr>
            <p:cNvPr id="351" name="TextBox 11" descr=""/>
            <p:cNvPicPr/>
            <p:nvPr/>
          </p:nvPicPr>
          <p:blipFill>
            <a:blip r:embed="rId7"/>
            <a:stretch/>
          </p:blipFill>
          <p:spPr>
            <a:xfrm>
              <a:off x="4578480" y="4784760"/>
              <a:ext cx="4357440" cy="88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4714920" y="4857840"/>
              <a:ext cx="4143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rbel"/>
                </a:rPr>
                <a:t>3. Укажите № запятой, которая разделяет части ССП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10-конечная звезда 12"/>
          <p:cNvSpPr/>
          <p:nvPr/>
        </p:nvSpPr>
        <p:spPr>
          <a:xfrm>
            <a:off x="7929720" y="4857840"/>
            <a:ext cx="914400" cy="914400"/>
          </a:xfrm>
          <a:prstGeom prst="pi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TextBox 13"/>
          <p:cNvGrpSpPr/>
          <p:nvPr/>
        </p:nvGrpSpPr>
        <p:grpSpPr>
          <a:xfrm>
            <a:off x="4651200" y="5565600"/>
            <a:ext cx="4432320" cy="890640"/>
            <a:chOff x="4651200" y="5565600"/>
            <a:chExt cx="4432320" cy="890640"/>
          </a:xfrm>
        </p:grpSpPr>
        <p:pic>
          <p:nvPicPr>
            <p:cNvPr id="355" name="TextBox 13" descr=""/>
            <p:cNvPicPr/>
            <p:nvPr/>
          </p:nvPicPr>
          <p:blipFill>
            <a:blip r:embed="rId8"/>
            <a:stretch/>
          </p:blipFill>
          <p:spPr>
            <a:xfrm>
              <a:off x="4651200" y="5565600"/>
              <a:ext cx="4432320" cy="89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4786200" y="5643720"/>
              <a:ext cx="4214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rbel"/>
                </a:rPr>
                <a:t>4. Подберите синоним к слову </a:t>
              </a:r>
              <a:r>
                <a:rPr b="1" lang="ru-RU" sz="2000" spc="-1" strike="noStrike">
                  <a:solidFill>
                    <a:srgbClr val="000000"/>
                  </a:solidFill>
                  <a:latin typeface="Corbel"/>
                </a:rPr>
                <a:t>набежит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10-конечная звезда 14"/>
          <p:cNvSpPr/>
          <p:nvPr/>
        </p:nvSpPr>
        <p:spPr>
          <a:xfrm>
            <a:off x="6858000" y="5572080"/>
            <a:ext cx="2000160" cy="1143000"/>
          </a:xfrm>
          <a:prstGeom prst="pi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налет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Номер слайда 1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B8246-B328-4C1A-B3C2-BDEE68853CC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533520" y="2133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Праздничный подъем и оживление испытывали оглушенные грохотом люди, с лицами, мокрыми от водяной пыли..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Text Box 3"/>
          <p:cNvSpPr/>
          <p:nvPr/>
        </p:nvSpPr>
        <p:spPr>
          <a:xfrm>
            <a:off x="689400" y="533520"/>
            <a:ext cx="8273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Corbel"/>
              </a:rPr>
              <a:t>ГИА (А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e6439"/>
                </a:solidFill>
                <a:latin typeface="Corbel"/>
              </a:rPr>
              <a:t>Укажите, в каком значении употребля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e6439"/>
                </a:solidFill>
                <a:latin typeface="Corbel"/>
              </a:rPr>
              <a:t>в предложении слово </a:t>
            </a:r>
            <a:r>
              <a:rPr b="1" i="1" lang="ru-RU" sz="2800" spc="-1" strike="noStrike">
                <a:solidFill>
                  <a:srgbClr val="1e6439"/>
                </a:solidFill>
                <a:latin typeface="Corbel"/>
              </a:rPr>
              <a:t>«подъём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4"/>
          <p:cNvSpPr/>
          <p:nvPr/>
        </p:nvSpPr>
        <p:spPr>
          <a:xfrm>
            <a:off x="6000840" y="4906440"/>
            <a:ext cx="265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5"/>
          <p:cNvSpPr/>
          <p:nvPr/>
        </p:nvSpPr>
        <p:spPr>
          <a:xfrm>
            <a:off x="1219320" y="4419720"/>
            <a:ext cx="457200" cy="457200"/>
          </a:xfrm>
          <a:prstGeom prst="flowChartConnector">
            <a:avLst/>
          </a:prstGeom>
          <a:solidFill>
            <a:srgbClr val="aa8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6"/>
          <p:cNvSpPr/>
          <p:nvPr/>
        </p:nvSpPr>
        <p:spPr>
          <a:xfrm>
            <a:off x="1694880" y="4346640"/>
            <a:ext cx="216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дорога ввер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7"/>
          <p:cNvSpPr/>
          <p:nvPr/>
        </p:nvSpPr>
        <p:spPr>
          <a:xfrm>
            <a:off x="4876920" y="5257800"/>
            <a:ext cx="457200" cy="457200"/>
          </a:xfrm>
          <a:prstGeom prst="flowChartConnector">
            <a:avLst/>
          </a:prstGeom>
          <a:solidFill>
            <a:srgbClr val="aa8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8"/>
          <p:cNvSpPr/>
          <p:nvPr/>
        </p:nvSpPr>
        <p:spPr>
          <a:xfrm>
            <a:off x="1219320" y="5257800"/>
            <a:ext cx="457200" cy="457200"/>
          </a:xfrm>
          <a:prstGeom prst="flowChartConnector">
            <a:avLst/>
          </a:prstGeom>
          <a:solidFill>
            <a:srgbClr val="aa8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9"/>
          <p:cNvSpPr/>
          <p:nvPr/>
        </p:nvSpPr>
        <p:spPr>
          <a:xfrm>
            <a:off x="4876920" y="4419720"/>
            <a:ext cx="457200" cy="457200"/>
          </a:xfrm>
          <a:prstGeom prst="flowChartConnector">
            <a:avLst/>
          </a:prstGeom>
          <a:solidFill>
            <a:srgbClr val="aa8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0"/>
          <p:cNvSpPr/>
          <p:nvPr/>
        </p:nvSpPr>
        <p:spPr>
          <a:xfrm>
            <a:off x="1765800" y="5261040"/>
            <a:ext cx="216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озбуж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1"/>
          <p:cNvSpPr/>
          <p:nvPr/>
        </p:nvSpPr>
        <p:spPr>
          <a:xfrm>
            <a:off x="5413320" y="4343400"/>
            <a:ext cx="22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робуж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12"/>
          <p:cNvSpPr/>
          <p:nvPr/>
        </p:nvSpPr>
        <p:spPr>
          <a:xfrm>
            <a:off x="5438880" y="5261040"/>
            <a:ext cx="192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нарас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13"/>
          <p:cNvSpPr/>
          <p:nvPr/>
        </p:nvSpPr>
        <p:spPr>
          <a:xfrm>
            <a:off x="3918240" y="6019920"/>
            <a:ext cx="115164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rbe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4" descr="j0440424"/>
          <p:cNvPicPr/>
          <p:nvPr/>
        </p:nvPicPr>
        <p:blipFill>
          <a:blip r:embed="rId1"/>
          <a:stretch/>
        </p:blipFill>
        <p:spPr>
          <a:xfrm>
            <a:off x="179280" y="147600"/>
            <a:ext cx="1224000" cy="1009800"/>
          </a:xfrm>
          <a:prstGeom prst="rect">
            <a:avLst/>
          </a:prstGeom>
          <a:ln w="0">
            <a:noFill/>
          </a:ln>
        </p:spPr>
      </p:pic>
      <p:sp>
        <p:nvSpPr>
          <p:cNvPr id="372" name="Номер слайда 16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A3F58-3743-48A9-B9D3-E8E44000889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restart="whenNotActive" nodeType="interactiveSeq" fill="hold">
                <p:stCondLst>
                  <p:cond evt="onClick">
                    <p:tgtEl>
                      <p:spTgt spid="370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370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609120" y="2209680"/>
            <a:ext cx="815364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И вдруг среди этого неживого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пространства берёзка. Тонкая и тихая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Text Box 3"/>
          <p:cNvSpPr/>
          <p:nvPr/>
        </p:nvSpPr>
        <p:spPr>
          <a:xfrm>
            <a:off x="689400" y="533520"/>
            <a:ext cx="8273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Corbel"/>
              </a:rPr>
              <a:t>ГИА (А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e6439"/>
                </a:solidFill>
                <a:latin typeface="Corbel"/>
              </a:rPr>
              <a:t>Укажите, в каком значении употребля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e6439"/>
                </a:solidFill>
                <a:latin typeface="Corbel"/>
              </a:rPr>
              <a:t>в предложении слово </a:t>
            </a:r>
            <a:r>
              <a:rPr b="1" i="1" lang="ru-RU" sz="2800" spc="-1" strike="noStrike">
                <a:solidFill>
                  <a:srgbClr val="1e6439"/>
                </a:solidFill>
                <a:latin typeface="Corbel"/>
              </a:rPr>
              <a:t>«тихая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4"/>
          <p:cNvSpPr/>
          <p:nvPr/>
        </p:nvSpPr>
        <p:spPr>
          <a:xfrm>
            <a:off x="6000840" y="4906440"/>
            <a:ext cx="265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5"/>
          <p:cNvSpPr/>
          <p:nvPr/>
        </p:nvSpPr>
        <p:spPr>
          <a:xfrm>
            <a:off x="1219320" y="4419720"/>
            <a:ext cx="457200" cy="457200"/>
          </a:xfrm>
          <a:prstGeom prst="flowChartConnector">
            <a:avLst/>
          </a:prstGeom>
          <a:solidFill>
            <a:srgbClr val="aa8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1704960" y="4346640"/>
            <a:ext cx="25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лабо звучащ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7"/>
          <p:cNvSpPr/>
          <p:nvPr/>
        </p:nvSpPr>
        <p:spPr>
          <a:xfrm>
            <a:off x="4876920" y="5257800"/>
            <a:ext cx="457200" cy="457200"/>
          </a:xfrm>
          <a:prstGeom prst="flowChartConnector">
            <a:avLst/>
          </a:prstGeom>
          <a:solidFill>
            <a:srgbClr val="aa8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8"/>
          <p:cNvSpPr/>
          <p:nvPr/>
        </p:nvSpPr>
        <p:spPr>
          <a:xfrm>
            <a:off x="1219320" y="5257800"/>
            <a:ext cx="457200" cy="457200"/>
          </a:xfrm>
          <a:prstGeom prst="flowChartConnector">
            <a:avLst/>
          </a:prstGeom>
          <a:solidFill>
            <a:srgbClr val="aa8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9"/>
          <p:cNvSpPr/>
          <p:nvPr/>
        </p:nvSpPr>
        <p:spPr>
          <a:xfrm>
            <a:off x="4876920" y="4419720"/>
            <a:ext cx="457200" cy="457200"/>
          </a:xfrm>
          <a:prstGeom prst="flowChartConnector">
            <a:avLst/>
          </a:prstGeom>
          <a:solidFill>
            <a:srgbClr val="aa8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10"/>
          <p:cNvSpPr/>
          <p:nvPr/>
        </p:nvSpPr>
        <p:spPr>
          <a:xfrm>
            <a:off x="1743120" y="5261040"/>
            <a:ext cx="24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огружённая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безмол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1"/>
          <p:cNvSpPr/>
          <p:nvPr/>
        </p:nvSpPr>
        <p:spPr>
          <a:xfrm>
            <a:off x="5420520" y="4343400"/>
            <a:ext cx="177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покой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2"/>
          <p:cNvSpPr/>
          <p:nvPr/>
        </p:nvSpPr>
        <p:spPr>
          <a:xfrm>
            <a:off x="5372640" y="5261040"/>
            <a:ext cx="344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небольшой скорост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небыстр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3"/>
          <p:cNvSpPr/>
          <p:nvPr/>
        </p:nvSpPr>
        <p:spPr>
          <a:xfrm>
            <a:off x="3918240" y="6019920"/>
            <a:ext cx="115164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rbe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4" descr="j0440424"/>
          <p:cNvPicPr/>
          <p:nvPr/>
        </p:nvPicPr>
        <p:blipFill>
          <a:blip r:embed="rId1"/>
          <a:stretch/>
        </p:blipFill>
        <p:spPr>
          <a:xfrm>
            <a:off x="179280" y="147600"/>
            <a:ext cx="1298520" cy="1069920"/>
          </a:xfrm>
          <a:prstGeom prst="rect">
            <a:avLst/>
          </a:prstGeom>
          <a:ln w="0">
            <a:noFill/>
          </a:ln>
        </p:spPr>
      </p:pic>
      <p:sp>
        <p:nvSpPr>
          <p:cNvPr id="386" name="Номер слайда 1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EAC35-8737-4028-B284-21D3250FD5B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restart="whenNotActive" nodeType="interactiveSeq" fill="hold">
                <p:stCondLst>
                  <p:cond evt="onClick">
                    <p:tgtEl>
                      <p:spTgt spid="384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384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Готовимся к ГИ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1258920" y="1412640"/>
            <a:ext cx="74232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Укажите слово с </a:t>
            </a:r>
            <a:r>
              <a:rPr b="1" i="1" lang="ru-RU" sz="2000" spc="-1" strike="noStrike">
                <a:solidFill>
                  <a:srgbClr val="000000"/>
                </a:solidFill>
                <a:latin typeface="Corbel"/>
              </a:rPr>
              <a:t>чередующейся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гласной в корне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досконально                  3)положении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исалось                          4) замечталось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 каком слове правописание приставки определяется ее значением – «присоединение»?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1)подталкивают                  3)прислушался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2) приобщился                     4) предыдущего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 каком слове правописание НН определено правилом: «В именах существительных пишется столько же букв Н, сколько их пишется в производящей основе»?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умственное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3) жизненных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современнейших        4) письменности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TextBox 5"/>
          <p:cNvSpPr/>
          <p:nvPr/>
        </p:nvSpPr>
        <p:spPr>
          <a:xfrm>
            <a:off x="620640" y="1413000"/>
            <a:ext cx="588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А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6"/>
          <p:cNvSpPr/>
          <p:nvPr/>
        </p:nvSpPr>
        <p:spPr>
          <a:xfrm>
            <a:off x="693000" y="2852640"/>
            <a:ext cx="588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А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7"/>
          <p:cNvSpPr/>
          <p:nvPr/>
        </p:nvSpPr>
        <p:spPr>
          <a:xfrm>
            <a:off x="693720" y="4508640"/>
            <a:ext cx="588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А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Номер слайда 6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6AB46-336F-44ED-86B8-7B25CBA6008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4" descr="j0440424"/>
          <p:cNvPicPr/>
          <p:nvPr/>
        </p:nvPicPr>
        <p:blipFill>
          <a:blip r:embed="rId1"/>
          <a:stretch/>
        </p:blipFill>
        <p:spPr>
          <a:xfrm>
            <a:off x="7093080" y="5157720"/>
            <a:ext cx="1585800" cy="13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Готовимся к ГИ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178920" y="1557000"/>
            <a:ext cx="8463240" cy="718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 приведенном ниже предложении из прочитанного текста пронумерованы все запятые. Выпишите цифры, обозначающие запятые при </a:t>
            </a:r>
            <a:r>
              <a:rPr b="1" i="1" lang="ru-RU" sz="2000" spc="-1" strike="noStrike">
                <a:solidFill>
                  <a:srgbClr val="000000"/>
                </a:solidFill>
                <a:latin typeface="Corbel"/>
              </a:rPr>
              <a:t>вводном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слове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Если мы замечаем манеру человека себя держать, (1) его походку, (2) его поведение, (3) и по ним судим о человеке, (4) иногда, (5) впрочем, (6) ошибочно, (7) то язык человека – гораздо более точный показатель его человеческих качеств, его культуры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 приведенном ниже предложении из прочитанного текста пронумерованы все запятые. Выпишите цифру(ы), обозначающую(ие) запятую (ые) между частями сложного предложения, связанными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подчинительной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связью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Итак, (1) есть язык народа, (2) как показатель его культуры, (3) и язык отдельного человека, (4) как показатель его личных качеств, (5) который пользуется языком народ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TextBox 4"/>
          <p:cNvSpPr/>
          <p:nvPr/>
        </p:nvSpPr>
        <p:spPr>
          <a:xfrm>
            <a:off x="1270440" y="1268280"/>
            <a:ext cx="584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В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5"/>
          <p:cNvSpPr/>
          <p:nvPr/>
        </p:nvSpPr>
        <p:spPr>
          <a:xfrm>
            <a:off x="479160" y="3860640"/>
            <a:ext cx="584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В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Номер слайда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C7079-D331-492B-B734-A83DB32422A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4" descr="j0440424"/>
          <p:cNvPicPr/>
          <p:nvPr/>
        </p:nvPicPr>
        <p:blipFill>
          <a:blip r:embed="rId1"/>
          <a:stretch/>
        </p:blipFill>
        <p:spPr>
          <a:xfrm>
            <a:off x="7164360" y="260280"/>
            <a:ext cx="13971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684360" y="765000"/>
            <a:ext cx="8177040" cy="536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В6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. В приведённых ниже предложениях из прочитанного текста пронумерованы все запятые.    Выпишите цифры, обозначающие  запятые  между  частями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сложносочинённого предложения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rbel"/>
              </a:rPr>
              <a:t>Лес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— </a:t>
            </a:r>
            <a:r>
              <a:rPr b="1" i="1" lang="ru-RU" sz="2000" spc="-1" strike="noStrike">
                <a:solidFill>
                  <a:srgbClr val="000000"/>
                </a:solidFill>
                <a:latin typeface="Corbel"/>
              </a:rPr>
              <a:t>очень ранимое существо(1) и правила поведения в нём должны быть строгими. Лес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— </a:t>
            </a:r>
            <a:r>
              <a:rPr b="1" i="1" lang="ru-RU" sz="2000" spc="-1" strike="noStrike">
                <a:solidFill>
                  <a:srgbClr val="000000"/>
                </a:solidFill>
                <a:latin typeface="Corbel"/>
              </a:rPr>
              <a:t>это дом для человека,(2) даже больше,(3) чем дом,(4) и правила поведения в нём,(5) уважение к его жителям должны быть не менее строгими,(6) чем в собственном доме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В7.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В приведённых ниже предложениях из прочитанного текста пронумерованы все запятые.     Выпишите     цифры,     обозначающие     запятые     между    частями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сложноподчинённого предложения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rbel"/>
              </a:rPr>
              <a:t>Это приводит к изменению растительности,(1) что,(2) в свою очередь,(3) уже сказывается на нас(4) людях. В жаркое время года банки,(5) бутылки,(6) особенно если они побиты,(7) превращаются в линзы,(8) концентрирующие, солнечные лучи и приводящие к самовозгоранию лесной подстилк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1" name="Номер слайда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8915D-205A-4FBD-A7FD-F07E9A3434D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4" descr="j0440424"/>
          <p:cNvPicPr/>
          <p:nvPr/>
        </p:nvPicPr>
        <p:blipFill>
          <a:blip r:embed="rId1"/>
          <a:stretch/>
        </p:blipFill>
        <p:spPr>
          <a:xfrm>
            <a:off x="179280" y="147600"/>
            <a:ext cx="93672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3"/>
          <p:cNvSpPr/>
          <p:nvPr/>
        </p:nvSpPr>
        <p:spPr>
          <a:xfrm>
            <a:off x="571680" y="928800"/>
            <a:ext cx="8115120" cy="53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Содержимое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05" name="Прямоугольник 11" descr=""/>
          <p:cNvPicPr/>
          <p:nvPr/>
        </p:nvPicPr>
        <p:blipFill>
          <a:blip r:embed="rId2"/>
          <a:stretch/>
        </p:blipFill>
        <p:spPr>
          <a:xfrm>
            <a:off x="1096920" y="-208080"/>
            <a:ext cx="6389640" cy="2256120"/>
          </a:xfrm>
          <a:prstGeom prst="rect">
            <a:avLst/>
          </a:prstGeom>
          <a:ln w="0">
            <a:noFill/>
          </a:ln>
        </p:spPr>
      </p:pic>
      <p:sp>
        <p:nvSpPr>
          <p:cNvPr id="406" name="Номер слайда 4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8AEB4-69D5-4045-9582-A6A94E7B603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5"/>
          <p:cNvSpPr/>
          <p:nvPr/>
        </p:nvSpPr>
        <p:spPr>
          <a:xfrm>
            <a:off x="720" y="981000"/>
            <a:ext cx="343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32d2e"/>
                </a:solidFill>
                <a:latin typeface="Corbel"/>
              </a:rPr>
              <a:t>ГИА . Задания А1-А7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oner-XP</cp:lastModifiedBy>
  <dcterms:modified xsi:type="dcterms:W3CDTF">2012-01-12T14:59:51Z</dcterms:modified>
  <cp:revision>22</cp:revision>
  <dc:subject/>
  <dc:title>Использование ИКТ при подготовке учащихся к ГИА</dc:title>
</cp:coreProperties>
</file>