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6A76-5623-4A69-9334-2E46642B17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FDE-FBCE-4768-8121-2FCCEBB2BEC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941-381F-46A6-9B0C-DCFDC3EC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36B-C426-42F6-BD8E-9D14991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2A9-303A-4FFE-A1AD-662CF7CB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974-C985-4E29-95B6-4660FF3E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10C4-8C4F-4BFE-B6E6-ED16F21C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4DDE-6953-433C-9922-79C10C41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BF0-8924-467F-8C99-CFF17811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4D3-EE69-477C-BDC1-393D8A10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23F-E13D-4867-BC33-9D49B0D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ACB7-A58D-4CBF-8C8A-75EBD2A7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CF7F-F6CA-4491-9EE0-2F436941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CD4-D25B-4439-BDAB-AE02858E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95CC-720B-4FA7-B5D6-4CAFB31E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A205-4540-486C-8B93-6F16EB8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2366-3FC4-4784-880F-D12FC5FA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4C3B-348E-45B7-A059-73FC0F81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A9D4-7060-4B06-B0D6-5B27FB52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227-7018-4864-B4DA-F7284E77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C74-ED32-4529-96BB-417E6622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668-F6A8-463F-93E7-A0D29627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E4F-FA0F-4F2D-A83A-DA2B23CF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D8E-0E0E-4586-A7FE-D12C5BB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A6E-8446-4082-B45B-08B4716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C0E-7D43-4F99-93E3-F78820F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2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01BC-E7E1-45B3-AC6B-A8E4FD9BE1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custGeom>
                  <a:avLst/>
                  <a:gdLst>
                    <a:gd name="textAreaLeft" fmla="*/ 0 w 430920"/>
                    <a:gd name="textAreaRight" fmla="*/ 431280 w 4309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custGeom>
                  <a:avLst/>
                  <a:gdLst>
                    <a:gd name="textAreaLeft" fmla="*/ 0 w 1214640"/>
                    <a:gd name="textAreaRight" fmla="*/ 1214640 w 1214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2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534D-C7AB-45A2-A07E-447785FA2B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00800" cy="34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Участие населения в осуществлении публичной  власти в  Хабаровском кра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3573360"/>
            <a:ext cx="6032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рочкова Елизавет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ца 10 А класс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БОУ СОШ с УИОП № 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. Хабаровс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ководитель: Салова Ирина Аркад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мативно-правовая баз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титуция Р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Федеральный конституционный закон «О референдуме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б основных гарантиях избирательных прав и права на участие в референдуме граждан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 выборах Президента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«О выборах депутатов Государственной Думы Федерального Собрания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став Хабаровского кр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бирательный кодекс Хабаровского края (в редакции от 27 июня 2012 года N 197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тав Хабаровского кра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главе второй устава Хабаровского края  - Основы государственно-правового положения Хабаровского края – говорится о государственно – правовом статусе Хабаровского края.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Хабаровской крае является народ края как часть народа Российской Федерации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сударственная  власть в Хабаровском крае осуществляется на основе разделения на законодательную, исполнительную и судебную; единства системы государственной власти; разграничения предметов   ведения и полномочий между органами государственной власти Российской  Федерации и органами государственной власти Хабаровского края, между органами государственной власти субъекта  Российской  Федерации и органами местного самоуправления Хабаровского края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рактеристика государственной власти в Хабаровском кра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жной формой  участия граждан в управлении делами государства является представительная демократия, реализуемая через депутат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конодательную власть в Хабаровском крае осуществляет законодательный (представительный) орган государственной власти Хабаровского края - Законодательная Дума Хабаровского края. Дума является постоянно действующим высшим и единственным органом законодательной власти Хабаровского кра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ума состоит из 26 депутатов, избранных на четыре года, из которых 13 депутатов избираются по одномандатным избирательным округам и 13 депутатов - по единому избирательному округу, образуемому на всей территории края, пропорционально числу голосов, поданных за списки кандидатов в депутаты, выдвинутые избирательными объединениями, избирательными блоками в соответствии с законодательством о выбора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ажнейшей формой участия граждан в управлении делами государства, а также высшим непосредственным выражением власти народа являются свободные выбо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рмативным документом  регулирующим выборы является Избирательный кодекс Хабаровского края.  Цель Избирательного кодекса Хабаровского края состоит в правовом регулировании назначения, подготовки, проведения выборов и определения результатов выборов депутатов Законодательной Думы Хабаровского края, Губернатора Хабаровского края, депутатов представительных органов муниципальных  образований, глав муниципальных образований, в обеспечении гарантий избирательных прав граждан Российской Федерации на выборах в Хабаровском кра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казы и обращения избира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жной и действенной  формой взаимодействия депутатов  Думы и избирателей  я считаю наказы  и обращения избирателей и отчёты депутатов о их выполнении.  На сайте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http://www.duma.khv.ru/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убликованы отчёты депутатов Законодательной Думы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абаровского края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формация об отчёт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веду в качестве примера  информацию об  отчётах депутатов Законодательной Думы за  2012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1 ноября 2012 года Отчет депутата Законодательной Думы Хабаровского края по Железнодорожному избирательному округу № 3 Исакова Евгения Николаевича о работе по обращениям гражда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 октябр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 III квартале 2012 год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9 июля 2012 года Сергей Ящук: «Чем выше процент здорового населения края, тем выше показатель качества работы медперсонала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3 июля 2012 года Информация о работе постоянного комитета Законодательной Думы Хабаровского края по законности и социальной защите населения за I полугодие 2012 год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 июля 2012 года Информация о работе постоянного комитета Законодательной Думы Хабаровского края по законности и социальной защите населения за I полугодие 2012 го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июл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о II квартале 2012 го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9 мая 2012 года  О работе с обращениями граждан депутата Законодательной Думы Хабаровского края Пудовкиной Наталии Алексеев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 апреля 2012 года  Информация о работе постоянного комитета Законодательной Думы Хабаровского края по законности и социальной защите насел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 апреля 2012 года Отчёт депутата Законодательной Думы Хабаровского края С.А. Хохлова о работе с обращениями граждан на избирательном округе № 12 (г. Комсомольск-на-Амуре) в I квартале 2012 года (  http://www.duma.khv.ru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стка одного заседа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8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приложение к Закону Хабаровского края «О перечне продовольственных товаров и услуг, централизованные поставки и оказание которых необходимы для обеспечения жизнедеятельности населения муниципальных образований Хабаровского края, расположенных в районах Крайнего Севера и приравненных к ним местностях с ограниченными сроками завоза грузов (продукции)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90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приложение 4 к Закону Хабаровского края «О наделении органов местного самоуправления Хабаровского края отдельными государственными полномочиями Хабаровского края по предоставлению отдельных гарантий прав граждан в области образования» (первое чтение)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9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статью 3 Закона Хабаровского края «О порядке и нормативах заготовки гражданами древесины для собственных нужд на территории Хабаровского края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92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б общественных экологических инспекторах Хабаровского края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6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я в статью 29 Кодекса Хабаровского края об административных правонарушениях» (перво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43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Кодекс Хабаровского края об административных правонарушениях и признании утратившей силу статьи 7 Закона Хабаровского края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мерах по предупреждению причинения вреда здоровью и развитию детей» (третье чтение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проекте закона Хабаровского края № ЗП-V-287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внесении изменений в Закон Хабаровского края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«О порядке подачи уведомления о проведении публичного мероприятия на территории Хабаровского края» и в статью 2 Закона Хабаровского края «О порядке проведения публичного мероприятия на объектах транспортной инфраструктуры, используемых для транспорта общего пользования» (третье чтение)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О назначении представителя общественности в квалификационную коллегию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судей Хабаровского края     (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http://www.duma.khv.ru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Мы видим, что спектр вопросов очень широк и касается разных  категорий населения края: и учителей, и врачей, и пенсионеров, и детей. Таким образом, работа депутатского корпуса – важнейшая часть  представительного участия населения в осуществлении государственной  власти в Хабаровском крае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стное самоуправ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26792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титуция РФ,  на первое место вывела институты непосредственной демократии: местное самоуправление в соответствии с ч. 2 ст. 130 Конституции РФ осуществляется гражданами путем референдума, выборов, других форм прямого волеизъявления, через выборные и другие органы местного само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 считаю правильным то, что Конституция особое значение  придает именно участию населения в решении  вопросов  местного значения.   Формы непосредственного осуществления населением местного самоуправления весьма многочисленны и разнообразны.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ову основные формы непосредственного участия граждан в местном самоуправлен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время я стала замечать, что чем старше я становлюсь, тем интересней для меня вопросы политики и государственности. Ведь соприкасаясь с этой сферой жизни ежедневно  мы все сталкиваемся с множеством проблем и вопросов. Каждый день мы слышим критику в адрес тех, кто управляет нашей страной. Но уместна ли он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месяцев назад я услышала высказывание моего  знакомого о несогласие с политикой, проводимой региональными органами государственной власти. В частности он выразил свое личное мнение, неподкрепленное конкретными фактами, и при этом игнорируя личное участие в общественной жизни края. Но я не разделила его точку зрения по данной тематике. И мне стало интересно: сколько жителей нашего края способны разделить аполитичную точку зрения моего знакомого, сопряженную с равнодушием и пассивностью к участию в будущем нашего региона. Ведь каждый гражданин нашей страны имеет право голоса,  может внести свою лепту в тот или иной закон, принять активное участие в выборах или референдуме. Но в каждом ли человеке настолько сильно выражена твердая гражданская позиция? Каждому ли из нас не безразлично все происходящее в стране, в которой он живет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ли население Хабаровского края свои права в осуществлении власт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непосредственного осуществления населением местного самоупр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отзыву депутата, члена выборного органа, выборного должностного лица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ание по вопросам изменения границ, преобразования муниципального образов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 гражда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участия населения в осуществлении местного самоуправле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едческая инициатива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ое общественное самоуправлени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ие делегат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 гражда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 в органы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 избира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96920" indent="-509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2360" y="1600200"/>
            <a:ext cx="83170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выборы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более массовая форма участия населения в местном самоуправлении, посредством которой образуются представительный орган муниципального образования и другие выборные органы местного самоуправления, получают свои полномочия главы муниципальных образований. Муниципальные выборы осуществляются на основе общих принципов избирательного права России: всеобщее, равное и прямое избирательное право при тайном голосовании. Они назначаются представительным органом муниципального образования в сроки, предусмотренные уставом муниципального образования. В случаях, установленных федеральным законом, муниципальные выборы назначаются соответствующей избирательной комиссией муниципального образования или судом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и избирательных прав граждан при проведении муниципальных выборов, порядок назначения, подготовки, проведения, установления итогов и определения результатов муниципальных выборов устанавливаются Федеральным законом от 12 июня 2002 года № 67-ФЗ «Об основных гарантиях избирательных прав и права на участие в референдуме граждан Российской Федерации» и принимаемыми в соответствии с ним законами субъектов РФ, которыми устанавливаются виды избирательных систем и порядок их применения. В соответствии с установленными законом субъекта РФ видами избирательных систем уставом муниципального образования определяется та избирательная система, которая применяется при проведении муниципальных выборов в данном муниципальном образовании. Законом субъекта РФ могут быть определены условия применения видов избирательных систем в муниципальных образованиях в зависимости от численности избирателей в муниципальном образовании, вида муниципального образования и других обстоятельств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муниципальных выборов подлежат официальному опубликованию (обнародованию).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Содержимое 2" descr=""/>
          <p:cNvPicPr/>
          <p:nvPr/>
        </p:nvPicPr>
        <p:blipFill>
          <a:blip r:embed="rId1"/>
          <a:stretch/>
        </p:blipFill>
        <p:spPr>
          <a:xfrm>
            <a:off x="549360" y="1743120"/>
            <a:ext cx="7839000" cy="58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5680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ый референдум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олосование жителей муниципального образования по вопросам местного значения. Конституция РФ, закрепляя референдум в качестве одной из форм осуществления местного самоуправления (ст. 130), признает за каждым гражданином России право участвовать в референдуме (ст. 32). В местном референдуме участвуют граждане Российской Федерации, место жительства которых расположено в границах муниципального образования. Они участвуют в местном референдуме на основе всеобщего равного и прямого волеизъявления при тайном голосовании. Решения, принятые местным референдумом, являются окончательными, в каком-либо утверждении не нуждаются и обязательны для исполнения на территории соответствующего муниципального образования.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назначении местного референдума принимается представительным органом муниципального образования по инициативе: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 РФ, имеющих право на участие в местном референдуме;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ного объединения, иного общественного объединения, уставы которых предусматривают участие в выборах и (или) референдумах и которые зарегистрированы в порядке и сроки, установленные федеральным законом;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ого органа муниципального образования и главы местной администрации, выдвинутой ими совместно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м назначения местного референдума по инициативе граждан, избирательных объединений, иных общественных объединений является сбор подписей в поддержку данной инициативы, количество которых устанавливается законом субъекта РФ и не может превышать 5% от числа участников референдума, зарегистрированных на территории муниципального образования в соответствии с федеральным законом. Инициатива проведения референдума, выдвинутая гражданами, избирательными объединениями, иными общественными объединениями оформляется в порядке, установленном федеральным законом и принимаемым в соответствии с ним законом субъекта Российской Федерации. Инициатива проведения референдума, выдвинутая совместно представительным органом муниципального образования и главой местной администрации, оформляется правовыми актами представительного органа муниципального образования и главы местной администрации. Органы местного самоуправления осуществляют организационное и материально-техническое обеспечение местного референдума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голосования и принятое на местном референдуме решение подлежат официальному опубликованию (обнародованию). Принятое на местном референдуме решение подлежит обязательному исполнению на территории муниципального образования и не нуждается в утверждении какими-либо органами государственной власти, их должностными лицами или органами местного самоуправления. Органы местного самоуправления обеспечивают исполнение принятого на местном референдуме решения в соответствии с разграничением полномочий между ними, определенным уставом муниципального образования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проведении местного референдума, а также принятое на местном референдуме решение может быть обжаловано в судебном порядке гражданами, органами местного самоуправления, прокурором, уполномоченными федеральным законом органами государственной власти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ледние 5 лет в Хабаровском крае не было проведено ни одного референдума. Поэтому я решила проанализировать один из муниципальных районов Хабаровского края, а именно Нанайский. В этом районе, к сожалению, также не проводится ни одного референдума, но местные власти района решили использовать иную форму взаимосвязи с гражданами – интернет – опросы. Эта форма не является столь удобной и востребованной для всех граждан, но несмотря на это  - один из существующих и альтернативных вариантов. Голосования проводятся регулярно, достаточно высоким процентом голосующих. Темами голосований являются насущими вопросами этого района.</a:t>
            </a: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296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ендум, являясь важнейший институтом прямой демократии, осуществляемый участием  общественности в принятии решений, в нашем крае не осуществляется, что к сожалению большое упущение местного самоуправления, так как это замечательный способ  для создания паритета в решении того или иного вопроса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гражданина - направленные в государственный орган, орган местного самоуправления или должностному лицу в письменной форме или в форме электронного документа предложение, заявление или жалоба, а также устное обращение гражданина в государственный орган, орган местного самоуправ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2013 года в приемную по обращениям граждан Законодательной Думы Хабаровского края устно и письменно поступило 85 обращений. Зарегистрировано 50 письменных обращений, в том числе 13 (26% от числа письменных обращений) - которые поступили в ходе личного приема граждан первым заместителем председателя Думы, председателями постоянных комитетов Думы, 11 (22% от числа письменных обращений) - во время эфира телевизионной передачи «Парламентский вестник», 6 (12% от числа письменных обращений) - через официальный сайт Думы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 в приемную по обращениям граждан обратилось 35 человек, по телефону - 24. По всем вопросам были предоставлены необходимые разъясн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четный период на рассмотрении находилось 130 обращений. Закончено рассмотрение 56, в том числе безотлагательно - пяти (9%), в срок до 10 дней - трех (5%), до 30 дней - 45 (81%), трех (5%) - с учетом продл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56 рассмотренных обращений четыре (7%) решены положительно, 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тальным 52 (93%) даны разъяснения.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мотрении в приемной находится 74 обращения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5" descr=""/>
          <p:cNvPicPr/>
          <p:nvPr/>
        </p:nvPicPr>
        <p:blipFill>
          <a:blip r:embed="rId1"/>
          <a:stretch/>
        </p:blipFill>
        <p:spPr>
          <a:xfrm>
            <a:off x="-92160" y="-463680"/>
            <a:ext cx="9328320" cy="741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1280" y="1828800"/>
            <a:ext cx="83534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живём в демократическом государстве , в котором реализуются такие формы демократии как непосредственная и представительна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селение    использует многие формы как представительного, так и непосредственного участия в осуществлении влас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Содержимое 3" descr="Picture.jpg"/>
          <p:cNvPicPr/>
          <p:nvPr/>
        </p:nvPicPr>
        <p:blipFill>
          <a:blip r:embed="rId1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Содержимое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704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граждан, также как и муниципальные выборы, является хорошей формой взаимосвязи государства и граждан. Достаточно высокий процент обращений граждан ежемесячно, указывает на удобную форму обращений, и довольно удовлетворительный ответы, несмотря на время их ожид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12720" y="1599840"/>
            <a:ext cx="817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ся представительным органом муниципального образования, главой муниципального образования с участием жителей муниципального образования для обсуждения проектов муниципальных правовых актов по вопросам местного значе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рганизации и проведения публичных слушаний определяется уставом муниципального образования и (или) нормативными правовыми актами представительного органа муниципального образования и должен предусматривать заблаговременное оповещение жителей муниципального образования о времени и месте проведения публичных слушаний, заблаговременное ознакомление с проектом муниципального правового акта, другие меры, обеспечивающие участие в публичных слушаниях жителей муниципального образования, опубликование (обнародование) результатов публичных слушан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82880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 - публичные слушания по проекту решения Хабаровской городской Думы «О внесении изменений и дополнений в Устав городского округа «Город Хабаровск» (количество участников слушаний – 119 человек, количество участников слушаний, подавших предложения и замечания – 0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арта- публичные слушания по рассмотрению проекта внесения изменений в проект планировки Краснофлотского и Кировского районов г. Хабаровска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 него схож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марта – публичные слушания по рассмотрению документации по планировке территории в границах ул. Синельникова – ул. Ленинградской – ул. Рабочий Городок – ул. Литейной в Центральном районе г. Хабаровска.(я на него схож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Содержимое 3" descr="image27670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Содержимое 3" descr="image276705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астие в публичном слушан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 присутствовала на публичном слушании 26 декабря 2012 года в Хабаровске. Проводилось  публичное слушание по проекту бюджета города на 2013 год. С основными показателями доходов и расходов на будущий год участников слушаний ознакомил директор финансового департамента Валерий Соколов. В нем  приняли участие 198 жителей краевого центр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Содержимое 2" descr=""/>
          <p:cNvPicPr/>
          <p:nvPr/>
        </p:nvPicPr>
        <p:blipFill>
          <a:blip r:embed="rId1"/>
          <a:stretch/>
        </p:blipFill>
        <p:spPr>
          <a:xfrm>
            <a:off x="682560" y="1743120"/>
            <a:ext cx="770580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ой литературы и интернет – ресурсов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622440" y="1725480"/>
            <a:ext cx="7765920" cy="70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публичная власт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ы публичной власти в РФ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сударственная вла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ст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моуправлени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щественная (корпоративная) вл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Рисунок 9" descr="BS00151_.WMF"/>
          <p:cNvPicPr/>
          <p:nvPr/>
        </p:nvPicPr>
        <p:blipFill>
          <a:blip r:embed="rId1"/>
          <a:stretch/>
        </p:blipFill>
        <p:spPr>
          <a:xfrm>
            <a:off x="1619280" y="3068640"/>
            <a:ext cx="257976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ормативно-правовая база  по Конститу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3" descr="Конституция 5"/>
          <p:cNvPicPr/>
          <p:nvPr/>
        </p:nvPicPr>
        <p:blipFill>
          <a:blip r:embed="rId1"/>
          <a:stretch/>
        </p:blipFill>
        <p:spPr>
          <a:xfrm>
            <a:off x="826920" y="1773360"/>
            <a:ext cx="2521080" cy="32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Прямоугольник 7"/>
          <p:cNvSpPr/>
          <p:nvPr/>
        </p:nvSpPr>
        <p:spPr>
          <a:xfrm>
            <a:off x="3708360" y="2133720"/>
            <a:ext cx="48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источник власти  –  многонациональный народ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26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рмативно-правовая база  по Конститу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Часть 1 Статьи 1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08360" y="1915920"/>
            <a:ext cx="5037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«Государственную власть в Российской Федерации осуществля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езидент Российской Федерации, Федеральное Собрание (Совет Федер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Государственная Дума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тельство Российской Федерации, су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оссийской Федерации.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3" descr="Конституция 5"/>
          <p:cNvPicPr/>
          <p:nvPr/>
        </p:nvPicPr>
        <p:blipFill>
          <a:blip r:embed="rId1"/>
          <a:stretch/>
        </p:blipFill>
        <p:spPr>
          <a:xfrm>
            <a:off x="250920" y="2133720"/>
            <a:ext cx="3311280" cy="40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14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асть 2. Статьи 13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и РФ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95280" y="1557360"/>
            <a:ext cx="4643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 «Местное самоуправление осуществляется гражданами путе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еферендума, выборов, других форм прямого волеизъявления, чере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борные и другие органы местного самоуправления.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3" descr="Конституция 5"/>
          <p:cNvPicPr/>
          <p:nvPr/>
        </p:nvPicPr>
        <p:blipFill>
          <a:blip r:embed="rId1"/>
          <a:stretch/>
        </p:blipFill>
        <p:spPr>
          <a:xfrm>
            <a:off x="324000" y="1628640"/>
            <a:ext cx="33112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ь , что в Хабаровском крае  реализуется  важнейшая основа конституционного строя в РФ: «источник власти  –  многонациональный народ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Показать нормативно-правовую базу участия народа в осуществлении публичной  власти в Хабаровском кра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Проанализировать направления и формы участия народа  в осуществлении публичной  власти в Хабаровском кра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  Провести мониторинг форм местного самоуправления на примере г. Хабаровс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Хабаровском крае реализуется конституционное положение о местном самоуправлении, но его  необходимо развивать и усилив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2:23:11Z</dcterms:created>
  <dc:creator>Klient</dc:creator>
  <dc:description/>
  <dc:language>en-US</dc:language>
  <cp:lastModifiedBy>1</cp:lastModifiedBy>
  <dcterms:modified xsi:type="dcterms:W3CDTF">2013-03-24T06:36:36Z</dcterms:modified>
  <cp:revision>65</cp:revision>
  <dc:subject/>
  <dc:title>Проект- это просто!</dc:title>
</cp:coreProperties>
</file>