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5A6-D72C-4EAD-A45C-375DABCC00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F6FB-6FC2-4B36-BD60-C3233A1378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7EC6-3795-4B4A-A12F-990B31699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F2E4-9953-42FB-9A3B-5FBD740614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8B6-FE88-4BCB-97B9-6B1BCC1D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D41-206C-4285-98E9-2BBB6B94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00D-2236-49EC-BCB1-EDA18E87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AC7-F24E-47AC-944B-A3A8F0F7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221-EC74-480C-909A-02D91F9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C3C-F728-45BA-9EB4-97550280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C66-41D3-47CB-A1E2-3C972997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F72-9576-4191-BC6D-54F3568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89B-3EA1-40C8-922C-2E748D4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059-604F-4329-ADCC-3848B062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BDC-804E-4A99-931F-8F47BCC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E26-F691-4602-A5C4-5EEA6B6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B47-542F-45FA-B18A-2E0522F41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3786120" y="9288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miranimashek.com/_ph/64/2/356395937.gif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1170000" y="2352600"/>
            <a:ext cx="7577280" cy="226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567240" y="22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school.xvatit.com/images/8/84/24.07-6.jpg"/>
          <p:cNvPicPr/>
          <p:nvPr/>
        </p:nvPicPr>
        <p:blipFill>
          <a:blip r:embed="rId1"/>
          <a:stretch/>
        </p:blipFill>
        <p:spPr>
          <a:xfrm>
            <a:off x="0" y="1708200"/>
            <a:ext cx="5508720" cy="4019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3203640" y="4479840"/>
            <a:ext cx="2305080" cy="11019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349960" y="23446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рн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руга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7000" y="1946160"/>
            <a:ext cx="118728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498320" y="299880"/>
            <a:ext cx="63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ровеносная система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t0.gstatic.com/images?q=tbn:ANd9GcTWN6uxhDR_hHtAyZokC_gZuaO_DbUQJ9zWGzRd2PD1DEHy9ZvyEzId4KpG"/>
          <p:cNvPicPr/>
          <p:nvPr/>
        </p:nvPicPr>
        <p:blipFill>
          <a:blip r:embed="rId1"/>
          <a:stretch/>
        </p:blipFill>
        <p:spPr>
          <a:xfrm>
            <a:off x="1395360" y="1984320"/>
            <a:ext cx="571824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692360" y="3860640"/>
            <a:ext cx="107928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769000" y="3652920"/>
            <a:ext cx="2043000" cy="1069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лезистый и муску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471680" y="4653000"/>
            <a:ext cx="152064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11"/>
          <p:cNvSpPr/>
          <p:nvPr/>
        </p:nvSpPr>
        <p:spPr>
          <a:xfrm>
            <a:off x="2771640" y="4057560"/>
            <a:ext cx="793800" cy="4608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13"/>
          <p:cNvSpPr/>
          <p:nvPr/>
        </p:nvSpPr>
        <p:spPr>
          <a:xfrm rot="20927400">
            <a:off x="3013200" y="4824360"/>
            <a:ext cx="977760" cy="6048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4"/>
          <p:cNvSpPr/>
          <p:nvPr/>
        </p:nvSpPr>
        <p:spPr>
          <a:xfrm rot="9861000">
            <a:off x="4231440" y="4082760"/>
            <a:ext cx="1544760" cy="50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15" descr=""/>
          <p:cNvPicPr/>
          <p:nvPr/>
        </p:nvPicPr>
        <p:blipFill>
          <a:blip r:embed="rId2"/>
          <a:stretch/>
        </p:blipFill>
        <p:spPr>
          <a:xfrm>
            <a:off x="384120" y="262080"/>
            <a:ext cx="7742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900igr.net/datai/biologija/Urok-Nervnaja-sistema/0009-010-KLASS-PTITSY-silno-razvity-bolshie-polusharija-mozzhechok.png"/>
          <p:cNvPicPr/>
          <p:nvPr/>
        </p:nvPicPr>
        <p:blipFill>
          <a:blip r:embed="rId1"/>
          <a:stretch/>
        </p:blipFill>
        <p:spPr>
          <a:xfrm>
            <a:off x="284040" y="1916280"/>
            <a:ext cx="8764560" cy="4152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5253120" y="1916280"/>
            <a:ext cx="3889440" cy="4056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 развиты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полушар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зже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419640" y="2492280"/>
            <a:ext cx="17287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4"/>
          <p:cNvSpPr/>
          <p:nvPr/>
        </p:nvSpPr>
        <p:spPr>
          <a:xfrm flipH="1">
            <a:off x="3929040" y="2954160"/>
            <a:ext cx="46080" cy="103824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755640" y="1500120"/>
            <a:ext cx="16556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6"/>
          <p:cNvSpPr/>
          <p:nvPr/>
        </p:nvSpPr>
        <p:spPr>
          <a:xfrm rot="20281200">
            <a:off x="1854360" y="2342880"/>
            <a:ext cx="104760" cy="103824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 rot="19612200">
            <a:off x="1836720" y="2343240"/>
            <a:ext cx="139680" cy="45540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976760" y="333360"/>
            <a:ext cx="537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Нервная система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0"/>
          <a:ext cx="8569440" cy="8375760"/>
        </p:xfrm>
        <a:graphic>
          <a:graphicData uri="http://schemas.openxmlformats.org/drawingml/2006/table">
            <a:tbl>
              <a:tblPr/>
              <a:tblGrid>
                <a:gridCol w="2933640"/>
                <a:gridCol w="56358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ты приспособленности к пол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Перьевой пок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ость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ость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плоизоляция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текаемость те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Ске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ность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ость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</a:t>
                      </a: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л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Органы дых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шные меш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Органы кровообра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х камерное сердце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круга кровообращ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оянная </a:t>
                      </a: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е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Органы пищеварения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б (химическая переработк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истый и мускульный желудо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печ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Нервная система и органы чувств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о развиты </a:t>
                      </a: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жечок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полушария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днего мозга. Хорошее зрение и слух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трелка вниз 6"/>
          <p:cNvSpPr/>
          <p:nvPr/>
        </p:nvSpPr>
        <p:spPr>
          <a:xfrm rot="3693600">
            <a:off x="2323080" y="826200"/>
            <a:ext cx="306360" cy="784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низ 7"/>
          <p:cNvSpPr/>
          <p:nvPr/>
        </p:nvSpPr>
        <p:spPr>
          <a:xfrm flipH="1" rot="18911400">
            <a:off x="5934600" y="890280"/>
            <a:ext cx="302760" cy="74916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8"/>
          <p:cNvSpPr/>
          <p:nvPr/>
        </p:nvSpPr>
        <p:spPr>
          <a:xfrm>
            <a:off x="22320" y="1630440"/>
            <a:ext cx="314316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9"/>
          <p:cNvSpPr/>
          <p:nvPr/>
        </p:nvSpPr>
        <p:spPr>
          <a:xfrm>
            <a:off x="5357880" y="1630440"/>
            <a:ext cx="350028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1" descr=""/>
          <p:cNvPicPr/>
          <p:nvPr/>
        </p:nvPicPr>
        <p:blipFill>
          <a:blip r:embed="rId1"/>
          <a:stretch/>
        </p:blipFill>
        <p:spPr>
          <a:xfrm>
            <a:off x="2743200" y="189000"/>
            <a:ext cx="3193920" cy="70632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право 2"/>
          <p:cNvSpPr/>
          <p:nvPr/>
        </p:nvSpPr>
        <p:spPr>
          <a:xfrm rot="6811200">
            <a:off x="379800" y="26420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13"/>
          <p:cNvSpPr/>
          <p:nvPr/>
        </p:nvSpPr>
        <p:spPr>
          <a:xfrm rot="3876600">
            <a:off x="2123640" y="2679480"/>
            <a:ext cx="696960" cy="322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2320" y="3232080"/>
            <a:ext cx="162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крыльях – по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373480" y="3232080"/>
            <a:ext cx="2342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л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хвосте – маневрен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e-reading.org.ua/illustrations/74/74307-p_015.jpg"/>
          <p:cNvPicPr/>
          <p:nvPr/>
        </p:nvPicPr>
        <p:blipFill>
          <a:blip r:embed="rId2"/>
          <a:stretch/>
        </p:blipFill>
        <p:spPr>
          <a:xfrm>
            <a:off x="4425840" y="3232080"/>
            <a:ext cx="46832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1" descr="ПУХ1"/>
          <p:cNvPicPr/>
          <p:nvPr/>
        </p:nvPicPr>
        <p:blipFill>
          <a:blip r:embed="rId1"/>
          <a:stretch/>
        </p:blipFill>
        <p:spPr>
          <a:xfrm>
            <a:off x="4427640" y="990720"/>
            <a:ext cx="1744560" cy="5105160"/>
          </a:xfrm>
          <a:prstGeom prst="rect">
            <a:avLst/>
          </a:prstGeom>
          <a:ln w="0">
            <a:noFill/>
          </a:ln>
        </p:spPr>
      </p:pic>
      <p:sp>
        <p:nvSpPr>
          <p:cNvPr id="126" name="Поле 3"/>
          <p:cNvSpPr/>
          <p:nvPr/>
        </p:nvSpPr>
        <p:spPr>
          <a:xfrm>
            <a:off x="1989000" y="214200"/>
            <a:ext cx="50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ОЕНИЕ ПЕРА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Линия 4"/>
          <p:cNvSpPr/>
          <p:nvPr/>
        </p:nvSpPr>
        <p:spPr>
          <a:xfrm flipH="1">
            <a:off x="5300640" y="5257800"/>
            <a:ext cx="20908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Линия 5"/>
          <p:cNvSpPr/>
          <p:nvPr/>
        </p:nvSpPr>
        <p:spPr>
          <a:xfrm flipH="1">
            <a:off x="5714640" y="2133720"/>
            <a:ext cx="106668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иния 6"/>
          <p:cNvSpPr/>
          <p:nvPr/>
        </p:nvSpPr>
        <p:spPr>
          <a:xfrm flipH="1">
            <a:off x="5247000" y="3535200"/>
            <a:ext cx="1269360" cy="105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е 7"/>
          <p:cNvSpPr/>
          <p:nvPr/>
        </p:nvSpPr>
        <p:spPr>
          <a:xfrm>
            <a:off x="7201080" y="1809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е 8"/>
          <p:cNvSpPr/>
          <p:nvPr/>
        </p:nvSpPr>
        <p:spPr>
          <a:xfrm>
            <a:off x="7032600" y="4724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ле 12"/>
          <p:cNvSpPr/>
          <p:nvPr/>
        </p:nvSpPr>
        <p:spPr>
          <a:xfrm>
            <a:off x="7122960" y="181944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Х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е 13"/>
          <p:cNvSpPr/>
          <p:nvPr/>
        </p:nvSpPr>
        <p:spPr>
          <a:xfrm>
            <a:off x="7829640" y="49356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е 14"/>
          <p:cNvSpPr/>
          <p:nvPr/>
        </p:nvSpPr>
        <p:spPr>
          <a:xfrm>
            <a:off x="7048440" y="3030480"/>
            <a:ext cx="19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6665760" y="3359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462800" y="4991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6781680" y="1805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http://1.bp.blogspot.com/-YUmN7RK7jXE/TZl8m1ErG6I/AAAAAAAAAII/7AbtBNRrToM/s1600/%25D0%259F%25D0%25B5%25D1%2580%25D0%25BE.jpg"/>
          <p:cNvPicPr/>
          <p:nvPr/>
        </p:nvPicPr>
        <p:blipFill>
          <a:blip r:embed="rId2"/>
          <a:stretch/>
        </p:blipFill>
        <p:spPr>
          <a:xfrm>
            <a:off x="0" y="2546280"/>
            <a:ext cx="3995640" cy="26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перо1"/>
          <p:cNvPicPr/>
          <p:nvPr/>
        </p:nvPicPr>
        <p:blipFill>
          <a:blip r:embed="rId1"/>
          <a:stretch/>
        </p:blipFill>
        <p:spPr>
          <a:xfrm>
            <a:off x="0" y="1136520"/>
            <a:ext cx="5000760" cy="3908520"/>
          </a:xfrm>
          <a:prstGeom prst="rect">
            <a:avLst/>
          </a:prstGeom>
          <a:ln w="0">
            <a:noFill/>
          </a:ln>
        </p:spPr>
      </p:pic>
      <p:sp>
        <p:nvSpPr>
          <p:cNvPr id="140" name="Поле 5"/>
          <p:cNvSpPr/>
          <p:nvPr/>
        </p:nvSpPr>
        <p:spPr>
          <a:xfrm>
            <a:off x="-763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Линия 6"/>
          <p:cNvSpPr/>
          <p:nvPr/>
        </p:nvSpPr>
        <p:spPr>
          <a:xfrm flipH="1">
            <a:off x="826920" y="1015920"/>
            <a:ext cx="1224000" cy="2336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перо3"/>
          <p:cNvPicPr/>
          <p:nvPr/>
        </p:nvPicPr>
        <p:blipFill>
          <a:blip r:embed="rId2"/>
          <a:stretch/>
        </p:blipFill>
        <p:spPr>
          <a:xfrm>
            <a:off x="5076720" y="3348000"/>
            <a:ext cx="4067280" cy="3425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5435640" y="2184480"/>
            <a:ext cx="406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КИ 2 ПОРЯД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 200 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Линия 5"/>
          <p:cNvSpPr/>
          <p:nvPr/>
        </p:nvSpPr>
        <p:spPr>
          <a:xfrm flipH="1">
            <a:off x="7884720" y="2852640"/>
            <a:ext cx="44460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428760" y="214200"/>
            <a:ext cx="4572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КИ 1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 10 РАЗ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 какому царству и типу относится класс Пти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общие черты строения птиц и пресмыкающимся доказывают их общее  происхожд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огрессивные черты строения позволили большинству птиц освоить по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3002760" y="549360"/>
            <a:ext cx="31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"/>
          <p:cNvSpPr/>
          <p:nvPr/>
        </p:nvSpPr>
        <p:spPr>
          <a:xfrm>
            <a:off x="468360" y="1427040"/>
            <a:ext cx="842472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теплокровные животные, обладающие следующими прогрессивными чер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ым дыхан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ым обменом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й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(40˚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3420360" y="476280"/>
            <a:ext cx="17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все У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ксимальным количеством баллов - можете выполнить творческо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ли ошибки – повторите учебный материал по записям модуля и учебнику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шибались – проработайте материал модуля еще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283840" y="333360"/>
            <a:ext cx="44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9200" y="72396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представление о птицах как организмах , их систематическом полож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бщие черты строения птиц и пресмыкающимися, доказывающими их общее происхождени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черты приспособленности птиц к полет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вык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4108320" y="18900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103[1]"/>
          <p:cNvPicPr/>
          <p:nvPr/>
        </p:nvPicPr>
        <p:blipFill>
          <a:blip r:embed="rId1"/>
          <a:stretch/>
        </p:blipFill>
        <p:spPr>
          <a:xfrm>
            <a:off x="3203640" y="5130720"/>
            <a:ext cx="2808360" cy="1700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3402000" y="0"/>
            <a:ext cx="13716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125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ставьте кроссворд по теме: «Класс Птицы» (ответы запишите на отдельном лис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е птицы и почему утратили способность к полету? (назвать не менее 5 представителе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исать сообщения об охраняемых птицах Домодедовского района (кедровка, домовый сыч, орел-карлик, черный коршун, обыкновенный осое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202120" y="260280"/>
            <a:ext cx="48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ворческие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8000" y="22320"/>
          <a:ext cx="8351640" cy="39956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995640">
                <a:tc>
                  <a:txBody>
                    <a:bodyPr lIns="98280" rIns="98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ые ответы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ингвин, ласточка, ки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Тело покрыто перья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Оре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Сквор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Уничтожают насекомых вреди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Распространяют плоды и сем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8280" marR="9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4" descr="http://birdsofprey.ucoz.org/BirdsRB/orel-karlik.jpg"/>
          <p:cNvPicPr/>
          <p:nvPr/>
        </p:nvPicPr>
        <p:blipFill>
          <a:blip r:embed="rId1"/>
          <a:stretch/>
        </p:blipFill>
        <p:spPr>
          <a:xfrm>
            <a:off x="0" y="4888080"/>
            <a:ext cx="2179800" cy="1941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12600" y="6488280"/>
            <a:ext cx="21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upload.wikimedia.org/wikipedia/commons/thumb/b/b6/Pernis_apivorus_by_John_Gould_improved.jpg/275px-Pernis_apivorus_by_John_Gould_improved.jpg"/>
          <p:cNvPicPr/>
          <p:nvPr/>
        </p:nvPicPr>
        <p:blipFill>
          <a:blip r:embed="rId2"/>
          <a:stretch/>
        </p:blipFill>
        <p:spPr>
          <a:xfrm>
            <a:off x="4660920" y="4311720"/>
            <a:ext cx="2619360" cy="2517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4641120" y="6488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birds-altay.ru/wp-content/uploads/2009/07/34-350x411.jpg"/>
          <p:cNvPicPr/>
          <p:nvPr/>
        </p:nvPicPr>
        <p:blipFill>
          <a:blip r:embed="rId3"/>
          <a:stretch/>
        </p:blipFill>
        <p:spPr>
          <a:xfrm>
            <a:off x="2265480" y="4149720"/>
            <a:ext cx="2239920" cy="2367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2"/>
          <p:cNvSpPr/>
          <p:nvPr/>
        </p:nvSpPr>
        <p:spPr>
          <a:xfrm>
            <a:off x="2265480" y="6459480"/>
            <a:ext cx="2239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ОВЫЙ С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6904080" y="5996160"/>
            <a:ext cx="2239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Д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s.photosight.ru/img/c/114/2871179_large.jpeg"/>
          <p:cNvPicPr/>
          <p:nvPr/>
        </p:nvPicPr>
        <p:blipFill>
          <a:blip r:embed="rId4"/>
          <a:stretch/>
        </p:blipFill>
        <p:spPr>
          <a:xfrm>
            <a:off x="6904080" y="4149720"/>
            <a:ext cx="2214360" cy="192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Файл:Milvus migrans govinda.jpg"/>
          <p:cNvPicPr/>
          <p:nvPr/>
        </p:nvPicPr>
        <p:blipFill>
          <a:blip r:embed="rId5"/>
          <a:stretch/>
        </p:blipFill>
        <p:spPr>
          <a:xfrm>
            <a:off x="6518160" y="0"/>
            <a:ext cx="2600280" cy="2986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6518160" y="2616120"/>
            <a:ext cx="260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181080" y="1484280"/>
            <a:ext cx="8353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огрессивные черты позволили большинству птиц освоить полет как средство перемещения в простран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vodoplavayushhie-pticy.ru/imagess/image004.jpg"/>
          <p:cNvPicPr/>
          <p:nvPr/>
        </p:nvPicPr>
        <p:blipFill>
          <a:blip r:embed="rId1"/>
          <a:stretch/>
        </p:blipFill>
        <p:spPr>
          <a:xfrm>
            <a:off x="2700360" y="4005360"/>
            <a:ext cx="3816360" cy="2547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3083760" y="40464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оду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8"/>
          <p:cNvSpPr/>
          <p:nvPr/>
        </p:nvSpPr>
        <p:spPr>
          <a:xfrm>
            <a:off x="2216160" y="1628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тво:         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195120"/>
            <a:ext cx="8096040" cy="1444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95640" y="2205000"/>
            <a:ext cx="64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царство:    Мног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216160" y="2806560"/>
            <a:ext cx="57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:                  Хорд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268360" y="33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ип:            Позво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295360" y="3983040"/>
            <a:ext cx="56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:              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49200" y="1631880"/>
            <a:ext cx="8686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в коже пти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жных жел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задних конечностях пти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ш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 клюва пти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оговев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ние конечности птиц име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рые ког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922320" y="0"/>
            <a:ext cx="81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Общие черты стро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тиц и пресмык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ebftour.ru/images/load/Image/04-05-09.jpg"/>
          <p:cNvPicPr/>
          <p:nvPr/>
        </p:nvPicPr>
        <p:blipFill>
          <a:blip r:embed="rId1"/>
          <a:stretch/>
        </p:blipFill>
        <p:spPr>
          <a:xfrm>
            <a:off x="2475000" y="2060640"/>
            <a:ext cx="6264360" cy="46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484360" y="614664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1929960" y="39672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ерьевой покров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http://umm4.com/wp-content/uploads/2010/07/Birds-skelet-1.jpg"/>
          <p:cNvPicPr/>
          <p:nvPr/>
        </p:nvPicPr>
        <p:blipFill>
          <a:blip r:embed="rId1"/>
          <a:stretch/>
        </p:blipFill>
        <p:spPr>
          <a:xfrm>
            <a:off x="1476360" y="1363680"/>
            <a:ext cx="6966000" cy="5138640"/>
          </a:xfrm>
          <a:prstGeom prst="rect">
            <a:avLst/>
          </a:prstGeom>
          <a:ln w="0">
            <a:noFill/>
          </a:ln>
        </p:spPr>
      </p:pic>
      <p:sp>
        <p:nvSpPr>
          <p:cNvPr id="82" name="Стрелка вправо 9"/>
          <p:cNvSpPr/>
          <p:nvPr/>
        </p:nvSpPr>
        <p:spPr>
          <a:xfrm rot="10800000">
            <a:off x="6018120" y="4641480"/>
            <a:ext cx="1457280" cy="2919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10"/>
          <p:cNvSpPr/>
          <p:nvPr/>
        </p:nvSpPr>
        <p:spPr>
          <a:xfrm rot="10800000">
            <a:off x="5219640" y="5732280"/>
            <a:ext cx="1595520" cy="291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7489800" y="4564080"/>
            <a:ext cx="945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6815160" y="5613480"/>
            <a:ext cx="1535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3282120" y="33336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Скелет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62080" y="1057320"/>
            <a:ext cx="8496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ое дыхание = легкие + воздушные ме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iv-flowers.com/pics/klass-pticy-okolo-9000-vidov-chast-3-1.jpg"/>
          <p:cNvPicPr/>
          <p:nvPr/>
        </p:nvPicPr>
        <p:blipFill>
          <a:blip r:embed="rId1"/>
          <a:stretch/>
        </p:blipFill>
        <p:spPr>
          <a:xfrm>
            <a:off x="1476360" y="1916280"/>
            <a:ext cx="6384960" cy="4681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372360" y="4605480"/>
            <a:ext cx="148896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356000" y="6041880"/>
            <a:ext cx="172872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м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5" descr=""/>
          <p:cNvPicPr/>
          <p:nvPr/>
        </p:nvPicPr>
        <p:blipFill>
          <a:blip r:embed="rId2"/>
          <a:stretch/>
        </p:blipFill>
        <p:spPr>
          <a:xfrm>
            <a:off x="1596960" y="115920"/>
            <a:ext cx="6529320" cy="1541520"/>
          </a:xfrm>
          <a:prstGeom prst="rect">
            <a:avLst/>
          </a:prstGeom>
          <a:ln w="0">
            <a:noFill/>
          </a:ln>
        </p:spPr>
      </p:pic>
      <p:sp>
        <p:nvSpPr>
          <p:cNvPr id="92" name="Штриховая стрелка вправо 1"/>
          <p:cNvSpPr/>
          <p:nvPr/>
        </p:nvSpPr>
        <p:spPr>
          <a:xfrm>
            <a:off x="8244000" y="6165720"/>
            <a:ext cx="649080" cy="432000"/>
          </a:xfrm>
          <a:custGeom>
            <a:avLst/>
            <a:gdLst/>
            <a:ahLst/>
            <a:rect l="l" t="t" r="r" b="b"/>
            <a:pathLst>
              <a:path w="648072" h="432346">
                <a:moveTo>
                  <a:pt x="0" y="108087"/>
                </a:moveTo>
                <a:lnTo>
                  <a:pt x="13511" y="108087"/>
                </a:lnTo>
                <a:lnTo>
                  <a:pt x="13511" y="324260"/>
                </a:lnTo>
                <a:lnTo>
                  <a:pt x="0" y="324260"/>
                </a:lnTo>
                <a:lnTo>
                  <a:pt x="0" y="108087"/>
                </a:lnTo>
                <a:close/>
                <a:moveTo>
                  <a:pt x="27022" y="108087"/>
                </a:moveTo>
                <a:lnTo>
                  <a:pt x="54043" y="108087"/>
                </a:lnTo>
                <a:lnTo>
                  <a:pt x="54043" y="324260"/>
                </a:lnTo>
                <a:lnTo>
                  <a:pt x="27022" y="324260"/>
                </a:lnTo>
                <a:lnTo>
                  <a:pt x="27022" y="108087"/>
                </a:lnTo>
                <a:close/>
                <a:moveTo>
                  <a:pt x="67554" y="108087"/>
                </a:moveTo>
                <a:lnTo>
                  <a:pt x="431899" y="108087"/>
                </a:lnTo>
                <a:lnTo>
                  <a:pt x="431899" y="0"/>
                </a:lnTo>
                <a:lnTo>
                  <a:pt x="648072" y="216173"/>
                </a:lnTo>
                <a:lnTo>
                  <a:pt x="431899" y="432346"/>
                </a:lnTo>
                <a:lnTo>
                  <a:pt x="431899" y="324260"/>
                </a:lnTo>
                <a:lnTo>
                  <a:pt x="67554" y="324260"/>
                </a:lnTo>
                <a:lnTo>
                  <a:pt x="67554" y="108087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0:52:11Z</dcterms:created>
  <dc:creator>Grisly</dc:creator>
  <dc:description/>
  <dc:language>en-US</dc:language>
  <cp:lastModifiedBy>Михайлова</cp:lastModifiedBy>
  <dcterms:modified xsi:type="dcterms:W3CDTF">2013-02-22T19:57:55Z</dcterms:modified>
  <cp:revision>98</cp:revision>
  <dc:subject/>
  <dc:title>Слайд 1</dc:title>
</cp:coreProperties>
</file>