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BD6-1121-40FF-9608-7A1F47ED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040-AE3B-45BE-AEE5-7D71EC8E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A91-9514-42AE-B10B-7BFB168D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EA0-1E11-4680-AC44-B779834B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C2E5-5B48-484A-9F46-9060EFFE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32E-4DEF-4647-984D-0FD11F0F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896-10F4-4395-A020-30A8DF9A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43A-30DD-4097-9C74-688D8C10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7A8-1401-4003-9633-B32260F9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B14-AAF7-4AB0-85D9-69F9517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E4E-62C0-439B-BCEA-C685E065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D8D-2886-49F8-876F-487022A5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47F-C3BB-48B1-89B3-70BC80365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878040" y="1679400"/>
            <a:ext cx="79992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4900" spc="-1" strike="noStrike">
                <a:solidFill>
                  <a:srgbClr val="000080"/>
                </a:solidFill>
                <a:latin typeface="Times New Roman"/>
              </a:rPr>
              <a:t>«Конкурентные преимущества общеобразовательного учреждения:                      некоторые аспекты»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633680" y="5389560"/>
            <a:ext cx="63356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Зинченко Ольга Андреевна, зам. директора по У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25 декабря 201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33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0" y="189000"/>
            <a:ext cx="8848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942840" y="1290600"/>
            <a:ext cx="76726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СУДАРСТВЕННО- ОБЩЕСТВЕННОЕ УПРАВЛЕНИ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942840" y="2365200"/>
            <a:ext cx="80186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noAutofit/>
          </a:bodyPr>
          <a:p>
            <a:pPr marL="311040" indent="-311040"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вляющий Совет гимназ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органов государственно-общественного управления оказывают влияние на деятельность школ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материально- технической базы гимназ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одаренных дет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ворчески работающих педагог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41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0" y="189000"/>
            <a:ext cx="8848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Снимок"/>
          <p:cNvPicPr/>
          <p:nvPr/>
        </p:nvPicPr>
        <p:blipFill>
          <a:blip r:embed="rId2"/>
          <a:stretch/>
        </p:blipFill>
        <p:spPr>
          <a:xfrm>
            <a:off x="3070080" y="1535040"/>
            <a:ext cx="5854680" cy="47307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Снимок"/>
          <p:cNvPicPr/>
          <p:nvPr/>
        </p:nvPicPr>
        <p:blipFill>
          <a:blip r:embed="rId3"/>
          <a:stretch/>
        </p:blipFill>
        <p:spPr>
          <a:xfrm>
            <a:off x="326880" y="1208160"/>
            <a:ext cx="272124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49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0" y="189000"/>
            <a:ext cx="8848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Снимок1"/>
          <p:cNvPicPr/>
          <p:nvPr/>
        </p:nvPicPr>
        <p:blipFill>
          <a:blip r:embed="rId2"/>
          <a:stretch/>
        </p:blipFill>
        <p:spPr>
          <a:xfrm>
            <a:off x="782640" y="1273320"/>
            <a:ext cx="7994520" cy="49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56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35200" y="6215040"/>
            <a:ext cx="3434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Спасибо за внимани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849240" y="1339920"/>
            <a:ext cx="4241880" cy="2784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DSC03128"/>
          <p:cNvPicPr/>
          <p:nvPr/>
        </p:nvPicPr>
        <p:blipFill>
          <a:blip r:embed="rId4"/>
          <a:stretch/>
        </p:blipFill>
        <p:spPr>
          <a:xfrm>
            <a:off x="5746680" y="1468440"/>
            <a:ext cx="2695680" cy="20239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65" name="Picture 2" descr="P1120027"/>
          <p:cNvPicPr/>
          <p:nvPr/>
        </p:nvPicPr>
        <p:blipFill>
          <a:blip r:embed="rId5"/>
          <a:stretch/>
        </p:blipFill>
        <p:spPr>
          <a:xfrm>
            <a:off x="979560" y="4343400"/>
            <a:ext cx="2709720" cy="213840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pic>
        <p:nvPicPr>
          <p:cNvPr id="166" name="Picture 9" descr="2010-18-02_8"/>
          <p:cNvPicPr/>
          <p:nvPr/>
        </p:nvPicPr>
        <p:blipFill>
          <a:blip r:embed="rId6"/>
          <a:stretch/>
        </p:blipFill>
        <p:spPr>
          <a:xfrm rot="21108000">
            <a:off x="4376880" y="3168360"/>
            <a:ext cx="1915920" cy="2795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2010-18-02_38"/>
          <p:cNvPicPr/>
          <p:nvPr/>
        </p:nvPicPr>
        <p:blipFill>
          <a:blip r:embed="rId7"/>
          <a:stretch/>
        </p:blipFill>
        <p:spPr>
          <a:xfrm>
            <a:off x="6532560" y="3429000"/>
            <a:ext cx="213840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51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49160" y="1419120"/>
            <a:ext cx="7999560" cy="39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чительный авторитет гимназии в окружающем социуме и среди общеобразовательных учреждений, реализующих программы гимназического образования  и другие инновационные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59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49160" y="1290600"/>
            <a:ext cx="799956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сококвалифицированный педагогический коллектив, мотивиров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 работу по развитию образовательного учреждения, имеющий большой опыт инновационной работ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67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49160" y="1160640"/>
            <a:ext cx="799956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имущественно высокий уровень общеучебных умений                    и навыков выпускников                              и учащихся гимназии, готовых                    к продолжению образования                     в высших учебных заведения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фото 041"/>
          <p:cNvPicPr/>
          <p:nvPr/>
        </p:nvPicPr>
        <p:blipFill>
          <a:blip r:embed="rId3"/>
          <a:stretch/>
        </p:blipFill>
        <p:spPr>
          <a:xfrm>
            <a:off x="1960560" y="4603680"/>
            <a:ext cx="4794120" cy="1976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76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49160" y="966960"/>
            <a:ext cx="799956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ьзование в образовательном процессе современных педагогических технологий                         и информационных компьютерных технолог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E:\Новая папка\Истомина. разработка\фото с урока\DSC03127.JPG"/>
          <p:cNvPicPr/>
          <p:nvPr/>
        </p:nvPicPr>
        <p:blipFill>
          <a:blip r:embed="rId3"/>
          <a:stretch/>
        </p:blipFill>
        <p:spPr>
          <a:xfrm>
            <a:off x="1073160" y="4206960"/>
            <a:ext cx="3174840" cy="226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SC01565"/>
          <p:cNvPicPr/>
          <p:nvPr/>
        </p:nvPicPr>
        <p:blipFill>
          <a:blip r:embed="rId4"/>
          <a:stretch/>
        </p:blipFill>
        <p:spPr>
          <a:xfrm>
            <a:off x="4898880" y="4083120"/>
            <a:ext cx="3305160" cy="24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86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49160" y="966960"/>
            <a:ext cx="79995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теграция основного                             и дополнительного образов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6400800" y="2709720"/>
            <a:ext cx="2073240" cy="3019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22"/>
          <p:cNvPicPr/>
          <p:nvPr/>
        </p:nvPicPr>
        <p:blipFill>
          <a:blip r:embed="rId4"/>
          <a:stretch/>
        </p:blipFill>
        <p:spPr>
          <a:xfrm>
            <a:off x="849240" y="2514600"/>
            <a:ext cx="440712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E:\закытие.семья года.2009\DSC05398.JPG"/>
          <p:cNvPicPr/>
          <p:nvPr/>
        </p:nvPicPr>
        <p:blipFill>
          <a:blip r:embed="rId5"/>
          <a:stretch/>
        </p:blipFill>
        <p:spPr>
          <a:xfrm>
            <a:off x="3405240" y="4206960"/>
            <a:ext cx="337032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2010-25-02_2"/>
          <p:cNvPicPr/>
          <p:nvPr/>
        </p:nvPicPr>
        <p:blipFill>
          <a:blip r:embed="rId1"/>
          <a:stretch/>
        </p:blipFill>
        <p:spPr>
          <a:xfrm>
            <a:off x="849240" y="5049720"/>
            <a:ext cx="1252440" cy="180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2010-18-02_10"/>
          <p:cNvPicPr/>
          <p:nvPr/>
        </p:nvPicPr>
        <p:blipFill>
          <a:blip r:embed="rId2"/>
          <a:stretch/>
        </p:blipFill>
        <p:spPr>
          <a:xfrm>
            <a:off x="587520" y="2841480"/>
            <a:ext cx="14256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3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99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14320" y="1614600"/>
            <a:ext cx="79977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 algn="ctr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чительный положительный опыт в реализации программ развития гимназии в предыдущие пери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397160" y="189000"/>
            <a:ext cx="745164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Муниципальное бюджетное общеобразовательное учреждение  «Гимназия № 30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295200" y="123840"/>
            <a:ext cx="646200" cy="6634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4"/>
          <p:cNvGrpSpPr/>
          <p:nvPr/>
        </p:nvGrpSpPr>
        <p:grpSpPr>
          <a:xfrm>
            <a:off x="1828800" y="3560760"/>
            <a:ext cx="7034040" cy="3057480"/>
            <a:chOff x="1828800" y="3560760"/>
            <a:chExt cx="7034040" cy="3057480"/>
          </a:xfrm>
        </p:grpSpPr>
        <p:pic>
          <p:nvPicPr>
            <p:cNvPr id="107" name="Picture 5" descr="2010-18-02_2"/>
            <p:cNvPicPr/>
            <p:nvPr/>
          </p:nvPicPr>
          <p:blipFill>
            <a:blip r:embed="rId5"/>
            <a:stretch/>
          </p:blipFill>
          <p:spPr>
            <a:xfrm>
              <a:off x="4181400" y="4255920"/>
              <a:ext cx="1208520" cy="1946880"/>
            </a:xfrm>
            <a:prstGeom prst="rect">
              <a:avLst/>
            </a:prstGeom>
            <a:ln w="38160">
              <a:solidFill>
                <a:srgbClr val="003300"/>
              </a:solidFill>
              <a:miter/>
            </a:ln>
          </p:spPr>
        </p:pic>
        <p:pic>
          <p:nvPicPr>
            <p:cNvPr id="108" name="Picture 6" descr="2010-18-02_7"/>
            <p:cNvPicPr/>
            <p:nvPr/>
          </p:nvPicPr>
          <p:blipFill>
            <a:blip r:embed="rId6"/>
            <a:stretch/>
          </p:blipFill>
          <p:spPr>
            <a:xfrm>
              <a:off x="5295600" y="3977640"/>
              <a:ext cx="1175400" cy="194724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  <p:pic>
          <p:nvPicPr>
            <p:cNvPr id="109" name="Picture 7" descr="2010-18-02_57"/>
            <p:cNvPicPr/>
            <p:nvPr/>
          </p:nvPicPr>
          <p:blipFill>
            <a:blip r:embed="rId7"/>
            <a:stretch/>
          </p:blipFill>
          <p:spPr>
            <a:xfrm>
              <a:off x="3066840" y="3560760"/>
              <a:ext cx="1411920" cy="1090080"/>
            </a:xfrm>
            <a:prstGeom prst="rect">
              <a:avLst/>
            </a:prstGeom>
            <a:ln w="38160">
              <a:solidFill>
                <a:srgbClr val="003300"/>
              </a:solidFill>
              <a:miter/>
            </a:ln>
          </p:spPr>
        </p:pic>
        <p:pic>
          <p:nvPicPr>
            <p:cNvPr id="110" name="Picture 8" descr="2010-18-02_6"/>
            <p:cNvPicPr/>
            <p:nvPr/>
          </p:nvPicPr>
          <p:blipFill>
            <a:blip r:embed="rId8"/>
            <a:stretch/>
          </p:blipFill>
          <p:spPr>
            <a:xfrm>
              <a:off x="2943000" y="4812480"/>
              <a:ext cx="1096920" cy="180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2010-18-02_60"/>
            <p:cNvPicPr/>
            <p:nvPr/>
          </p:nvPicPr>
          <p:blipFill>
            <a:blip r:embed="rId9"/>
            <a:stretch/>
          </p:blipFill>
          <p:spPr>
            <a:xfrm>
              <a:off x="1828800" y="3838680"/>
              <a:ext cx="1281600" cy="206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2010-18-02_58"/>
            <p:cNvPicPr/>
            <p:nvPr/>
          </p:nvPicPr>
          <p:blipFill>
            <a:blip r:embed="rId10"/>
            <a:stretch/>
          </p:blipFill>
          <p:spPr>
            <a:xfrm>
              <a:off x="6409800" y="3560760"/>
              <a:ext cx="1284840" cy="20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1" descr="2010-18-02_39"/>
            <p:cNvPicPr/>
            <p:nvPr/>
          </p:nvPicPr>
          <p:blipFill>
            <a:blip r:embed="rId11"/>
            <a:stretch/>
          </p:blipFill>
          <p:spPr>
            <a:xfrm>
              <a:off x="7772040" y="3977640"/>
              <a:ext cx="1090800" cy="1774800"/>
            </a:xfrm>
            <a:prstGeom prst="rect">
              <a:avLst/>
            </a:prstGeom>
            <a:ln w="38160">
              <a:solidFill>
                <a:srgbClr val="800000"/>
              </a:solidFill>
              <a:miter/>
            </a:ln>
          </p:spPr>
        </p:pic>
        <p:pic>
          <p:nvPicPr>
            <p:cNvPr id="114" name="Picture 12" descr="2010-18-02_52"/>
            <p:cNvPicPr/>
            <p:nvPr/>
          </p:nvPicPr>
          <p:blipFill>
            <a:blip r:embed="rId12"/>
            <a:stretch/>
          </p:blipFill>
          <p:spPr>
            <a:xfrm>
              <a:off x="6905160" y="5507640"/>
              <a:ext cx="1361880" cy="1073880"/>
            </a:xfrm>
            <a:prstGeom prst="rect">
              <a:avLst/>
            </a:prstGeom>
            <a:ln w="38160">
              <a:solidFill>
                <a:srgbClr val="003300"/>
              </a:solidFill>
              <a:miter/>
            </a:ln>
          </p:spPr>
        </p:pic>
      </p:grpSp>
      <p:pic>
        <p:nvPicPr>
          <p:cNvPr id="115" name="Picture 5" descr="2010-18-02_50"/>
          <p:cNvPicPr/>
          <p:nvPr/>
        </p:nvPicPr>
        <p:blipFill>
          <a:blip r:embed="rId13"/>
          <a:stretch/>
        </p:blipFill>
        <p:spPr>
          <a:xfrm>
            <a:off x="4767120" y="3429000"/>
            <a:ext cx="123192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17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42840" y="2716200"/>
            <a:ext cx="79995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52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ркетинговые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териально-технические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финансово-экономические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адровые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интеллектуальные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содержательно-образовательные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технологические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онкурентоспособность выпускнико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0" y="189000"/>
            <a:ext cx="8848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включает следующие составляющие компоненты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293760" y="98280"/>
            <a:ext cx="682560" cy="693720"/>
          </a:xfrm>
          <a:prstGeom prst="rect">
            <a:avLst/>
          </a:prstGeom>
          <a:ln w="0">
            <a:noFill/>
          </a:ln>
        </p:spPr>
      </p:pic>
      <p:sp>
        <p:nvSpPr>
          <p:cNvPr id="124" name="Line 2"/>
          <p:cNvSpPr/>
          <p:nvPr/>
        </p:nvSpPr>
        <p:spPr>
          <a:xfrm>
            <a:off x="488880" y="979560"/>
            <a:ext cx="8491680" cy="144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654120" y="1077840"/>
            <a:ext cx="8163000" cy="0"/>
          </a:xfrm>
          <a:prstGeom prst="line">
            <a:avLst/>
          </a:prstGeom>
          <a:ln w="360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816120" y="1174680"/>
            <a:ext cx="7839000" cy="1800"/>
          </a:xfrm>
          <a:prstGeom prst="line">
            <a:avLst/>
          </a:prstGeom>
          <a:ln w="36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174680" y="163440"/>
            <a:ext cx="7512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8320" bIns="406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0" y="189000"/>
            <a:ext cx="8848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"/>
              </a:rPr>
              <a:t>Конкурентоспособность О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"/>
          <p:cNvPicPr/>
          <p:nvPr/>
        </p:nvPicPr>
        <p:blipFill>
          <a:blip r:embed="rId2"/>
          <a:stretch/>
        </p:blipFill>
        <p:spPr>
          <a:xfrm>
            <a:off x="782640" y="1339920"/>
            <a:ext cx="484344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"/>
          <p:cNvPicPr/>
          <p:nvPr/>
        </p:nvPicPr>
        <p:blipFill>
          <a:blip r:embed="rId3"/>
          <a:stretch/>
        </p:blipFill>
        <p:spPr>
          <a:xfrm>
            <a:off x="5681520" y="2841480"/>
            <a:ext cx="2851200" cy="3694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DSC04390"/>
          <p:cNvPicPr/>
          <p:nvPr/>
        </p:nvPicPr>
        <p:blipFill>
          <a:blip r:embed="rId4"/>
          <a:stretch/>
        </p:blipFill>
        <p:spPr>
          <a:xfrm>
            <a:off x="1763640" y="4538520"/>
            <a:ext cx="27226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8:23:19Z</dcterms:created>
  <dc:creator>zvv</dc:creator>
  <dc:description/>
  <dc:language>en-US</dc:language>
  <cp:lastModifiedBy>zvv</cp:lastModifiedBy>
  <dcterms:modified xsi:type="dcterms:W3CDTF">2013-03-24T08:36:20Z</dcterms:modified>
  <cp:revision>3</cp:revision>
  <dc:subject/>
  <dc:title>Слайд 1</dc:title>
</cp:coreProperties>
</file>