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BE4-893F-4F49-A6DA-336D1BC5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51A-3D5F-4B16-A16F-83129532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75C-507F-4D2D-AA56-7B62CC60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621-5EC6-4463-B37F-47F6A795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177-E7FF-4865-8474-3162114E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7FE1-B3E3-461D-B73E-B54E79C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0003-F283-4CAD-87E5-CCBC27B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4E0F-ABE7-4CC4-A1C1-816FDA6E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063-4E30-44E3-8B69-AA03248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3F01-7F7E-4CDD-808A-204FAE5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8D7-E840-40F5-B754-4BA9797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2EF-77CE-4F3A-87C2-8710CB7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B4B-38F8-42B8-B081-A6548B98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B52-87AD-4E25-A57A-A901D7F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E65-2C36-468B-AB06-11CF237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C797-354E-4F71-A793-B0624CAE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1579-F15A-4F3B-AB67-7FF64309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DE9-8F87-4444-9FBD-86F465B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FC8-0AFD-4BEB-86C5-6D8904F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A61-0403-496A-B4EF-38A33BBC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CD4-EBEB-4758-9955-C319F824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A5A-BB97-4F1C-B2EC-8BB7484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538-7C09-4313-AE2A-E8F7B0B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AA8-2754-471C-BBE3-1D84BDA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88D-3676-4D54-AC44-7EA01789D1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38F-7021-4849-98E9-0D296F7906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онституция – основной закон страны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519640" cy="354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, прочитать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опросы стр.52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чатная тетрадь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65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т лат. «установление»)- это основной закон страны, определяющий ее государственное устройство, основные права и обязанности гражда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714760" cy="19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Конституции в нашей стран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 дореволюционной России не было Конституции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-я в 1918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-я в 1925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-я в 1937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-я в 1978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-я в 1993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519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 РФ. была принята 12 декабря 1993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386080"/>
            <a:ext cx="3959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ая Конституция была принята народом на референду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3314520" cy="212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нституция России состоит из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852280"/>
            <a:ext cx="423864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реамбул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 раздело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9 гла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37 стате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280836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осударственное устройство по Конституции РФ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79246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едеральное Собрание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спользуя ст. 95, 96, 102, 103, заполните схему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Рисунок 11" descr="http://festival.1september.ru/articles/519067/img7.gif"/>
          <p:cNvPicPr/>
          <p:nvPr/>
        </p:nvPicPr>
        <p:blipFill>
          <a:blip r:embed="rId1"/>
          <a:stretch/>
        </p:blipFill>
        <p:spPr>
          <a:xfrm>
            <a:off x="826920" y="2276640"/>
            <a:ext cx="7705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авительство Российской Федерац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37735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льзуясь ст. 111,112,113,114 Заполните таблицу "Полномочия правительства РФ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57760" y="2421000"/>
          <a:ext cx="3772800" cy="4032000"/>
        </p:xfrm>
        <a:graphic>
          <a:graphicData uri="http://schemas.openxmlformats.org/drawingml/2006/table">
            <a:tbl>
              <a:tblPr/>
              <a:tblGrid>
                <a:gridCol w="37728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вительство РФ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2:59:00Z</dcterms:created>
  <dc:creator>User</dc:creator>
  <dc:description/>
  <dc:language>en-US</dc:language>
  <cp:lastModifiedBy>люба</cp:lastModifiedBy>
  <dcterms:modified xsi:type="dcterms:W3CDTF">2013-02-26T11:44:01Z</dcterms:modified>
  <cp:revision>32</cp:revision>
  <dc:subject/>
  <dc:title>Конституция Российской Федерации.</dc:title>
</cp:coreProperties>
</file>