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E7E-B725-495B-86B6-A96B5573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BF9-910E-422D-A184-00199D2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EB2-686E-4D6E-B378-31202791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C76-33C0-43CD-8925-8195890C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C7DD-5FCE-4310-9971-3E20383C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EBB3-2675-42DC-AF40-FFE6F6CE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410-7768-40D0-B493-A7A36FFB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D6A-7A12-4B94-B94E-99C9750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AC9F-98CB-4A20-8D6C-858CCCC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A82-DA91-4597-90E9-D4E0DB8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C27A-2414-49D4-8C9B-4E850DA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326-9A5A-4DA0-A2C3-A340D0FA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53B2-09D0-4679-9D9D-C47672A3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D8D0-B15C-4885-85F0-F1ECAF1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5CC-B162-434F-80CD-2C1A1006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6F2-BB6C-42C5-A9E5-D3F9C637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3A4-A260-49F8-AF80-467A8CA5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0C3-5543-42BA-947F-372F882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CE2-0951-4929-B7CA-D069DD6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D61-D2D7-4510-B7AD-4DF1041E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6C9-AA23-4016-A9A6-6175208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3D5-DCF4-474A-8AE6-255CC8D5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862-6B0C-4908-B75B-DA53A15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DAC-598F-4C52-8793-FCDFC71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0463-879D-4870-AF63-45CB550942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5732-4401-4BC4-9757-366488C96D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7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онституция – основной закон страны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2519640" cy="3548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8, прочитать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опросы стр.52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ечатная тетрадь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655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т лат. «установление»)- это основной закон страны, определяющий ее государственное устройство, основные права и обязанности гражда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714760" cy="19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Конституции в нашей стран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В дореволюционной России не было Конституции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-я в 1918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-я в 1925 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-я в 1937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-я в 1978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5-я в 1993 г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51964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ституция РФ. была принята 12 декабря 1993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386080"/>
            <a:ext cx="39592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овая Конституция была принята народом на референду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48360" y="4365720"/>
            <a:ext cx="3314520" cy="212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692360" y="386064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Конституция России состоит из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852280"/>
            <a:ext cx="423864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Преамбул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 раздело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9 глав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37 статей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2781360"/>
            <a:ext cx="280836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осударственное устройство по Конституции РФ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848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79246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едеральное Собрание.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спользуя ст. 95, 96, 102, 103, заполните схему.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Рисунок 11" descr="http://festival.1september.ru/articles/519067/img7.gif"/>
          <p:cNvPicPr/>
          <p:nvPr/>
        </p:nvPicPr>
        <p:blipFill>
          <a:blip r:embed="rId1"/>
          <a:stretch/>
        </p:blipFill>
        <p:spPr>
          <a:xfrm>
            <a:off x="826920" y="2276640"/>
            <a:ext cx="7705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авительство Российской Федерац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37735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ользуясь ст. 111,112,113,114 Заполните таблицу "Полномочия правительства РФ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57760" y="2421000"/>
          <a:ext cx="3772800" cy="4032000"/>
        </p:xfrm>
        <a:graphic>
          <a:graphicData uri="http://schemas.openxmlformats.org/drawingml/2006/table">
            <a:tbl>
              <a:tblPr/>
              <a:tblGrid>
                <a:gridCol w="37728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вительство РФ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2:59:00Z</dcterms:created>
  <dc:creator>User</dc:creator>
  <dc:description/>
  <dc:language>en-US</dc:language>
  <cp:lastModifiedBy>люба</cp:lastModifiedBy>
  <dcterms:modified xsi:type="dcterms:W3CDTF">2013-02-26T11:44:01Z</dcterms:modified>
  <cp:revision>32</cp:revision>
  <dc:subject/>
  <dc:title>Конституция Российской Федерации.</dc:title>
</cp:coreProperties>
</file>