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89C-0768-411D-ABDD-63EFFE001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6917-4B9D-4427-B27C-499CA4A58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CD4-E481-4CC1-98C2-86B4E103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208-BE9E-4F6F-A38B-F8D5D219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070-0714-4524-BDA2-1EE2BCB0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945-86B8-4518-9353-E573B88A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6D6-1BDC-4C3C-968E-EF5782EA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72E-A461-4307-96DD-C85CB1C0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689-326F-447D-98C8-CA1CCE75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C6D-0556-4AE5-81F9-0001286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E23-3E11-4FFF-BA7E-0D395698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D3F-DD1F-4F15-B1B3-279C98E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DFD-9B79-494D-B3FA-1F90080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8A3-BC42-4B1E-B74A-6975978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DD7B-3BBF-4E40-B914-CA943D40EF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06320" y="3584520"/>
            <a:ext cx="7785360" cy="188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480" y="357120"/>
            <a:ext cx="8429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ы </a:t>
            </a:r>
            <a:r>
              <a:rPr b="0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твердые вещества, частицы которых образуют периодически повторяющуюся в пространстве структуру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сталлическую решет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ие решётки вещест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это упорядоченное расположение частиц(атомов, молекул, ионов) в строго определённых точках простран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очки размещения частиц называют </a:t>
            </a: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узлами кристаллической решёт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290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узлах кристаллической решетки могут быть </a:t>
            </a:r>
            <a:r>
              <a:rPr b="0" i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молекулы, атомы или ио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4" descr=""/>
          <p:cNvPicPr/>
          <p:nvPr/>
        </p:nvPicPr>
        <p:blipFill>
          <a:blip r:embed="rId2"/>
          <a:stretch/>
        </p:blipFill>
        <p:spPr>
          <a:xfrm>
            <a:off x="-6480" y="1316160"/>
            <a:ext cx="9156960" cy="5316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43214" t="40379" r="44421" b="40044"/>
          <a:stretch/>
        </p:blipFill>
        <p:spPr>
          <a:xfrm>
            <a:off x="0" y="642960"/>
            <a:ext cx="2071800" cy="246060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0" y="3214800"/>
            <a:ext cx="90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узлах атомных кристаллических решеток находятся отдельные атомы, которые соединены ковалент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и между атомами веществ, находящихся в узлах кристаллической решетки прочные, с трудом разруш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с атомной кристаллической решеткой  имеют высокие температуры плавления,  обладают повышенной тверд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маз – самый твердый природ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071800" y="185724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алм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rcRect l="6451" t="9836" r="4840" b="3275"/>
          <a:stretch/>
        </p:blipFill>
        <p:spPr>
          <a:xfrm>
            <a:off x="214200" y="1500120"/>
            <a:ext cx="185256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214200" y="3357720"/>
            <a:ext cx="1714680" cy="1697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714760" y="200016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ркасные (алмаз, кремн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857680" y="385776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истые (граф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857680" y="557208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почные (карб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8" descr=""/>
          <p:cNvPicPr/>
          <p:nvPr/>
        </p:nvPicPr>
        <p:blipFill>
          <a:blip r:embed="rId4"/>
          <a:srcRect l="76059" t="13686" r="6487" b="60355"/>
          <a:stretch/>
        </p:blipFill>
        <p:spPr>
          <a:xfrm>
            <a:off x="214200" y="5214960"/>
            <a:ext cx="21430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07880" y="195120"/>
            <a:ext cx="8523360" cy="12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42539" t="45733" r="39490" b="32549"/>
          <a:stretch/>
        </p:blipFill>
        <p:spPr>
          <a:xfrm>
            <a:off x="0" y="928800"/>
            <a:ext cx="2928960" cy="2654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0" y="3579840"/>
            <a:ext cx="914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узлах располагаются молекулы веще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е связи в них ковалентные, как полярные, так и неполярны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вязи между молекулами веществ слабые, легко разрушают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с молекулярной кристаллической решеткой имеют малую твёрдость, плавятся при низкой температуре, летучие, при обычных условиях находятся в газообразном или жидком состоянии. (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СО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Н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714840" y="185724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й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334800" y="195120"/>
            <a:ext cx="8669520" cy="1262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rcRect l="34426" t="39065" r="36282" b="35546"/>
          <a:stretch/>
        </p:blipFill>
        <p:spPr>
          <a:xfrm>
            <a:off x="0" y="1857240"/>
            <a:ext cx="3736800" cy="2428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28760" y="42861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узлах металлических кристаллических решёток  находятся атомы и ионы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3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металлов характерны физические свойства: пластичность, ковкость, металлический блеск, высокая электро- и теплопровод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500280" y="19558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мет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rcRect l="31813" t="41988" r="37526" b="29606"/>
          <a:stretch/>
        </p:blipFill>
        <p:spPr>
          <a:xfrm>
            <a:off x="0" y="1285920"/>
            <a:ext cx="3786120" cy="2630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0" y="3857760"/>
            <a:ext cx="91440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узлах ионных кристаллических решеток находятся и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и между ионами в кристалле  очень прочные и устойчив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с ионной решеткой  обладают высокой твердостью и прочностью,  тугоплавки и неле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онные кристаллические решетки имеют  соли, некоторые оксиды и гидроксиды мет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857760" y="21430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75c01"/>
                </a:solidFill>
                <a:latin typeface="Arial"/>
                <a:ea typeface="Arial"/>
              </a:rPr>
              <a:t>Кристаллическая решетка хлорида на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19:56Z</dcterms:created>
  <dc:creator>Computer2</dc:creator>
  <dc:description/>
  <dc:language>en-US</dc:language>
  <cp:lastModifiedBy>Computer2</cp:lastModifiedBy>
  <dcterms:modified xsi:type="dcterms:W3CDTF">2009-11-14T05:02:45Z</dcterms:modified>
  <cp:revision>21</cp:revision>
  <dc:subject/>
  <dc:title>Кристаллические решетки</dc:title>
</cp:coreProperties>
</file>