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9C91-A650-4B80-BC47-094BFB27D5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3243-F19A-464A-86C4-55BEBE7D1F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DBEF-73DF-4F4B-861A-FB2BAE99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034-E01B-42D0-8225-1BA4A633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27C-F1F0-453A-A831-7D7658B3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53F-F969-481E-BF5F-9A1939F3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2427-CF9F-427C-9945-CF33180E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62FC-D6A2-4CB4-BC14-21DB65C8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FAA-9328-49DD-8AB1-39EEE6BE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70F-1E7A-487E-B66B-3084BA2D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049-9910-4328-A684-45632966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C5C-37BD-4584-A9BB-CFCD7F09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3A6C-9303-4581-A36E-253E36DE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9F3C-A5A6-4E13-9E83-7712CBAF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0D8C-7510-4EEE-B5BE-3CE86F8194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706320" y="3584520"/>
            <a:ext cx="7785360" cy="188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300024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5480" y="357120"/>
            <a:ext cx="84294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290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Arial"/>
                <a:ea typeface="Arial"/>
              </a:rPr>
              <a:t>Кристаллы </a:t>
            </a:r>
            <a:r>
              <a:rPr b="0" lang="ru-RU" sz="2800" spc="-1" strike="noStrike">
                <a:solidFill>
                  <a:srgbClr val="e75c01"/>
                </a:solidFill>
                <a:latin typeface="Arial"/>
                <a:ea typeface="Arial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твердые вещества, частицы которых образуют периодически повторяющуюся в пространстве структуру –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исталлическую решет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290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Arial"/>
                <a:ea typeface="Arial"/>
              </a:rPr>
              <a:t>Кристаллические решётки вещест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это упорядоченное расположение частиц(атомов, молекул, ионов) в строго определённых точках пространст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290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очки размещения частиц называют </a:t>
            </a:r>
            <a:r>
              <a:rPr b="1" lang="ru-RU" sz="2800" spc="-1" strike="noStrike">
                <a:solidFill>
                  <a:srgbClr val="e75c01"/>
                </a:solidFill>
                <a:latin typeface="Arial"/>
                <a:ea typeface="Arial"/>
              </a:rPr>
              <a:t>узлами кристаллической решёт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290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узлах кристаллической решетки могут быть </a:t>
            </a:r>
            <a:r>
              <a:rPr b="0" i="1" lang="ru-RU" sz="2800" spc="-1" strike="noStrike">
                <a:solidFill>
                  <a:srgbClr val="e75c01"/>
                </a:solidFill>
                <a:latin typeface="Arial"/>
                <a:ea typeface="Arial"/>
              </a:rPr>
              <a:t>молекулы, атомы или ио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59840" cy="115884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4" descr=""/>
          <p:cNvPicPr/>
          <p:nvPr/>
        </p:nvPicPr>
        <p:blipFill>
          <a:blip r:embed="rId2"/>
          <a:stretch/>
        </p:blipFill>
        <p:spPr>
          <a:xfrm>
            <a:off x="-6480" y="1316160"/>
            <a:ext cx="9156960" cy="5316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43214" t="40379" r="44421" b="40044"/>
          <a:stretch/>
        </p:blipFill>
        <p:spPr>
          <a:xfrm>
            <a:off x="0" y="642960"/>
            <a:ext cx="2071800" cy="2460600"/>
          </a:xfrm>
          <a:prstGeom prst="rect">
            <a:avLst/>
          </a:prstGeom>
          <a:ln w="0">
            <a:noFill/>
          </a:ln>
        </p:spPr>
      </p:pic>
      <p:pic>
        <p:nvPicPr>
          <p:cNvPr id="54" name="Заголовок 1" descr=""/>
          <p:cNvPicPr/>
          <p:nvPr/>
        </p:nvPicPr>
        <p:blipFill>
          <a:blip r:embed="rId2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0" y="3214800"/>
            <a:ext cx="900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узлах атомных кристаллических решеток находятся отдельные атомы, которые соединены ковалентными связ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язи между атомами веществ, находящихся в узлах кристаллической решетки прочные, с трудом разруш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щества с атомной кристаллической решеткой  имеют высокие температуры плавления,  обладают повышенной твердо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маз – самый твердый природ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2071800" y="1857240"/>
            <a:ext cx="52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Arial"/>
                <a:ea typeface="Arial"/>
              </a:rPr>
              <a:t>Кристаллическая решетка алм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rcRect l="6451" t="9836" r="4840" b="3275"/>
          <a:stretch/>
        </p:blipFill>
        <p:spPr>
          <a:xfrm>
            <a:off x="214200" y="1500120"/>
            <a:ext cx="1852560" cy="1785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214200" y="3357720"/>
            <a:ext cx="1714680" cy="169704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2714760" y="2000160"/>
            <a:ext cx="53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ркасные (алмаз, кремни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2857680" y="3857760"/>
            <a:ext cx="45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лоистые (графи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2857680" y="557208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Цепочные (карб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8" descr=""/>
          <p:cNvPicPr/>
          <p:nvPr/>
        </p:nvPicPr>
        <p:blipFill>
          <a:blip r:embed="rId4"/>
          <a:srcRect l="76059" t="13686" r="6487" b="60355"/>
          <a:stretch/>
        </p:blipFill>
        <p:spPr>
          <a:xfrm>
            <a:off x="214200" y="5214960"/>
            <a:ext cx="214308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07880" y="195120"/>
            <a:ext cx="8523360" cy="126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rcRect l="42539" t="45733" r="39490" b="32549"/>
          <a:stretch/>
        </p:blipFill>
        <p:spPr>
          <a:xfrm>
            <a:off x="0" y="928800"/>
            <a:ext cx="2928960" cy="2654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0" y="3579840"/>
            <a:ext cx="9144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В узлах располагаются молекулы вещест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ие связи в них ковалентные, как полярные, так и неполярные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вязи между молекулами веществ слабые, легко разрушаютс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Вещества с молекулярной кристаллической решеткой имеют малую твёрдость, плавятся при низкой температуре, летучие, при обычных условиях находятся в газообразном или жидком состоянии. (О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СО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Н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О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714840" y="1857240"/>
            <a:ext cx="492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Arial"/>
                <a:ea typeface="Arial"/>
              </a:rPr>
              <a:t>Кристаллическая решетка й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334800" y="195120"/>
            <a:ext cx="8669520" cy="1262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rcRect l="34426" t="39065" r="36282" b="35546"/>
          <a:stretch/>
        </p:blipFill>
        <p:spPr>
          <a:xfrm>
            <a:off x="0" y="1857240"/>
            <a:ext cx="3736800" cy="2428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428760" y="428616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узлах металлических кристаллических решёток  находятся атомы и ионы метал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металлов характерны физические свойства: пластичность, ковкость, металлический блеск, высокая электро- и теплопровод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3500280" y="1955880"/>
            <a:ext cx="52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Arial"/>
                <a:ea typeface="Arial"/>
              </a:rPr>
              <a:t>Кристаллическая решетка мет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rcRect l="31813" t="41988" r="37526" b="29606"/>
          <a:stretch/>
        </p:blipFill>
        <p:spPr>
          <a:xfrm>
            <a:off x="0" y="1285920"/>
            <a:ext cx="3786120" cy="263052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0" y="3857760"/>
            <a:ext cx="91440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узлах ионных кристаллических решеток находятся и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язи между ионами в кристалле  очень прочные и устойчив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щества с ионной решеткой  обладают высокой твердостью и прочностью,  тугоплавки и нелету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онные кристаллические решетки имеют  соли, некоторые оксиды и гидроксиды метал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3857760" y="2143080"/>
            <a:ext cx="485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Arial"/>
                <a:ea typeface="Arial"/>
              </a:rPr>
              <a:t>Кристаллическая решетка хлорида нат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9:19:56Z</dcterms:created>
  <dc:creator>Computer2</dc:creator>
  <dc:description/>
  <dc:language>en-US</dc:language>
  <cp:lastModifiedBy>Computer2</cp:lastModifiedBy>
  <dcterms:modified xsi:type="dcterms:W3CDTF">2009-11-14T05:02:45Z</dcterms:modified>
  <cp:revision>21</cp:revision>
  <dc:subject/>
  <dc:title>Кристаллические решетки</dc:title>
</cp:coreProperties>
</file>