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894-D277-46C9-B561-6A0A2E2B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58-BD50-4C34-992E-B6E6B1B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72C-934C-415E-9EA8-A63D2990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FA8-B02A-4274-980C-2D30F837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BF6-29EF-4278-8259-18EB562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05D-94B2-4E9E-9F5D-98625C35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E65-FD10-4737-9E9E-4B4949C6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BFF-8971-4AE8-A015-58B7C23B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3C9-B722-4DF0-A75F-3003ADA1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300-B7AE-4694-85B2-DE7C695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AB7-2AEC-4F99-8DBC-EA46BCD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6AF-ED6F-434D-8285-71329EC0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AA44-EF32-42BB-80F8-07276C8E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2400" y="692280"/>
            <a:ext cx="763920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 Р И В Е Т С Т В У Е М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Ч А С Т Н И К О В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 А Р А Ф О Н А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79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8569440" cy="1143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2ч30мин в минутах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23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9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3. 15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12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Д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60280"/>
            <a:ext cx="8353440" cy="144000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Сколько цифр в част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801000: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Три цифры  801000:890=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Д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60280"/>
            <a:ext cx="8353440" cy="144000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В част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801000: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09840" y="620640"/>
            <a:ext cx="673416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 У С С К И Й   ЯЗЫК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Слово, в котором все согласные твёрд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ЗВ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ОШИ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РЫ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Слово, в котором все согласные твёрд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ЗВ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ОШИ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РЫ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КЛОНЕНИЕ СУЩЕСТВИТЕЛЬНОГО ВЕРНО ОПРЕДЕЛЕНО У СЛ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ТИШЬ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ДЯДЯ – 1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Саша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КОРАБЛЬ – 3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КЛОНЕНИЕ СУЩЕСТВИТЕЛЬНОГО ВЕРНО ОПРЕДЕЛЕНО У СЛ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ТИШЬ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ЯДЯ – 1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Саша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КОРАБЛЬ – 3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КАЖИТЕ ПОБУДИТЕЛЬ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ы пришли в шк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Таганрог – родина Чех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Иди сюда скор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чему идёт 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ы пришли в шк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Таганрог – родина Чех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Иди сюда скор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чему идёт 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404640"/>
            <a:ext cx="8713800" cy="6098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ПОБУДИТЕЛЬН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нтеллектуальный марафон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«Умницы и умники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0" descr=""/>
          <p:cNvPicPr/>
          <p:nvPr/>
        </p:nvPicPr>
        <p:blipFill>
          <a:blip r:embed="rId1"/>
          <a:stretch/>
        </p:blipFill>
        <p:spPr>
          <a:xfrm>
            <a:off x="2857680" y="2254320"/>
            <a:ext cx="34574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2133720"/>
            <a:ext cx="7689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Гл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ы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ви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Ур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89000"/>
            <a:ext cx="8280360" cy="14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Все слова с суффиксом –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(найди лишн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280" y="2133720"/>
            <a:ext cx="7689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Гл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ы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ви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Ур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89000"/>
            <a:ext cx="8280360" cy="14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Лишнее слов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0655000">
            <a:off x="632880" y="856800"/>
            <a:ext cx="7398000" cy="47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ОЕ  ЧТЕНИЕ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Лош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В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ре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то, согласно басне И.А.Крылова, не смог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сдвинуть с места Лебедь, Рак и Щук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Лош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В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ре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60280"/>
            <a:ext cx="8207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Лебедь, Рак и Щу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не смог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сдвинуть с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то из этих литературных героев имел прозвище Каланч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Гулли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Дон Ких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Дядя Стё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Папа Кар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озвище Каланча им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Гулли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Дон Ких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ядя Стё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Папа Кар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ого из этих животных не было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и Бременских музыкан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е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реди Бременских музыкантов не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е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Ко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9640" y="1052640"/>
            <a:ext cx="8064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ий  мир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360" y="692280"/>
            <a:ext cx="806436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ВЫЙ ТУР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белы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Белый, сини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красный, 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Красный, белый, с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33360"/>
            <a:ext cx="8136000" cy="1150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УКАЖИТЕ ПОСЛЕДОВАТЕЛЬНОСТЬ Ц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ФЛАГА России(сверху вни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белы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Белый, сини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красный, 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Красный, белый, с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333360"/>
            <a:ext cx="8136000" cy="1150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ПОСЛЕДОВАТЕЛЬНОСТЬ Ц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ФЛАГА России(сверху вни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дека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ию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февр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424720" cy="9144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ень зимнего солнце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. 22 дека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. 22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3. 22 ию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4. 22 февр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33360"/>
            <a:ext cx="8424720" cy="9144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ень зимнего солнце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Какая часть света состоит из двух материков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  Аф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.  Евраз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.  Аме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. Антаркти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Из двух материков со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  Аф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.  Еврази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3.  Америка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. Антаркти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джигая сухую траву на лугах мы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30752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  Даем расти молодым побег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овышаем плодородие поч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за счет з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Наносим непоправим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ед  всему сообществ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 Восстанавливаем природное  равновеси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джигая сухую траву на лугах мы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30752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  Даем расти молодым побег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овышаем плодородие поч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за счет з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Наносим непоправим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вред  всему сообществу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 Восстанавливаем природное  равновеси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55640" y="692280"/>
            <a:ext cx="770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55640" y="549360"/>
            <a:ext cx="705636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 о р о й    т у 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26920" y="692280"/>
            <a:ext cx="770580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А Т Е М А Т И К 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09840" y="620640"/>
            <a:ext cx="673416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 У С С К И Й   ЯЗЫК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 каких словах пропущена буква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1. О выцветш…й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2. От изматывающ…й бессон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3. От плакуч…й 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4. С син…м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5. О летуч…й м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уква И пропущ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1. О выцветшей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2. От изматывающей бессон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3. От плакучей 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4. С синИм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5. О летучей м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113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9000"/>
            <a:ext cx="820728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Личные местои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найди лишн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113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Но (сою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89000"/>
            <a:ext cx="820728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Лиш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од…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н…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Борщ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В…ю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Мелоч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89000"/>
            <a:ext cx="8640720" cy="1224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, где нужно поставить разделительный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3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Подъ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он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Бор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Вью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Мел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89000"/>
            <a:ext cx="8640720" cy="1224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делительный Ь нужно постави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6920" y="692280"/>
            <a:ext cx="770580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А Т Е М А Т И К 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ак правильно выразить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км60дм в ме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600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км60дм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600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2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000+700+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000+70+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00+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+7+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89000"/>
            <a:ext cx="8280360" cy="1584360"/>
          </a:xfrm>
          <a:custGeom>
            <a:avLst/>
            <a:gdLst>
              <a:gd name="textAreaLeft" fmla="*/ 0 w 8280360"/>
              <a:gd name="textAreaRight" fmla="*/ 8280720 w 828036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ВЫБЕРИТЕ СУММУ, РАВНУЮ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300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2 и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20 и 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2 и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0"/>
            <a:ext cx="8280360" cy="2133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лина прямоугольника 4м, ширина 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ова его площадь и пе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2 и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  120 и 86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М=40ДМ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=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3=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=(40+3)•2=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12 и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0"/>
            <a:ext cx="8280360" cy="2133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лина прямоугольника 4м, ширина 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лощадь и перимет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30, 25, 21, 18, 16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84360" y="260280"/>
            <a:ext cx="8135640" cy="1152720"/>
          </a:xfrm>
          <a:custGeom>
            <a:avLst/>
            <a:gdLst>
              <a:gd name="textAreaLeft" fmla="*/ 2034000 w 8135640"/>
              <a:gd name="textAreaRight" fmla="*/ 6102000 w 813564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ca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771640" y="404640"/>
            <a:ext cx="42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Продолжи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30, 25, 21, 18, 16,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84360" y="260280"/>
            <a:ext cx="8135640" cy="1152720"/>
          </a:xfrm>
          <a:custGeom>
            <a:avLst/>
            <a:gdLst>
              <a:gd name="textAreaLeft" fmla="*/ 2034000 w 8135640"/>
              <a:gd name="textAreaRight" fmla="*/ 6102000 w 813564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ca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71640" y="404640"/>
            <a:ext cx="42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Продолжи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052640"/>
            <a:ext cx="8137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ий  мир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ыбери продукты животно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. Хлопок, лён, кормовые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. Фрукты, овощи, злаковые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.  Пух, шерсть, мя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дукты животно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 Хлопок, лён, кормо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 Фрукты, овощи, злако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3.  Пух, шерсть, 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Укажи причину смены дня и н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Земли вокруг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Луны вокруг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Смена дня и ночи происходит из-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Земли вокруг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Вращение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Луны вокруг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 rot="20655000">
            <a:off x="632880" y="856800"/>
            <a:ext cx="7398000" cy="47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ОЕ  ЧТЕНИЕ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0000+700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30000+70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000+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0+7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9000"/>
            <a:ext cx="8280360" cy="1584360"/>
          </a:xfrm>
          <a:custGeom>
            <a:avLst/>
            <a:gdLst>
              <a:gd name="textAreaLeft" fmla="*/ 0 w 8280360"/>
              <a:gd name="textAreaRight" fmla="*/ 8280720 w 828036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УММА, РАВНАЯ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300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333360"/>
            <a:ext cx="828036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25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Чем уколола пальчик Спящая красав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341360"/>
            <a:ext cx="8964720" cy="5516640"/>
          </a:xfrm>
          <a:custGeom>
            <a:avLst/>
            <a:gdLst>
              <a:gd name="textAreaLeft" fmla="*/ 2046600 w 8964720"/>
              <a:gd name="textAreaRight" fmla="*/ 6918120 w 8964720"/>
              <a:gd name="textAreaTop" fmla="*/ 1259280 h 5516640"/>
              <a:gd name="textAreaBottom" fmla="*/ 4257360 h 551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2565360"/>
            <a:ext cx="562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гол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Верет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Шипом р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колком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333360"/>
            <a:ext cx="828036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4255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пящая красавица уколола п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41360"/>
            <a:ext cx="8964720" cy="5516640"/>
          </a:xfrm>
          <a:custGeom>
            <a:avLst/>
            <a:gdLst>
              <a:gd name="textAreaLeft" fmla="*/ 2046600 w 8964720"/>
              <a:gd name="textAreaRight" fmla="*/ 6918120 w 8964720"/>
              <a:gd name="textAreaTop" fmla="*/ 1259280 h 5516640"/>
              <a:gd name="textAreaBottom" fmla="*/ 4257360 h 551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565360"/>
            <a:ext cx="562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гол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Верет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Шипом р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колком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333360"/>
            <a:ext cx="8280360" cy="1440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00" y="260280"/>
            <a:ext cx="793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Как звали девочку, оказавшую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 Королевстве кривых зерк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324000" y="1413000"/>
            <a:ext cx="9468000" cy="5445000"/>
          </a:xfrm>
          <a:prstGeom prst="irregularSeal2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411280" y="27810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3068640"/>
            <a:ext cx="3405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Же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А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333360"/>
            <a:ext cx="8280360" cy="1440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00" y="260280"/>
            <a:ext cx="793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Девочку, оказавшую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 Королевстве кривых зеркал з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24000" y="1413000"/>
            <a:ext cx="9468000" cy="5445000"/>
          </a:xfrm>
          <a:prstGeom prst="irregularSeal2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411280" y="27810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3068640"/>
            <a:ext cx="3405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Же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А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ак в сказке К.И.Чуковского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октор Айболит» звали со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ем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им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умбар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ум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сказке К.И.Чуковского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октор Айболит» сову з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ем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им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умбар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Бум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5640" y="692280"/>
            <a:ext cx="770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Какого доктора придумал Н.Н.Нос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йбол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пет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люль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стор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1. зад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л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2. портф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é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3. зв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4. з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á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м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60280"/>
            <a:ext cx="8207280" cy="113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НЕВЕР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СЛИ В ПОЛДЕНЬ ВСТАТЬ СПИНОЙ К СОЛНЦУ, ТО ТЕНЬ, КОТОРАЯ УПАДЁТ ОТ ТЕБЯ, БУДЕТ НАПРАВЛЕНА 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. ЗА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. 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.ВО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4. СЕ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l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2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g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3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l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4. 10101=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04640"/>
            <a:ext cx="8209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НАЙДИТЕ ВЕРНУЮ ЗАП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8360" y="189000"/>
            <a:ext cx="8207280" cy="633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Человек ехал в Москву в так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дороге ему навстречу двиг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 грузовиков и 5 автомаш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Сколько всего машин ехало в Москв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 rot="20849400">
            <a:off x="979200" y="744480"/>
            <a:ext cx="6705360" cy="520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ДРАВЛЯЕМ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4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55640" y="692280"/>
            <a:ext cx="74883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  НОВЫХ  ВСТРЕЧ !!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10760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</a:rPr>
              <a:t>10101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  <a:ea typeface="Arial"/>
              </a:rPr>
              <a:t>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2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g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3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l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4. 10101=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209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ЕРНАЯ  ЗАП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89000"/>
            <a:ext cx="8569440" cy="1143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Выразите 2ч30мин в мину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23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9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15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12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13:44Z</dcterms:created>
  <dc:creator>Teacher</dc:creator>
  <dc:description/>
  <dc:language>en-US</dc:language>
  <cp:lastModifiedBy>Teacher</cp:lastModifiedBy>
  <dcterms:modified xsi:type="dcterms:W3CDTF">2010-04-21T11:26:54Z</dcterms:modified>
  <cp:revision>14</cp:revision>
  <dc:subject/>
  <dc:title>Слайд 1</dc:title>
</cp:coreProperties>
</file>