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9F0-872B-4357-8FB1-49DB9A12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D47-2D16-44E0-B02C-4A95249F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CFE-0E4A-455C-A3C4-10EA378C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2EB-4625-48EA-954C-AFDD358A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2B1-8764-45CC-9D02-24E9C810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64B-7678-46BF-B122-3DCA1670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A9D-1B57-40AE-A480-4A80CB39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329-A33C-42A9-AD91-24A5F322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C0E-ADF2-4F2F-BB2E-2716517E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833-AC12-4FC4-AFC5-EE2C9EC1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341-073C-4899-B674-2D7E92C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C4C-CE25-488D-8B80-4E7CF7A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C11-A648-4A5B-9566-A4CE4F81D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2400" y="692280"/>
            <a:ext cx="763920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 Р И В Е Т С Т В У Е М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 Ч А С Т Н И К О В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 А Р А Ф О Н А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79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89000"/>
            <a:ext cx="8569440" cy="1143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2ч30мин в минутах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23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9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3. 15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12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Д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60280"/>
            <a:ext cx="8353440" cy="1440000"/>
          </a:xfrm>
          <a:custGeom>
            <a:avLst/>
            <a:gdLst>
              <a:gd name="textAreaLeft" fmla="*/ 2088360 w 8353440"/>
              <a:gd name="textAreaRight" fmla="*/ 6265080 w 8353440"/>
              <a:gd name="textAreaTop" fmla="*/ 0 h 1440000"/>
              <a:gd name="textAreaBottom" fmla="*/ 1260000 h 1440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Сколько цифр в част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801000: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Три цифры  801000:890=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еты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Д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60280"/>
            <a:ext cx="8353440" cy="1440000"/>
          </a:xfrm>
          <a:custGeom>
            <a:avLst/>
            <a:gdLst>
              <a:gd name="textAreaLeft" fmla="*/ 2088360 w 8353440"/>
              <a:gd name="textAreaRight" fmla="*/ 6265080 w 8353440"/>
              <a:gd name="textAreaTop" fmla="*/ 0 h 1440000"/>
              <a:gd name="textAreaBottom" fmla="*/ 1260000 h 1440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В част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801000:8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09840" y="620640"/>
            <a:ext cx="673416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 У С С К И Й   ЯЗЫК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Слово, в котором все согласные твёрд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ЗВ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ОШИ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РЫБ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Times New Roman"/>
              </a:rPr>
              <a:t>Слово, в котором все согласные твёрд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М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ЗВ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00"/>
                </a:solidFill>
                <a:uFillTx/>
                <a:latin typeface="Times New Roman"/>
              </a:rPr>
              <a:t>ОШИ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РЫБ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КЛОНЕНИЕ СУЩЕСТВИТЕЛЬНОГО ВЕРНО ОПРЕДЕЛЕНО У СЛ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ТИШЬ – 2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ДЯДЯ – 1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Саша – 2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КОРАБЛЬ – 3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КЛОНЕНИЕ СУЩЕСТВИТЕЛЬНОГО ВЕРНО ОПРЕДЕЛЕНО У СЛ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ТИШЬ – 2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ЯДЯ – 1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Саша – 2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КОРАБЛЬ – 3 С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КАЖИТЕ ПОБУДИТЕЛЬНОЕ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Мы пришли в шко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Таганрог – родина Чех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Иди сюда скор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чему идёт сне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Мы пришли в шко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Таганрог – родина Чех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Иди сюда скор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чему идёт сне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404640"/>
            <a:ext cx="8713800" cy="6098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ПОБУДИТЕЛЬНОЕ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нтеллектуальный марафон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«Умницы и умники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0" descr=""/>
          <p:cNvPicPr/>
          <p:nvPr/>
        </p:nvPicPr>
        <p:blipFill>
          <a:blip r:embed="rId1"/>
          <a:stretch/>
        </p:blipFill>
        <p:spPr>
          <a:xfrm>
            <a:off x="2857680" y="2254320"/>
            <a:ext cx="345744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2133720"/>
            <a:ext cx="7689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Гл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Сы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Сви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Ур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89000"/>
            <a:ext cx="8280360" cy="14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Все слова с суффиксом –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(найди лишн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280" y="2133720"/>
            <a:ext cx="7689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Гл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Сы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Сви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Ур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89000"/>
            <a:ext cx="8280360" cy="14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Лишнее слов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20655000">
            <a:off x="632880" y="856800"/>
            <a:ext cx="7398000" cy="47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НОЕ  ЧТЕНИЕ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ам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Лош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В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аре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60280"/>
            <a:ext cx="8785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Что, согласно басне И.А.Крылова, не смог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сдвинуть с места Лебедь, Рак и Щук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ам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Лош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В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аре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60280"/>
            <a:ext cx="8207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Лебедь, Рак и Щук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не смог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сдвинуть с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то из этих литературных героев имел прозвище Каланч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Гулли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Дон Ких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Дядя Стё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Папа Кар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озвище Каланча им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Гуллив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Дон Ких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Дядя Стё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Папа Кар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ого из этих животных не было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реди Бременских музыкант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О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Пет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Коз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К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реди Бременских музыкантов не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Ос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Пет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Коз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К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39640" y="1052640"/>
            <a:ext cx="8064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кружающий  мир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4360" y="692280"/>
            <a:ext cx="806436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РВЫЙ ТУР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Синий, белый, 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Белый, синий, 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Синий, красный, 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Красный, белый, с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33360"/>
            <a:ext cx="8136000" cy="1150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УКАЖИТЕ ПОСЛЕДОВАТЕЛЬНОСТЬ ЦВ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ФЛАГА России(сверху вни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Синий, белый, 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Белый, синий, крас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Синий, красный, 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Красный, белый, с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333360"/>
            <a:ext cx="8136000" cy="1150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ПОСЛЕДОВАТЕЛЬНОСТЬ ЦВ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ФЛАГА России(сверху вни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2 дека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2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2 ию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2 февр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8424720" cy="9144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ень зимнего солнцестоя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1. 22 дека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2. 22 янв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3. 22 ию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4. 22 февр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333360"/>
            <a:ext cx="8424720" cy="9144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006699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ень зимнего солнцестоя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Какая часть света состоит из двух материков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.  Аф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.  Евраз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3.  Аме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. Антаркти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Из двух материков со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.  Афр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.  Евразия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3.  Америка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4. Антаркти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джигая сухую траву на лугах мы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30752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.  Даем расти молодым побег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овышаем плодородие поч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за счет зо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Наносим непоправим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ед  всему сообществ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 Восстанавливаем природное  равновеси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джигая сухую траву на лугах мы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307520"/>
            <a:ext cx="84978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1.  Даем расти молодым побега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овышаем плодородие поч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за счет зо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Наносим непоправим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вред  всему сообществу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 Восстанавливаем природное  равновеси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55640" y="692280"/>
            <a:ext cx="7704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55640" y="549360"/>
            <a:ext cx="705636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т о р о й    т у 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26920" y="692280"/>
            <a:ext cx="770580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А Т Е М А Т И К 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09840" y="620640"/>
            <a:ext cx="673416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 У С С К И Й   ЯЗЫК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В каких словах пропущена буква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1. О выцветш…й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2. От изматывающ…й бессон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3. От плакуч…й 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4. С син…м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5. О летуч…й мы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Буква И пропущ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1. О выцветшей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2. От изматывающей бессонн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3. От плакучей 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4. С синИм мор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5. О летучей мы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113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89000"/>
            <a:ext cx="820728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Личные местоим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найди лишн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113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Но (сою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89000"/>
            <a:ext cx="820728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Лишн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Под…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Кон…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Борщ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В…ю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Мелоч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89000"/>
            <a:ext cx="8640720" cy="1224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бери, где нужно поставить разделительный 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3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Подъ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Кон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Бор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Вью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Мел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89000"/>
            <a:ext cx="8640720" cy="1224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делительный Ь нужно постави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6920" y="692280"/>
            <a:ext cx="770580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А Т Е М А Т И К 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ак правильно выразить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км60дм в ме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600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км60дм – 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0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600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2006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0000+700+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0000+70+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000+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0+7+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89000"/>
            <a:ext cx="8280360" cy="1584360"/>
          </a:xfrm>
          <a:custGeom>
            <a:avLst/>
            <a:gdLst>
              <a:gd name="textAreaLeft" fmla="*/ 0 w 8280360"/>
              <a:gd name="textAreaRight" fmla="*/ 8280720 w 828036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ВЫБЕРИТЕ СУММУ, РАВНУЮ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300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2 и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20 и 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2 и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0"/>
            <a:ext cx="8280360" cy="2133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лина прямоугольника 4м, ширина 3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ова его площадь и перимет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2 и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  120 и 86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М=40ДМ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=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3=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=(40+3)•2=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.12 и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0"/>
            <a:ext cx="8280360" cy="2133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Длина прямоугольника 4м, ширина 3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лощадь и периметр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30, 25, 21, 18, 16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684360" y="260280"/>
            <a:ext cx="8135640" cy="1152720"/>
          </a:xfrm>
          <a:custGeom>
            <a:avLst/>
            <a:gdLst>
              <a:gd name="textAreaLeft" fmla="*/ 2034000 w 8135640"/>
              <a:gd name="textAreaRight" fmla="*/ 6102000 w 8135640"/>
              <a:gd name="textAreaTop" fmla="*/ 0 h 1152720"/>
              <a:gd name="textAreaBottom" fmla="*/ 1008720 h 1152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ca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771640" y="404640"/>
            <a:ext cx="42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Продолжи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7fba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30, 25, 21, 18, 16,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84360" y="260280"/>
            <a:ext cx="8135640" cy="1152720"/>
          </a:xfrm>
          <a:custGeom>
            <a:avLst/>
            <a:gdLst>
              <a:gd name="textAreaLeft" fmla="*/ 2034000 w 8135640"/>
              <a:gd name="textAreaRight" fmla="*/ 6102000 w 8135640"/>
              <a:gd name="textAreaTop" fmla="*/ 0 h 1152720"/>
              <a:gd name="textAreaBottom" fmla="*/ 1008720 h 1152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ca0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771640" y="404640"/>
            <a:ext cx="42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Продолжи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052640"/>
            <a:ext cx="8137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кружающий  мир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Выбери продукты животно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1. Хлопок, лён, кормовые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. Фрукты, овощи, злаковые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.  Пух, шерсть, мя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1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3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5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дукты животно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. Хлопок, лён, кормо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 Фрукты, овощи, злако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3.  Пух, шерсть, мя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Укажи причину смены дня и но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Земли вокруг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Земли вокруг своей о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Луны вокруг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Смена дня и ночи происходит из-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Земли вокруг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Вращение Земли вокруг своей о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ращение Луны вокруг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 rot="20655000">
            <a:off x="632880" y="856800"/>
            <a:ext cx="7398000" cy="471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ТЕРАТУРНОЕ  ЧТЕНИЕ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30000+700+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30000+70+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3000+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30+7+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9000"/>
            <a:ext cx="8280360" cy="1584360"/>
          </a:xfrm>
          <a:custGeom>
            <a:avLst/>
            <a:gdLst>
              <a:gd name="textAreaLeft" fmla="*/ 0 w 8280360"/>
              <a:gd name="textAreaRight" fmla="*/ 8280720 w 828036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СУММА, РАВНАЯ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imes New Roman"/>
              </a:rPr>
              <a:t>300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333360"/>
            <a:ext cx="828036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25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Чем уколола пальчик Спящая красав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341360"/>
            <a:ext cx="8964720" cy="5516640"/>
          </a:xfrm>
          <a:custGeom>
            <a:avLst/>
            <a:gdLst>
              <a:gd name="textAreaLeft" fmla="*/ 2046600 w 8964720"/>
              <a:gd name="textAreaRight" fmla="*/ 6918120 w 8964720"/>
              <a:gd name="textAreaTop" fmla="*/ 1259280 h 5516640"/>
              <a:gd name="textAreaBottom" fmla="*/ 4257360 h 551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2565360"/>
            <a:ext cx="562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гол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Верете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Шипом р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Осколком ст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3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333360"/>
            <a:ext cx="828036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4255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пящая красавица уколола п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341360"/>
            <a:ext cx="8964720" cy="5516640"/>
          </a:xfrm>
          <a:custGeom>
            <a:avLst/>
            <a:gdLst>
              <a:gd name="textAreaLeft" fmla="*/ 2046600 w 8964720"/>
              <a:gd name="textAreaRight" fmla="*/ 6918120 w 8964720"/>
              <a:gd name="textAreaTop" fmla="*/ 1259280 h 5516640"/>
              <a:gd name="textAreaBottom" fmla="*/ 4257360 h 551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2565360"/>
            <a:ext cx="562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гол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Верете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Шипом р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Осколком ст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333360"/>
            <a:ext cx="8280360" cy="1440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00" y="260280"/>
            <a:ext cx="793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Как звали девочку, оказавшую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в Королевстве кривых зерк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324000" y="1413000"/>
            <a:ext cx="9468000" cy="5445000"/>
          </a:xfrm>
          <a:prstGeom prst="irregularSeal2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411280" y="278100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3068640"/>
            <a:ext cx="3405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Же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А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5280" y="333360"/>
            <a:ext cx="8280360" cy="1440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3200" y="260280"/>
            <a:ext cx="793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Девочку, оказавшую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в Королевстве кривых зеркал з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324000" y="1413000"/>
            <a:ext cx="9468000" cy="5445000"/>
          </a:xfrm>
          <a:prstGeom prst="irregularSeal2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411280" y="278100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3068640"/>
            <a:ext cx="3405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Же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А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ак в сказке К.И.Чуковского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октор Айболит» звали со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ем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им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умбар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ум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 сказке К.И.Чуковского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октор Айболит» сову з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ем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им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Бумбар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Бумб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5640" y="692280"/>
            <a:ext cx="7704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Какого доктора придумал Н.Н.Нос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йбол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пет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люль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астор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1. зад</a:t>
            </a:r>
            <a:r>
              <a:rPr b="1" i="1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i="1" lang="ru-RU" sz="4000" spc="-1" strike="noStrike">
                <a:solidFill>
                  <a:srgbClr val="0033cc"/>
                </a:solidFill>
                <a:latin typeface="Arial"/>
              </a:rPr>
              <a:t>л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2. портф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é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3. зв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ó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4. з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á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тем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260280"/>
            <a:ext cx="8207280" cy="113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НЕВЕР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8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ЕСЛИ В ПОЛДЕНЬ ВСТАТЬ СПИНОЙ К СОЛНЦУ, ТО ТЕНЬ, КОТОРАЯ УПАДЁТ ОТ ТЕБЯ, БУДЕТ НАПРАВЛЕНА 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1. ЗАП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. Ю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3.ВО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4. СЕ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1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l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2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g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3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l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4. 10101=101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04640"/>
            <a:ext cx="8209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НАЙДИТЕ ВЕРНУЮ ЗАП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68360" y="189000"/>
            <a:ext cx="8207280" cy="633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Человек ехал в Москву в так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о дороге ему навстречу двигал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 грузовиков и 5 автомаш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Сколько всего машин ехало в Москв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99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 rot="20849400">
            <a:off x="979200" y="744480"/>
            <a:ext cx="6705360" cy="520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ДРАВЛЯЕМ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0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4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99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55640" y="692280"/>
            <a:ext cx="74883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  НОВЫХ  ВСТРЕЧ !!!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1" dur="10760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ru-RU" sz="4400" spc="-1" strike="noStrike" u="sng">
                <a:solidFill>
                  <a:srgbClr val="000066"/>
                </a:solidFill>
                <a:uFillTx/>
                <a:latin typeface="Times New Roman"/>
              </a:rPr>
              <a:t>10101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ru-RU" sz="4400" spc="-1" strike="noStrike" u="sng">
                <a:solidFill>
                  <a:srgbClr val="000066"/>
                </a:solidFill>
                <a:uFillTx/>
                <a:latin typeface="Times New Roman"/>
                <a:ea typeface="Arial"/>
              </a:rPr>
              <a:t>101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2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g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3. 10101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&lt;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10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Arial"/>
              </a:rPr>
              <a:t>4. 10101=101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04640"/>
            <a:ext cx="8209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ВЕРНАЯ  ЗАП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189000"/>
            <a:ext cx="8569440" cy="114300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Выразите 2ч30мин в мину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280" y="1600200"/>
            <a:ext cx="74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23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9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15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120 м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13:44Z</dcterms:created>
  <dc:creator>Teacher</dc:creator>
  <dc:description/>
  <dc:language>en-US</dc:language>
  <cp:lastModifiedBy>Teacher</cp:lastModifiedBy>
  <dcterms:modified xsi:type="dcterms:W3CDTF">2010-04-21T11:26:54Z</dcterms:modified>
  <cp:revision>14</cp:revision>
  <dc:subject/>
  <dc:title>Слайд 1</dc:title>
</cp:coreProperties>
</file>