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3A9-C00B-45DF-BEFC-735F9DEC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8A0-A490-41B6-B425-64EA9B8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B5F-8499-437B-ADD0-83DA1178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DD7-F118-4EA8-8A5E-3CCDBF81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F8F-BD73-444A-B3C2-823F90F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CCA-EBEF-4436-A469-8B00ECB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EDD-E662-4399-907A-C968AB7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079-C4C9-4DD9-BBF9-10C82E5F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E9D-E972-453D-B166-3307382E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DFC-8878-4B77-A026-8AB7DE7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529-C042-45B8-90B6-5DD0B38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93F-E360-4B9D-B87C-347C3B9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4CD0-CA63-4E44-BDCA-FA6AA6893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28600" y="4191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1188000" y="1676520"/>
            <a:ext cx="6992640" cy="2810520"/>
            <a:chOff x="1188000" y="1676520"/>
            <a:chExt cx="6992640" cy="2810520"/>
          </a:xfrm>
        </p:grpSpPr>
        <p:sp>
          <p:nvSpPr>
            <p:cNvPr id="44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1188000" y="1676520"/>
              <a:ext cx="695520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Arial"/>
                </a:rPr>
                <a:t>«Деление на двузначное число»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а выб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думать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а по теме урока, № 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46 № 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5"/>
          <p:cNvCxnSpPr/>
          <p:nvPr/>
        </p:nvCxnSpPr>
        <p:spPr>
          <a:xfrm>
            <a:off x="1521360" y="109656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9" name="TextBox 7"/>
          <p:cNvSpPr/>
          <p:nvPr/>
        </p:nvSpPr>
        <p:spPr>
          <a:xfrm>
            <a:off x="266760" y="200160"/>
            <a:ext cx="20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2060640" y="1635120"/>
            <a:ext cx="896760" cy="89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9"/>
          <p:cNvCxnSpPr/>
          <p:nvPr/>
        </p:nvCxnSpPr>
        <p:spPr>
          <a:xfrm>
            <a:off x="2956320" y="2532240"/>
            <a:ext cx="538920" cy="538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2" name="Овал 10"/>
          <p:cNvSpPr/>
          <p:nvPr/>
        </p:nvSpPr>
        <p:spPr>
          <a:xfrm>
            <a:off x="3495600" y="3070080"/>
            <a:ext cx="897120" cy="89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11"/>
          <p:cNvCxnSpPr/>
          <p:nvPr/>
        </p:nvCxnSpPr>
        <p:spPr>
          <a:xfrm>
            <a:off x="4391640" y="396684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4" name="Овал 12"/>
          <p:cNvSpPr/>
          <p:nvPr/>
        </p:nvSpPr>
        <p:spPr>
          <a:xfrm>
            <a:off x="4930920" y="4325760"/>
            <a:ext cx="896760" cy="89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1881360" y="1096920"/>
            <a:ext cx="717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4572000" y="360828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957400" y="2173320"/>
            <a:ext cx="19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+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1701720" y="91764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35"/>
          <p:cNvCxnSpPr/>
          <p:nvPr/>
        </p:nvCxnSpPr>
        <p:spPr>
          <a:xfrm>
            <a:off x="5826600" y="522252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0" name="Овал 39"/>
          <p:cNvSpPr/>
          <p:nvPr/>
        </p:nvSpPr>
        <p:spPr>
          <a:xfrm>
            <a:off x="6545160" y="5581800"/>
            <a:ext cx="1255680" cy="896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1"/>
          <p:cNvSpPr/>
          <p:nvPr/>
        </p:nvSpPr>
        <p:spPr>
          <a:xfrm>
            <a:off x="5827680" y="486396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46040" y="5222880"/>
            <a:ext cx="878040" cy="942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4"/>
          <p:cNvSpPr/>
          <p:nvPr/>
        </p:nvSpPr>
        <p:spPr>
          <a:xfrm>
            <a:off x="2598840" y="37944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атематическая разми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3880" y="1523880"/>
          <a:ext cx="6248520" cy="6858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1981080"/>
          <a:ext cx="6248520" cy="6858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523880" y="2438280"/>
          <a:ext cx="6248520" cy="6098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895480"/>
          <a:ext cx="6248520" cy="6858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прямоугольников на рису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838080" y="2514600"/>
            <a:ext cx="91440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752480" y="2514600"/>
            <a:ext cx="186876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581280" y="2514600"/>
            <a:ext cx="121932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4800600" y="2514600"/>
            <a:ext cx="152388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324480" y="2514600"/>
            <a:ext cx="91440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3728160" y="5486400"/>
            <a:ext cx="40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6 прямо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7200" y="609480"/>
            <a:ext cx="830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бы найти делимо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бы найти делит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бы найти частно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397160"/>
          <a:ext cx="7924680" cy="40892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Алгоритм деления на дву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ервое неполное 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число цифр в част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цифры в каждом разряде час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981080" y="1295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 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6553080" y="8380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981080" y="517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 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05520" y="5335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 6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505320" y="76212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3429000" y="144792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29400" y="15238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743200" y="1981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629400" y="1143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581280" y="1295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429000" y="533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105520" y="1295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 6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553080" y="6094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2819160" y="41911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648320" y="2209680"/>
            <a:ext cx="1752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867280" y="2057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1447920" y="15238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4952520" y="14479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1395360" y="335268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 flipH="1">
            <a:off x="1219320" y="40384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9"/>
          <p:cNvSpPr/>
          <p:nvPr/>
        </p:nvSpPr>
        <p:spPr>
          <a:xfrm>
            <a:off x="1306440" y="403848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 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1447920" y="480060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895480" y="358128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2"/>
          <p:cNvSpPr/>
          <p:nvPr/>
        </p:nvSpPr>
        <p:spPr>
          <a:xfrm>
            <a:off x="2810520" y="33526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 flipH="1">
            <a:off x="1676160" y="213372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4"/>
          <p:cNvSpPr/>
          <p:nvPr/>
        </p:nvSpPr>
        <p:spPr>
          <a:xfrm>
            <a:off x="2930040" y="41148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6095880" y="40384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4495320" y="3886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4582800" y="388620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4724280" y="464832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6172200" y="342900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0"/>
          <p:cNvSpPr/>
          <p:nvPr/>
        </p:nvSpPr>
        <p:spPr>
          <a:xfrm>
            <a:off x="6206760" y="39625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>
            <a:off x="4748400" y="320040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2"/>
          <p:cNvSpPr/>
          <p:nvPr/>
        </p:nvSpPr>
        <p:spPr>
          <a:xfrm>
            <a:off x="6087240" y="32004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838080" y="76212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уристы в первый день были в пути 6ч, а во второй 4ч, Всего они проехали 600км. Какое расстояние туристы проезжали каждый день, если они ехали с одинаковой средней скор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ся</cp:lastModifiedBy>
  <dcterms:modified xsi:type="dcterms:W3CDTF">2013-03-18T11:06:0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