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ABFB-D1C8-44D8-9910-35C9DD79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C635-0CA2-462A-B552-05665E65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01B9-1F10-42D7-AE2C-DB73DD2E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2929-E4F7-43B2-AA8E-11CA2416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9E67-3040-42DA-9398-99F4CA70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98CE-E081-40CC-9E6A-A2160378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3783-D72E-442B-BF07-72CF6247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A8EE-6C14-4C3B-BE8D-17547436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D544-E9CF-4F99-A006-F9684F4F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9370-D669-408E-BCBA-0D61F288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ACAA-1F63-4908-A735-F25C14BA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A11A-E603-43F8-8A46-B7B78FDB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EE44-629C-4FC6-8567-14ED516830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all_things.png"/>
          <p:cNvPicPr/>
          <p:nvPr/>
        </p:nvPicPr>
        <p:blipFill>
          <a:blip r:embed="rId1"/>
          <a:stretch/>
        </p:blipFill>
        <p:spPr>
          <a:xfrm>
            <a:off x="3419640" y="2781360"/>
            <a:ext cx="5724360" cy="4076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228600" y="41911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1"/>
          <p:cNvGrpSpPr/>
          <p:nvPr/>
        </p:nvGrpSpPr>
        <p:grpSpPr>
          <a:xfrm>
            <a:off x="1188000" y="1676520"/>
            <a:ext cx="6992640" cy="2810520"/>
            <a:chOff x="1188000" y="1676520"/>
            <a:chExt cx="6992640" cy="2810520"/>
          </a:xfrm>
        </p:grpSpPr>
        <p:sp>
          <p:nvSpPr>
            <p:cNvPr id="44" name="Text Box 8"/>
            <p:cNvSpPr/>
            <p:nvPr/>
          </p:nvSpPr>
          <p:spPr>
            <a:xfrm rot="1273200">
              <a:off x="6671880" y="3352320"/>
              <a:ext cx="144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рок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математ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9"/>
            <p:cNvSpPr/>
            <p:nvPr/>
          </p:nvSpPr>
          <p:spPr>
            <a:xfrm>
              <a:off x="1188000" y="1676520"/>
              <a:ext cx="6955200" cy="14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Тема урока:</a:t>
              </a: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ff"/>
                  </a:solidFill>
                  <a:latin typeface="Arial"/>
                </a:rPr>
                <a:t>«Деление на двузначное число»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10"/>
            <p:cNvSpPr/>
            <p:nvPr/>
          </p:nvSpPr>
          <p:spPr>
            <a:xfrm rot="1291200">
              <a:off x="6780600" y="4038480"/>
              <a:ext cx="82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4 клас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На выб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думать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мера по теме урока, № 2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 46 № 2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MCj03358780000[1]"/>
          <p:cNvPicPr/>
          <p:nvPr/>
        </p:nvPicPr>
        <p:blipFill>
          <a:blip r:embed="rId1"/>
          <a:stretch/>
        </p:blipFill>
        <p:spPr>
          <a:xfrm flipH="1" rot="2020800">
            <a:off x="380160" y="2073240"/>
            <a:ext cx="4800600" cy="4784760"/>
          </a:xfrm>
          <a:prstGeom prst="rect">
            <a:avLst/>
          </a:prstGeom>
          <a:ln w="0">
            <a:noFill/>
          </a:ln>
        </p:spPr>
      </p:pic>
      <p:sp>
        <p:nvSpPr>
          <p:cNvPr id="120" name="WordArt 3"/>
          <p:cNvSpPr txBox="1"/>
          <p:nvPr/>
        </p:nvSpPr>
        <p:spPr>
          <a:xfrm>
            <a:off x="685800" y="914400"/>
            <a:ext cx="79200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УРО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Прямая со стрелкой 5"/>
          <p:cNvCxnSpPr/>
          <p:nvPr/>
        </p:nvCxnSpPr>
        <p:spPr>
          <a:xfrm>
            <a:off x="1521360" y="1096560"/>
            <a:ext cx="538920" cy="5389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49" name="TextBox 7"/>
          <p:cNvSpPr/>
          <p:nvPr/>
        </p:nvSpPr>
        <p:spPr>
          <a:xfrm>
            <a:off x="266760" y="200160"/>
            <a:ext cx="206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4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8"/>
          <p:cNvSpPr/>
          <p:nvPr/>
        </p:nvSpPr>
        <p:spPr>
          <a:xfrm>
            <a:off x="2060640" y="1635120"/>
            <a:ext cx="896760" cy="897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 стрелкой 9"/>
          <p:cNvCxnSpPr/>
          <p:nvPr/>
        </p:nvCxnSpPr>
        <p:spPr>
          <a:xfrm>
            <a:off x="2956320" y="2532240"/>
            <a:ext cx="538920" cy="5385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2" name="Овал 10"/>
          <p:cNvSpPr/>
          <p:nvPr/>
        </p:nvSpPr>
        <p:spPr>
          <a:xfrm>
            <a:off x="3495600" y="3070080"/>
            <a:ext cx="897120" cy="897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Прямая со стрелкой 11"/>
          <p:cNvCxnSpPr/>
          <p:nvPr/>
        </p:nvCxnSpPr>
        <p:spPr>
          <a:xfrm>
            <a:off x="4391640" y="3966840"/>
            <a:ext cx="538920" cy="5389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4" name="Овал 12"/>
          <p:cNvSpPr/>
          <p:nvPr/>
        </p:nvSpPr>
        <p:spPr>
          <a:xfrm>
            <a:off x="4930920" y="4325760"/>
            <a:ext cx="896760" cy="897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0"/>
          <p:cNvSpPr/>
          <p:nvPr/>
        </p:nvSpPr>
        <p:spPr>
          <a:xfrm>
            <a:off x="1881360" y="1096920"/>
            <a:ext cx="7174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1"/>
          <p:cNvSpPr/>
          <p:nvPr/>
        </p:nvSpPr>
        <p:spPr>
          <a:xfrm>
            <a:off x="4572000" y="3608280"/>
            <a:ext cx="16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-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2"/>
          <p:cNvSpPr/>
          <p:nvPr/>
        </p:nvSpPr>
        <p:spPr>
          <a:xfrm>
            <a:off x="2957400" y="2173320"/>
            <a:ext cx="197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+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3"/>
          <p:cNvSpPr/>
          <p:nvPr/>
        </p:nvSpPr>
        <p:spPr>
          <a:xfrm>
            <a:off x="1701720" y="917640"/>
            <a:ext cx="12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: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Прямая со стрелкой 35"/>
          <p:cNvCxnSpPr/>
          <p:nvPr/>
        </p:nvCxnSpPr>
        <p:spPr>
          <a:xfrm>
            <a:off x="5826600" y="5222520"/>
            <a:ext cx="538920" cy="5389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0" name="Овал 39"/>
          <p:cNvSpPr/>
          <p:nvPr/>
        </p:nvSpPr>
        <p:spPr>
          <a:xfrm>
            <a:off x="6545160" y="5581800"/>
            <a:ext cx="1255680" cy="896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1"/>
          <p:cNvSpPr/>
          <p:nvPr/>
        </p:nvSpPr>
        <p:spPr>
          <a:xfrm>
            <a:off x="5827680" y="4863960"/>
            <a:ext cx="179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2060"/>
                </a:solidFill>
                <a:latin typeface="Wingdings"/>
                <a:ea typeface="Wingdings"/>
              </a:rPr>
              <a:t>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446040" y="5222880"/>
            <a:ext cx="878040" cy="9428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44"/>
          <p:cNvSpPr/>
          <p:nvPr/>
        </p:nvSpPr>
        <p:spPr>
          <a:xfrm>
            <a:off x="2598840" y="37944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Математическая размин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523880" y="1523880"/>
          <a:ext cx="6248520" cy="68580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20829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523880" y="1981080"/>
          <a:ext cx="6248520" cy="68580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20829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км/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523880" y="2438280"/>
          <a:ext cx="6248520" cy="6098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208296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к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523880" y="2895480"/>
          <a:ext cx="6248520" cy="68580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20829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км/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к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олько прямоугольников на рисун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838080" y="2514600"/>
            <a:ext cx="914400" cy="1152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1752480" y="2514600"/>
            <a:ext cx="1868760" cy="1152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3581280" y="2514600"/>
            <a:ext cx="1219320" cy="1152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4800600" y="2514600"/>
            <a:ext cx="1523880" cy="1152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6324480" y="2514600"/>
            <a:ext cx="914400" cy="1152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7"/>
          <p:cNvSpPr/>
          <p:nvPr/>
        </p:nvSpPr>
        <p:spPr>
          <a:xfrm>
            <a:off x="3728160" y="5486400"/>
            <a:ext cx="401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6 прямоуг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MCj02907090000[1]"/>
          <p:cNvPicPr/>
          <p:nvPr/>
        </p:nvPicPr>
        <p:blipFill>
          <a:blip r:embed="rId1"/>
          <a:stretch/>
        </p:blipFill>
        <p:spPr>
          <a:xfrm>
            <a:off x="3276720" y="3048120"/>
            <a:ext cx="464796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1828800" y="1371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457200" y="609480"/>
            <a:ext cx="830592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Чтобы найти делимо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Чтобы найти делител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Чтобы найти частно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5800" y="1397160"/>
          <a:ext cx="7924680" cy="408924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  <a:gridCol w="1981080"/>
              </a:tblGrid>
              <a:tr h="13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2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3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30492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Arial"/>
              </a:rPr>
              <a:t>Алгоритм деления на двузначное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первое неполное дели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число цифр в част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цифры в каждом разряде час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остаток (если он е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1981080" y="12952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2 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"/>
          <p:cNvSpPr/>
          <p:nvPr/>
        </p:nvSpPr>
        <p:spPr>
          <a:xfrm>
            <a:off x="6553080" y="83808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981080" y="5176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2 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105520" y="5335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1 6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3505320" y="762120"/>
            <a:ext cx="0" cy="1371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3429000" y="1447920"/>
            <a:ext cx="1143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6629400" y="1523880"/>
            <a:ext cx="99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2743200" y="19810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6629400" y="11430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3</a:t>
            </a: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3581280" y="12952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3429000" y="5335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4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5105520" y="12952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1 6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6553080" y="60948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5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 flipH="1">
            <a:off x="2819160" y="4191120"/>
            <a:ext cx="10666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8"/>
          <p:cNvSpPr/>
          <p:nvPr/>
        </p:nvSpPr>
        <p:spPr>
          <a:xfrm flipH="1">
            <a:off x="4648320" y="2209680"/>
            <a:ext cx="17524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5867280" y="205740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0"/>
          <p:cNvSpPr/>
          <p:nvPr/>
        </p:nvSpPr>
        <p:spPr>
          <a:xfrm flipH="1">
            <a:off x="1447920" y="152388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1"/>
          <p:cNvSpPr/>
          <p:nvPr/>
        </p:nvSpPr>
        <p:spPr>
          <a:xfrm flipH="1">
            <a:off x="4952520" y="1447920"/>
            <a:ext cx="3812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7"/>
          <p:cNvSpPr/>
          <p:nvPr/>
        </p:nvSpPr>
        <p:spPr>
          <a:xfrm>
            <a:off x="1395360" y="3352680"/>
            <a:ext cx="135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25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0"/>
          <p:cNvSpPr/>
          <p:nvPr/>
        </p:nvSpPr>
        <p:spPr>
          <a:xfrm flipH="1">
            <a:off x="1219320" y="403848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9"/>
          <p:cNvSpPr/>
          <p:nvPr/>
        </p:nvSpPr>
        <p:spPr>
          <a:xfrm>
            <a:off x="1306440" y="4038480"/>
            <a:ext cx="153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2 5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7"/>
          <p:cNvSpPr/>
          <p:nvPr/>
        </p:nvSpPr>
        <p:spPr>
          <a:xfrm flipH="1">
            <a:off x="1447920" y="4800600"/>
            <a:ext cx="1371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895480" y="3581280"/>
            <a:ext cx="0" cy="99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32"/>
          <p:cNvSpPr/>
          <p:nvPr/>
        </p:nvSpPr>
        <p:spPr>
          <a:xfrm>
            <a:off x="2810520" y="335268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6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7"/>
          <p:cNvSpPr/>
          <p:nvPr/>
        </p:nvSpPr>
        <p:spPr>
          <a:xfrm flipH="1">
            <a:off x="1676160" y="2133720"/>
            <a:ext cx="1600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4"/>
          <p:cNvSpPr/>
          <p:nvPr/>
        </p:nvSpPr>
        <p:spPr>
          <a:xfrm>
            <a:off x="2930040" y="411480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7"/>
          <p:cNvSpPr/>
          <p:nvPr/>
        </p:nvSpPr>
        <p:spPr>
          <a:xfrm flipH="1">
            <a:off x="6095880" y="4038480"/>
            <a:ext cx="10670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0"/>
          <p:cNvSpPr/>
          <p:nvPr/>
        </p:nvSpPr>
        <p:spPr>
          <a:xfrm flipH="1">
            <a:off x="4495320" y="3886200"/>
            <a:ext cx="3812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7"/>
          <p:cNvSpPr/>
          <p:nvPr/>
        </p:nvSpPr>
        <p:spPr>
          <a:xfrm>
            <a:off x="4582800" y="3886200"/>
            <a:ext cx="153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50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H="1">
            <a:off x="4724280" y="4648320"/>
            <a:ext cx="1371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6172200" y="3429000"/>
            <a:ext cx="0" cy="99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0"/>
          <p:cNvSpPr/>
          <p:nvPr/>
        </p:nvSpPr>
        <p:spPr>
          <a:xfrm>
            <a:off x="6206760" y="39625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41"/>
          <p:cNvSpPr/>
          <p:nvPr/>
        </p:nvSpPr>
        <p:spPr>
          <a:xfrm>
            <a:off x="4748400" y="3200400"/>
            <a:ext cx="135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50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2"/>
          <p:cNvSpPr/>
          <p:nvPr/>
        </p:nvSpPr>
        <p:spPr>
          <a:xfrm>
            <a:off x="6087240" y="320040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8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838080" y="762120"/>
            <a:ext cx="7772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туристы в первый день были в пути 6ч, а во второй 4ч, Всего они проехали 600км. Какое расстояние туристы проезжали каждый день, если они ехали с одинаковой средней скорость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ся</cp:lastModifiedBy>
  <dcterms:modified xsi:type="dcterms:W3CDTF">2013-03-18T11:06:0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