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47E9-A058-4C29-974E-CA60F297A1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18_&#1092;&#1077;&#1074;&#1088;&#1072;&#1083;&#1103;" TargetMode="External"/><Relationship Id="rId2" Type="http://schemas.openxmlformats.org/officeDocument/2006/relationships/hyperlink" Target="http://ru.wikipedia.org/wiki/1945_&#1075;&#1086;&#1076;" TargetMode="External"/><Relationship Id="rId3" Type="http://schemas.openxmlformats.org/officeDocument/2006/relationships/hyperlink" Target="http://ru.wikipedia.org/wiki/26_&#1086;&#1082;&#1090;&#1103;&#1073;&#1088;&#1103;" TargetMode="External"/><Relationship Id="rId4" Type="http://schemas.openxmlformats.org/officeDocument/2006/relationships/hyperlink" Target="http://ru.wikipedia.org/wiki/1880_&#1075;&#1086;&#1076;" TargetMode="External"/><Relationship Id="rId5" Type="http://schemas.openxmlformats.org/officeDocument/2006/relationships/hyperlink" Target="http://ru.wikipedia.org/wiki/&#1057;&#1080;&#1073;&#1080;&#1088;&#1089;&#1082;&#1080;&#1081;_&#1082;&#1072;&#1076;&#1077;&#1090;&#1089;&#1082;&#1080;&#1081;_&#1082;&#1086;&#1088;&#1087;&#1091;&#1089;" TargetMode="External"/><Relationship Id="rId6" Type="http://schemas.openxmlformats.org/officeDocument/2006/relationships/hyperlink" Target="http://ru.wikipedia.org/wiki/1898_&#1075;&#1086;&#1076;" TargetMode="External"/><Relationship Id="rId7" Type="http://schemas.openxmlformats.org/officeDocument/2006/relationships/hyperlink" Target="http://ru.wikipedia.org/wiki/&#1042;&#1086;&#1077;&#1085;&#1085;&#1099;&#1081;_&#1080;&#1085;&#1078;&#1077;&#1085;&#1077;&#1088;&#1085;&#1086;-&#1090;&#1077;&#1093;&#1085;&#1080;&#1095;&#1077;&#1089;&#1082;&#1080;&#1081;_&#1091;&#1085;&#1080;&#1074;&#1077;&#1088;&#1089;&#1080;&#1090;&#1077;&#1090;" TargetMode="External"/><Relationship Id="rId8" Type="http://schemas.openxmlformats.org/officeDocument/2006/relationships/hyperlink" Target="http://ru.wikipedia.org/wiki/1938_&#1075;&#1086;&#1076;" TargetMode="External"/><Relationship Id="rId9" Type="http://schemas.openxmlformats.org/officeDocument/2006/relationships/hyperlink" Target="http://ru.wikipedia.org/wiki/1940_&#1075;&#1086;&#1076;" TargetMode="External"/><Relationship Id="rId10" Type="http://schemas.openxmlformats.org/officeDocument/2006/relationships/hyperlink" Target="http://ru.wikipedia.org/wiki/&#1043;&#1077;&#1085;&#1077;&#1088;&#1072;&#1083;-&#1083;&#1077;&#1081;&#1090;&#1077;&#1085;&#1072;&#1085;&#1090;" TargetMode="External"/><Relationship Id="rId11" Type="http://schemas.openxmlformats.org/officeDocument/2006/relationships/hyperlink" Target="http://ru.wikipedia.org/wiki/1941_&#1075;&#1086;&#1076;" TargetMode="External"/><Relationship Id="rId12" Type="http://schemas.openxmlformats.org/officeDocument/2006/relationships/hyperlink" Target="http://ru.wikipedia.org/wiki/&#1044;&#1086;&#1082;&#1090;&#1086;&#1088;_&#1074;&#1086;&#1077;&#1085;&#1085;&#1099;&#1093;_&#1085;&#1072;&#1091;&#1082;" TargetMode="External"/><Relationship Id="rId13" Type="http://schemas.openxmlformats.org/officeDocument/2006/relationships/hyperlink" Target="http://ru.wikipedia.org/wiki/1941_&#1075;&#1086;&#1076;" TargetMode="External"/><Relationship Id="rId14" Type="http://schemas.openxmlformats.org/officeDocument/2006/relationships/hyperlink" Target="http://ru.wikipedia.org/wiki/&#1042;&#1077;&#1083;&#1080;&#1082;&#1072;&#1103;_&#1054;&#1090;&#1077;&#1095;&#1077;&#1089;&#1090;&#1074;&#1077;&#1085;&#1085;&#1072;&#1103;_&#1074;&#1086;&#1081;&#1085;&#1072;" TargetMode="External"/><Relationship Id="rId15" Type="http://schemas.openxmlformats.org/officeDocument/2006/relationships/hyperlink" Target="http://ru.wikipedia.org/wiki/3-&#1103;_&#1072;&#1088;&#1084;&#1080;&#1103;_(&#1057;&#1057;&#1057;&#1056;)" TargetMode="External"/><Relationship Id="rId16" Type="http://schemas.openxmlformats.org/officeDocument/2006/relationships/hyperlink" Target="http://ru.wikipedia.org/wiki/&#1043;&#1088;&#1086;&#1076;&#1085;&#1086;" TargetMode="External"/><Relationship Id="rId17" Type="http://schemas.openxmlformats.org/officeDocument/2006/relationships/hyperlink" Target="http://ru.wikipedia.org/wiki/10-&#1103;_&#1072;&#1088;&#1084;&#1080;&#1103;_(&#1057;&#1057;&#1057;&#1056;)" TargetMode="External"/><Relationship Id="rId18" Type="http://schemas.openxmlformats.org/officeDocument/2006/relationships/hyperlink" Target="http://ru.wikipedia.org/wiki/27_&#1080;&#1102;&#1085;&#1103;" TargetMode="External"/><Relationship Id="rId19" Type="http://schemas.openxmlformats.org/officeDocument/2006/relationships/hyperlink" Target="http://ru.wikipedia.org/wiki/8_&#1072;&#1074;&#1075;&#1091;&#1089;&#1090;&#1072;" TargetMode="External"/><Relationship Id="rId20" Type="http://schemas.openxmlformats.org/officeDocument/2006/relationships/hyperlink" Target="http://ru.wikipedia.org/wiki/1941_&#1075;&#1086;&#1076;" TargetMode="External"/><Relationship Id="rId21" Type="http://schemas.openxmlformats.org/officeDocument/2006/relationships/hyperlink" Target="http://ru.wikipedia.org/wiki/&#1050;&#1086;&#1085;&#1090;&#1091;&#1079;&#1080;&#1103;" TargetMode="External"/><Relationship Id="rId22" Type="http://schemas.openxmlformats.org/officeDocument/2006/relationships/hyperlink" Target="http://ru.wikipedia.org/wiki/&#1044;&#1085;&#1077;&#1087;&#1088;" TargetMode="External"/><Relationship Id="rId23" Type="http://schemas.openxmlformats.org/officeDocument/2006/relationships/hyperlink" Target="http://ru.wikipedia.org/wiki/&#1052;&#1086;&#1075;&#1080;&#1083;&#1105;&#1074;&#1089;&#1082;&#1072;&#1103;_&#1086;&#1073;&#1083;&#1072;&#1089;&#1090;&#1100;" TargetMode="External"/><Relationship Id="rId24" Type="http://schemas.openxmlformats.org/officeDocument/2006/relationships/hyperlink" Target="http://ru.wikipedia.org/wiki/&#1041;&#1077;&#1083;&#1086;&#1088;&#1091;&#1089;&#1089;&#1080;&#1103;" TargetMode="External"/><Relationship Id="rId25" Type="http://schemas.openxmlformats.org/officeDocument/2006/relationships/hyperlink" Target="http://ru.wikipedia.org/wiki/&#1050;&#1086;&#1085;&#1094;&#1077;&#1085;&#1090;&#1088;&#1072;&#1094;&#1080;&#1086;&#1085;&#1085;&#1099;&#1081;_&#1083;&#1072;&#1075;&#1077;&#1088;&#1100;" TargetMode="External"/><Relationship Id="rId26" Type="http://schemas.openxmlformats.org/officeDocument/2006/relationships/hyperlink" Target="http://ru.wikipedia.org/w/index.php?title=&#1047;&#1072;&#1084;&#1086;&#1089;&#1090;&#1100;&#1077;_(&#1082;&#1086;&#1085;&#1094;&#1077;&#1085;&#1090;&#1088;&#1072;&#1094;&#1080;&#1086;&#1085;&#1085;&#1099;&#1081;_&#1083;&#1072;&#1075;&#1077;&#1088;&#1100;)&amp;action=edit&amp;redlink=1" TargetMode="External"/><Relationship Id="rId27" Type="http://schemas.openxmlformats.org/officeDocument/2006/relationships/hyperlink" Target="http://ru.wikipedia.org/wiki/&#1061;&#1072;&#1084;&#1084;&#1077;&#1083;&#1100;&#1073;&#1091;&#1088;&#1075;_(&#1082;&#1086;&#1085;&#1094;&#1077;&#1085;&#1090;&#1088;&#1072;&#1094;&#1080;&#1086;&#1085;&#1085;&#1099;&#1081;_&#1083;&#1072;&#1075;&#1077;&#1088;&#1100;)" TargetMode="External"/><Relationship Id="rId28" Type="http://schemas.openxmlformats.org/officeDocument/2006/relationships/hyperlink" Target="http://ru.wikipedia.org/wiki/&#1060;&#1083;&#1086;&#1089;&#1089;&#1077;&#1085;&#1073;&#1102;&#1088;&#1075;_(&#1082;&#1086;&#1085;&#1094;&#1077;&#1085;&#1090;&#1088;&#1072;&#1094;&#1080;&#1086;&#1085;&#1085;&#1099;&#1081;_&#1083;&#1072;&#1075;&#1077;&#1088;&#1100;)" TargetMode="External"/><Relationship Id="rId29" Type="http://schemas.openxmlformats.org/officeDocument/2006/relationships/hyperlink" Target="http://ru.wikipedia.org/wiki/&#1052;&#1072;&#1081;&#1076;&#1072;&#1085;&#1077;&#1082;" TargetMode="External"/><Relationship Id="rId30" Type="http://schemas.openxmlformats.org/officeDocument/2006/relationships/hyperlink" Target="http://ru.wikipedia.org/wiki/&#1040;&#1091;&#1096;&#1074;&#1080;&#1094;" TargetMode="External"/><Relationship Id="rId31" Type="http://schemas.openxmlformats.org/officeDocument/2006/relationships/hyperlink" Target="http://ru.wikipedia.org/wiki/&#1047;&#1072;&#1082;&#1089;&#1077;&#1085;&#1093;&#1072;&#1091;&#1079;&#1077;&#1085;_(&#1082;&#1086;&#1085;&#1094;&#1077;&#1085;&#1090;&#1088;&#1072;&#1094;&#1080;&#1086;&#1085;&#1085;&#1099;&#1081;_&#1083;&#1072;&#1075;&#1077;&#1088;&#1100;)" TargetMode="External"/><Relationship Id="rId32" Type="http://schemas.openxmlformats.org/officeDocument/2006/relationships/hyperlink" Target="http://ru.wikipedia.org/wiki/&#1052;&#1072;&#1091;&#1090;&#1093;&#1072;&#1091;&#1079;&#1077;&#1085;_(&#1082;&#1086;&#1085;&#1094;&#1077;&#1085;&#1090;&#1088;&#1072;&#1094;&#1080;&#1086;&#1085;&#1085;&#1099;&#1081;_&#1083;&#1072;&#1075;&#1077;&#1088;&#1100;)" TargetMode="External"/><Relationship Id="rId33" Type="http://schemas.openxmlformats.org/officeDocument/2006/relationships/hyperlink" Target="http://ru.wikipedia.org/wiki/18_&#1092;&#1077;&#1074;&#1088;&#1072;&#1083;&#1103;" TargetMode="External"/><Relationship Id="rId34" Type="http://schemas.openxmlformats.org/officeDocument/2006/relationships/hyperlink" Target="http://ru.wikipedia.org/wiki/1945_&#1075;&#1086;&#1076;" TargetMode="External"/><Relationship Id="rId35" Type="http://schemas.openxmlformats.org/officeDocument/2006/relationships/hyperlink" Target="http://ru.wikipedia.org/wiki/1946_&#1075;&#1086;&#1076;" TargetMode="External"/><Relationship Id="rId36" Type="http://schemas.openxmlformats.org/officeDocument/2006/relationships/hyperlink" Target="http://ru.wikipedia.org/wiki/&#1043;&#1077;&#1088;&#1086;&#1081;_&#1057;&#1086;&#1074;&#1077;&#1090;&#1089;&#1082;&#1086;&#1075;&#1086;_&#1057;&#1086;&#1102;&#1079;&#1072;" TargetMode="External"/><Relationship Id="rId37" Type="http://schemas.openxmlformats.org/officeDocument/2006/relationships/slide" Target="../slides/slide16.xml"/><Relationship Id="rId38"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сшифровка условных обозна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1-детский сад (начало маршру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2-мемориальная доска Д. М. Карбыше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3-мемориал Меди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4-памятник Зое Космодемьян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5-памятник В. С. Петро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6-памятник «Та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7-мемориал «Вечный Огонь»(конец маршрута)</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60A3-ABAB-44B7-BFEC-50EC5A882DE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1. Вступление, правила безопасности</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Э. – С древних времён правители разных стран старались расширить свои территории и покорить другие народы. Эти правители затевали войны, которые уносили жизни многих людей. На защиту родной земли вставали все -  и мужчины, и женщины, и даже дет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Так и было в середине прошлого века. На нашу Родину напали  фашисты, иноземные захватчики. И русские люди пошли воевать – защищать свою землю.  Прадедушки многих из вас побывали на той войне. Очень многие солдаты и мирные жители погибли в Отечественную войну.  Живущие сейчас помнят и чтят своих защитников. В каждом городе, селе есть памятники Воинской Слав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Предложить детям рассказать, где они видели эти памятники, что на них было написан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Э. - Многие люди приходят  к  памятникам   защитникам  Отечества, приносят цветы, вспоминают погибших. Вот и мы с вами  сегодня отправимся к таким памятникам. Мы возьмём с собой цветы. Вспомните,  как нужно вести  себя в таких местах.  Кто может  напомнить правила поведе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авила  заключаются в том, что: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во время движения автобуса не вставать с мест; разговаривать шепотом;</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задавая вопросы, не перебивать других;</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на остановках идти за экскурсоводом;</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 время осмотра памятников стоять с левой стороны, не толпиться.</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4926-B471-4189-A7B1-32AE955C115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2. Улица в честь геро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Дети, наша экскурсия начинается с хорошо  знакомой для нас улиц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к называется  улица, на которой располагается наш детский сад « Ромаш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улица Д. Карбыше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 вы знаете кем был Дмитрий Михайлович Карбышев ? </a:t>
            </a:r>
            <a:r>
              <a:rPr b="0" i="1" lang="ru-RU" sz="800" spc="-1" strike="noStrike">
                <a:solidFill>
                  <a:srgbClr val="000000"/>
                </a:solidFill>
                <a:latin typeface="Arial"/>
              </a:rPr>
              <a:t>( дети отвечают,  экскурсовод выслушивает и выбирает правильный отве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Да, вы правы, Д. М. Карбышев был военным, и непросто военным, а знатоком военно-инженерного дела, крупным специалистом инженерных войс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амом начале войны Карбышев  был ранен и, потеряв сознание, оказался в плену. Командование вражеской армии неоднократно делало ему  настоятельные предложения о сотрудничестве. Все они категорически были отвергнуты советским генералом. Несмотря на свой возраст, он  был одним из активных руководителей лагерного движения сопротивления. Карбышева перемещали из одного концентрационного лагеря в другой, и лишь в конце войны, окончательно потеряв надежду на то, что пленный генерал перейдёт на их сторону, фашисты зверски расправились с Карбышевым в лагере смерти Маутхаузен (Австрия).  В ночь на </a:t>
            </a:r>
            <a:r>
              <a:rPr b="0" lang="ru-RU" sz="800" spc="-1" strike="noStrike" u="sng">
                <a:solidFill>
                  <a:srgbClr val="009999"/>
                </a:solidFill>
                <a:uFillTx/>
                <a:latin typeface="Arial"/>
                <a:hlinkClick r:id="rId1"/>
              </a:rPr>
              <a:t>18 февраля</a:t>
            </a:r>
            <a:r>
              <a:rPr b="0" lang="ru-RU" sz="800" spc="-1" strike="noStrike">
                <a:solidFill>
                  <a:srgbClr val="000000"/>
                </a:solidFill>
                <a:latin typeface="Arial"/>
              </a:rPr>
              <a:t> </a:t>
            </a:r>
            <a:r>
              <a:rPr b="0" lang="ru-RU" sz="800" spc="-1" strike="noStrike" u="sng">
                <a:solidFill>
                  <a:srgbClr val="009999"/>
                </a:solidFill>
                <a:uFillTx/>
                <a:latin typeface="Arial"/>
                <a:hlinkClick r:id="rId2"/>
              </a:rPr>
              <a:t>1945 года</a:t>
            </a:r>
            <a:r>
              <a:rPr b="0" lang="ru-RU" sz="800" spc="-1" strike="noStrike">
                <a:solidFill>
                  <a:srgbClr val="000000"/>
                </a:solidFill>
                <a:latin typeface="Arial"/>
              </a:rPr>
              <a:t> , в числе других заключённых (около 500 человек),  он  был облит водой на морозе и погиб. Генерал  Д. М. Карбышев стал символом несгибаемой воли и стойкости русского человека. Посмертно ему было присвоено звание Героя Советского Союза, а его именем названа военно-инженерная академия. В Москве и на его родине в городе Омске поставлены памятники геро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Тамбове улица, названная его именем, как раз ведёт к одному из военных инженерных объектов. Здесь же на торцевой стене ближайшего дома вывешена хорошо оформленная мемориальная доска из чёрного мрамор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юда каждый год в день гибели Д. М. Карбышева,  в день Защитника Отечества и в день Победы приходят дети и взрослые. Они возлагают у мемориальной доски цве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Ребята, если бы вы были архитекторами, какой  памятник воздвигли бы этому героическому человеку? </a:t>
            </a:r>
            <a:r>
              <a:rPr b="0" i="1" lang="ru-RU" sz="800" spc="-1" strike="noStrike">
                <a:solidFill>
                  <a:srgbClr val="000000"/>
                </a:solidFill>
                <a:latin typeface="Arial"/>
              </a:rPr>
              <a:t>( 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Дополнительные сведения о Дмитрии Михайловиче  Карбышев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одился в городе Омске  </a:t>
            </a:r>
            <a:r>
              <a:rPr b="0" lang="ru-RU" sz="800" spc="-1" strike="noStrike" u="sng">
                <a:solidFill>
                  <a:srgbClr val="009999"/>
                </a:solidFill>
                <a:uFillTx/>
                <a:latin typeface="Arial"/>
                <a:hlinkClick r:id="rId3"/>
              </a:rPr>
              <a:t>26 октября</a:t>
            </a:r>
            <a:r>
              <a:rPr b="0" lang="ru-RU" sz="800" spc="-1" strike="noStrike">
                <a:solidFill>
                  <a:srgbClr val="000000"/>
                </a:solidFill>
                <a:latin typeface="Arial"/>
              </a:rPr>
              <a:t> </a:t>
            </a:r>
            <a:r>
              <a:rPr b="0" lang="ru-RU" sz="800" spc="-1" strike="noStrike" u="sng">
                <a:solidFill>
                  <a:srgbClr val="009999"/>
                </a:solidFill>
                <a:uFillTx/>
                <a:latin typeface="Arial"/>
                <a:hlinkClick r:id="rId4"/>
              </a:rPr>
              <a:t>1880</a:t>
            </a:r>
            <a:r>
              <a:rPr b="0" lang="ru-RU" sz="800" spc="-1" strike="noStrike">
                <a:solidFill>
                  <a:srgbClr val="000000"/>
                </a:solidFill>
                <a:latin typeface="Arial"/>
              </a:rPr>
              <a:t> г. в семье военного чиновника, Двенадцатилетним остался без отца. Детей воспитывала мать. Несмотря на большие материальные затруднения, Карбышев блестяще закончил </a:t>
            </a:r>
            <a:r>
              <a:rPr b="0" lang="ru-RU" sz="800" spc="-1" strike="noStrike" u="sng">
                <a:solidFill>
                  <a:srgbClr val="009999"/>
                </a:solidFill>
                <a:uFillTx/>
                <a:latin typeface="Arial"/>
                <a:hlinkClick r:id="rId5"/>
              </a:rPr>
              <a:t>Сибирский кадетский корпус</a:t>
            </a:r>
            <a:r>
              <a:rPr b="0" lang="ru-RU" sz="800" spc="-1" strike="noStrike">
                <a:solidFill>
                  <a:srgbClr val="000000"/>
                </a:solidFill>
                <a:latin typeface="Arial"/>
              </a:rPr>
              <a:t> и в </a:t>
            </a:r>
            <a:r>
              <a:rPr b="0" lang="ru-RU" sz="800" spc="-1" strike="noStrike" u="sng">
                <a:solidFill>
                  <a:srgbClr val="009999"/>
                </a:solidFill>
                <a:uFillTx/>
                <a:latin typeface="Arial"/>
                <a:hlinkClick r:id="rId6"/>
              </a:rPr>
              <a:t>1898 году</a:t>
            </a:r>
            <a:r>
              <a:rPr b="0" lang="ru-RU" sz="800" spc="-1" strike="noStrike">
                <a:solidFill>
                  <a:srgbClr val="000000"/>
                </a:solidFill>
                <a:latin typeface="Arial"/>
              </a:rPr>
              <a:t> был принят в </a:t>
            </a:r>
            <a:r>
              <a:rPr b="0" lang="ru-RU" sz="800" spc="-1" strike="noStrike" u="sng">
                <a:solidFill>
                  <a:srgbClr val="009999"/>
                </a:solidFill>
                <a:uFillTx/>
                <a:latin typeface="Arial"/>
                <a:hlinkClick r:id="rId7"/>
              </a:rPr>
              <a:t>Петербургское Николаевское военно-инженерное училище</a:t>
            </a:r>
            <a:r>
              <a:rPr b="0" lang="ru-RU" sz="800" spc="-1" strike="noStrike">
                <a:solidFill>
                  <a:srgbClr val="000000"/>
                </a:solidFill>
                <a:latin typeface="Arial"/>
              </a:rPr>
              <a:t> . Дмитрий Михайлович Карбышев получил военное образование ещё в самом начале 20 века. Участвовал в русско-японской войне, затем руководил строительством фортов Брестской крепости. Будучи военным инженером, он участвовал в 1 мировой войне, после революции был командиром в Красной Армии и принимал участие в Гражданской войне. С 1926 года преподавал в ряде военных академий. В </a:t>
            </a:r>
            <a:r>
              <a:rPr b="0" lang="ru-RU" sz="800" spc="-1" strike="noStrike" u="sng">
                <a:solidFill>
                  <a:srgbClr val="009999"/>
                </a:solidFill>
                <a:uFillTx/>
                <a:latin typeface="Arial"/>
                <a:hlinkClick r:id="rId8"/>
              </a:rPr>
              <a:t>1938 году</a:t>
            </a:r>
            <a:r>
              <a:rPr b="0" lang="ru-RU" sz="800" spc="-1" strike="noStrike">
                <a:solidFill>
                  <a:srgbClr val="000000"/>
                </a:solidFill>
                <a:latin typeface="Arial"/>
              </a:rPr>
              <a:t> окончил Военную академию Генерального штаба.  Он подготовил большое количество научных разработок по военно-инженерному искусству и военной истории, был удостоен учёной степени доктора наук и звания профессора. В </a:t>
            </a:r>
            <a:r>
              <a:rPr b="0" lang="ru-RU" sz="800" spc="-1" strike="noStrike" u="sng">
                <a:solidFill>
                  <a:srgbClr val="009999"/>
                </a:solidFill>
                <a:uFillTx/>
                <a:latin typeface="Arial"/>
                <a:hlinkClick r:id="rId9"/>
              </a:rPr>
              <a:t>1940 году</a:t>
            </a:r>
            <a:r>
              <a:rPr b="0" lang="ru-RU" sz="800" spc="-1" strike="noStrike">
                <a:solidFill>
                  <a:srgbClr val="000000"/>
                </a:solidFill>
                <a:latin typeface="Arial"/>
              </a:rPr>
              <a:t> ему присвоено звание </a:t>
            </a:r>
            <a:r>
              <a:rPr b="0" lang="ru-RU" sz="800" spc="-1" strike="noStrike" u="sng">
                <a:solidFill>
                  <a:srgbClr val="009999"/>
                </a:solidFill>
                <a:uFillTx/>
                <a:latin typeface="Arial"/>
                <a:hlinkClick r:id="rId10"/>
              </a:rPr>
              <a:t>генерал-лейтенанта</a:t>
            </a:r>
            <a:r>
              <a:rPr b="0" lang="ru-RU" sz="800" spc="-1" strike="noStrike">
                <a:solidFill>
                  <a:srgbClr val="000000"/>
                </a:solidFill>
                <a:latin typeface="Arial"/>
              </a:rPr>
              <a:t> инженерных войск. В </a:t>
            </a:r>
            <a:r>
              <a:rPr b="0" lang="ru-RU" sz="800" spc="-1" strike="noStrike" u="sng">
                <a:solidFill>
                  <a:srgbClr val="009999"/>
                </a:solidFill>
                <a:uFillTx/>
                <a:latin typeface="Arial"/>
                <a:hlinkClick r:id="rId11"/>
              </a:rPr>
              <a:t>1941 году</a:t>
            </a:r>
            <a:r>
              <a:rPr b="0" lang="ru-RU" sz="800" spc="-1" strike="noStrike">
                <a:solidFill>
                  <a:srgbClr val="000000"/>
                </a:solidFill>
                <a:latin typeface="Arial"/>
              </a:rPr>
              <a:t> — учёная степень </a:t>
            </a:r>
            <a:r>
              <a:rPr b="0" lang="ru-RU" sz="800" spc="-1" strike="noStrike" u="sng">
                <a:solidFill>
                  <a:srgbClr val="009999"/>
                </a:solidFill>
                <a:uFillTx/>
                <a:latin typeface="Arial"/>
                <a:hlinkClick r:id="rId12"/>
              </a:rPr>
              <a:t>доктора военных наук</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начале июня </a:t>
            </a:r>
            <a:r>
              <a:rPr b="0" lang="ru-RU" sz="800" spc="-1" strike="noStrike" u="sng">
                <a:solidFill>
                  <a:srgbClr val="009999"/>
                </a:solidFill>
                <a:uFillTx/>
                <a:latin typeface="Arial"/>
                <a:hlinkClick r:id="rId13"/>
              </a:rPr>
              <a:t>1941 года</a:t>
            </a:r>
            <a:r>
              <a:rPr b="0" lang="ru-RU" sz="800" spc="-1" strike="noStrike">
                <a:solidFill>
                  <a:srgbClr val="000000"/>
                </a:solidFill>
                <a:latin typeface="Arial"/>
              </a:rPr>
              <a:t> Д. М. Карбышев был командирован в Западный Особый военный округ.  </a:t>
            </a:r>
            <a:r>
              <a:rPr b="0" lang="ru-RU" sz="800" spc="-1" strike="noStrike" u="sng">
                <a:solidFill>
                  <a:srgbClr val="009999"/>
                </a:solidFill>
                <a:uFillTx/>
                <a:latin typeface="Arial"/>
                <a:hlinkClick r:id="rId14"/>
              </a:rPr>
              <a:t>Великая Отечественная война</a:t>
            </a:r>
            <a:r>
              <a:rPr b="0" lang="ru-RU" sz="800" spc="-1" strike="noStrike">
                <a:solidFill>
                  <a:srgbClr val="000000"/>
                </a:solidFill>
                <a:latin typeface="Arial"/>
              </a:rPr>
              <a:t> застала его в штабе </a:t>
            </a:r>
            <a:r>
              <a:rPr b="0" lang="ru-RU" sz="800" spc="-1" strike="noStrike" u="sng">
                <a:solidFill>
                  <a:srgbClr val="009999"/>
                </a:solidFill>
                <a:uFillTx/>
                <a:latin typeface="Arial"/>
                <a:hlinkClick r:id="rId15"/>
              </a:rPr>
              <a:t>3-й армии</a:t>
            </a:r>
            <a:r>
              <a:rPr b="0" lang="ru-RU" sz="800" spc="-1" strike="noStrike">
                <a:solidFill>
                  <a:srgbClr val="000000"/>
                </a:solidFill>
                <a:latin typeface="Arial"/>
              </a:rPr>
              <a:t> в </a:t>
            </a:r>
            <a:r>
              <a:rPr b="0" lang="ru-RU" sz="800" spc="-1" strike="noStrike" u="sng">
                <a:solidFill>
                  <a:srgbClr val="009999"/>
                </a:solidFill>
                <a:uFillTx/>
                <a:latin typeface="Arial"/>
                <a:hlinkClick r:id="rId16"/>
              </a:rPr>
              <a:t>Гродно</a:t>
            </a:r>
            <a:r>
              <a:rPr b="0" lang="ru-RU" sz="800" spc="-1" strike="noStrike">
                <a:solidFill>
                  <a:srgbClr val="000000"/>
                </a:solidFill>
                <a:latin typeface="Arial"/>
              </a:rPr>
              <a:t>.  Через 2 дня он перешёл в штаб </a:t>
            </a:r>
            <a:r>
              <a:rPr b="0" lang="ru-RU" sz="800" spc="-1" strike="noStrike" u="sng">
                <a:solidFill>
                  <a:srgbClr val="009999"/>
                </a:solidFill>
                <a:uFillTx/>
                <a:latin typeface="Arial"/>
                <a:hlinkClick r:id="rId17"/>
              </a:rPr>
              <a:t>10-й армии</a:t>
            </a:r>
            <a:r>
              <a:rPr b="0" lang="ru-RU" sz="800" spc="-1" strike="noStrike">
                <a:solidFill>
                  <a:srgbClr val="000000"/>
                </a:solidFill>
                <a:latin typeface="Arial"/>
              </a:rPr>
              <a:t>.  </a:t>
            </a:r>
            <a:r>
              <a:rPr b="0" lang="ru-RU" sz="800" spc="-1" strike="noStrike" u="sng">
                <a:solidFill>
                  <a:srgbClr val="009999"/>
                </a:solidFill>
                <a:uFillTx/>
                <a:latin typeface="Arial"/>
                <a:hlinkClick r:id="rId18"/>
              </a:rPr>
              <a:t>27 июня</a:t>
            </a:r>
            <a:r>
              <a:rPr b="0" lang="ru-RU" sz="800" spc="-1" strike="noStrike">
                <a:solidFill>
                  <a:srgbClr val="000000"/>
                </a:solidFill>
                <a:latin typeface="Arial"/>
              </a:rPr>
              <a:t> штаб армии и  оказался в окружении.  </a:t>
            </a:r>
            <a:r>
              <a:rPr b="0" lang="ru-RU" sz="800" spc="-1" strike="noStrike" u="sng">
                <a:solidFill>
                  <a:srgbClr val="009999"/>
                </a:solidFill>
                <a:uFillTx/>
                <a:latin typeface="Arial"/>
                <a:hlinkClick r:id="rId19"/>
              </a:rPr>
              <a:t>8 августа</a:t>
            </a:r>
            <a:r>
              <a:rPr b="0" lang="ru-RU" sz="800" spc="-1" strike="noStrike">
                <a:solidFill>
                  <a:srgbClr val="000000"/>
                </a:solidFill>
                <a:latin typeface="Arial"/>
              </a:rPr>
              <a:t> </a:t>
            </a:r>
            <a:r>
              <a:rPr b="0" lang="ru-RU" sz="800" spc="-1" strike="noStrike" u="sng">
                <a:solidFill>
                  <a:srgbClr val="009999"/>
                </a:solidFill>
                <a:uFillTx/>
                <a:latin typeface="Arial"/>
                <a:hlinkClick r:id="rId20"/>
              </a:rPr>
              <a:t>1941 года</a:t>
            </a:r>
            <a:r>
              <a:rPr b="0" lang="ru-RU" sz="800" spc="-1" strike="noStrike">
                <a:solidFill>
                  <a:srgbClr val="000000"/>
                </a:solidFill>
                <a:latin typeface="Arial"/>
              </a:rPr>
              <a:t> при попытке выйти из окружения, генерал Карбышев был тяжело </a:t>
            </a:r>
            <a:r>
              <a:rPr b="0" lang="ru-RU" sz="800" spc="-1" strike="noStrike" u="sng">
                <a:solidFill>
                  <a:srgbClr val="009999"/>
                </a:solidFill>
                <a:uFillTx/>
                <a:latin typeface="Arial"/>
                <a:hlinkClick r:id="rId21"/>
              </a:rPr>
              <a:t>контужен</a:t>
            </a:r>
            <a:r>
              <a:rPr b="0" lang="ru-RU" sz="800" spc="-1" strike="noStrike">
                <a:solidFill>
                  <a:srgbClr val="000000"/>
                </a:solidFill>
                <a:latin typeface="Arial"/>
              </a:rPr>
              <a:t> в бою в районе  </a:t>
            </a:r>
            <a:r>
              <a:rPr b="0" lang="ru-RU" sz="800" spc="-1" strike="noStrike" u="sng">
                <a:solidFill>
                  <a:srgbClr val="009999"/>
                </a:solidFill>
                <a:uFillTx/>
                <a:latin typeface="Arial"/>
                <a:hlinkClick r:id="rId22"/>
              </a:rPr>
              <a:t>Днепра</a:t>
            </a:r>
            <a:r>
              <a:rPr b="0" lang="ru-RU" sz="800" spc="-1" strike="noStrike">
                <a:solidFill>
                  <a:srgbClr val="000000"/>
                </a:solidFill>
                <a:latin typeface="Arial"/>
              </a:rPr>
              <a:t>, у деревни Добрейка   </a:t>
            </a:r>
            <a:r>
              <a:rPr b="0" lang="ru-RU" sz="800" spc="-1" strike="noStrike" u="sng">
                <a:solidFill>
                  <a:srgbClr val="009999"/>
                </a:solidFill>
                <a:uFillTx/>
                <a:latin typeface="Arial"/>
                <a:hlinkClick r:id="rId23"/>
              </a:rPr>
              <a:t>Могилёвской области</a:t>
            </a:r>
            <a:r>
              <a:rPr b="0" lang="ru-RU" sz="800" spc="-1" strike="noStrike">
                <a:solidFill>
                  <a:srgbClr val="000000"/>
                </a:solidFill>
                <a:latin typeface="Arial"/>
              </a:rPr>
              <a:t> </a:t>
            </a:r>
            <a:r>
              <a:rPr b="0" lang="ru-RU" sz="800" spc="-1" strike="noStrike" u="sng">
                <a:solidFill>
                  <a:srgbClr val="009999"/>
                </a:solidFill>
                <a:uFillTx/>
                <a:latin typeface="Arial"/>
                <a:hlinkClick r:id="rId24"/>
              </a:rPr>
              <a:t>Белоруссии</a:t>
            </a:r>
            <a:r>
              <a:rPr b="0" lang="ru-RU" sz="800" spc="-1" strike="noStrike">
                <a:solidFill>
                  <a:srgbClr val="000000"/>
                </a:solidFill>
                <a:latin typeface="Arial"/>
              </a:rPr>
              <a:t>.  В бессознательном состоянии был захвачен в пле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бышев содержался  в немецких  концентрационных </a:t>
            </a:r>
            <a:r>
              <a:rPr b="0" lang="ru-RU" sz="800" spc="-1" strike="noStrike" u="sng">
                <a:solidFill>
                  <a:srgbClr val="009999"/>
                </a:solidFill>
                <a:uFillTx/>
                <a:latin typeface="Arial"/>
                <a:hlinkClick r:id="rId25"/>
              </a:rPr>
              <a:t>лагерях</a:t>
            </a:r>
            <a:r>
              <a:rPr b="0" lang="ru-RU" sz="800" spc="-1" strike="noStrike">
                <a:solidFill>
                  <a:srgbClr val="000000"/>
                </a:solidFill>
                <a:latin typeface="Arial"/>
              </a:rPr>
              <a:t>: </a:t>
            </a:r>
            <a:r>
              <a:rPr b="0" lang="ru-RU" sz="800" spc="-1" strike="noStrike" u="sng">
                <a:solidFill>
                  <a:srgbClr val="009999"/>
                </a:solidFill>
                <a:uFillTx/>
                <a:latin typeface="Arial"/>
                <a:hlinkClick r:id="rId26"/>
              </a:rPr>
              <a:t>Замосць</a:t>
            </a:r>
            <a:r>
              <a:rPr b="0" lang="ru-RU" sz="800" spc="-1" strike="noStrike">
                <a:solidFill>
                  <a:srgbClr val="000000"/>
                </a:solidFill>
                <a:latin typeface="Arial"/>
              </a:rPr>
              <a:t>,  </a:t>
            </a:r>
            <a:r>
              <a:rPr b="0" lang="ru-RU" sz="800" spc="-1" strike="noStrike" u="sng">
                <a:solidFill>
                  <a:srgbClr val="009999"/>
                </a:solidFill>
                <a:uFillTx/>
                <a:latin typeface="Arial"/>
                <a:hlinkClick r:id="rId27"/>
              </a:rPr>
              <a:t>Хаммельбург</a:t>
            </a:r>
            <a:r>
              <a:rPr b="0" lang="ru-RU" sz="800" spc="-1" strike="noStrike">
                <a:solidFill>
                  <a:srgbClr val="000000"/>
                </a:solidFill>
                <a:latin typeface="Arial"/>
              </a:rPr>
              <a:t>,  </a:t>
            </a:r>
            <a:r>
              <a:rPr b="0" lang="ru-RU" sz="800" spc="-1" strike="noStrike" u="sng">
                <a:solidFill>
                  <a:srgbClr val="009999"/>
                </a:solidFill>
                <a:uFillTx/>
                <a:latin typeface="Arial"/>
                <a:hlinkClick r:id="rId28"/>
              </a:rPr>
              <a:t>Флоссенбюрг</a:t>
            </a:r>
            <a:r>
              <a:rPr b="0" lang="ru-RU" sz="800" spc="-1" strike="noStrike">
                <a:solidFill>
                  <a:srgbClr val="000000"/>
                </a:solidFill>
                <a:latin typeface="Arial"/>
              </a:rPr>
              <a:t>, </a:t>
            </a:r>
            <a:r>
              <a:rPr b="0" lang="ru-RU" sz="800" spc="-1" strike="noStrike" u="sng">
                <a:solidFill>
                  <a:srgbClr val="009999"/>
                </a:solidFill>
                <a:uFillTx/>
                <a:latin typeface="Arial"/>
                <a:hlinkClick r:id="rId29"/>
              </a:rPr>
              <a:t>Майданек</a:t>
            </a:r>
            <a:r>
              <a:rPr b="0" lang="ru-RU" sz="800" spc="-1" strike="noStrike">
                <a:solidFill>
                  <a:srgbClr val="000000"/>
                </a:solidFill>
                <a:latin typeface="Arial"/>
              </a:rPr>
              <a:t>,  </a:t>
            </a:r>
            <a:r>
              <a:rPr b="0" lang="ru-RU" sz="800" spc="-1" strike="noStrike" u="sng">
                <a:solidFill>
                  <a:srgbClr val="009999"/>
                </a:solidFill>
                <a:uFillTx/>
                <a:latin typeface="Arial"/>
                <a:hlinkClick r:id="rId30"/>
              </a:rPr>
              <a:t>Аушвиц</a:t>
            </a:r>
            <a:r>
              <a:rPr b="0" lang="ru-RU" sz="800" spc="-1" strike="noStrike">
                <a:solidFill>
                  <a:srgbClr val="000000"/>
                </a:solidFill>
                <a:latin typeface="Arial"/>
              </a:rPr>
              <a:t>, </a:t>
            </a:r>
            <a:r>
              <a:rPr b="0" lang="ru-RU" sz="800" spc="-1" strike="noStrike" u="sng">
                <a:solidFill>
                  <a:srgbClr val="009999"/>
                </a:solidFill>
                <a:uFillTx/>
                <a:latin typeface="Arial"/>
                <a:hlinkClick r:id="rId31"/>
              </a:rPr>
              <a:t>Заксенхаузен</a:t>
            </a:r>
            <a:r>
              <a:rPr b="0" lang="ru-RU" sz="800" spc="-1" strike="noStrike">
                <a:solidFill>
                  <a:srgbClr val="000000"/>
                </a:solidFill>
                <a:latin typeface="Arial"/>
              </a:rPr>
              <a:t> и  </a:t>
            </a:r>
            <a:r>
              <a:rPr b="0" lang="ru-RU" sz="800" spc="-1" strike="noStrike" u="sng">
                <a:solidFill>
                  <a:srgbClr val="009999"/>
                </a:solidFill>
                <a:uFillTx/>
                <a:latin typeface="Arial"/>
                <a:hlinkClick r:id="rId32"/>
              </a:rPr>
              <a:t>Маутхаузен</a:t>
            </a:r>
            <a:r>
              <a:rPr b="0" lang="ru-RU" sz="800" spc="-1" strike="noStrike">
                <a:solidFill>
                  <a:srgbClr val="000000"/>
                </a:solidFill>
                <a:latin typeface="Arial"/>
              </a:rPr>
              <a:t>. Неоднократно от администрации лагерей получал предложения сотрудничать. Все они категорически были отвергнуты советским генералом. Несмотря на свой возраст, он  был одним из активных руководителей лагерного движения сопротивления. В ночь на </a:t>
            </a:r>
            <a:r>
              <a:rPr b="0" lang="ru-RU" sz="800" spc="-1" strike="noStrike" u="sng">
                <a:solidFill>
                  <a:srgbClr val="009999"/>
                </a:solidFill>
                <a:uFillTx/>
                <a:latin typeface="Arial"/>
                <a:hlinkClick r:id="rId33"/>
              </a:rPr>
              <a:t>18 февраля</a:t>
            </a:r>
            <a:r>
              <a:rPr b="0" lang="ru-RU" sz="800" spc="-1" strike="noStrike">
                <a:solidFill>
                  <a:srgbClr val="000000"/>
                </a:solidFill>
                <a:latin typeface="Arial"/>
              </a:rPr>
              <a:t> </a:t>
            </a:r>
            <a:r>
              <a:rPr b="0" lang="ru-RU" sz="800" spc="-1" strike="noStrike" u="sng">
                <a:solidFill>
                  <a:srgbClr val="009999"/>
                </a:solidFill>
                <a:uFillTx/>
                <a:latin typeface="Arial"/>
                <a:hlinkClick r:id="rId34"/>
              </a:rPr>
              <a:t>1945 года</a:t>
            </a:r>
            <a:r>
              <a:rPr b="0" lang="ru-RU" sz="800" spc="-1" strike="noStrike">
                <a:solidFill>
                  <a:srgbClr val="000000"/>
                </a:solidFill>
                <a:latin typeface="Arial"/>
              </a:rPr>
              <a:t> в концлагере Маутхаузен (Австрия), в числе других заключённых (около 500 человек), был облит водой на морозе и погиб. Так он стал символом несгибаемой воли и стойк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6 августа </a:t>
            </a:r>
            <a:r>
              <a:rPr b="0" lang="ru-RU" sz="800" spc="-1" strike="noStrike" u="sng">
                <a:solidFill>
                  <a:srgbClr val="009999"/>
                </a:solidFill>
                <a:uFillTx/>
                <a:latin typeface="Arial"/>
                <a:hlinkClick r:id="rId35"/>
              </a:rPr>
              <a:t>1946 года</a:t>
            </a:r>
            <a:r>
              <a:rPr b="0" lang="ru-RU" sz="800" spc="-1" strike="noStrike">
                <a:solidFill>
                  <a:srgbClr val="000000"/>
                </a:solidFill>
                <a:latin typeface="Arial"/>
              </a:rPr>
              <a:t> Дмитрию Михайловичу Карбышеву было посмертно присвоено звание </a:t>
            </a:r>
            <a:r>
              <a:rPr b="0" lang="ru-RU" sz="800" spc="-1" strike="noStrike" u="sng">
                <a:solidFill>
                  <a:srgbClr val="009999"/>
                </a:solidFill>
                <a:uFillTx/>
                <a:latin typeface="Arial"/>
                <a:hlinkClick r:id="rId36"/>
              </a:rPr>
              <a:t>Героя Советского Союза</a:t>
            </a:r>
            <a:r>
              <a:rPr b="0" lang="ru-RU" sz="800" spc="-1" strike="noStrike">
                <a:solidFill>
                  <a:srgbClr val="000000"/>
                </a:solidFill>
                <a:latin typeface="Arial"/>
              </a:rPr>
              <a:t>. Он  награждён орденами Ленина, Красного Знамени (1940) и Красной Звезды.</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7721-78EF-4AD3-8EE2-A30A34010FB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3. Героям медикам посвяща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Автобус направляется по улице Астраханской на улицу Гоголя, останавливается  напротив   памятника  медик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Ребята, мы говорим: « Они ушли  на войну, воевать на фронт. Как вы понимаете слово «фронт»? </a:t>
            </a:r>
            <a:r>
              <a:rPr b="0" i="1" lang="ru-RU" sz="800" spc="-1" strike="noStrike">
                <a:solidFill>
                  <a:srgbClr val="000000"/>
                </a:solidFill>
                <a:latin typeface="Arial"/>
              </a:rPr>
              <a:t>( предложить детям поразмышлять  и помочь им подытожить услышанно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  отвечают, Э. слуша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Фронт – это место, где происходят боевые действия. На фронт уходили  люди защищать Родину. Многие из них погибли, но  и много удалось спасти, благодаря  медицинским работникам, особенно сёстрам - милосердия,  которые на себе выносили с поля боя раненых солда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анун Дня  медицинского работника в 1985 году на территории 2-ой городской больницы перед зданием Музея истории медицины  состоялось открытие памятника «Сестрёнка», посвящённого подвигу медиков в годы Великой Отечественной вой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Ребята, посмотрите на памятник  и скажите, что хотел подчеркнуть скульптор в этом сюжете памятника</a:t>
            </a:r>
            <a:r>
              <a:rPr b="0" i="1" lang="ru-RU" sz="800" spc="-1" strike="noStrike">
                <a:solidFill>
                  <a:srgbClr val="000000"/>
                </a:solidFill>
                <a:latin typeface="Arial"/>
              </a:rPr>
              <a:t>? (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заслуженный художник – скульптор К. Малофеев выбрал неслучайно  этот сюжет. В нём реально отображён один из эпизодов войны – в развалинах разрушенного дома медсестра оказывает помощь раненому воину.  Памятник выполнен без пьедестала  на уровне человеческого роста,  как бы подчёркивая всенародное признание ни кому-то в отдельности, а всем,  кто в страшное лихолетье нёс любовь и милосердие.  На гранитной поверхности надпись « Подвигу медиков в Великой Отечественной войне 1941-194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ервый в России памятник,  посвящённый подвигу медицинских работников, которые погибли  в годы Великой Отечественной войны, был открыт к 40-летию Победы в 1985 году.  К.Я. Малофеев говорил о работе над этим мемориалом: «Мне дорога и памятна работа над мемориалом в честь медсестер, погибших на фронтах Великой Отечественной войны. В образе медсестры, склонившейся над раненым воином, хотелось воплотить лучшие черты русской женщины: мужество и самоотверженность, нежность и чистот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олько в первые дни были призваны в действующую армию более половины медиков области. Сложные операции они проводили под бомбёжками, при тусклом свете коптилки в палатке,  в крестьянской избе и даже под открытым неб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Медицинские работники Тамбовской  области  помогали раненым не только на передовой, но и в тылу в госпиталях работали круглосуточно. Тамбовская  область уже с первых дней войны стала одной из крупнейших госпитальных баз  СССР.  Раненых привозили в Тамбов, но не всегда хватало госпиталей. Госпитали приходилось открывать во всех больших зданиях, поэтому в каждой школе Тамбова располагался госпиталь для раненых солда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А чем отличается госпиталь от больниц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800" spc="-1" strike="noStrike">
                <a:solidFill>
                  <a:srgbClr val="000000"/>
                </a:solidFill>
                <a:latin typeface="Arial"/>
              </a:rPr>
              <a:t>( ответы детей: в больнице лечатся люди, они там ночую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А в госпитале кого лечат? </a:t>
            </a:r>
            <a:r>
              <a:rPr b="0" i="1" lang="ru-RU" sz="800" spc="-1" strike="noStrike">
                <a:solidFill>
                  <a:srgbClr val="000000"/>
                </a:solidFill>
                <a:latin typeface="Arial"/>
              </a:rPr>
              <a:t>(ответы дет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В госпитале лечат только военных. На войне многих солдат ранили вражеские пули. Оказав первую помощь в медсанбате, раненых отправляли в тыл на лечение. Ведущим хирургом консультантом тамбовских  эвакуационных  госпиталей был профессор Валенти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еликсович  Войно – Ясенецкий ( архиепископ Тамбовский и Мичуринский  Лука).  Лука провёл в Тамбове два года, однако за это время сделал столько для нашего края, сколько многие не сделают и за всю жизнь. Оставив после себя не только научные работы, восстановленные храмы, но и спасённые жиз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Много лет у памятника святителю — живые цветы, которые до сих пор с любовью приносят исцеленные больны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 1994 года 2-я городская больница носит имя  архиепископа Луки. Тогда же ему был поставлен памятник  перед главным фасадом больницы.</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EC2D-53F6-4D80-AE28-A7516685DF5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1" lang="ru-RU" sz="900" spc="-1" strike="noStrike">
                <a:solidFill>
                  <a:srgbClr val="000000"/>
                </a:solidFill>
                <a:latin typeface="Arial"/>
              </a:rPr>
              <a:t>Дополнительные сведения об архиепископе Луке.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a:solidFill>
                  <a:srgbClr val="000000"/>
                </a:solidFill>
                <a:latin typeface="Arial"/>
              </a:rPr>
              <a:t>Э.-На территории 2-ой  больницы расположен памятник профессору медицины В. Ф. Войно-Ясенецкому. . Эта больница носит его имя. В 1993 году больницу освятил Святейший Патриарх Алексий II. В годы Великой Отечественной войны он  работал хирургом в тамбовских больницах. Жители Тамбова с особым почтением относятся к святителю Луке, ведь многие из них получили от его рук исцеление.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a:solidFill>
                  <a:srgbClr val="000000"/>
                </a:solidFill>
                <a:latin typeface="Arial"/>
              </a:rPr>
              <a:t>Жизнь знаменитого хирурга, профессора Валентина Феликсовича Войно-Ясенецкого - архиепископа Луки, и пройденный им путь служения людям и Богу полны бед и страданий. За веру и непокорность власти пытались его раздавить, уничтожить, сгноить в тюрьмах и ссылках, но он так и не отступил от своих убеждений. Многократно в течение всей жизни подвергался арестам и административным ссылкам. (Биографы подсчитали, что его арестовывали 390 раз, а в заключении он провел в общей сложности одиннадцать лет). Наоборот, чем страшнее были испытания, тем крепче становилась его вера и вопреки всему закалялась его несгибаемая воля. Пройдя весь этот ад, святитель остался верен исповеданию Истины, и, где бы он ни был - в застенках, на кафедре, за операционным столом - он был носителем чести и веры. И, как и везде, где работал Лука, в операционной стояла икона, возле нее зажженная лампада, а на теле больного, перед операцией Владыка ставил йодом крест.  </a:t>
            </a:r>
            <a:br>
              <a:rPr sz="900"/>
            </a:br>
            <a:r>
              <a:rPr b="0" lang="ru-RU" sz="900" spc="-1" strike="noStrike">
                <a:solidFill>
                  <a:srgbClr val="000000"/>
                </a:solidFill>
                <a:latin typeface="Arial"/>
              </a:rPr>
              <a:t>     В 1958 году Господь послал ему новое испытание - слепоту на оба глаза. Однако Владыка видел духовными очами. Несмотря на страшный недуг, он регулярно совершал богослужения, постоянно проповедовал и принимал страждущих.  </a:t>
            </a:r>
            <a:br>
              <a:rPr sz="900"/>
            </a:br>
            <a:r>
              <a:rPr b="0" lang="ru-RU" sz="900" spc="-1" strike="noStrike">
                <a:solidFill>
                  <a:srgbClr val="000000"/>
                </a:solidFill>
                <a:latin typeface="Arial"/>
              </a:rPr>
              <a:t>     Скончался преосвященный Лука 11 июня 1961 года в день  Всех святых в земле Российской просиявших. В ночь с 17 на 18 марта 1996 года состоялось обретение его нетленных мощей, а 24-25 мая 1996 года - торжество прославления святителя. Многоцелебные мощи его почивают в Свято-Троицком кафедральном соборе Симферополя. Так уж вышло, что духовный путь Войно-Ясенецкого получил оценку выше, чем путь хирурга, врача, целителя. Но только после смерти в 1996 году Украинская православная церковь причислила Войно-Ясенецкого к лику святых. В октябре 1999 года к лику местночтимых святых его причислили в Красноярско-Енисейской епархии. В августе 2000 году на юбилейном Архиерейском соборе РПЦ архиепископ Лука причислен к лику святых новомучеников и исповедников Российских для общецерковного почитания.  Кстати, в Греции наш соотечественник святитель Лука в большом почёте. Он даже объявлен покровителем греческой армии. </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0666-594B-4C65-B304-41DB4715EF3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4. Наши земляки на фронте</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 Началась война.  Часто солдаты уходили на фронт из нашего города и области, записавшись добровольцами. На фронт уходили не только мужчины, но и женщины, юноши и девушки. На фронт уходили все, кто мог. Уходили наши земляки.  Земляки - это те, кто родился здесь, на Тамбовской земл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Каким должен быть солдат по-вашему</a:t>
            </a:r>
            <a:r>
              <a:rPr b="0" i="1" lang="ru-RU" sz="800" spc="-1" strike="noStrike">
                <a:solidFill>
                  <a:srgbClr val="000000"/>
                </a:solidFill>
                <a:latin typeface="Arial"/>
              </a:rPr>
              <a:t>? ( ответы детей: храбрым, смелым, здоровым, хитрым, умеющим метко стреля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Да, я согласна с вами. Особо отличившихся за отвагу и храбрость награждали золотой Звездой Героя. </a:t>
            </a:r>
            <a:r>
              <a:rPr b="0" i="1" lang="ru-RU" sz="800" spc="-1" strike="noStrike">
                <a:solidFill>
                  <a:srgbClr val="000000"/>
                </a:solidFill>
                <a:latin typeface="Arial"/>
              </a:rPr>
              <a:t>( показ рисунка Звезды Героя ).</a:t>
            </a:r>
            <a:r>
              <a:rPr b="0" lang="ru-RU" sz="800" spc="-1" strike="noStrike">
                <a:solidFill>
                  <a:srgbClr val="000000"/>
                </a:solidFill>
                <a:latin typeface="Arial"/>
              </a:rPr>
              <a:t> А знаете ли вы кого-нибудь наших земляков – героев  Советского Союза? </a:t>
            </a:r>
            <a:r>
              <a:rPr b="0" i="1" lang="ru-RU" sz="800" spc="-1" strike="noStrike">
                <a:solidFill>
                  <a:srgbClr val="000000"/>
                </a:solidFill>
                <a:latin typeface="Arial"/>
              </a:rPr>
              <a:t>( 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Ребята, сейчас мы побываем у памятника нашей землячке Зое Космодемьянс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Автобус направляется по улице Советской  и останавливается напротив памятника Зо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Ребята, вы  узнали чей это памятник мы видим в окно автобу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800" spc="-1" strike="noStrike">
                <a:solidFill>
                  <a:srgbClr val="000000"/>
                </a:solidFill>
                <a:latin typeface="Arial"/>
              </a:rPr>
              <a:t>( Это памятник  Зое Космодемьянс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Правильно, дети. Посмотрите, как она гордо стоит, возвышаясь  на постаменте, как деревья окаймляют памятник. Совсем юная  девушка с винтовкой за плечами.  Это Зоя, она партизанка, она защищала Родину.</a:t>
            </a:r>
            <a:r>
              <a:rPr b="0" i="1"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a:t>
            </a:r>
            <a:r>
              <a:rPr b="0" i="1" lang="ru-RU" sz="800" spc="-1" strike="noStrike">
                <a:solidFill>
                  <a:srgbClr val="000000"/>
                </a:solidFill>
                <a:latin typeface="Arial"/>
              </a:rPr>
              <a:t>Автобус  останавливается на  улице М. Горького, дети выходят из автобуса, проходят через сквер к памятнику, Э. приглашает  их встать с правой стороны от памятника  так, чтобы был виден весь  памятник</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Ребята, этот памятник в честь подвига Зои, установлен в 1949 году. Автор памятника скульптор  М. Манизер. А что знаете вы о подвиге Зо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800" spc="-1" strike="noStrike">
                <a:solidFill>
                  <a:srgbClr val="000000"/>
                </a:solidFill>
                <a:latin typeface="Arial"/>
              </a:rPr>
              <a:t>( опираясь на ответы детей, рассказать более подробно о подвиг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Началась война. Зоя, как многие другие школьники, очень любила свою Родину, школу, маму, брата Сашу. Она не хотела видеть погибающих людей, разрушенные города, сожжённые улицы, дома, школы. Зоя хотела защищать Родину. Она была очень юная,  а таких  юных на фронт в действующую армию не брали.  Она пришла в военный комиссариат и записалась  добровольцем – Зоя стала партизанкой. Кто такие партиза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 Простые жители, которые прятались в лесах  и нападали на враг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Правильно, враг захватывал наши города, сжигал деревни, убивал мирных жител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 врагом боролись сами жители, которые собирались в отряды и уходили в лес, а оттуда нападали на врага. Таких борцов называли партизан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И вот в одной деревне  Петрищево  кто-то перерезал провода немецкого полевого телефона, поджёг 4 дома с немецкими солдатами и офицерами, а вскоре уничтожил конюшню немецкой военной части и в ней 17 лошадей. На следующий день партизан был пойман. Фашисты разглядели, что это была девушка, совсем юная, стройная, с большими глазами и тёмными, стриженными зачёсанными наверх  волос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была партизанка Таня. Так назвала себя Зоя. Девушка получила очередное  задание:  </a:t>
            </a:r>
            <a:r>
              <a:rPr b="1" lang="ru-RU" sz="800" spc="-1" strike="noStrike">
                <a:solidFill>
                  <a:srgbClr val="000000"/>
                </a:solidFill>
                <a:latin typeface="Arial"/>
              </a:rPr>
              <a:t> проникнуть через линию фронта с задачей уничтожения военных объектов противника в  населенных пунктах, оккупированных фашистам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По возвращении из тыла противника в расположение частей Красной Армии доложить всё, что  известно о противнике, о передвижении и расположении немецких войск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В этой деревне расположился штаб 332-го полка 197-й пехотной дивизии гитлеровцев. Но, прежде чем проникнуть в деревню, Зоя решила изучить все подходы к ней, определить наиболее важные для диверсии объекты. А в первом часу ночи на 26 ноября в Петрищеве загорелись четыре дома, в которых расположились связисты и офицеры.  Выполнив это задание, она решила поджечь конюшню с находящимися рядом постройками. И Зоя снова вернулась в Петрищево. Ее схватили в тот момент, когда, полив керосином охапку сена и сунув ее под створы конюшни, Зоя нагнулась, чтобы зажечь огон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ё пытали и требовали, </a:t>
            </a:r>
            <a:r>
              <a:rPr b="1" lang="ru-RU" sz="800" spc="-1" strike="noStrike">
                <a:solidFill>
                  <a:srgbClr val="000000"/>
                </a:solidFill>
                <a:latin typeface="Arial"/>
              </a:rPr>
              <a:t>чтобы она сообщила, когда и с кем перешла линию фронта, назвала место, где находится партизанская база, фамилии и имена ее товарищей, командира и комиссара отряда, ее собственное имя, откуда и кто о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збивали фашисты и муч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ыгоняли босой на мороз.</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Были руки верёвками скруче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ять часов продолжался допро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 лице твоём шрамы и ссади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о молчанье в ответ враг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ревянный помост с переклади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ы босая стоишь на снег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Юный голос звучит над пожарище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 молчаньем морозного д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Умирать мне не страшно, товарищ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Мой народ отомстит за ме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Умерла, но ты среди наро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ы героем вечно будешь ж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 клянёмся, дорогая Зо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 тебя врагам мы отомст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вушка погибла во вражеском плену, ни единым звуком не выдав своих товарищей. Она приняла мученическую смерть, как героиня, как дочь великого народа, которого никому и никогда не сломить! Звание Героя Советского Союза присвоено Зое Космодемьянской посмертно 16 февраля 1942 го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Что такое подвиг? Прощанье или встреч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Что такое подвиг Секунда или вечнос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Шла она неслышно от школьного порог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Уходила девочка в бессмертную дорог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Ребята, как вы думаете, почему памятник Зое установлен в Тамбове?                                                            </a:t>
            </a:r>
            <a:r>
              <a:rPr b="0" i="1" lang="ru-RU" sz="800" spc="-1" strike="noStrike">
                <a:solidFill>
                  <a:srgbClr val="000000"/>
                </a:solidFill>
                <a:latin typeface="Arial"/>
              </a:rPr>
              <a:t>(  Зоя – наша землячка. Она родилась на Тамбовской земле и  поэтому памятник установлен в Тамбове.)</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Скажите, удалось ли скульптору показать, что Зоя отважная и смелая</a:t>
            </a:r>
            <a:r>
              <a:rPr b="0" i="1" lang="ru-RU" sz="800" spc="-1" strike="noStrike">
                <a:solidFill>
                  <a:srgbClr val="000000"/>
                </a:solidFill>
                <a:latin typeface="Arial"/>
              </a:rPr>
              <a:t>? ( ответы дет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Правда, ребята, Зоя отважная, она не боялась навредить врагу. Смелость Зои скульптор выразил через её гордую осанку. Зоя стоит, высоко подняв голову, напряжённо смотрит вдаль, как бы слушая, где враг, за плечами у неё винтов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 памятнику каждый год  в день гибели Зои и на день Победы приходят и дети и взрослые. Они возлагают к подножию памятника  цве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квер был заложен в 1869 году. В 1947 году, сразу после войны,  в центре сквера сооружён памятник юной партизанке.</a:t>
            </a:r>
            <a:r>
              <a:rPr b="0" i="1" lang="ru-RU" sz="800" spc="-1" strike="noStrike">
                <a:solidFill>
                  <a:srgbClr val="000000"/>
                </a:solidFill>
                <a:latin typeface="Arial"/>
              </a:rPr>
              <a:t> </a:t>
            </a:r>
            <a:r>
              <a:rPr b="0" lang="ru-RU" sz="800" spc="-1" strike="noStrike">
                <a:solidFill>
                  <a:srgbClr val="000000"/>
                </a:solidFill>
                <a:latin typeface="Arial"/>
              </a:rPr>
              <a:t>Сегодня тропинки аллей и площадь возле памятника покрыта разноцветной плиткой. Смонтирована подсветка памятника, поставлено восемь искусственных светящихся деревьев и установлена новая система освещения  площади. Смонтирована система видеонаблюдения, призванная защитить памятник и площадь от вандалов. Уже сейчас, в сквере высажено более пятнадцати тысяч цветов, размещенных на многочисленных клумба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Дети возлагают цве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Объявляется минута молча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Дополнительные сведения о  Зое Космодемьянск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Зоя Космодемьянская родилась 13 сентября 1923 года в селе Осиновые Гаи Тамбовской области. Мать, Любовь Тимофеевна, учительствовала в школе, отец, Анатолий Петрович, тоже учитель, работал сельским избач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На трудные годы выпало детство Зои и Шуры. Страна еще не оправилась после нашествия интервентов и долгой гражданской войны. Еще восстанавливалось народное хозяйство, только-только начинали работать заводы и фабрики. В каждой трудовой семье еще давала себя знать нужда. Не хватало хлеба, топлива, одежды и обуви. Грозная, страшная пора пришла на советскую землю с рассветом 22 июня 1941 года. Зоя и ее друзья шумной ватагой еще гуляли после школьного бала, а на пограничных заставах уже шли напряженные бои с  врагом. Фронт требовал постоянного пополнения хорошо обученными воинами. Московский комсомол оказывал в этом практическую помощь. С первых же дней войны Зоя стала часто наведываться в райком комсомола, спрашивала, чем она могла бы помочь фронту. Она говорила райкомовцам, что умеет хорошо стрелять, плавать, быстро бега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Вскоре дело нашлось и для Зои. Вместе с матерью она стала шить дома вещевые мешки и петлички для фронтовиков. Сознание того, что и она делает что-то нужное для армии, на какое-то время успокоило ее. 30 октября 1941 года получила партизанскую путевку и Зо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Зоя прибыла в отряд 31 октября 1941 года. Время требовало быстрых и решительных действий. И вот уже на пятый день комсомольцам дано боевое задание: перейти под Волоколамском линию фронта, углубиться в тыл врага с целью минирования шоссе и порчи ближайших к шоссе дорог. На выполнение этого задания 4 ноября 1941 года шла и Зоя. 20 ноября группа  получила очередное задание «проникнуть через линию фронта с задачей сожжения военных объектов противника и докладывать все, что  известно о противник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Все были вооружены по- разному у командира автомат и пистолет, у других ребят — винтовки, гранаты. У Зои и девушек — по нагану. В сумке Зои, как и у всех, бутылки с зажигательной смесью. До Петрищева оставалось недалеко. Крайновцы (командир отряда Крайнов Борис Сергеевич) уже знали, что в этой деревне расположился штаб 332-го полка 197-й пехотной дивизии гитлеровцев. Но, прежде чем проникнуть в деревню, решили изучить все подходы к ней, определить наиболее важные для диверсии объекты. А в первом часу ночи на 26 ноября в Петрищеве загорелись четыре дома, в которых расположились связисты и офицеры. Их подожгли Крайнев и Зоя. Выполнив это задание, Крайнов вернулся на то же место — к сосне, чтобы оттуда прикрыть огнем своего автомата Зою. Застигнутые врасплох пожарами в деревне, гитлеровцы открыли беспорядочную стрельбу. Горело в разных концах, и солдаты метались по площади, перебегая с одной стороны на другую. В этой суматохе Зое удалось свернуть к Грибцову, а затем спрятаться в лесу. Крайнев долго ждал Зою, но она не появлялась. Под утро, так и не узнав, что с ней случилось, командир поджег стог, который мог стать ориентиром для советских бомбардировщиков. Когда же загорелся стог сена за оврагом, Зоя, очевидно, подумала, что Крайнов погиб, выполнив свой долг до конца. И она решила поджечь конюшню с находящимися рядом постройками. И Зоя снова вернулась в Петрищево. Ее схватили в тот момент, когда, полив керосином охапку сена и сунув ее под створы конюшни, Зоя нагнулась, что-бы зажечь огонь. Она все же успела вытащить наган, но выстрела не последовало. Часовой с силой вышиб его, свернул ей руки за спину. Ему на помощь спешили еще двое гитлеровцев...После первого допроса, раздетую и разутую, партизанку под конвоем перевели через всю площадь в дом Ворониных, где помещался штаб . Здесь новый допрос учинил сам подполковник Рюдерер. Он требовал, чтобы она сообщила, когда и с кем перешла линию фронта, назвала место, где находится партизанская база, фамилии и имена ее товарищей, командира и комиссара отряда, ее собственное имя, откуда и кто она.Как потом рассказывала хозяйка дома Евдокия Петровна Воронина корреспонденту«Правды» Петру Лидову, она, загнанная на кухню фашистами, видела, как более двух часов немцы допрашивали девушку. На все вопросы партизанка отвечала: «Нет», «Не знаю», «Не скажу», «Нет». Взбешенный старший офицер приказал солдатам снять свои ремни и бить ее, пока не добьются признания. Около двухсот ударов насчитала Евдокия Петровна Воронина, но девушка стойко терпела боль, не просила пощады. С девушки стянули теплые брюки и босую, в одной сорочке, перевели в дом, Василия Александровича Кулика, где размещалось 26 солдат. Ее посадили на край лавки, руки привязали к дверной скобе. Начались новые издевательства. Солдаты прижигали ее окурками, подносили горящие спички к ушам, подбородку, носу. В полузабытьи она попросила пить. Василий Кулик подошел к кадушке с водой, хотел зачерпнуть кружку, но один из солдат оттолкнул его и поднес ко рту девушки керосиновую лампу. Через некоторое время солдаты ушли спать, но муки Зои продолжались. Приставленный к ней часовой вывел ее на улицу и, почти вплотную приставив штык, долго, пока сам не продрог, водил ее босую по морозу. И так через каждый час фашист выводил девушку на мороз на пятнадцать—двадцать минут. Сменивший в карауле первого солдат разрешил, наконец, Зое прилечь на лавку. Он даже развязал ей руки и дал попить воды.</a:t>
            </a:r>
            <a:br>
              <a:rPr sz="800"/>
            </a:br>
            <a:r>
              <a:rPr b="1" lang="ru-RU" sz="800" spc="-1" strike="noStrike">
                <a:solidFill>
                  <a:srgbClr val="000000"/>
                </a:solidFill>
                <a:latin typeface="Arial"/>
              </a:rPr>
              <a:t>Рано утром пришли офицеры и опять допрашивали ее. Потом принесли ее вещи: кофточку, стеганые брюки, чулки, вещевой мешок. Теплая шапка, варежки, вязаная фуфайка, сапоги исчезли. Их уже поделили между собой солдаты. Офицеры приказали Прасковье Кулик помочь девушке одеться. На обмороженные ноги с трудом удалось натянуть чулки. На грудь партизанке повесили доску с надписью на русском и немецком языках«Поджигатель». Так вывели ее на площадь, к месту казни. Собрав остатки сил, она оттолкнула двух солдат, державших се под руки, и, превозмогая боль во всем теле, пошла сама к виселице.</a:t>
            </a:r>
            <a:br>
              <a:rPr sz="800"/>
            </a:br>
            <a:r>
              <a:rPr b="1" lang="ru-RU" sz="800" spc="-1" strike="noStrike">
                <a:solidFill>
                  <a:srgbClr val="000000"/>
                </a:solidFill>
                <a:latin typeface="Arial"/>
              </a:rPr>
              <a:t>Вокруг уже столпились солдаты и офицеры. Пригнали сюда и местных жителей — женщин, стариков, детей.  Гордо вскинув голову, Зоя обернулась к палач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Вы меня сейчас повесите, но я не одна. Нас двести миллионов, всех не перевешаете. Вам отомстят за меня. Солдаты! Пока не поздно, сдавайтесь в плен, все равно победа будет за нами! Вам отомстят за меня!.. Эй, товарищи! Чего смотрите невесело? - обратилась она к жителя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Будьте смелее, боритесь, бейте фашистов, жгите, травите! Мне не страшно умирать, товарищи. Это счастье - умереть за свой народ... Прощайте, товарищи! Боритесь, не бойтесь!..</a:t>
            </a:r>
            <a:br>
              <a:rPr sz="800"/>
            </a:br>
            <a:r>
              <a:rPr b="1" lang="ru-RU" sz="800" spc="-1" strike="noStrike">
                <a:solidFill>
                  <a:srgbClr val="000000"/>
                </a:solidFill>
                <a:latin typeface="Arial"/>
              </a:rPr>
              <a:t>     Целый месяц провисело тело Зои на площади, фашисты не разрешали его снимать. В ночь под Новый год перепившиеся солдаты изуродовали его. Только когда советские войска гнали фашистские полчища от Москвы, подполковник Рюдерер, заметая следы расправы, распорядился виселицу спил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Вечером 1 января полицай Свиридов с помощью солдат вырыл яму на краю села, и в нее бросили ни во что не завернутое, с обрывком веревки на шее тело партизан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12 января 1942 года фашисты поспешно бежали из Петрищева. В тот же день в Петрищево вступили части 108-й стрелковой дивизии Красной Армии. В мае 1942 года прах Зои был перевезен в Москву, на Новодевичье кладбище.</a:t>
            </a:r>
            <a:r>
              <a:rPr b="0" lang="ru-R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оказ объекта про водится под руководством экскурсовода, который передаёт видение объекта, оценку памятного места, понимание исторического события, связанного с этим памятником.</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5168-6A23-4840-9437-F939D604A0D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5. «Родился в Тамбов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Сейчас я приглашаю вас пройти в автобус и проехать ещё к одному памятн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Автобус следует по улице Советской,  поворачивает  налево, проезжает по площади Ленина и останавливается у сквера имени Героя Советского Союза В. С. Петрова.  Дети выходят из автобуса и останавливаются у центральной алле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Перед нами сквер имени Петрова, расположенный вдоль улицы Карла Маркса от площади Ленина до областной Филармонии. Сквер назван в честь дважды героя Советского Союза, гвардии майора Василия Степановича Петрова. Постамент с бюстом Петрова установлен в центре сквера в 1953 году. Данный сквер был обустроен на месте старых крепостных валов, ещё в начале XX века, на средства почётного гражданина города Тамбова - М.Л. Шоршоро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Ребята, посмотрите, чем отличается этот памятник от памятника Зое</a:t>
            </a:r>
            <a:r>
              <a:rPr b="0" i="1" lang="ru-RU" sz="800" spc="-1" strike="noStrike">
                <a:solidFill>
                  <a:srgbClr val="000000"/>
                </a:solidFill>
                <a:latin typeface="Arial"/>
              </a:rPr>
              <a:t>?     ( ответы детей)</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Памятник Зое выполнен в полный рост, а памятник Петрову называется бюст, т.е. только верхняя часть туловища челове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Василий Степанович Петров не был уроженцем Тамбовского края. С нашим городом его связывало то, что в 1943 году, будучи тяжело раненым, он был доставлен на лечение в один из тамбовских госпиталей. Врачи сделали всё, чтобы спасти жизнь Героя. Ему были ампутированы обе руки, но после длительного лечения он смог вернуться в строй и продолжал командовать противотанковым артиллерийским полком. Звание Героя ему присвоили за подвиги в боях при форсировании Днепра и за умелое командование полком при удержании плацдарма на реке Одер в Герман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 нем можно было бы запросто написать вторую «Повесть о настоящем человеке». Но в отличие от легендарного летчика Маресьева, продолжившего воевать с ампутированными ногами, артиллерист Петров бил врага, лишившись обеих рук. Без рук, с тяжелым ранением в ногу он продолжал сражаться так, что являл собой пример удивительных мужества и отваги. Великую Отечественную еще 23-летний Василий закончил на Одере – командуя полком, с двумя геройскими звездами на груди и в звании майора. Причем он остался в строю и после Победы – дослужился до генеральских погон, написал несколько книг, защитил диссертаци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сю свою жизнь генерал-полковник оставался  признателен нашему городу и его жителям за то, что здесь ему удалось спасти жизнь. В биографии Петрова были долгие месяцы госпитальной жизни, и в его личном деле появилась запись «Родился в Тамбове». Офицер не хотел быть обузой своим родным и даже не сообщил в родную  Дмитриевку, что все-таки выжил. Решил, что лучше пусть близкие считают его без вести пропавшим. Кстати, именно из-за той записи бюст дважды Героя Советского Союза Василия Петрова стоит не на его малой родине, а в городе Тамбове.</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Дополнительные сведения о  В.С.Петров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н родился на запорожской земле  22 июня 1922 года.  Великая  Отечественная грянула в день, когда ему исполнилось 19. Через год о нем уже писали фронтовые газеты, а к концу войны в Красной Армии, пожалуй, не было воина, который не знал его имени. Человек из легенды, победивший смерть, ставший уникальным примером несгибаемости духа – так говорят о нашем земляке, дважды Герое Советского Союза Василии Петрове. Судьба уроженца Приазовского района Запорожской области Василия Петрова не имеет аналогов. Да, о нем можно было бы запросто написать вторую «Повесть о настоящем человеке». Но в отличие от легендарного летчика Маресьева, продолжившего воевать с ампутированными ногами, артиллерист Петров бил врага, лишившись обеих рук. Без рук, с тяжелым ранением в ногу он продолжал сражаться так, что являл собой пример удивительных мужества и отваги. Великую Отечественную еще 23-летний Василий закончил на Одере – командуя полком, с двумя геройскими звездами на груди и в звании майора. Причем он остался в строю и после Победы – дослужился до генеральских погон, написал несколько книг, защитил диссертацию. . В Великую Отечественную войну Василий Петров вступил уже с ее первых минут. Владимир-Волынский укрепрайон, где командовал взводом совсем молоденький лейтенант, одним из первых принял на себя удар немецко-фашистских захватчиков. Офицерской службе Василия Петрова в тот роковой для всей страны день исполнилось лишь две недели. «Проснувшись, я не мог сообразить, что происходит. Стены содрогались. Над головой, раскачиваясь, жалобно звенела люстра. Комнату заполнял едкий дым. Где-то совсем   рядом, за стеной, гремели взрывы. Война! Я взглянул на часы. Стрелки показывали 3 часа 02 минуты», – так начало войны в своих мемуарах опишет уже генерал-майор артиллерии Василий Степанович Петров. Воевать Василию Петрову довелось противотанкистом. Это, без вариантов, сугубо на передовой, в постоянных дуэлях с бронированными «тиграми» да «леопардами». Или, как говорят фронтовики, в кромешном аду. После каждого боя потери противотанкистов были огромными. Но лейтенанту Петрову до поры до времени везло. О нем можно было запросто сказать: «В воде не тонет и в огне не горит». «В 42-м, на  Дону , мы подошли к переправе, и в этот момент фашистские самолеты подожгли мост. Признаюсь: я не мог найти решения. И вдруг – на пылающий мост врывается одна машина с пушкой, вторая, третья… Мост рухнул, но батарея, ведомая Петровым, успела проскочить на ту сторону и прямой наводкой стала расстреливать пехоту и танки врага», – вспоминал уже в мирное время генерал-майор артиллерии, бывший командир соединения 40-й армии Иван Куприн. Кстати, свой проход «сквозь огонь и воду» уже капитан Василий Петров повторил через год – на Сумщине. Сначала организовав переправу через реку Сула своим батареям, сам офицер преодолел пылающий мост уже под артобстрелом и бомбежкой с воздуха. Та самая переправа через Сулу состоялась 14 сентября 1943 года. Через два часа после нее три батареи капитана Петрова были атакованы 13 танками и батальоном немецкой пехоты. Противотанкисты приняли бой – за короткое время вывели из строя семь бронемашин и уничтожили две роты пехотинцев. Но тут из-за спин воинов раздались крики: «Рус, сдавайся!».  150 немецких автоматчиков зашли батареям в тыл и окружили их. «Истребители не сдаются!» – закричал капитан Петров и лично повел в атаку на врага своих подчиненных. Бой кипел два часа, и в итоге наш земляк таки вывел из окружения свои подразделения. Не остановило Василия Петрова даже ранение в плечо – до конца схватки он оставался в строю.  Уже через неделю после боя и ранения капитан Петров снова отважно принял вызов врага. Заменив выбывшего из строя командира полка, наш земляк и его подразделение успешно форсировали Днепр. Первыми, оказавшись на правом берегу реки, артиллеристы Петрова захватили «пятачок» Букринского плацдарма и держали его не одни сутки, в кромешном дыму и аду. Огнем батарей прямо на передовой руководил лично Василий Степанович Петров. А 1 октября офицеру пришлось и самому становиться за орудия – контратака немецких танков вывела из строя весь расчет 1-й батареи. Петров подбегал то к одному, то к другому орудию, становился на место наводчика и метко вел огонь. «1 октября 1943 года при танковой контратаке немцев тов. Петров, находясь в боевых порядках, руководил огнем и лично подбил четыре немецких танка, два шестиствольных миномета», – свидетельствует один из наградных листов Василия Степановича.   В тот же день на Букринском плацдарме случилось непоправимое : Петров получил тяжелые ранения в бедро, голову и обе руки. «Нашли меня только на рассвете. Я потерял много крови. Мое почти безжизненное тело переправили через Днепр. В перегруженном сверх всяких представлений медсанбате очереди ждали сотни раненных бойцов. И меня отправили в морг…» – вспоминал уже в мирное время Василий Степанович. Тяжелораненого капитана сочли безнадежным и не стали даже оперировать. Еще живой Петров оказался в сарае, где штабелями складывали тела погибших до похорон – под грудой усопших. Семье героя в село Дмитриевку полетела похоронка.   И лишь настойчивость однополчан Петрова позволила ему во второй раз родиться. Когда командиру бригады, где служил капитан, доложили, что Петров отправлен в морг, то тот приказал немедленно найти тело Василия для погребения с воинскими почестями. Целые сутки поиска ничего не дали – искали нашего земляка даже среди уже погребённых. Пока кто-то не услышал стон, доносившийся стон из сарая-морга. «Мои товарищи потребовали всех показать, и где-то в нижнем ярусе обнаружили меня», – вспоминал после буквально воскресший Петров. Капитан выжил, но лишился обеих рук – одну оторвало еще во время сражения, вторую пришлось ампутировать из-за гангрены.  Затем в биографии Петрова были долгие месяцы госпитальной жизни, не менее героической, чем в строю. Ведь даже трудно представить, сколько нужно силы воли и мужества человеку с ампутированными руками, чтобы не пасть духом. Кстати, тогда Василий Степанович все же немного не выдержал – изменил себе биографию, и в его личном деле появилась запись «Родился в Тамбове». Офицер не хотел быть обузой своим родным и даже не сообщил в родную  Дмитриевку, что все-таки выжил. Решил, что лучше пусть близкие считают его без вести пропавшим. Кстати, именно из-за той записи бюст дважды Героя Советского Союза Василия Петрова стоит не на его малой родине, а в городе Тамбове. «Мы думали о Василии Степановиче, когда освобождали Житомир и Тернополь, когда вышли к государственной границе. Знали: невозможно после такого ранения вернуться в строй – и опять вопреки всему верили: а наш Петров верн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 он вернулся к нам в полк – с «Золотой Звездой» Героя!» – вспоминает гвардии старшина запаса, ветеран 40-й армии Андрей Дмитриевич Сазонов. Вот так весной 44-го уже в звании майора и с геройской звездой наш земляк вернулся на службу. Заметьте, войну лишенный обеих рук Петров продолжил не в тылу или в штабе, как ему предлагали, а на передовой, в своей родной части. Вот где огромные  воля и любовь к своей Родине! В состав действующей армии майор Петров был возвращен с разрешения самого Верховного главнокомандующего Иосифа Сталина. Однополчане встречали Героя Советского Союза торжественно – словно второе полковое знамя!  Как тут не вспомнить народное выражение «Как без рук», означающее крайнюю степень беспомощности. Так вот Василий Петров его полностью дискредитировал. Вернувшись в строй, он прошел с боями Польшу и вошел в Германию. И самое удивительное – и доселе невиданное в истории! – было в том, что 22-летний майор, не имея обеих рук, уверенно командовал в то время истребительно-противотанковым артполком. И всегда этот полк шел самым первым – впереди пехоты. Таков уж род войск – истребительная противотанковая артиллерия. А потом был бой под Дрезденом. Во время него гвардии майор Петров лично поднял в атаку на вражескую высоту стрелковый батальон. Он встал во весь рост и закричал: «Пехота за мной!». Увидев безрукого майора, солдаты без колебаний пошли в атаку. Ведомые бесстрашным комполка воины обратили в бегство противника. На поле боя осталось 350 трупов и девять подбитых танков противника. В этом сражении Петров и заслужил вторую «Золотую Звезду» Героя Советского Союза. Но получил ее только в госпитале, куда угодил с пробитыми пулями ног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0" i="1" lang="ru-RU" sz="800" spc="-1" strike="noStrike">
                <a:solidFill>
                  <a:srgbClr val="000000"/>
                </a:solidFill>
                <a:latin typeface="Arial"/>
              </a:rPr>
              <a:t>   </a:t>
            </a:r>
            <a:r>
              <a:rPr b="0" lang="ru-RU" sz="800" spc="-1" strike="noStrike">
                <a:solidFill>
                  <a:srgbClr val="000000"/>
                </a:solidFill>
                <a:latin typeface="Arial"/>
              </a:rPr>
              <a:t>  </a:t>
            </a:r>
            <a:r>
              <a:rPr b="0" lang="ru-RU" sz="800" spc="-1" strike="noStrike">
                <a:solidFill>
                  <a:srgbClr val="000000"/>
                </a:solidFill>
                <a:latin typeface="Arial"/>
              </a:rPr>
              <a:t>Кстати, с тем самым гитлеровцем, который его ранил, Петров разобрался очень редким для войны способом – просто простил. Пленного унтер-офицера, который признался, что стрелял в майора, раненный Василий Степанович приказал вывести за линию соприкосновения войск и… отпустить с миром. «Исход войны был уже предрешен, и смерть этого парня уже ничего не меняла. У него была красно-белая ленточка на его френче между второй и третьей пуговицами. Такие нашивки вручали всем солдатам Вермахта, принимавшим участие в зимней кампании 41-го. Лежа на носилках, я смотрел на этого парня и думал: «Этот человек прошел всю войну. И сейчас, когда до ее окончания остаются считанные дни, он должен погибнуть?.. Несправедливо!» – объяснял свое тогдашнее решение уже после войны Василий Петр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асилий Степанович оставался героем и после войны. Каждый прожитый ним день – уже подвиг. Он постоянно боролся с непониманием окружающих. Ведь многие желали видеть героя немощным инвалидом на отдыхе. А он продолжал служить, имел такое право – по личному распоряжению Сталина Петрова зачислили в ряды Вооруженных Сил пожизненно. И еще всячески старался доказать, что способен выполнять любые задачи, как все, а может даже и лучше. Назло инвалидности Василий Петров не пользовался лифтом, играл в футбол, ежедневно совершал часовые пробежки и делал по 1000 приседаний! Он даже расчесывался и брился самостоятельно – для этого во дворе на дереве для него прикрепили расческу и бритву. Не говоря уже о том, что лично, без чьей-либо помощи, написал сотни тысяч страниц рукописей своих мемуаров. С помощью специального приспособления, крепившегося к протезу. То есть каждая буковка рождалась ценой огромных усилий всего тела.  Рассказывают, что, будучи еще лейтенантом, Василий Петров всегда ел из одного котла со своими подчиненными, а холодными ночами всегда накрывал своей шинелью лошадей, которые тягали орудия его батареи. Подобные «странности» были присущи и уже дослужившемуся до генеральских звезд Петрову. Его спартанский образ жизни удивлял многих: спал на солдатской койке и всячески открещивался от каких-либо льгот. Василию Степановичу как-то еще в застойные времена областные власти хотели построить за свой счет дом у Азовского моря. Дважды Герой Советского Союза назвал предложение абсурдом. Тогда же запорожцы предлагали присылать Петрову во Львов, где он служил, продукты. На что генерал возмущенно ответил: «Вы думаете, я не могу их себе куп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0" lang="ru-RU" sz="800" spc="-1" strike="noStrike">
                <a:solidFill>
                  <a:srgbClr val="000000"/>
                </a:solidFill>
                <a:latin typeface="Arial"/>
              </a:rPr>
              <a:t>Генерал-полковник Петров скончался в 2003 – на 81-м году жизни. Человек-легенда прожил без обеих рук, с осколками в груди и 17 шрамами, которые жгли все тело почти 60 лет. Он вошел в историю как единственный воин без обеих рук, защищавший свою Отчизну на поле боя. Василию Степановичу посвящали стихи, книги и киноленты. Имя Петрова носит базирующаяся в Запорожье артиллерийская бригада. Вот только в родной  Дмитриевке так до сих пор и нет хотя бы бюста в память о героическом земляке. Никто не забыт?</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093A-CD57-4A08-B109-2C71E716118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6. Наши земляки в тыл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Автобус следует по улице Карла. -Маркса  до улицы  Студенецкой  и  останавливается  напротив памятника.  Дети выходят из автобуса и останавливаются в начале дорожки, ведущей к памятн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Что за памятник перед нами?  </a:t>
            </a:r>
            <a:r>
              <a:rPr b="0" i="1" lang="ru-RU" sz="800" spc="-1" strike="noStrike">
                <a:solidFill>
                  <a:srgbClr val="000000"/>
                </a:solidFill>
                <a:latin typeface="Arial"/>
              </a:rPr>
              <a:t>( Тан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Правильно, это памятник-танк.  Он возвышается на постаменте, устремлённый вперёд. Сейчас, так  и  кажется, он тронется в бой. Автор проекта В. Самород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Солдаты сражались на фронте, а здесь, в тылу, люди лечили раненых, изготавливали    оружие на заводах. Те, кто сражался на фронте, кто трудился в тылу, отдавали все силы для приближения победы. Фронт и тыл представляли собой одно целое. Без самоотверженного труда тех, кто находился в тылу, победа была бы невозможной. Женщины, старики, дети заменили  ушедших на фронт мужей и сыновей, отцов и братьев, трудясь не покладая рук на полях и заводах, отдавая свой труд, последний кусок хлеба. Нужно было  много денег, чтобы сделать много оружия. Однажды председатель колхоза «Красный доброволец» прочёл статью в газете о русских танках и решил отдать свои сбережения на строительство танковой колонны. Он отдал 8 тысяч рубл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Как вы думаете, хорошо поступил этот человек?</a:t>
            </a:r>
            <a:r>
              <a:rPr b="0" i="1" lang="ru-RU" sz="800" spc="-1" strike="noStrike">
                <a:solidFill>
                  <a:srgbClr val="000000"/>
                </a:solidFill>
                <a:latin typeface="Arial"/>
              </a:rPr>
              <a:t>  ( 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Конечно, он очень хорошо сделал. За ним  и другие люди  стали отдавать свои деньги на строительство танков. «Всё отдаст русский крестьянин. Ни перед чем не остановится, ничего не пожалеет для Родины»,- говорили тамбовские колхозники, первыми в стране начиная сбор средств  в  помощь фронту. За две недели они собрали сорок миллионов рублей на постройку танковой колонны . На каждом танке было написано: «Тамбовский колхозник». Всего на средства собранные тамбовскими жителями в действующие войска было поставлено более четырёхсот танков, 25 эскадрилий боевых самолётов, несколько торпедных катеров.     То, что идея сбора средств на боевую технику зародилась на Тамбовщине, является славной страницей истории нашей области, предметом гордости наших земляк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Ребята, а как вы думаете, это настоящий танк? </a:t>
            </a:r>
            <a:r>
              <a:rPr b="0" i="1" lang="ru-RU" sz="800" spc="-1" strike="noStrike">
                <a:solidFill>
                  <a:srgbClr val="000000"/>
                </a:solidFill>
                <a:latin typeface="Arial"/>
              </a:rPr>
              <a:t>(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Одна из боевых машин Т-34 из танковой колонны “Тамбовский колхозник”, которая   под командованием Героя Советского Союза Филиппа Антоновича Гокова, приняла  участие в Сталинградской битве, боях на Курской дуге и сражениях за освобождение Украины, была доставлена в Тамбов и поднята на пьедестал славы как символ героизма, мужества и самоотверженности советских людей. И сегодня о славном подвиге тамбовского крестьянства напоминает монумент на одной из площадей города Тамбова. Здесь на высоком постаменте установлен танк. Стальная машина как бы застыла в броске перед решительной атакой. Завершив ратный путь, танк поднялся на гранитный пьедестал – свою последнюю стоянку, чтобы напоминать всем живущим о патриотическом почине тамбовских колхозников в грозные годы вой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Чтоб войск наших крепли удар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олхозы советской зем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еперь не взаймы, а в подаро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есут государству руб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 каждый их взнос превратил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Усильем руки трудов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стальную гудящую птиц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грохочущий танк боев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твет на фашистские коз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нятен и ясен без сл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олонна «Тамбовский колхозни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Без устали давит враг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 наш народ породы стой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вой фронтовой крепя засло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рагу ответил он построй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олхозных танковых колон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Бедны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АМБОВСКИЙ ТАН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гда фашистские дивизии</a:t>
            </a:r>
            <a:r>
              <a:rPr b="1" lang="ru-RU" sz="800" spc="-1" strike="noStrike">
                <a:solidFill>
                  <a:srgbClr val="000000"/>
                </a:solidFill>
                <a:latin typeface="Arial"/>
              </a:rPr>
              <a:t> </a:t>
            </a:r>
            <a:r>
              <a:rPr b="0" lang="ru-RU" sz="800" spc="-1" strike="noStrike">
                <a:solidFill>
                  <a:srgbClr val="000000"/>
                </a:solidFill>
                <a:latin typeface="Arial"/>
              </a:rPr>
              <a:t>врывались в наши горо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удьба планеты всей зависела от русской стойкости тогда</a:t>
            </a:r>
            <a:r>
              <a:rPr b="1"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гда весь мир дивился добле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лдат, не сдавших Сталингра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лхозники Тамбовской област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несли свой вкла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танковую на колонн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и, работники пол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брали сорок миллион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убл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рудовую лепту эт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и направили в Госбан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оит, как монумент Побед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площади тот самый тан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высится на пьедестал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ю тяжесть трудных лет хран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работана из прочной ста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надежная бро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могучее орудь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ныне помнит дни ата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с уваженьем смотрят люд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этот тан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A886-FD1E-4598-ABB3-5C18C014398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7. « Памяти павших будем достой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Автобус по улице Советской едет в сторону городского парка культуры, заворачивает на улицу Степана Разина и затем выезжает на Соборную площадь, останавливается у служебного корпуса Спасо- Преображенского Собора. В автобусе рассказать детям об объекте осмотр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Мы с вами приехали на историческое место Тамбова. Здесь родился наш город. Это площадь памяти. Здесь нельзя громко разговаривать, шуметь, бегать. Здесь чтят память тех солдат, что погибли на войне. Приглашаю  вас выйти из автобуса и стать около начала одной из дорожек, ведущих к памятнику</a:t>
            </a:r>
            <a:r>
              <a:rPr b="0" i="1" lang="ru-RU" sz="800" spc="-1" strike="noStrike">
                <a:solidFill>
                  <a:srgbClr val="000000"/>
                </a:solidFill>
                <a:latin typeface="Arial"/>
              </a:rPr>
              <a:t>. (дети выходя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смотрите,  перед нами  площадь</a:t>
            </a:r>
            <a:r>
              <a:rPr b="0" i="1" lang="ru-RU" sz="800" spc="-1" strike="noStrike">
                <a:solidFill>
                  <a:srgbClr val="000000"/>
                </a:solidFill>
                <a:latin typeface="Arial"/>
              </a:rPr>
              <a:t>. (показать пространство слева направо полукруг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уютная и тихая площад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Что вы видите в центре? </a:t>
            </a:r>
            <a:r>
              <a:rPr b="0" i="1" lang="ru-RU" sz="800" spc="-1" strike="noStrike">
                <a:solidFill>
                  <a:srgbClr val="000000"/>
                </a:solidFill>
                <a:latin typeface="Arial"/>
              </a:rPr>
              <a:t>(ответы: Вечный огонь, ступеньки и т.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Да, это так. Но прежде всего мы видим монумент. Как вы думаете, чем отличается памятник от монумента?  </a:t>
            </a:r>
            <a:r>
              <a:rPr b="0" i="1" lang="ru-RU" sz="800" spc="-1" strike="noStrike">
                <a:solidFill>
                  <a:srgbClr val="000000"/>
                </a:solidFill>
                <a:latin typeface="Arial"/>
              </a:rPr>
              <a:t>(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Памятники мы уже сегодня видели. Какие, уточните? </a:t>
            </a:r>
            <a:r>
              <a:rPr b="0" i="1" lang="ru-RU" sz="800" spc="-1" strike="noStrike">
                <a:solidFill>
                  <a:srgbClr val="000000"/>
                </a:solidFill>
                <a:latin typeface="Arial"/>
              </a:rPr>
              <a:t>( Зое, Петрову, танк, медсестре</a:t>
            </a:r>
            <a:r>
              <a:rPr b="0" lang="ru-RU" sz="800" spc="-1" strike="noStrike">
                <a:solidFill>
                  <a:srgbClr val="000000"/>
                </a:solidFill>
                <a:latin typeface="Arial"/>
              </a:rPr>
              <a:t>) Памятник  посвящён одному герою, а перед нами  монумент  -  это большой памятник, воздвигнутый в честь большого количества людей. Посмотрите внимательно, что представляет собой  монумент « Вечная Сла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Огонь, звезда, колон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В</a:t>
            </a:r>
            <a:r>
              <a:rPr b="0" lang="ru-RU" sz="800" spc="-1" strike="noStrike" u="sng">
                <a:solidFill>
                  <a:srgbClr val="000000"/>
                </a:solidFill>
                <a:uFillTx/>
                <a:latin typeface="Arial"/>
              </a:rPr>
              <a:t> </a:t>
            </a:r>
            <a:r>
              <a:rPr b="0" lang="ru-RU" sz="800" spc="-1" strike="noStrike">
                <a:solidFill>
                  <a:srgbClr val="000000"/>
                </a:solidFill>
                <a:latin typeface="Arial"/>
              </a:rPr>
              <a:t> самом центре монумента находится звезда, вылитая из бронзы, в ней горит Вечный огонь. На  четырёх чёрных колоннах  покоится кольцо. Кольцо украшено золотыми веточками. У кольца нет конца, так и у славы нет конца. Четыре колонны означают, что война длилась четыре года. Они чёрные, потому что война несёт гибель людей, разруху, несчастье. На внутренней стороне кольца изображены три изображения «Однополчане»,  «Семья», «Родители», которые скорбят о не пришедших с полей сражений.   На граните по периметру сделана надпись: «Светлой памяти тамбовцев, отдавших жизнь за нашу Родину в Великой Отечественной войне 1941 - 1945 гг. 9 мая 1970 г.». Монумент был открыт в мае 1970 года , в день 25-летия Победы в Великой Отечественной Войне. Монумент Вечной Славы посвящен  тамбовским воинам, сражавшимся за отечество. Памятник был создан тамбовскими скульпторами - С.Е. Лебедевым и К.Я. Малофеевым, а также архитектором А.С. Куликовы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Чтобы дойти до Центра, где мы должны пройти? </a:t>
            </a:r>
            <a:r>
              <a:rPr b="0" i="1" lang="ru-RU" sz="800" spc="-1" strike="noStrike">
                <a:solidFill>
                  <a:srgbClr val="000000"/>
                </a:solidFill>
                <a:latin typeface="Arial"/>
              </a:rPr>
              <a:t>( По дорожк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Это не простые дорожки. Сколько дорожек тянется к  Вечному Огню? </a:t>
            </a:r>
            <a:r>
              <a:rPr b="0" i="1" lang="ru-RU" sz="800" spc="-1" strike="noStrike">
                <a:solidFill>
                  <a:srgbClr val="000000"/>
                </a:solidFill>
                <a:latin typeface="Arial"/>
              </a:rPr>
              <a:t>( Четыр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Давайте подойдём ближе и рассмотрим. </a:t>
            </a:r>
            <a:r>
              <a:rPr b="0" i="1" lang="ru-RU" sz="800" spc="-1" strike="noStrike">
                <a:solidFill>
                  <a:srgbClr val="000000"/>
                </a:solidFill>
                <a:latin typeface="Arial"/>
              </a:rPr>
              <a:t>(дети идут по дорожкам и  рассматривают мемориальные плиты)</a:t>
            </a:r>
            <a:r>
              <a:rPr b="0" lang="ru-RU" sz="800" spc="-1" strike="noStrike">
                <a:solidFill>
                  <a:srgbClr val="000000"/>
                </a:solidFill>
                <a:latin typeface="Arial"/>
              </a:rPr>
              <a:t>. Вы видите плиты, под которыми покоится священная земля, привезённая из городов-героев: Бреста, Сталинграда, Севастополя, Ленинграда, Москвы, Одессы, Киева, Новороссийска, Керчи. Эта земля полита кровью и  наших земляков тож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А теперь подойдём поближе к монументу. Рассмотрите  его  внимательно</a:t>
            </a:r>
            <a:r>
              <a:rPr b="0" i="1" lang="ru-RU" sz="800" spc="-1" strike="noStrike">
                <a:solidFill>
                  <a:srgbClr val="000000"/>
                </a:solidFill>
                <a:latin typeface="Arial"/>
              </a:rPr>
              <a:t>.(  Дети рассматриваю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Вам понравилось , что авторы монумента так чётко  и торжественно изобразили Память людей и Низкий поклон погибшим героям,  как сурово и преданно дожидаются их с войны родители: мать и отец; семья: жена и  дети; однополчане нетерпеливо ждут, когда же их товарищи вернутся из бо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Вечный огонь вырывается из звезды. Он горит всегда. Огонь  привезён из Москвы, от Кремлёвской стены, где на братской могиле тоже горит  священный огонь. Здесь каждый час звучит траурная музыка, всегда живые цвет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На внутренней стороне кольца написано : « Люди, склоните головы перед светлой памятью героев. Они не пожалели жизни  для вашего счастья. Пусть будут   бессмертны их имена!  Они погибли, чтобы жили мы, чтобы вечно жила Отчизна. Они отдали жизнь за счастье и радость людей. Благодарные потомки не забудут их подвига. Память о них переживёт века.   Вечная память погибшим! Спасибо большое за то,  что они смогли защитить на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Объявляется минута молчания! </a:t>
            </a:r>
            <a:r>
              <a:rPr b="0" i="1" lang="ru-RU" sz="800" spc="-1" strike="noStrike">
                <a:solidFill>
                  <a:srgbClr val="000000"/>
                </a:solidFill>
                <a:latin typeface="Arial"/>
              </a:rPr>
              <a:t>( Выдерживается минута молча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ая память… время не властно над ней. И сколько бы лет ни прошло, люди Земли всегда будут помнить День Поб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 Звучит марш «Прощание Славянки». Муз А.Агапкина, нашего земляка, написавшего этот марш в начале 1-ой Мировой вой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 Дети становятся полукругом, поочерёдно читают стих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Мы вас помним, солд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усть известны не все им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войны той жестокой раск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умолкнут во все врем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ашу страданья, испив всю до д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 из жизни ушли молод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в памяти нашей во все врем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станетесь вечно жив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т, время не властно над 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шей скорби ему не уб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моем ваш прах мы слез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ась благодарными бы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ы в бронзе и в камне заст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квозь время, взирая на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 жизнью своей заплат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то, чтоб мы жили сейч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Мы помнить мгновенья войны обеща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головы скорбно склоня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ед всеми, кто мёртв и кто жи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то, подвиг свой ратный сверши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Жить в мире потомкам навек зав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жизнь без раздумья за это отд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Пусть небо будет голуб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усть в небе не клубится д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усть пушки грозные мол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пулеметы не стро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 жили люди, гор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 нужен на земле всег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Нужен мир тебе и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истый воздух на зем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тичий гомон, детский сме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лнце, дождик, белый сне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шь война, лишь вой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планете не ну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Со славной даты 9 Мая 1945 года прошло уже немало времени, но мы помним и знаем имя победителя - « народ», многие сыны и дочери которого отдали свои жизни за великую землю свою. Всего на войну ушло более 400 тысяч человек с Тамбовской Земли, из них не вернулись с полей сражений более 106 тысяч человек, более 44 человек являются кавалерами  полных орденов Сла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ети поют песню «Вечный ого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 А теперь можно возложить цветы к подножию монумента</a:t>
            </a:r>
            <a:r>
              <a:rPr b="0" i="1" lang="ru-RU" sz="1200" spc="-1" strike="noStrike">
                <a:solidFill>
                  <a:srgbClr val="000000"/>
                </a:solidFill>
                <a:latin typeface="Arial"/>
              </a:rPr>
              <a:t>. ( дети возлагают цве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 Ребята, я приглашаю вас к автобусу. </a:t>
            </a:r>
            <a:r>
              <a:rPr b="0" i="1" lang="ru-RU" sz="1200" spc="-1" strike="noStrike">
                <a:solidFill>
                  <a:srgbClr val="000000"/>
                </a:solidFill>
                <a:latin typeface="Arial"/>
              </a:rPr>
              <a:t>( Дети становятся так, чтобы был виден монумент)</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ы с вами заканчиваем нашу экскурсию по памятным  местам нашего города. Вечно горящий Вечный Огонь  нам напоминает о погибших героях, о том, как Тамбовцы сумели храбро и мужественно защитить свою Родину. Я верю, что вы тоже, дорогие мои дети, вырастите хорошими защитниками своей Родины. Если  люди не могут договориться мирно, то начинают нападать друг на друга - стрелять, убивать. А те, на кого нападают, должны защищать Родину. Я думаю, что вы приложите все силы, чтобы обойтись без войны и решить все споры?  Как? Мирно.</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Дополнительные сведения об истории Соборной  площади, где расположен монумен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самая  старая площадь города. За свою историю  она сменила много  наименований :Преображенская, Соборная, Питиримовская, Октябрьская. Она была свидетельницей многих событий, связанных с историей страны, области, города. В далёком 17-ом веке под тревожный звон сигнального колокола на ней собирались защитники крепости, чтобы дать отпор врагу. Именно с этой площади началось строительство города.  Площадь считалась главной в городе и до 1937 года на ней проходили митинги, военные парады и демонстрации. В 50-60 –е  годы нашего века Октябрьская площадь представляла собой  большой цветочный газон с пешеходными дорожками. Большая реконструкция площади произошла весной 1970 года. К 25-летию Победы на площади воздвигли монумент Вечной Славы в память о тех, кто отдал свои  жизни за свободу и независимость Родин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экскурсии в свободное время предложить детям нарисовать картинку на одну из 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мы ходили к памятнику Защитникам Отечества», « Наши защитники», изготовить макеты памятников   или проиллюстрировать стихотворение на соответствующую тему. Рисование можно совместить с чтением художественной литературы. А также предложить детям схематичное изображение маршрута, на котором они разместят условные обозначения памятных мест, которые посетили во время экскур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36865-171B-48CF-B474-1FEA78022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21F17-537C-446D-BA67-6BE3F4F76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7264A-0FAD-48DC-BE0B-8EDF59E17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1294C-617F-422A-AA22-C29FCC7A0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5B522-65BB-4CA3-A75F-864EA4196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7D5BB-2D83-4EE9-A700-D0A9F042C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BF832-A6C1-47FF-B964-33834FD00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47BB8-63F0-4E4D-99C4-565CB62B2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749E0-180E-4E8C-8E51-1382DF86B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C5110-8968-459D-B185-61BAD509F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D4A28-A431-4F8C-B2FC-6FE2ADCA6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B5D60-C061-4133-A484-1B196317F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ABA34-0ED4-4E62-B904-53E634B45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29AE4-2464-48AB-A4C1-11EBDD5F0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9A53B-08A2-4AD0-A155-D878A92B7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7AE72-8D64-4B14-BA67-4FC86DB49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BEC8E-F144-4183-AE4E-4FA8198BF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19960-BE00-478B-B753-BDE421C17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AFD18-111C-4FAC-AE35-310BDB5FB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70390-187C-45F7-92E6-8714D56FE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DE9E-15E6-425F-A4B8-D9CF29898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E8DF-C6E7-4627-8CDF-366890B8B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65AB-42C4-4879-9A31-D344F227B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D5FE-8F19-4F76-A236-4B85AA45F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0CE4-397A-483C-977D-AD103B2D9F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AE88-F87F-4904-B36E-9E9D0BB1B7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5" name="Picture 6" descr="Изображение 454"/>
          <p:cNvPicPr/>
          <p:nvPr/>
        </p:nvPicPr>
        <p:blipFill>
          <a:blip r:embed="rId1"/>
          <a:stretch/>
        </p:blipFill>
        <p:spPr>
          <a:xfrm>
            <a:off x="0" y="0"/>
            <a:ext cx="9144000" cy="6858000"/>
          </a:xfrm>
          <a:prstGeom prst="rect">
            <a:avLst/>
          </a:prstGeom>
          <a:ln w="0">
            <a:noFill/>
          </a:ln>
        </p:spPr>
      </p:pic>
      <p:sp>
        <p:nvSpPr>
          <p:cNvPr id="106" name="WordArt 8"/>
          <p:cNvSpPr txBox="1"/>
          <p:nvPr/>
        </p:nvSpPr>
        <p:spPr>
          <a:xfrm>
            <a:off x="826920" y="836640"/>
            <a:ext cx="74901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икто не забыт, ничто не забыто.</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7" name="Text Box 9"/>
          <p:cNvSpPr/>
          <p:nvPr/>
        </p:nvSpPr>
        <p:spPr>
          <a:xfrm>
            <a:off x="755640" y="2349360"/>
            <a:ext cx="7488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етодическая разработк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к  обзорной экскурсии для старших дошкольников «Памятники город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вящается 66-летию Победы в Великой Отечественной войн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Text Box 10"/>
          <p:cNvSpPr/>
          <p:nvPr/>
        </p:nvSpPr>
        <p:spPr>
          <a:xfrm>
            <a:off x="5219640" y="6237360"/>
            <a:ext cx="392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Автор: Морозова Т.А., Воспитатель        МБДОУ д/с №32 «Ромашка»</a:t>
            </a:r>
            <a:endParaRPr b="0" lang="en-US" sz="1600" spc="-1" strike="noStrike">
              <a:solidFill>
                <a:srgbClr val="ffffff"/>
              </a:solidFill>
              <a:latin typeface="Arial"/>
            </a:endParaRPr>
          </a:p>
        </p:txBody>
      </p:sp>
      <p:sp>
        <p:nvSpPr>
          <p:cNvPr id="109" name=""/>
          <p:cNvSpPr/>
          <p:nvPr/>
        </p:nvSpPr>
        <p:spPr>
          <a:xfrm>
            <a:off x="5940360" y="0"/>
            <a:ext cx="32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Лучше один раз увидет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чем сто раз услышать</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Этапы работы</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ределение проблемы, целей, задач исследовательской деятельности</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ыдвижение гипотезы</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ределение методов (накопление материала, чтение художественной литературы, рассматривание иллюстраций и фото, прослушивание музыкальных произведений, экскурсии)</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дведение итогов и оформление результатов. Презентация.</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ределение перспективных пробле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сновные вопросы:</a:t>
            </a:r>
            <a:endParaRPr b="1" lang="en-US" sz="4400" spc="-1" strike="noStrike">
              <a:solidFill>
                <a:srgbClr val="ffffb7"/>
              </a:solidFill>
              <a:latin typeface="Arial Black"/>
            </a:endParaRPr>
          </a:p>
        </p:txBody>
      </p:sp>
      <p:sp>
        <p:nvSpPr>
          <p:cNvPr id="139" name="PlaceHolder 2"/>
          <p:cNvSpPr>
            <a:spLocks noGrp="1"/>
          </p:cNvSpPr>
          <p:nvPr>
            <p:ph/>
          </p:nvPr>
        </p:nvSpPr>
        <p:spPr>
          <a:xfrm>
            <a:off x="900000" y="1676160"/>
            <a:ext cx="7640640" cy="4422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тупление : тема, порядок маршрута, краткий рассказ о  правилах  поведения и  безопасно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торические сведения о  названии улицы, на которой находится  детский сад. Жизнь и подвиг Д. М. Карбыше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ник любви и милосердия. Медики во время войны.</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ши земляки на фронте. Подвиг юной партизанк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ши земляки в тылу. Почин земляков – помочь фронту личными сбережениям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и павших будем достойны. Мемориал  «Вечный огон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Маршрут экскурсии:</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лица Д. М. Карбышева</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лица Гоголя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вер имени З.Космодемьянской у Казанского монастыря</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совский Сквер перед зданием Тамбовконцерт</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ольская площадь на пересечении  улиц Советской и Московской</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ктябрьская площадь у Спасо – Преображенского собора</a:t>
            </a:r>
            <a:endParaRPr b="0"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93320" cy="6858000"/>
          </a:xfrm>
          <a:prstGeom prst="rect">
            <a:avLst/>
          </a:prstGeom>
          <a:ln w="0">
            <a:noFill/>
          </a:ln>
        </p:spPr>
      </p:pic>
      <p:sp>
        <p:nvSpPr>
          <p:cNvPr id="143" name=""/>
          <p:cNvSpPr/>
          <p:nvPr/>
        </p:nvSpPr>
        <p:spPr>
          <a:xfrm flipH="1">
            <a:off x="6372360" y="5445000"/>
            <a:ext cx="57600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877080" y="5445000"/>
            <a:ext cx="146160" cy="144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145" name=""/>
          <p:cNvSpPr/>
          <p:nvPr/>
        </p:nvSpPr>
        <p:spPr>
          <a:xfrm>
            <a:off x="6372360" y="5445000"/>
            <a:ext cx="144360" cy="144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146" name=""/>
          <p:cNvSpPr/>
          <p:nvPr/>
        </p:nvSpPr>
        <p:spPr>
          <a:xfrm>
            <a:off x="6732720" y="4221000"/>
            <a:ext cx="123840" cy="122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147" name=""/>
          <p:cNvSpPr/>
          <p:nvPr/>
        </p:nvSpPr>
        <p:spPr>
          <a:xfrm>
            <a:off x="5867280" y="3213000"/>
            <a:ext cx="122400" cy="122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sp>
        <p:nvSpPr>
          <p:cNvPr id="148" name=""/>
          <p:cNvSpPr/>
          <p:nvPr/>
        </p:nvSpPr>
        <p:spPr>
          <a:xfrm>
            <a:off x="5435640" y="2997360"/>
            <a:ext cx="122040" cy="1220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p:txBody>
      </p:sp>
      <p:sp>
        <p:nvSpPr>
          <p:cNvPr id="149" name=""/>
          <p:cNvSpPr/>
          <p:nvPr/>
        </p:nvSpPr>
        <p:spPr>
          <a:xfrm>
            <a:off x="5508720" y="2637000"/>
            <a:ext cx="142920" cy="1220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p:txBody>
      </p:sp>
      <p:sp>
        <p:nvSpPr>
          <p:cNvPr id="150" name=""/>
          <p:cNvSpPr/>
          <p:nvPr/>
        </p:nvSpPr>
        <p:spPr>
          <a:xfrm>
            <a:off x="6084720" y="2781360"/>
            <a:ext cx="142920" cy="14436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бъекты показа:</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мятная доска, посвящённая  Герою Советского Союза генералу-лейтенанту Д.М.Карбышеву</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ник «Сестрёнка», посвящённой подвигу героев – медиков в Великой Отечественной войне 1941 – 1945 гг.</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ник Герою Советского Союза  Зое Космодемьянской.</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ник-бюст дважды Герою Советского Союза  В.С.Петрову.</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мориал «Вечная слава», посвящённой подвигу героев , отдавших свои жизни свободу и независимость Родины.</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нумент «Танк «Тамбовский колхозник», посвящённый почину земляков – Тамбовцев помочь фронту.</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Text Box 4"/>
          <p:cNvSpPr/>
          <p:nvPr/>
        </p:nvSpPr>
        <p:spPr>
          <a:xfrm>
            <a:off x="826920" y="1692360"/>
            <a:ext cx="7848720" cy="8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тупление: сообщение темы экскурсии и выяснение правил поведения в вопросно-ответной форм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Picture 5" descr=""/>
          <p:cNvPicPr/>
          <p:nvPr/>
        </p:nvPicPr>
        <p:blipFill>
          <a:blip r:embed="rId1"/>
          <a:stretch/>
        </p:blipFill>
        <p:spPr>
          <a:xfrm>
            <a:off x="0" y="0"/>
            <a:ext cx="9144000" cy="6858000"/>
          </a:xfrm>
          <a:prstGeom prst="rect">
            <a:avLst/>
          </a:prstGeom>
          <a:ln w="0">
            <a:noFill/>
          </a:ln>
        </p:spPr>
      </p:pic>
      <p:sp>
        <p:nvSpPr>
          <p:cNvPr id="155" name="Text Box 8"/>
          <p:cNvSpPr/>
          <p:nvPr/>
        </p:nvSpPr>
        <p:spPr>
          <a:xfrm>
            <a:off x="684360" y="5877000"/>
            <a:ext cx="799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ообщение темы экскурсии и выяснение правил поведения в вопросно-ответной форме.</a:t>
            </a:r>
            <a:endParaRPr b="0" lang="en-US" sz="2000" spc="-1" strike="noStrike">
              <a:solidFill>
                <a:srgbClr val="ffffff"/>
              </a:solidFill>
              <a:latin typeface="Arial"/>
            </a:endParaRPr>
          </a:p>
        </p:txBody>
      </p:sp>
      <p:sp>
        <p:nvSpPr>
          <p:cNvPr id="156" name=""/>
          <p:cNvSpPr/>
          <p:nvPr/>
        </p:nvSpPr>
        <p:spPr>
          <a:xfrm>
            <a:off x="2103480" y="136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682360" y="431172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Вступлени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58" name="Picture 4" descr="Изображение 041"/>
          <p:cNvPicPr/>
          <p:nvPr/>
        </p:nvPicPr>
        <p:blipFill>
          <a:blip r:embed="rId1"/>
          <a:stretch/>
        </p:blipFill>
        <p:spPr>
          <a:xfrm>
            <a:off x="-55440" y="0"/>
            <a:ext cx="9199440" cy="6858000"/>
          </a:xfrm>
          <a:prstGeom prst="rect">
            <a:avLst/>
          </a:prstGeom>
          <a:ln w="0">
            <a:noFill/>
          </a:ln>
        </p:spPr>
      </p:pic>
      <p:sp>
        <p:nvSpPr>
          <p:cNvPr id="159" name="Text Box 5"/>
          <p:cNvSpPr/>
          <p:nvPr/>
        </p:nvSpPr>
        <p:spPr>
          <a:xfrm>
            <a:off x="950760" y="5877000"/>
            <a:ext cx="798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седа о названии улицы  и о человеке, в честь кого названа улица</a:t>
            </a:r>
            <a:endParaRPr b="0" lang="en-US" sz="1800" spc="-1" strike="noStrike">
              <a:solidFill>
                <a:srgbClr val="ffffff"/>
              </a:solidFill>
              <a:latin typeface="Arial"/>
            </a:endParaRPr>
          </a:p>
        </p:txBody>
      </p:sp>
      <p:sp>
        <p:nvSpPr>
          <p:cNvPr id="160" name="Text Box 6"/>
          <p:cNvSpPr/>
          <p:nvPr/>
        </p:nvSpPr>
        <p:spPr>
          <a:xfrm>
            <a:off x="1527120" y="5084640"/>
            <a:ext cx="3981600" cy="75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Улица в честь героя.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1" name="Picture 4" descr="3"/>
          <p:cNvPicPr/>
          <p:nvPr/>
        </p:nvPicPr>
        <p:blipFill>
          <a:blip r:embed="rId1"/>
          <a:stretch/>
        </p:blipFill>
        <p:spPr>
          <a:xfrm>
            <a:off x="0" y="0"/>
            <a:ext cx="9144000" cy="6858000"/>
          </a:xfrm>
          <a:prstGeom prst="rect">
            <a:avLst/>
          </a:prstGeom>
          <a:ln w="0">
            <a:noFill/>
          </a:ln>
        </p:spPr>
      </p:pic>
      <p:sp>
        <p:nvSpPr>
          <p:cNvPr id="162" name="Text Box 5"/>
          <p:cNvSpPr/>
          <p:nvPr/>
        </p:nvSpPr>
        <p:spPr>
          <a:xfrm>
            <a:off x="1403280" y="609300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зор памятника и рассказ о сюжете, реально отображающем эпизод войны. Рассказ ведётся в форме беседы</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63" name="Text Box 6"/>
          <p:cNvSpPr/>
          <p:nvPr/>
        </p:nvSpPr>
        <p:spPr>
          <a:xfrm>
            <a:off x="3492360" y="54936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3. Героям медикам посвящается</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4" name="Picture 4" descr="Картинка 44 из 1239"/>
          <p:cNvPicPr/>
          <p:nvPr/>
        </p:nvPicPr>
        <p:blipFill>
          <a:blip r:embed="rId1"/>
          <a:stretch/>
        </p:blipFill>
        <p:spPr>
          <a:xfrm>
            <a:off x="0" y="0"/>
            <a:ext cx="9144000" cy="6858000"/>
          </a:xfrm>
          <a:prstGeom prst="rect">
            <a:avLst/>
          </a:prstGeom>
          <a:ln w="0">
            <a:noFill/>
          </a:ln>
        </p:spPr>
      </p:pic>
      <p:sp>
        <p:nvSpPr>
          <p:cNvPr id="165" name="Text Box 5"/>
          <p:cNvSpPr/>
          <p:nvPr/>
        </p:nvSpPr>
        <p:spPr>
          <a:xfrm>
            <a:off x="611280" y="6093000"/>
            <a:ext cx="799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мятник профессору медицины В. Ф. Войно-Ясенецкому.</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6" name="Picture 4" descr="4"/>
          <p:cNvPicPr/>
          <p:nvPr/>
        </p:nvPicPr>
        <p:blipFill>
          <a:blip r:embed="rId1"/>
          <a:stretch/>
        </p:blipFill>
        <p:spPr>
          <a:xfrm>
            <a:off x="0" y="0"/>
            <a:ext cx="9144000" cy="6858000"/>
          </a:xfrm>
          <a:prstGeom prst="rect">
            <a:avLst/>
          </a:prstGeom>
          <a:ln w="0">
            <a:noFill/>
          </a:ln>
        </p:spPr>
      </p:pic>
      <p:sp>
        <p:nvSpPr>
          <p:cNvPr id="167" name="Text Box 5"/>
          <p:cNvSpPr/>
          <p:nvPr/>
        </p:nvSpPr>
        <p:spPr>
          <a:xfrm>
            <a:off x="947160" y="5295960"/>
            <a:ext cx="380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000000"/>
                </a:solidFill>
                <a:latin typeface="Arial"/>
              </a:rPr>
              <a:t>4. Наши земляки на фронте.</a:t>
            </a:r>
            <a:endParaRPr b="0" lang="en-US" sz="2000" spc="-1" strike="noStrike">
              <a:solidFill>
                <a:srgbClr val="ffffff"/>
              </a:solidFill>
              <a:latin typeface="Arial"/>
            </a:endParaRPr>
          </a:p>
        </p:txBody>
      </p:sp>
      <p:sp>
        <p:nvSpPr>
          <p:cNvPr id="168" name="Text Box 7"/>
          <p:cNvSpPr/>
          <p:nvPr/>
        </p:nvSpPr>
        <p:spPr>
          <a:xfrm>
            <a:off x="592200" y="5653080"/>
            <a:ext cx="8551800" cy="1373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гическим переходом к подтеме «Наши земляки на фронте» будет беседа о смелых и отважных воинах и вопрос: «Кого вы знаете из наших земляков-Героев Советского Союза?»Тем самым приглашая проехать к памятнику Зои. Показ её портрета. Используется экскурсионная справка, показ и рассказ. Объяснение раскрывает смысл слова «партизан». Рассказ  о Зое краток и  лаконичен, содержит прямую речь. Используется приём ритуала – возложение цветов к памятнику.</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Аннотация</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Патриотическое воспитание – процесс воздействия на детей  с целью осознанного восприятия исторических знаний о лучших традициях русского народа, его героической борьбе, подвигах, знание символов государства, воспитание непримиримости к врагам Родины.</a:t>
            </a:r>
            <a:endParaRPr b="0" lang="en-US" sz="3200" spc="-1" strike="noStrike">
              <a:solidFill>
                <a:srgbClr val="ffffff"/>
              </a:solidFill>
              <a:latin typeface="Arial"/>
            </a:endParaRPr>
          </a:p>
        </p:txBody>
      </p:sp>
      <p:pic>
        <p:nvPicPr>
          <p:cNvPr id="112" name="" descr="Картинка 658 из 52842"/>
          <p:cNvPicPr/>
          <p:nvPr/>
        </p:nvPicPr>
        <p:blipFill>
          <a:blip r:embed="rId1"/>
          <a:stretch/>
        </p:blipFill>
        <p:spPr>
          <a:xfrm>
            <a:off x="0" y="0"/>
            <a:ext cx="9144000" cy="6858000"/>
          </a:xfrm>
          <a:prstGeom prst="rect">
            <a:avLst/>
          </a:prstGeom>
          <a:ln w="0">
            <a:noFill/>
          </a:ln>
        </p:spPr>
      </p:pic>
      <p:sp>
        <p:nvSpPr>
          <p:cNvPr id="113" name=""/>
          <p:cNvSpPr/>
          <p:nvPr/>
        </p:nvSpPr>
        <p:spPr>
          <a:xfrm>
            <a:off x="3780000" y="260280"/>
            <a:ext cx="4968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          </a:t>
            </a:r>
            <a:r>
              <a:rPr b="1" lang="en-US" sz="4400" spc="-1" strike="noStrike">
                <a:solidFill>
                  <a:srgbClr val="ff6600"/>
                </a:solidFill>
                <a:latin typeface="Arial"/>
              </a:rPr>
              <a:t>Аннотация</a:t>
            </a:r>
            <a:endParaRPr b="0" lang="en-US" sz="4400" spc="-1" strike="noStrike">
              <a:solidFill>
                <a:srgbClr val="ffffff"/>
              </a:solidFill>
              <a:latin typeface="Arial"/>
            </a:endParaRPr>
          </a:p>
        </p:txBody>
      </p:sp>
      <p:sp>
        <p:nvSpPr>
          <p:cNvPr id="114" name=""/>
          <p:cNvSpPr/>
          <p:nvPr/>
        </p:nvSpPr>
        <p:spPr>
          <a:xfrm>
            <a:off x="826920" y="2637000"/>
            <a:ext cx="7777440" cy="39042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атриотическое воспитание – процесс воздействия на детей  с целью осознанного восприятия исторических знаний о лучших традициях русского народа, его героической борьбе, подвигах, знание символов государства, воспитание непримиримости к врагам Родины. </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Экскурсия – прекрасный учитель , соблюдающий незыблемое познавательное правило: лучше один раз увидеть, чем сто раз услышать.</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9" name="Picture 4" descr="Памятник дважды герою Советского Союза Петрову В.С."/>
          <p:cNvPicPr/>
          <p:nvPr/>
        </p:nvPicPr>
        <p:blipFill>
          <a:blip r:embed="rId1"/>
          <a:stretch/>
        </p:blipFill>
        <p:spPr>
          <a:xfrm>
            <a:off x="0" y="0"/>
            <a:ext cx="9144000" cy="6858000"/>
          </a:xfrm>
          <a:prstGeom prst="rect">
            <a:avLst/>
          </a:prstGeom>
          <a:ln w="0">
            <a:noFill/>
          </a:ln>
        </p:spPr>
      </p:pic>
      <p:sp>
        <p:nvSpPr>
          <p:cNvPr id="170" name="Text Box 5"/>
          <p:cNvSpPr/>
          <p:nvPr/>
        </p:nvSpPr>
        <p:spPr>
          <a:xfrm>
            <a:off x="468360" y="260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Родился в Тамбове».</a:t>
            </a:r>
            <a:endParaRPr b="0" lang="en-US" sz="2400" spc="-1" strike="noStrike">
              <a:solidFill>
                <a:srgbClr val="ffffff"/>
              </a:solidFill>
              <a:latin typeface="Arial"/>
            </a:endParaRPr>
          </a:p>
        </p:txBody>
      </p:sp>
      <p:sp>
        <p:nvSpPr>
          <p:cNvPr id="171" name="Text Box 6"/>
          <p:cNvSpPr/>
          <p:nvPr/>
        </p:nvSpPr>
        <p:spPr>
          <a:xfrm>
            <a:off x="448920" y="6445080"/>
            <a:ext cx="6485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щё один пример В. С. Петров. Рассказ о  подвигах Геро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72" name="Picture 4" descr="y_cc1204b4"/>
          <p:cNvPicPr/>
          <p:nvPr/>
        </p:nvPicPr>
        <p:blipFill>
          <a:blip r:embed="rId1"/>
          <a:stretch/>
        </p:blipFill>
        <p:spPr>
          <a:xfrm>
            <a:off x="0" y="0"/>
            <a:ext cx="9144000" cy="6858000"/>
          </a:xfrm>
          <a:prstGeom prst="rect">
            <a:avLst/>
          </a:prstGeom>
          <a:ln w="0">
            <a:noFill/>
          </a:ln>
        </p:spPr>
      </p:pic>
      <p:sp>
        <p:nvSpPr>
          <p:cNvPr id="173" name="Text Box 5"/>
          <p:cNvSpPr/>
          <p:nvPr/>
        </p:nvSpPr>
        <p:spPr>
          <a:xfrm>
            <a:off x="250920" y="5373720"/>
            <a:ext cx="8893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Логическим переходом к подтеме «Наши земляки в тылу» будут слова о том, что не все могли пойти на войну, многие остались здесь в «тылу» и помогали победе не только делами, но и личными сбережениями. Используется предварительный осмотр памятника, останавливаясь в начале дорожки, ведущей  к памятнику. Даётся красочный рассказ о подвиге Тамбовцев, активизируется внимание детей вопросом: «Как вы думаете настоящий ли этот танк или нет?». </a:t>
            </a:r>
            <a:endParaRPr b="0" lang="en-US" sz="1600" spc="-1" strike="noStrike">
              <a:solidFill>
                <a:srgbClr val="ffffff"/>
              </a:solidFill>
              <a:latin typeface="Arial"/>
            </a:endParaRPr>
          </a:p>
        </p:txBody>
      </p:sp>
      <p:sp>
        <p:nvSpPr>
          <p:cNvPr id="174" name="Text Box 6"/>
          <p:cNvSpPr/>
          <p:nvPr/>
        </p:nvSpPr>
        <p:spPr>
          <a:xfrm>
            <a:off x="158040" y="109440"/>
            <a:ext cx="3909960" cy="752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6. Наши земляки в тылу.</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75" name="Picture 6" descr=""/>
          <p:cNvPicPr/>
          <p:nvPr/>
        </p:nvPicPr>
        <p:blipFill>
          <a:blip r:embed="rId1"/>
          <a:stretch/>
        </p:blipFill>
        <p:spPr>
          <a:xfrm>
            <a:off x="0" y="0"/>
            <a:ext cx="9144000" cy="6858000"/>
          </a:xfrm>
          <a:prstGeom prst="rect">
            <a:avLst/>
          </a:prstGeom>
          <a:ln w="0">
            <a:noFill/>
          </a:ln>
        </p:spPr>
      </p:pic>
      <p:sp>
        <p:nvSpPr>
          <p:cNvPr id="176" name="Text Box 7"/>
          <p:cNvSpPr/>
          <p:nvPr/>
        </p:nvSpPr>
        <p:spPr>
          <a:xfrm>
            <a:off x="663480" y="4869000"/>
            <a:ext cx="8480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гическим переходом к подтеме « Памяти павших будем достойны» будут слова: «К сожалению, не все солдаты смогли дожить до конца вой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ользуется метод движения и демонстрации объекта, экскурсионного анализа, обращается внимание на детали оформления. Цитирование передаёт настроение людей, находящихся у Вечного Огня. Делается вывод, что Тамбовцы всегда свято берегли свою Родину от врагов и умели её защитит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Text Box 8"/>
          <p:cNvSpPr/>
          <p:nvPr/>
        </p:nvSpPr>
        <p:spPr>
          <a:xfrm>
            <a:off x="611280" y="136440"/>
            <a:ext cx="56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Памяти павших будем достойн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
        <p:nvSpPr>
          <p:cNvPr id="179" name=""/>
          <p:cNvSpPr/>
          <p:nvPr/>
        </p:nvSpPr>
        <p:spPr>
          <a:xfrm>
            <a:off x="684360" y="55897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 наших побед нет срока давности, на них воспитывались и будут воспитываться новые поколения русских , которым откроется возможность вписать свои страницы в историю стран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2895480" y="639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3059280" y="765000"/>
            <a:ext cx="2808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Выводы</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sp>
        <p:nvSpPr>
          <p:cNvPr id="183" name=""/>
          <p:cNvSpPr/>
          <p:nvPr/>
        </p:nvSpPr>
        <p:spPr>
          <a:xfrm>
            <a:off x="447840" y="5516640"/>
            <a:ext cx="8516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экскурсии в свободное время предложить детям нарисовать картинку на одну из тем:</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Как мы ходили к памятнику защитникам Отечества», « Наши защитники», изготовить макеты памятников или проиллюстрировать стихотворение на соответствующую тему. Рисование можно совместить с чтением художественной литературы. А также предложить детям схематичное изображение маршрута, на котором они разместят условные обозначения памятных мест, которые посетили во время экскурс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4" name="Picture 5" descr="018e5e8032038824cc0dcb81d1113717"/>
          <p:cNvPicPr/>
          <p:nvPr/>
        </p:nvPicPr>
        <p:blipFill>
          <a:blip r:embed="rId1"/>
          <a:stretch/>
        </p:blipFill>
        <p:spPr>
          <a:xfrm>
            <a:off x="0" y="0"/>
            <a:ext cx="9144000" cy="6858000"/>
          </a:xfrm>
          <a:prstGeom prst="rect">
            <a:avLst/>
          </a:prstGeom>
          <a:ln w="0">
            <a:noFill/>
          </a:ln>
        </p:spPr>
      </p:pic>
      <p:sp>
        <p:nvSpPr>
          <p:cNvPr id="185" name="Text Box 6"/>
          <p:cNvSpPr/>
          <p:nvPr/>
        </p:nvSpPr>
        <p:spPr>
          <a:xfrm>
            <a:off x="324000" y="5516640"/>
            <a:ext cx="568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Помните, - через века, через год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Помните, - о тех, кто уже не придёт никогд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Памяти павших будьте достой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Вечно достой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WordArt 7"/>
          <p:cNvSpPr txBox="1"/>
          <p:nvPr/>
        </p:nvSpPr>
        <p:spPr>
          <a:xfrm>
            <a:off x="1633680" y="404640"/>
            <a:ext cx="6178320" cy="3549960"/>
          </a:xfrm>
          <a:prstGeom prst="rect">
            <a:avLst/>
          </a:prstGeom>
        </p:spPr>
        <p:txBody>
          <a:bodyPr wrap="none" fromWordArt="1" lIns="90000" rIns="90000" tIns="46800" bIns="46800" anchor="t" anchorCtr="1">
            <a:prstTxWarp prst="textArchUp">
              <a:avLst>
                <a:gd name="adj" fmla="val 110859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СПАСИБО ЗА ВНИМАНИЕ!</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0"/>
            <a:ext cx="9144000" cy="6858000"/>
          </a:xfrm>
          <a:prstGeom prst="rect">
            <a:avLst/>
          </a:prstGeom>
          <a:ln w="0">
            <a:noFill/>
          </a:ln>
        </p:spPr>
      </p:pic>
      <p:sp>
        <p:nvSpPr>
          <p:cNvPr id="116" name="Text Box 5"/>
          <p:cNvSpPr/>
          <p:nvPr/>
        </p:nvSpPr>
        <p:spPr>
          <a:xfrm>
            <a:off x="1743120" y="692280"/>
            <a:ext cx="5848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Актуальность темы:</a:t>
            </a:r>
            <a:endParaRPr b="0" lang="en-US" sz="4800" spc="-1" strike="noStrike">
              <a:solidFill>
                <a:srgbClr val="ffffff"/>
              </a:solidFill>
              <a:latin typeface="Arial"/>
            </a:endParaRPr>
          </a:p>
        </p:txBody>
      </p:sp>
      <p:sp>
        <p:nvSpPr>
          <p:cNvPr id="117" name="Text Box 6"/>
          <p:cNvSpPr/>
          <p:nvPr/>
        </p:nvSpPr>
        <p:spPr>
          <a:xfrm>
            <a:off x="2268360" y="5373720"/>
            <a:ext cx="6551640" cy="17398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В преддверии празднования 66-летия Победы в Великой Отечественной войне 1941-1945 гг.чувство патриотизма, гордости за свою страну воспитывается на примере сопричастности земляков – Тамбовцев к этому историческому событию.</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
          <p:cNvSpPr/>
          <p:nvPr/>
        </p:nvSpPr>
        <p:spPr>
          <a:xfrm>
            <a:off x="2176560" y="2440080"/>
            <a:ext cx="117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2484360" y="692280"/>
            <a:ext cx="395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a:rPr>
              <a:t>Цель экскурсии</a:t>
            </a:r>
            <a:r>
              <a:rPr b="1" lang="en-US" sz="1800" spc="-1" strike="noStrike">
                <a:solidFill>
                  <a:srgbClr val="ffffb7"/>
                </a:solidFill>
                <a:latin typeface="Arial"/>
              </a:rPr>
              <a:t>:</a:t>
            </a:r>
            <a:endParaRPr b="0" lang="en-US" sz="1800" spc="-1" strike="noStrike">
              <a:solidFill>
                <a:srgbClr val="ffffff"/>
              </a:solidFill>
              <a:latin typeface="Arial"/>
            </a:endParaRPr>
          </a:p>
        </p:txBody>
      </p:sp>
      <p:sp>
        <p:nvSpPr>
          <p:cNvPr id="121" name=""/>
          <p:cNvSpPr/>
          <p:nvPr/>
        </p:nvSpPr>
        <p:spPr>
          <a:xfrm>
            <a:off x="145584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1116000" y="4797360"/>
            <a:ext cx="705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обуждать у дет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увства любви к Родине, уважения к героям войны и труженикам тыл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увства гордости за своих земляк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увства сострадания, сопереживания, неравнодушия, которое в будущем перерастёт в содейств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Задачи экскурсии:</a:t>
            </a:r>
            <a:endParaRPr b="1" lang="en-US" sz="4400" spc="-1" strike="noStrike">
              <a:solidFill>
                <a:srgbClr val="ffffb7"/>
              </a:solidFill>
              <a:latin typeface="Arial Black"/>
            </a:endParaRPr>
          </a:p>
        </p:txBody>
      </p:sp>
      <p:sp>
        <p:nvSpPr>
          <p:cNvPr id="124" name="PlaceHolder 2"/>
          <p:cNvSpPr>
            <a:spLocks noGrp="1"/>
          </p:cNvSpPr>
          <p:nvPr>
            <p:ph/>
          </p:nvPr>
        </p:nvSpPr>
        <p:spPr>
          <a:xfrm>
            <a:off x="826560" y="1915920"/>
            <a:ext cx="8007480" cy="4190760"/>
          </a:xfrm>
          <a:prstGeom prst="rect">
            <a:avLst/>
          </a:prstGeom>
          <a:noFill/>
          <a:ln w="0">
            <a:noFill/>
          </a:ln>
        </p:spPr>
        <p:txBody>
          <a:bodyPr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огатить знания детей о Тамбове, о людях, прославивших его в период Великой Отечественной войны.</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сетить с детьми исторические места, связанные с участниками Великой Отечественной войны.</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демонстрировать объекты , обогатив при этом детей определёнными впечатлениями, в основном зрительными.</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мочь детям увидеть уже известное, но открыть при этом что-то новое для себя.</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ратить внимание детей на то, как  современники чтят память героев и сохраняют их.</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звать стремление поддерживать порядок на улицах города.</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оспитывать культуру поведения в общественных местах.</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Интеграция образовательных областей</a:t>
            </a:r>
            <a:endParaRPr b="1" lang="en-US" sz="3200" spc="-1" strike="noStrike">
              <a:solidFill>
                <a:srgbClr val="ffffb7"/>
              </a:solidFill>
              <a:latin typeface="Arial Black"/>
            </a:endParaRPr>
          </a:p>
        </p:txBody>
      </p:sp>
      <p:pic>
        <p:nvPicPr>
          <p:cNvPr id="126" name="Схема 3" descr=""/>
          <p:cNvPicPr/>
          <p:nvPr/>
        </p:nvPicPr>
        <p:blipFill>
          <a:blip r:embed="rId1"/>
          <a:stretch/>
        </p:blipFill>
        <p:spPr>
          <a:xfrm>
            <a:off x="493560" y="1609560"/>
            <a:ext cx="8369280" cy="50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539640" y="5877000"/>
            <a:ext cx="860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теряешь интерес ко всему, то теряешь и память.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Гёт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
          <p:cNvSpPr/>
          <p:nvPr/>
        </p:nvSpPr>
        <p:spPr>
          <a:xfrm>
            <a:off x="539640" y="85680"/>
            <a:ext cx="550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Гипотеза</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Предмет исследования </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628280"/>
            <a:ext cx="8007480" cy="4467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еятельность земляков в годы Великой Отечественной войны</a:t>
            </a:r>
            <a:endParaRPr b="0" lang="en-US" sz="3200" spc="-1" strike="noStrike">
              <a:solidFill>
                <a:srgbClr val="ffffff"/>
              </a:solidFill>
              <a:latin typeface="Arial"/>
            </a:endParaRPr>
          </a:p>
        </p:txBody>
      </p:sp>
      <p:sp>
        <p:nvSpPr>
          <p:cNvPr id="132" name=""/>
          <p:cNvSpPr/>
          <p:nvPr/>
        </p:nvSpPr>
        <p:spPr>
          <a:xfrm>
            <a:off x="900000" y="5229360"/>
            <a:ext cx="64803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амятники города Тамбов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
          <p:cNvSpPr/>
          <p:nvPr/>
        </p:nvSpPr>
        <p:spPr>
          <a:xfrm>
            <a:off x="1288080" y="3992400"/>
            <a:ext cx="6685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бъект исследования</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Ожидаемые результаты         проекта</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Формирование  и развитие чувства гордости за своих земляков: «А ведь Зоя из нашего города!»</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вышение интеллектуального, культурного, физического и нравственного развития детей</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оздание условий для преемственности покол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2:51:39Z</dcterms:created>
  <dc:creator>user</dc:creator>
  <dc:description/>
  <dc:language>en-US</dc:language>
  <cp:lastModifiedBy>user</cp:lastModifiedBy>
  <dcterms:modified xsi:type="dcterms:W3CDTF">2013-03-24T18:36:46Z</dcterms:modified>
  <cp:revision>29</cp:revision>
  <dc:subject/>
  <dc:title>Никто не забыт,  ничто не забыт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