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EA2-804C-4E62-9C94-F0D1F799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E88-6ED8-4DA5-9BF3-281435A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CCC-EC36-4028-B501-C9E7857A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41D-E6CB-4678-8AD1-3E39139A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626-27CD-4494-85E0-D617CBFD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B55-E013-4F09-BC95-4C6689F7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4CF-041E-499E-B7AD-1EA649B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EB9-6399-44E0-AADB-6551B265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10D-A894-4A0A-B47E-4F2BBEA8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311-4A9B-4DD0-8BAF-015D449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8F7-3EF8-4345-9FB1-A160320B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69E-4C52-4EB2-ABE6-52417243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BEC-2C73-47A1-802E-9FBC659A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533520"/>
            <a:ext cx="51814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966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дс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1125360"/>
            <a:ext cx="45720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Измерьте массу тела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чажных в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ределите цену деления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мерительного цилин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мерьте объем вод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индре 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Удерживая тело за н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устите его в воду. Измер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воды вместе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уженным в нее телом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Определите объем тела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Зная массу и объем т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читайте его плотность (     )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317080" y="5229360"/>
                <a:ext cx="304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508720" y="5589720"/>
                <a:ext cx="1800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00360" cy="308592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7:07:47Z</dcterms:created>
  <dc:creator>school</dc:creator>
  <dc:description/>
  <dc:language>en-US</dc:language>
  <cp:lastModifiedBy>Игорь</cp:lastModifiedBy>
  <dcterms:modified xsi:type="dcterms:W3CDTF">2013-03-24T12:37:46Z</dcterms:modified>
  <cp:revision>6</cp:revision>
  <dc:subject/>
  <dc:title>Слайд 1</dc:title>
</cp:coreProperties>
</file>