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8045-E46C-41F5-AE0A-AC7D4A3F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28D-5DB9-43C1-931C-33C22D41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919-550D-4EFD-BA80-F4459351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B49-69B7-4932-948F-655EDE65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541-B09C-4478-9ABA-12A2097E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ECE-68BD-43E4-B2C6-961FEDD2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D09-4B4D-4888-97D1-85635BC2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EC4-305E-4A32-9717-A50F9FF6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956-106E-4B02-BBCC-FAAAD572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DE6-E93E-4E55-9EA5-808CA94C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D93-FE4A-4933-8C96-E0F5A03F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3F0-0EEB-404C-A0D8-CE84E270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BD43-4434-4E93-A69B-17FA768E7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533520"/>
            <a:ext cx="51814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966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одсказ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4720" y="1125360"/>
            <a:ext cx="45720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Измерьте массу тела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 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чажных ве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пределите цену деления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мерительного цилин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Измерьте объем воды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линдре 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Удерживая тело за н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устите его в воду. Измерь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м воды вместе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руженным в нее телом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Определите объем тела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Зная массу и объем т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читайте его плотность (     )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317080" y="5229360"/>
                <a:ext cx="3045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508720" y="5589720"/>
                <a:ext cx="1800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600360" cy="308592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7:07:47Z</dcterms:created>
  <dc:creator>school</dc:creator>
  <dc:description/>
  <dc:language>en-US</dc:language>
  <cp:lastModifiedBy>Игорь</cp:lastModifiedBy>
  <dcterms:modified xsi:type="dcterms:W3CDTF">2013-03-24T12:37:46Z</dcterms:modified>
  <cp:revision>6</cp:revision>
  <dc:subject/>
  <dc:title>Слайд 1</dc:title>
</cp:coreProperties>
</file>