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874-B628-4CCB-A8F1-D72E5A63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95C-D27C-4014-B75D-90CA6F7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5F4-2A35-4EF2-92FA-850B29AE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8B8-F08A-4F5B-859F-1270B748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2E7-C113-447D-B41B-016083E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68F-3624-4216-B883-630F13E4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112-86BE-453E-9061-0C74539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C80-911D-4630-8FB0-0AE5D1C7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F64-0A47-4C24-BABC-22D368E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B3D-3388-4BB4-A707-02F5344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48A-F9B0-48DE-BE0C-A2E2D9A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883-3B5F-4FCB-AABC-00DB963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CFC4-49A1-499E-B516-22C0B06F2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900igr.net/kartinki/chelovek/Pravila-v-lesu.files/001-Pravila-povedenija-v-lesu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900igr.net/kartinki/chelovek/Pravila-v-lesu.files/015-Ne-razorjajte-muravejniki.htm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900igr.net/kartinki/chelovek/Pravila-v-lesu.files/036-Ne-shumite-v-lesu.html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900igr.net/kartinki/chelovek/Pravila-v-lesu.files/041-Ne-ostavljaj-musor-v-lesu.html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9900"/>
                </a:solidFill>
                <a:latin typeface="Arial"/>
              </a:rPr>
              <a:t>Урок математики</a:t>
            </a:r>
            <a:br>
              <a:rPr sz="6600"/>
            </a:br>
            <a:r>
              <a:rPr b="0" i="1" lang="ru-RU" sz="6600" spc="-1" strike="noStrike">
                <a:solidFill>
                  <a:srgbClr val="009900"/>
                </a:solidFill>
                <a:latin typeface="Arial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Cj04404240000[1]"/>
          <p:cNvPicPr/>
          <p:nvPr/>
        </p:nvPicPr>
        <p:blipFill>
          <a:blip r:embed="rId1"/>
          <a:stretch/>
        </p:blipFill>
        <p:spPr>
          <a:xfrm>
            <a:off x="2819520" y="3429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457200" y="60948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    4      3   5       1       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  <a:ea typeface="Arial"/>
              </a:rPr>
              <a:t>9 - 21:3-(16-10)+2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642600" y="2209680"/>
            <a:ext cx="637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   л      о   о      э       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http://im0-tub-ru.yandex.net/i?id=147801291-39-72&amp;n=21"/>
          <p:cNvPicPr/>
          <p:nvPr/>
        </p:nvPicPr>
        <p:blipFill>
          <a:blip r:embed="rId1"/>
          <a:stretch/>
        </p:blipFill>
        <p:spPr>
          <a:xfrm>
            <a:off x="4724280" y="3352680"/>
            <a:ext cx="3886200" cy="2481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91" name="TextBox 6"/>
          <p:cNvSpPr/>
          <p:nvPr/>
        </p:nvSpPr>
        <p:spPr>
          <a:xfrm>
            <a:off x="609480" y="41148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кол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ука об отношениях живых организмов и образуемых ими сообществ между собой и с окружающей средой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60948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28 : 7) + (36 : 9 + 2 ∙ 11) ∙ 2 – 2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09480" y="763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         6               2          4         3              5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85800" y="1143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28 : 7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85800" y="1676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36 : 9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685800" y="2209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2 ∙ 11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685800" y="2743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4 + 22 =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8580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26 ∙ 2 =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685800" y="3809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 4 + 52 =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685800" y="4343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)56 – 20 =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Правила поведения в лес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143000"/>
            <a:ext cx="140796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Не разоряйте муравейни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1143000"/>
            <a:ext cx="1597320" cy="121932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4" name="Picture 6" descr="Не шумите в лес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3276720"/>
            <a:ext cx="1942920" cy="129528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5" name="Picture 7" descr="Не оставляй мусор в лесу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32767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Не забирай из леса домой животных"/>
          <p:cNvPicPr/>
          <p:nvPr/>
        </p:nvPicPr>
        <p:blipFill>
          <a:blip r:embed="rId9"/>
          <a:stretch/>
        </p:blipFill>
        <p:spPr>
          <a:xfrm>
            <a:off x="685800" y="5105520"/>
            <a:ext cx="2133720" cy="142056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7" name="Picture 9" descr="Не портите несъедобные грибы"/>
          <p:cNvPicPr/>
          <p:nvPr/>
        </p:nvPicPr>
        <p:blipFill>
          <a:blip r:embed="rId10"/>
          <a:stretch/>
        </p:blipFill>
        <p:spPr>
          <a:xfrm>
            <a:off x="3733920" y="5105520"/>
            <a:ext cx="2057400" cy="1371600"/>
          </a:xfrm>
          <a:prstGeom prst="rect">
            <a:avLst/>
          </a:prstGeom>
          <a:ln w="9360">
            <a:solidFill>
              <a:srgbClr val="bbbbbb"/>
            </a:solidFill>
            <a:miter/>
          </a:ln>
        </p:spPr>
      </p:pic>
      <p:pic>
        <p:nvPicPr>
          <p:cNvPr id="108" name="Picture 10" descr="Не рвите редкие цветы"/>
          <p:cNvPicPr/>
          <p:nvPr/>
        </p:nvPicPr>
        <p:blipFill>
          <a:blip r:embed="rId11"/>
          <a:stretch/>
        </p:blipFill>
        <p:spPr>
          <a:xfrm>
            <a:off x="6705720" y="5105520"/>
            <a:ext cx="1447560" cy="1387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делай с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305920" cy="121932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ь порядок действ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9 – 16) –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2280" y="2819520"/>
            <a:ext cx="8229600" cy="947160"/>
          </a:xfrm>
          <a:prstGeom prst="rect">
            <a:avLst/>
          </a:prstGeom>
          <a:solidFill>
            <a:srgbClr val="33cccc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ь порядок действий и вычи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9 – 16) – 2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52280" y="4267080"/>
            <a:ext cx="8229600" cy="1373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ь порядок действий и вычисли, придумай подобный 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9 – 16) – 25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      2             1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2 + 9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19 – 16) – 25 = 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23880" y="4343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152280" y="1522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Я сорвал цветок - и он завял. Я поймал жука – и он умер у меня на ладони. И тогда я понял, что прикоснуться к красоте можно только сердце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авел Гвездо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im7-tub-ru.yandex.net/i?id=492058911-37-72&amp;n=21"/>
          <p:cNvPicPr/>
          <p:nvPr/>
        </p:nvPicPr>
        <p:blipFill>
          <a:blip r:embed="rId1"/>
          <a:stretch/>
        </p:blipFill>
        <p:spPr>
          <a:xfrm>
            <a:off x="1676520" y="2743200"/>
            <a:ext cx="5486400" cy="36576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p:transition spd="med">
    <p:wheel spokes="8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торение по теме:</a:t>
            </a:r>
            <a:br>
              <a:rPr sz="4800"/>
            </a:br>
            <a:br>
              <a:rPr sz="20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Порядок действий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 примерах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о скобкам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На уроке нас сегодня ждут великие де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 rot="19827000">
            <a:off x="209520" y="2177640"/>
            <a:ext cx="1479600" cy="1774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 rot="1010400">
            <a:off x="4094280" y="1484280"/>
            <a:ext cx="1638360" cy="1832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 rot="20556600">
            <a:off x="2201760" y="1693440"/>
            <a:ext cx="144792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 rot="1896000">
            <a:off x="5974920" y="1789200"/>
            <a:ext cx="1515960" cy="166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й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 rot="1523400">
            <a:off x="7322760" y="2860560"/>
            <a:ext cx="1295280" cy="1752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1371600" y="3809880"/>
            <a:ext cx="1866960" cy="226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3276720" y="3429000"/>
            <a:ext cx="556920" cy="247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3"/>
          <p:cNvSpPr/>
          <p:nvPr/>
        </p:nvSpPr>
        <p:spPr>
          <a:xfrm rot="5400000">
            <a:off x="6281280" y="4614840"/>
            <a:ext cx="1347840" cy="95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4"/>
          <p:cNvSpPr/>
          <p:nvPr/>
        </p:nvSpPr>
        <p:spPr>
          <a:xfrm>
            <a:off x="5181480" y="3429000"/>
            <a:ext cx="1270080" cy="253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8"/>
          <p:cNvSpPr/>
          <p:nvPr/>
        </p:nvSpPr>
        <p:spPr>
          <a:xfrm>
            <a:off x="3962520" y="3276720"/>
            <a:ext cx="668160" cy="2979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7-36):3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31-28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9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11+7):2= 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19+5):3= 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98-9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88-8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45-5):10=    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819520" y="457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666880" y="1219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590920" y="190512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590920" y="2666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2745360" y="33526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669400" y="41148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669040" y="4800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http://im6-tub-ru.yandex.net/i?id=364339645-60-72&amp;n=21"/>
          <p:cNvPicPr/>
          <p:nvPr/>
        </p:nvPicPr>
        <p:blipFill>
          <a:blip r:embed="rId1"/>
          <a:stretch/>
        </p:blipFill>
        <p:spPr>
          <a:xfrm>
            <a:off x="4648320" y="838080"/>
            <a:ext cx="3943080" cy="2971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64" name="TextBox 10"/>
          <p:cNvSpPr/>
          <p:nvPr/>
        </p:nvSpPr>
        <p:spPr>
          <a:xfrm>
            <a:off x="510552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457200"/>
          <a:ext cx="7920000" cy="1660680"/>
        </p:xfrm>
        <a:graphic>
          <a:graphicData uri="http://schemas.openxmlformats.org/drawingml/2006/table">
            <a:tbl>
              <a:tblPr/>
              <a:tblGrid>
                <a:gridCol w="2585880"/>
                <a:gridCol w="838440"/>
                <a:gridCol w="914400"/>
                <a:gridCol w="914400"/>
                <a:gridCol w="914400"/>
                <a:gridCol w="91440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a2fe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59"/>
          <p:cNvSpPr/>
          <p:nvPr/>
        </p:nvSpPr>
        <p:spPr>
          <a:xfrm>
            <a:off x="3434400" y="1552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0"/>
          <p:cNvSpPr/>
          <p:nvPr/>
        </p:nvSpPr>
        <p:spPr>
          <a:xfrm>
            <a:off x="4343400" y="990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1"/>
          <p:cNvSpPr/>
          <p:nvPr/>
        </p:nvSpPr>
        <p:spPr>
          <a:xfrm>
            <a:off x="5334120" y="4572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6248520" y="99072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3"/>
          <p:cNvSpPr/>
          <p:nvPr/>
        </p:nvSpPr>
        <p:spPr>
          <a:xfrm>
            <a:off x="7010280" y="152388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"/>
          <p:cNvSpPr/>
          <p:nvPr/>
        </p:nvSpPr>
        <p:spPr>
          <a:xfrm>
            <a:off x="8001000" y="457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4" descr="http://im8-tub-ru.yandex.net/i?id=275671661-67-72&amp;n=21"/>
          <p:cNvPicPr/>
          <p:nvPr/>
        </p:nvPicPr>
        <p:blipFill>
          <a:blip r:embed="rId1"/>
          <a:stretch/>
        </p:blipFill>
        <p:spPr>
          <a:xfrm>
            <a:off x="2819520" y="2514600"/>
            <a:ext cx="26668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http://im5-tub-ru.yandex.net/i?id=333939075-36-72&amp;n=21"/>
          <p:cNvPicPr/>
          <p:nvPr/>
        </p:nvPicPr>
        <p:blipFill>
          <a:blip r:embed="rId1"/>
          <a:stretch/>
        </p:blipFill>
        <p:spPr>
          <a:xfrm>
            <a:off x="3962520" y="380880"/>
            <a:ext cx="4800600" cy="32004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74" name="TextBox 5"/>
          <p:cNvSpPr/>
          <p:nvPr/>
        </p:nvSpPr>
        <p:spPr>
          <a:xfrm>
            <a:off x="3429000" y="358128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Arial"/>
              </a:rPr>
              <a:t>бе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380880"/>
            <a:ext cx="35812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 с высоких тёмных сос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бятишек шишку броси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в кусты через пенё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мелькнул, как огонё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6"/>
          <p:cNvSpPr/>
          <p:nvPr/>
        </p:nvSpPr>
        <p:spPr>
          <a:xfrm>
            <a:off x="4114800" y="380880"/>
            <a:ext cx="4267080" cy="2743200"/>
          </a:xfrm>
          <a:prstGeom prst="cloudCallout">
            <a:avLst>
              <a:gd name="adj1" fmla="val -41143"/>
              <a:gd name="adj2" fmla="val 62212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04920" y="380880"/>
            <a:ext cx="2590560" cy="205740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рибов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 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04920" y="2438280"/>
            <a:ext cx="2509560" cy="198144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год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в 2 раза боль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28600" y="4419720"/>
            <a:ext cx="259092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рехов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столько, ск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бов и я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ttp://im0-tub-ru.yandex.net/i?id=270708732-27-72&amp;n=21"/>
          <p:cNvPicPr/>
          <p:nvPr/>
        </p:nvPicPr>
        <p:blipFill>
          <a:blip r:embed="rId1"/>
          <a:stretch/>
        </p:blipFill>
        <p:spPr>
          <a:xfrm>
            <a:off x="3505320" y="3657600"/>
            <a:ext cx="2057400" cy="2911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1"/>
          <p:cNvSpPr/>
          <p:nvPr/>
        </p:nvSpPr>
        <p:spPr>
          <a:xfrm>
            <a:off x="4800600" y="9144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∙ 2 = 56 (шт) – я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+ 56 = 84 (шт) – ор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84 ореха запасла белка на зи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http://im0-tub-ru.yandex.net/i?id=270708732-27-72&amp;n=21"/>
          <p:cNvPicPr/>
          <p:nvPr/>
        </p:nvPicPr>
        <p:blipFill>
          <a:blip r:embed="rId1"/>
          <a:stretch/>
        </p:blipFill>
        <p:spPr>
          <a:xfrm>
            <a:off x="2971800" y="3505320"/>
            <a:ext cx="2057400" cy="2911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/>
          <p:cNvSpPr/>
          <p:nvPr/>
        </p:nvSpPr>
        <p:spPr>
          <a:xfrm>
            <a:off x="3809880" y="152280"/>
            <a:ext cx="4267440" cy="2743200"/>
          </a:xfrm>
          <a:prstGeom prst="cloudCallout">
            <a:avLst>
              <a:gd name="adj1" fmla="val -41143"/>
              <a:gd name="adj2" fmla="val 62212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419720" y="762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7 ∙ 2) + 1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676520" y="769680"/>
            <a:ext cx="60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деревьям вверх без стр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лаз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рху хищнице вид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полакомиться 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ttp://im6-tub-ru.yandex.net/i?id=223704914-46-72&amp;n=21"/>
          <p:cNvPicPr/>
          <p:nvPr/>
        </p:nvPicPr>
        <p:blipFill>
          <a:blip r:embed="rId1"/>
          <a:stretch/>
        </p:blipFill>
        <p:spPr>
          <a:xfrm>
            <a:off x="2133720" y="2590920"/>
            <a:ext cx="4114800" cy="27432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87" name="TextBox 5"/>
          <p:cNvSpPr/>
          <p:nvPr/>
        </p:nvSpPr>
        <p:spPr>
          <a:xfrm>
            <a:off x="1981080" y="54100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росом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8T09:46:0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