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3CE2-C5E3-4D7D-A748-22976636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748-00B0-4888-99DF-72EA61E4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87F-7B59-482C-BB82-26C17685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DDF-BB40-43A5-B07C-FB990B84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1604-4491-4480-BD7B-84C3EEF1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C077-131A-479A-8141-90FDE55F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7292-6EDB-4D8C-8505-6C0C0717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F270-E1C7-4A76-92CB-B200B7BB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2ABD-D640-47FE-989A-5CDCC66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D300-C402-4416-9D92-8A2CA12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EC6B-A85B-4D1F-8056-D17CF00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C3F-543A-4711-A73F-99EE9C0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355C-38D0-49F9-95D3-556A7BF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33DD-C968-4003-B4BE-3E82BD9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83F3-151C-473C-B135-5FEE09FE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71F-0A19-497A-AFD9-0E33C7D3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51EA-135D-448F-BBC0-95D1398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9FE-69A7-4BE1-827D-924893C9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DA2-0998-4B7C-8BA6-45028FA5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EAA-A756-4820-AE2A-09F975A0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7C9-9956-461D-AA9B-A652B5C5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1D1-6B33-486C-BC6A-58A5EC1A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298-57BE-4A0A-8177-4C097D3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DBE-2433-4CD6-A869-77B504D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4C51-FF27-448A-9C25-7465775AC37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AEA-3560-4264-9A28-35FABD49601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Постройки</a:t>
            </a:r>
            <a:br>
              <a:rPr sz="8800"/>
            </a:b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в нашей жизни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098960" cy="5410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316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7960" y="1181160"/>
            <a:ext cx="8128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97160" y="1041480"/>
            <a:ext cx="6349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42920" y="814320"/>
            <a:ext cx="7058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22032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238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4771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7816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2:37:49Z</dcterms:created>
  <dc:creator>Светлана</dc:creator>
  <dc:description/>
  <dc:language>en-US</dc:language>
  <cp:lastModifiedBy>Светлана</cp:lastModifiedBy>
  <dcterms:modified xsi:type="dcterms:W3CDTF">2013-03-24T15:58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