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38E-AFC6-4E74-A156-F70C0F8C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A97-FEFB-48BF-A70A-5376DC21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AEE-1742-4DDC-8906-129DC43F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937-C78A-4778-8C19-F0BC9B35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9C2E-C493-4CC2-B52C-89ABFDD5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22F-7C1E-4656-B929-C6424867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D21B-0108-486E-81EF-70CEAAC4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E265-F494-46B8-8A47-0727362E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C021-A8AC-4EB5-B305-72691B64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EDDB-9E8D-4344-814B-49EFEB4C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9DE0-CBCC-4BB5-9B49-90527B8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5B8-5555-486D-8618-E43F2A6C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6DA0-DDFD-4C54-B2D8-D1673069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153F-4A38-4623-8C90-AC9110CB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3BDF-0130-4594-9415-606285D1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1701-22B0-43CD-9C7A-FB730F0B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DE4-DE39-4E85-BAC5-82B65B64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B65-549E-4E94-88B8-00999E51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05F-E215-4F46-9A16-283E74E6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9D0-855E-4BE3-A96B-E0ED7C68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41A-A05F-4467-9A6D-27B093C3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3CD-C03B-43E5-83EA-116501B0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99E-7ED8-4B36-9640-141EA063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1A0-3D95-475C-80B3-7755F97D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D49D-3A2D-4D86-8593-26065CEBA88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A61D-F6FA-4F23-BB8A-A1618EF1DEA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Постройки</a:t>
            </a:r>
            <a:br>
              <a:rPr sz="8800"/>
            </a:b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в нашей жизни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098960" cy="5410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316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7960" y="1181160"/>
            <a:ext cx="8128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97160" y="1041480"/>
            <a:ext cx="63496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42920" y="814320"/>
            <a:ext cx="7058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220320" cy="61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238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4771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0866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7816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2:37:49Z</dcterms:created>
  <dc:creator>Светлана</dc:creator>
  <dc:description/>
  <dc:language>en-US</dc:language>
  <cp:lastModifiedBy>Светлана</cp:lastModifiedBy>
  <dcterms:modified xsi:type="dcterms:W3CDTF">2013-03-24T15:58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