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D28-0428-4272-8D0C-CE49B9E5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311D-93AA-4800-91D7-FC565F2A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D03-BC8C-41DC-AB28-32049363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23F-04D3-4068-A89D-629C16BA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24C7-87B1-41AE-9CA6-5E5861AC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2E84-1A5F-46B4-8182-CFF53001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44F9-95A7-481E-8683-5192A944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461A-CF21-4931-9465-D7FCC964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A973-4B2E-49BA-85EA-7DCAC9A0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5E84-70B6-4EFF-B641-C5AA3338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A05C-2D28-4016-B448-E639B150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147-A9B8-4A00-9499-A413D3C0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FE66-BE16-4BE6-B40A-213DE6AB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1283-60B2-473E-AA89-0CF20F5C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C324-38CA-4EBA-8F79-3FCC89BC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BDB8-0A1E-4093-87D5-E7333175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D7B2-301A-4AF0-B0D0-E2603790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4B9-E7A3-41E5-8F31-CCCE2EB6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E96-0A36-4B8C-AAEF-04B225AC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BCF-AB2F-442C-A805-8B0F83DF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F3A-0E4C-4809-BF05-6A2B760D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89A-5A5B-4CDE-BEB9-B78654C3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52F-9B29-4A21-8815-B5A9CF48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2D1-39E4-4664-8C8E-62B1092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E830-5D4C-40CA-9E2F-80AE323BDB0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A7E3-227C-4074-84E3-B36B45C03DB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85840" y="581040"/>
            <a:ext cx="85723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пеще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7405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реснутый магаз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9343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щу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3760" y="2057400"/>
            <a:ext cx="335268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 в форме яйц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4160" y="609480"/>
            <a:ext cx="48607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улит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21036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еревёрнутый д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83892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корз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ракуш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 - летающая тарел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кораб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котел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86040" y="1599840"/>
            <a:ext cx="335268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адающий д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временная земля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00200" y="1479600"/>
            <a:ext cx="5943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роя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яг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7624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гриб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2288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лавный д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овеч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4771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автомоби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0357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828720" y="-838080"/>
            <a:ext cx="10801440" cy="85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туал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70572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 из пузырьк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7732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Зем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ботин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81120" y="2209320"/>
            <a:ext cx="35053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онкий д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1668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2:37:49Z</dcterms:created>
  <dc:creator>Светлана</dc:creator>
  <dc:description/>
  <dc:language>en-US</dc:language>
  <cp:lastModifiedBy>Светлана</cp:lastModifiedBy>
  <dcterms:modified xsi:type="dcterms:W3CDTF">2013-03-24T16:00:0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