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720-20FE-4801-ADFF-9A1FDF29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1B4-543E-4AA7-A20C-A5A542C3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41A-CD72-46D9-BEE3-5EF70090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C72-1E17-4FEE-9C01-2E63C72F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C035-F721-4E18-921D-43CD3A3A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83F8-5EA9-40A9-AB6E-F2B17E0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D510-81FF-4549-8125-C346FDD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1649-EDE3-493B-B299-720B987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2E78-1157-4A07-8A5A-7A006CEC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4247-ECBA-4542-BAAC-FC594C3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2A28-7B57-43E6-8FC2-A0AE19A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A69-9735-4996-BC43-7F08D1E5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F27-CBBA-45E8-A047-641E1A0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8D15-5900-48E6-BBB5-69D8405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5850-59F7-4BD0-8110-3C7AABC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213-2377-47C2-87E6-F39EE665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55FB-6CF6-4D29-BE2B-0D631E7A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D9C-9CE2-4CB4-9117-7E966A69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AC6-0AE2-4B80-AD03-D2F7F4EA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965-47D9-4026-B6C4-28B276DD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3F3-B9D2-47D8-B7C6-8DBBF431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AD1-B445-4EEE-8C2B-3FB5AB2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666-EE6B-452E-877E-0E0BB2DE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CC5-EB87-4A41-952E-08D858D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72DC-07E6-4035-A623-5A773E39702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C7BF-679E-4C9E-8A55-7B1796E9A60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85840" y="581040"/>
            <a:ext cx="8572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пеще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405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снутый магаз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9343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щ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3760" y="2057400"/>
            <a:ext cx="335268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 в форме яй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4160" y="609480"/>
            <a:ext cx="48607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ули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103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еревёрнуты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389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корз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ракуш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 - летающая тарел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кораб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96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котел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86040" y="1599840"/>
            <a:ext cx="335268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дающи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временная земля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1479600"/>
            <a:ext cx="5943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роя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яг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7624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гриб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228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вны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овеч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4771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автомоби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35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828720" y="-838080"/>
            <a:ext cx="10801440" cy="85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туал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0572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 из пузырь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7732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Зем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-боти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181120" y="2209320"/>
            <a:ext cx="35053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онкий 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166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2:37:49Z</dcterms:created>
  <dc:creator>Светлана</dc:creator>
  <dc:description/>
  <dc:language>en-US</dc:language>
  <cp:lastModifiedBy>Светлана</cp:lastModifiedBy>
  <dcterms:modified xsi:type="dcterms:W3CDTF">2013-03-24T16:00:0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