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D70D-4C58-4C72-AFA2-B18AD13277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6E35-50CC-4861-8F9C-0CB4B005A4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B2A-7255-4506-9737-AB62B8F8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48B-FDFF-4362-8F67-8895D4BB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E27-5A79-49C0-91E0-F5A134A4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CB0-D5A3-4DEB-96A7-5053E387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B71-7954-4D98-8A3D-4ADBD97A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A7F-EBB0-48AE-8D87-F6CA19B7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147-A911-4CB6-A3B5-40880F14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BCC-DBCE-4B79-B5E9-552D29D2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8B6-7A3E-499D-921E-A52A9A86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C01-6866-4C9A-8A3B-967EBA31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C35-2EB8-462C-AF92-DCD31CE4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EA3-F6EC-41EA-B88C-6FE73CFF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DF7A-2316-4D75-90C5-857819E6BF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СОШ №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фера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ма: «Становление оперного жанр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Ученица 9 «б»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вакумова Дар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: Щеголихина Е.П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.Озёрс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12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4ab3f4"/>
            </a:gs>
            <a:gs pos="100000">
              <a:srgbClr val="0000a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920" y="4571640"/>
            <a:ext cx="8540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80808"/>
                </a:solidFill>
                <a:latin typeface="Arial"/>
              </a:rPr>
              <a:t>Рок-опера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 (англ. </a:t>
            </a:r>
            <a:r>
              <a:rPr b="0" i="1" lang="ru-RU" sz="2000" spc="-1" strike="noStrike">
                <a:solidFill>
                  <a:srgbClr val="080808"/>
                </a:solidFill>
                <a:latin typeface="Arial"/>
              </a:rPr>
              <a:t>rock opera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) — это опера в </a:t>
            </a:r>
            <a:r>
              <a:rPr b="0" lang="ru-RU" sz="2000" spc="-1" strike="noStrike">
                <a:solidFill>
                  <a:srgbClr val="000052"/>
                </a:solidFill>
                <a:latin typeface="Arial"/>
              </a:rPr>
              <a:t>жанре </a:t>
            </a:r>
            <a:r>
              <a:rPr b="0" i="1" lang="ru-RU" sz="2000" spc="-1" strike="noStrike">
                <a:solidFill>
                  <a:srgbClr val="000052"/>
                </a:solidFill>
                <a:latin typeface="Arial"/>
              </a:rPr>
              <a:t>рок-музыки</a:t>
            </a:r>
            <a:r>
              <a:rPr b="0" lang="ru-RU" sz="2000" spc="-1" strike="noStrike">
                <a:solidFill>
                  <a:srgbClr val="000052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Рок-оперы представляют собой музыкально-сценические произведения, где в ариях, исполняемых множеством вокалистов по ролям, раскрывается сюжет оперы. При этом по музыке арии написаны в стиле рок, на сцене могут вместе с солистами присутствовать гитаристы и прочие рок-музыкан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                                                                  </a:t>
            </a:r>
            <a:r>
              <a:rPr b="0" lang="ru-RU" sz="1400" spc="-1" strike="noStrike">
                <a:solidFill>
                  <a:srgbClr val="080808"/>
                </a:solidFill>
                <a:latin typeface="Arial"/>
              </a:rPr>
              <a:t>Юнона и Авось -Я тебя никогда не забуд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ya_tebya_nikogda_ne_zabudu.mp3" descr=""/>
          <p:cNvPicPr/>
          <p:nvPr/>
        </p:nvPicPr>
        <p:blipFill>
          <a:blip r:embed="rId1"/>
          <a:stretch/>
        </p:blipFill>
        <p:spPr>
          <a:xfrm>
            <a:off x="45720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www.sar.rodgor.ru/art_images/53/TASS_699240_1.JPG"/>
          <p:cNvPicPr/>
          <p:nvPr/>
        </p:nvPicPr>
        <p:blipFill>
          <a:blip r:embed="rId2"/>
          <a:stretch/>
        </p:blipFill>
        <p:spPr>
          <a:xfrm>
            <a:off x="1066680" y="152280"/>
            <a:ext cx="6248520" cy="4419720"/>
          </a:xfrm>
          <a:prstGeom prst="rect">
            <a:avLst/>
          </a:prstGeom>
          <a:ln w="0">
            <a:noFill/>
          </a:ln>
          <a:effectLst>
            <a:outerShdw dist="1193942" dir="21539877" blurRad="0" rotWithShape="0">
              <a:srgbClr val="000000">
                <a:alpha val="4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4706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4776"/>
            </a:gs>
            <a:gs pos="50000">
              <a:srgbClr val="3399ff"/>
            </a:gs>
            <a:gs pos="100000">
              <a:srgbClr val="1847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Arial"/>
              </a:rPr>
              <a:t>Зарождение оперы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4419360"/>
            <a:ext cx="8540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оперы во Франции — стране, где танец традиционно преобладал над пением, пошло по несколько иному пути. Французская опера раннего барокко, представленная прежде всего так называемыми лирическими трагедиями любимого композитора Людови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Ж. Б. Люлли, — это относительно короткий спектакль на героический или мифологический сюжет. В такой опере пять актов, и она непременно включает торжественные сцены с хорами и балетом, не имеющие прямого отношения к сюжету и призванные отразить величие коро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фотографии изабражен  тетр Гранд-Опе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5" descr="grand_opera_1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3124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828800" y="3049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онятие жанра оп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28600" y="4419720"/>
            <a:ext cx="8686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ера  -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пера (лат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er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— труды, изделия, произведения) — жанр музыкально-драматического искусства, в котором содержание воплощается средствами музыкальной драматургии, главным образом посредством вокальной музы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здателями  этого  нового  жанра  были  поэты  и музыканты,  преклонявшиеся  перед   античным   искусством   и   стремившиеся возродить древнегреческую трагедию. Но хотя в  своих  музыкально-сценических операх  они  использовали  сюжеты  из  древнегреческой  мифологии,  они   не возродили трагедию, а создали совсем новый вид искусства — опер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0" descr="7"/>
          <p:cNvPicPr/>
          <p:nvPr/>
        </p:nvPicPr>
        <p:blipFill>
          <a:blip r:embed="rId1"/>
          <a:stretch/>
        </p:blipFill>
        <p:spPr>
          <a:xfrm>
            <a:off x="3048120" y="914400"/>
            <a:ext cx="261936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2d5ad7"/>
            </a:gs>
            <a:gs pos="100000">
              <a:srgbClr val="ffff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257480" y="533520"/>
            <a:ext cx="6629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50876" dir="14584340" blurRad="0" rotWithShape="0">
              <a:srgbClr val="000000">
                <a:alpha val="6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523880" y="7621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99ff"/>
                </a:solidFill>
                <a:latin typeface="Arial"/>
              </a:rPr>
              <a:t>Строение жанра оперы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1523880" y="16765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52280" y="2438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ольные номера (</a:t>
            </a: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арии, монологи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590920" y="2438280"/>
            <a:ext cx="2133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ансамб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дуэты, терцеты, квартеты и т.д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 flipH="1">
            <a:off x="3581280" y="1676520"/>
            <a:ext cx="1526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5181480" y="167652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4952880" y="2438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хоровые эпиз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6705720" y="1676520"/>
            <a:ext cx="4572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6858000" y="24382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Оркестровые номера (</a:t>
            </a: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увертюра, интермеццо, пролог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13"/>
          <p:cNvSpPr/>
          <p:nvPr/>
        </p:nvSpPr>
        <p:spPr>
          <a:xfrm>
            <a:off x="914400" y="4648320"/>
            <a:ext cx="640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Arial"/>
              </a:rPr>
              <a:t>3.</a:t>
            </a:r>
            <a:r>
              <a:rPr b="1" lang="ru-RU" sz="1100" spc="-1" strike="noStrike">
                <a:solidFill>
                  <a:srgbClr val="262626"/>
                </a:solidFill>
                <a:latin typeface="Arial"/>
              </a:rPr>
              <a:t>Ансамбль имени А.В.Александрова - Хор "Славься" из оперы "Иван Сусанин"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17"/>
          <p:cNvSpPr/>
          <p:nvPr/>
        </p:nvSpPr>
        <p:spPr>
          <a:xfrm>
            <a:off x="914400" y="502920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52"/>
                </a:solidFill>
                <a:latin typeface="Arial"/>
              </a:rPr>
              <a:t>4.Глинка – Увертюра к опере ''Руслан и Людмила''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Глинка_-_Увертюра_к_опере_''Русла..._-_(mp3poisk.ru).mp3" descr=""/>
          <p:cNvPicPr/>
          <p:nvPr/>
        </p:nvPicPr>
        <p:blipFill>
          <a:blip r:embed="rId1"/>
          <a:stretch/>
        </p:blipFill>
        <p:spPr>
          <a:xfrm>
            <a:off x="533520" y="50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Ансамбль имени А.В.Александрова - Хор Славься из оперы Иван Сусанин.mp3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0"/>
          <p:cNvSpPr/>
          <p:nvPr/>
        </p:nvSpPr>
        <p:spPr>
          <a:xfrm>
            <a:off x="914400" y="4267080"/>
            <a:ext cx="6477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Arial"/>
              </a:rPr>
              <a:t>2.</a:t>
            </a:r>
            <a:r>
              <a:rPr b="1" lang="ru-RU" sz="1100" spc="-1" strike="noStrike">
                <a:solidFill>
                  <a:srgbClr val="262626"/>
                </a:solidFill>
                <a:latin typeface="Arial"/>
              </a:rPr>
              <a:t>Ансамбль девушек – Чайковский, Опера "Евгений Онегин", Девицы-красавиц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Ансамбль-девушек---Чайковский-Опера-Евгений-Онегин-Девицы-красавицы--(mp3-sait.info).mp3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2"/>
          <p:cNvSpPr/>
          <p:nvPr/>
        </p:nvSpPr>
        <p:spPr>
          <a:xfrm>
            <a:off x="914400" y="380988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26"/>
                </a:solidFill>
                <a:latin typeface="Arial"/>
              </a:rPr>
              <a:t>1.Анна Нетребко оперная певица, сопрано.</a:t>
            </a:r>
            <a:r>
              <a:rPr b="0" lang="ru-RU" sz="1200" spc="-1" strike="noStrike">
                <a:solidFill>
                  <a:srgbClr val="262626"/>
                </a:solidFill>
                <a:latin typeface="Arial"/>
              </a:rPr>
              <a:t> – Ария оперной д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Анна-Нетребко--оперная-певица-сопрано---Ария-оперной-дивы-(mp3-sait.info).mp3" descr=""/>
          <p:cNvPicPr/>
          <p:nvPr/>
        </p:nvPicPr>
        <p:blipFill>
          <a:blip r:embed="rId4"/>
          <a:stretch/>
        </p:blipFill>
        <p:spPr>
          <a:xfrm>
            <a:off x="53352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231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21963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450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8064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Развитие жанра на протяжении веков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иль возник в Италии и был связан с развитием в конц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ка национального оперного искусства и вокальной школы. Выразительные средства бельканто формировались на основе фонетических особенностей итальянского языка и традиций народного исполнитель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фотографии изображен оперный театр в Италии Ла Ска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album_0212123214_5002"/>
          <p:cNvPicPr/>
          <p:nvPr/>
        </p:nvPicPr>
        <p:blipFill>
          <a:blip r:embed="rId1"/>
          <a:stretch/>
        </p:blipFill>
        <p:spPr>
          <a:xfrm>
            <a:off x="304920" y="1295280"/>
            <a:ext cx="8076960" cy="3581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1680" y="4572000"/>
            <a:ext cx="854064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2"/>
                </a:solidFill>
                <a:latin typeface="Arial"/>
              </a:rPr>
              <a:t>Бельканто (итал. </a:t>
            </a:r>
            <a:r>
              <a:rPr b="0" lang="en-US" sz="2000" spc="-1" strike="noStrike">
                <a:solidFill>
                  <a:srgbClr val="000052"/>
                </a:solidFill>
                <a:latin typeface="Arial"/>
              </a:rPr>
              <a:t>bel canto</a:t>
            </a:r>
            <a:r>
              <a:rPr b="0" lang="ru-RU" sz="2000" spc="-1" strike="noStrike">
                <a:solidFill>
                  <a:srgbClr val="000052"/>
                </a:solidFill>
                <a:latin typeface="Arial"/>
              </a:rPr>
              <a:t> — «красивое пение») — техника виртуозного пения, которая характеризуется плавностью перехода от звука к звуку, непринуждённым звукоизвлечением, красивой и насыщенной окраской звука, выровненностью голоса во всех регистрах, лёгкостью звуковедения, которая сохраняется в технически подвижных и изощрённых местах мелодического рисунка. В бельканто голос — это инструмент пев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VABS9755"/>
          <p:cNvPicPr/>
          <p:nvPr/>
        </p:nvPicPr>
        <p:blipFill>
          <a:blip r:embed="rId2"/>
          <a:stretch/>
        </p:blipFill>
        <p:spPr>
          <a:xfrm>
            <a:off x="2743200" y="304920"/>
            <a:ext cx="3319560" cy="3924360"/>
          </a:xfrm>
          <a:prstGeom prst="rect">
            <a:avLst/>
          </a:prstGeom>
          <a:ln w="0">
            <a:noFill/>
          </a:ln>
          <a:effectLst>
            <a:outerShdw dist="127098" dir="18782928" blurRad="0" rotWithShape="0">
              <a:srgbClr val="000000">
                <a:alpha val="44000"/>
              </a:srgbClr>
            </a:outerShdw>
          </a:effectLst>
        </p:spPr>
      </p:pic>
      <p:pic>
        <p:nvPicPr>
          <p:cNvPr id="78" name="Анна-Нетребко--оперная-певица-сопрано---Ария-оперной-дивы-(mp3-sait.info).mp3" descr=""/>
          <p:cNvPicPr/>
          <p:nvPr/>
        </p:nvPicPr>
        <p:blipFill>
          <a:blip r:embed="rId3"/>
          <a:stretch/>
        </p:blipFill>
        <p:spPr>
          <a:xfrm>
            <a:off x="4038480" y="6477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4191120" y="647712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26"/>
                </a:solidFill>
                <a:latin typeface="Arial"/>
              </a:rPr>
              <a:t>Анна Нетребко оперная певица, сопрано.</a:t>
            </a:r>
            <a:r>
              <a:rPr b="0" lang="ru-RU" sz="1200" spc="-1" strike="noStrike">
                <a:solidFill>
                  <a:srgbClr val="262626"/>
                </a:solidFill>
                <a:latin typeface="Arial"/>
              </a:rPr>
              <a:t> – Ария оперной д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8064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ab3f4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1680" y="4190760"/>
            <a:ext cx="85406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Музыка опер-сериа организована согласно устойчивому набору правил: драматическое действие разворачивается в речитативах, тогда как эмоции персонажей выражаются посредством арий. На протяжении большей части 18 в. композитор в опере не был ведущей фигурой.                               Создателями большинства оперных спектаклей были музыканты и поэты, состоявшие на службе в театрах; они широко использовали чужую музыку и непременно учитывали требования ведущих певцов-солистов, прежде всего кастратов и сопрано, чье бельканто служило главной приманкой для публ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http://dic.academic.ru/pictures/wiki/files/67/CW-Gluck-Joseph-Siffred_Duplessis1.jpg"/>
          <p:cNvPicPr/>
          <p:nvPr/>
        </p:nvPicPr>
        <p:blipFill>
          <a:blip r:embed="rId1"/>
          <a:stretch/>
        </p:blipFill>
        <p:spPr>
          <a:xfrm>
            <a:off x="2773440" y="228600"/>
            <a:ext cx="3597120" cy="377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82" name="Прямоугольник 3"/>
          <p:cNvSpPr/>
          <p:nvPr/>
        </p:nvSpPr>
        <p:spPr>
          <a:xfrm>
            <a:off x="426708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фотографии изображен Пьетро  Метастазио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4ff"/>
            </a:gs>
            <a:gs pos="100000">
              <a:srgbClr val="2d5ad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1680" y="4495680"/>
            <a:ext cx="854064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есколько позднее новый вызов условностям оперы-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сериа был брошен со стороны «низких» форм музыкальной культуры. Параллельно «серьезной» опере существовали и развивались такие незатейливые, простонародные жанры, как опера-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буффа (в Италии), комическая опера  ,или комедия с ариеттами (во Франции), балладная опера (в Англии), зингшпиль (в Германии)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http://www.orange-books.net/blog/wp-content/uploads/2010/11/opera_na_italjanskom_jazike.jpg"/>
          <p:cNvPicPr/>
          <p:nvPr/>
        </p:nvPicPr>
        <p:blipFill>
          <a:blip r:embed="rId1"/>
          <a:stretch/>
        </p:blipFill>
        <p:spPr>
          <a:xfrm>
            <a:off x="2362320" y="228600"/>
            <a:ext cx="3962160" cy="4095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pic>
        <p:nvPicPr>
          <p:cNvPr id="85" name="В.А.Моцарт_-_Увертюра_из_оперы_-_Свадьба_Фигаро.mp3" descr=""/>
          <p:cNvPicPr/>
          <p:nvPr/>
        </p:nvPicPr>
        <p:blipFill>
          <a:blip r:embed="rId2"/>
          <a:stretch/>
        </p:blipFill>
        <p:spPr>
          <a:xfrm>
            <a:off x="3733920" y="6400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4114800" y="6400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.А.Моцарт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Увертюра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з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перы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вадьба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Фигар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5992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28600" y="4419720"/>
            <a:ext cx="8540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романтизме -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от стиль в скором времени стал в музыкальном искусстве уже 2-й четверти века основополагающим. Его представляли Роберт Шуман и Карл Мариа Вебер, Джоаккино Россини и Джузеппе Верди, Гектор Берлиоз и Фредерик Шопен, Александр Верстовский, Михаил Глинка, молодой Александр Даргомыжский... Поздний романтизм (3-я четверть века) наступил с осмыслением действительности без прекрасных, но эфемерных иллюзий. Это время "романтических битв" и формирования стилистики  реализ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Жорж Бизе (Кармен) - У любви, как у пташки крыль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238880" cy="3733560"/>
          </a:xfrm>
          <a:prstGeom prst="rect">
            <a:avLst/>
          </a:prstGeom>
          <a:ln w="0">
            <a:noFill/>
          </a:ln>
          <a:effectLst>
            <a:outerShdw dist="279254" dir="7079135" blurRad="0" rotWithShape="0">
              <a:srgbClr val="000000">
                <a:alpha val="44000"/>
              </a:srgbClr>
            </a:outerShdw>
          </a:effectLst>
        </p:spPr>
      </p:pic>
      <p:pic>
        <p:nvPicPr>
          <p:cNvPr id="89" name="Жорж Бизе (Кармен) - У любви, как у пташки крылья.mp3" descr=""/>
          <p:cNvPicPr/>
          <p:nvPr/>
        </p:nvPicPr>
        <p:blipFill>
          <a:blip r:embed="rId3"/>
          <a:stretch/>
        </p:blipFill>
        <p:spPr>
          <a:xfrm>
            <a:off x="4343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2516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sha</cp:lastModifiedBy>
  <dcterms:modified xsi:type="dcterms:W3CDTF">2012-06-08T02:13:5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