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9.gif" ContentType="image/gif"/>
  <Override PartName="/ppt/media/image15.gif" ContentType="image/gif"/>
  <Override PartName="/ppt/media/image14.png" ContentType="image/png"/>
  <Override PartName="/ppt/media/image21.gif" ContentType="image/gif"/>
  <Override PartName="/ppt/media/type.wav" ContentType="audio/x-wav"/>
  <Override PartName="/ppt/media/drumroll.wav" ContentType="audio/x-wav"/>
  <Override PartName="/ppt/media/image11.png" ContentType="image/png"/>
  <Override PartName="/ppt/media/coin.wav" ContentType="audio/x-wav"/>
  <Override PartName="/ppt/media/image5.gif" ContentType="image/gif"/>
  <Override PartName="/ppt/media/image8.png" ContentType="image/png"/>
  <Override PartName="/ppt/media/image17.gif" ContentType="image/gif"/>
  <Override PartName="/ppt/media/camera.wav" ContentType="audio/x-wav"/>
  <Override PartName="/ppt/media/wind.wav" ContentType="audio/x-wav"/>
  <Override PartName="/ppt/media/image6.gif" ContentType="image/gif"/>
  <Override PartName="/ppt/media/chimes.wav" ContentType="audio/x-wav"/>
  <Override PartName="/ppt/media/image16.png" ContentType="image/png"/>
  <Override PartName="/ppt/media/laser.wav" ContentType="audio/x-wav"/>
  <Override PartName="/ppt/media/image24.png" ContentType="image/png"/>
  <Override PartName="/ppt/media/suction.wav" ContentType="audio/x-wav"/>
  <Override PartName="/ppt/media/image25.png" ContentType="image/png"/>
  <Override PartName="/ppt/media/image7.gif" ContentType="image/gif"/>
  <Override PartName="/ppt/media/applause.wav" ContentType="audio/x-wav"/>
  <Override PartName="/ppt/media/click.wav" ContentType="audio/x-wav"/>
  <Override PartName="/ppt/media/image13.jpeg" ContentType="image/jpeg"/>
  <Override PartName="/ppt/media/image20.gif" ContentType="image/gif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cashreg.wav" ContentType="audio/x-wav"/>
  <Override PartName="/ppt/media/image4.png" ContentType="image/png"/>
  <Override PartName="/ppt/media/image12.jpeg" ContentType="image/jpeg"/>
  <Override PartName="/ppt/media/image3.png" ContentType="image/png"/>
  <Override PartName="/ppt/media/image18.wmf" ContentType="image/x-wmf"/>
  <Override PartName="/ppt/media/image2.jpeg" ContentType="image/jpeg"/>
  <Override PartName="/ppt/media/image23.png" ContentType="image/png"/>
  <Override PartName="/ppt/media/pu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BC3-50EA-46CB-A43E-823945FD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BA1-AA77-4AD0-A5FE-461AE589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A4B-3560-4AB3-8B04-E524FF0A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7AB-C400-467E-A6F8-1F954B47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E97-5329-430B-9E2E-456A587E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62C-A967-4B3D-BBB8-AA127C18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E96-02BC-4EC3-A5F9-2781189A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A9E-A8BD-4A18-9EE3-41C21EDB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031-2CE7-4A23-AF81-D29EB41C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2F8-B69E-4370-A189-05F06389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0DD-B260-4ED0-96F8-92326B32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5E8-9FBA-42D9-9803-0106B90B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2AFC-2CE7-4381-96DF-3434F0D41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0.gif"/><Relationship Id="rId5" Type="http://schemas.openxmlformats.org/officeDocument/2006/relationships/image" Target="../media/image23.png"/><Relationship Id="rId6" Type="http://schemas.openxmlformats.org/officeDocument/2006/relationships/audio" Target="../media/cashreg.wav"/><Relationship Id="rId7" Type="http://schemas.openxmlformats.org/officeDocument/2006/relationships/audio" Target="../media/suction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0.gif"/><Relationship Id="rId4" Type="http://schemas.openxmlformats.org/officeDocument/2006/relationships/image" Target="../media/image24.png"/><Relationship Id="rId5" Type="http://schemas.openxmlformats.org/officeDocument/2006/relationships/audio" Target="../media/camera.wav"/><Relationship Id="rId6" Type="http://schemas.openxmlformats.org/officeDocument/2006/relationships/audio" Target="../media/suction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5.gif"/><Relationship Id="rId4" Type="http://schemas.openxmlformats.org/officeDocument/2006/relationships/hyperlink" Target="&#1043;&#1080;&#1087;&#1077;&#1088;&#1089;&#1089;&#1099;&#1083;&#1082;&#1080; &#1082; &#1087;&#1088;&#1077;&#1079;&#1077;&#1085;&#1090;&#1072;&#1094;&#1080;&#1080;\&#1055;&#1088;&#1080;&#1084;&#1077;&#1095;&#1072;&#1085;&#1080;&#1077; &#1082; &#1076;&#1086;&#1084;&#1072;&#1096;&#1085;&#1077;&#1084;&#1091; &#1086;&#1087;&#1099;&#1090;&#1091;.ppt" TargetMode="External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coi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oin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hyperlink" Target="&#1055;&#1088;&#1086;&#1074;&#1077;&#1088;&#1100;%20&#1089;&#1077;&#1073;&#1103;.ppt" TargetMode="External"/><Relationship Id="rId6" Type="http://schemas.openxmlformats.org/officeDocument/2006/relationships/hyperlink" Target="&#1043;&#1080;&#1087;&#1077;&#1088;&#1089;&#1089;&#1099;&#1083;&#1082;&#1080; &#1082; &#1087;&#1088;&#1077;&#1079;&#1077;&#1085;&#1090;&#1072;&#1094;&#1080;&#1080;\&#1055;&#1088;&#1086;&#1074;&#1077;&#1088;&#1100; &#1089;&#1077;&#1073;&#1103;.ppt" TargetMode="External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image" Target="../media/image7.gif"/><Relationship Id="rId5" Type="http://schemas.openxmlformats.org/officeDocument/2006/relationships/hyperlink" Target="&#1043;&#1080;&#1087;&#1077;&#1088;&#1089;&#1089;&#1099;&#1083;&#1082;&#1080; &#1082; &#1087;&#1088;&#1077;&#1079;&#1077;&#1085;&#1090;&#1072;&#1094;&#1080;&#1080;\&#1042;&#1072;&#1078;&#1085;&#1072;&#1103; &#1080;&#1085;&#1092;&#1086;&#1088;&#1084;&#1072;&#1094;&#1080;&#1103;.ppt" TargetMode="External"/><Relationship Id="rId6" Type="http://schemas.openxmlformats.org/officeDocument/2006/relationships/hyperlink" Target="&#1042;&#1072;&#1078;&#1085;&#1072;&#1103; &#1080;&#1085;&#1092;&#1086;&#1088;&#1084;&#1072;&#1094;&#1080;&#1103;.ppt" TargetMode="External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gif"/><Relationship Id="rId4" Type="http://schemas.openxmlformats.org/officeDocument/2006/relationships/hyperlink" Target="&#1055;&#1086;&#1076;&#1089;&#1082;&#1072;&#1079;&#1082;&#1072;.ppt" TargetMode="External"/><Relationship Id="rId5" Type="http://schemas.openxmlformats.org/officeDocument/2006/relationships/hyperlink" Target="&#1043;&#1080;&#1087;&#1077;&#1088;&#1089;&#1089;&#1099;&#1083;&#1082;&#1080;%20&#1082;%20&#1087;&#1088;&#1077;&#1079;&#1077;&#1085;&#1090;&#1072;&#1094;&#1080;&#1080;%5C&#1055;&#1086;&#1076;&#1089;&#1082;&#1072;&#1079;&#1082;&#1072;.ppt" TargetMode="Externa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drumroll.wav"/><Relationship Id="rId12" Type="http://schemas.openxmlformats.org/officeDocument/2006/relationships/audio" Target="../media/push.wav"/><Relationship Id="rId13" Type="http://schemas.openxmlformats.org/officeDocument/2006/relationships/audio" Target="../media/chimes.wav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wind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suction.wav"/><Relationship Id="rId11" Type="http://schemas.openxmlformats.org/officeDocument/2006/relationships/audio" Target="../media/suction.wav"/><Relationship Id="rId12" Type="http://schemas.openxmlformats.org/officeDocument/2006/relationships/audio" Target="../media/suction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1752480"/>
            <a:ext cx="8305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Плотность  вещества</a:t>
            </a:r>
            <a:endParaRPr b="0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010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Знаешь ли т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990720"/>
            <a:ext cx="3657600" cy="5181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Чему равна 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емной ко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ная кора состоит из сл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щества различающихся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т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ие значения пло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емной коры и Земли в ц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авляют, соответствен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0 и 5520 кг/м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1523880"/>
            <a:ext cx="4876920" cy="5257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andara"/>
              </a:rPr>
              <a:t>Как определить свежесть яиц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ежесть куриных яиц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ть по их сре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т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длительном  хран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сть жидкости  испа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рез поры  в яичной скорлуп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мещается  возду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том же объеме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плотность уменьш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оно становится легч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ежее яйцо тонет в во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несвежее всплыва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533160" cy="600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295280" y="228600"/>
            <a:ext cx="81936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990720" y="4221000"/>
            <a:ext cx="20802600" cy="1655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5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7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9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1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1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1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710"/>
                            </p:stCondLst>
                            <p:childTnLst>
                              <p:par>
                                <p:cTn id="8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9" dur="1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0" dur="1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679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000"/>
                            </p:stCondLst>
                            <p:childTnLst>
                              <p:par>
                                <p:cTn id="8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000"/>
                            </p:stCondLst>
                            <p:childTnLst>
                              <p:par>
                                <p:cTn id="9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9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77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7" dur="77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9" dur="77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1" dur="77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18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18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18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34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1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1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000"/>
                            </p:stCondLst>
                            <p:childTnLst>
                              <p:par>
                                <p:cTn id="9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1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4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4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4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8000"/>
                            </p:stCondLst>
                            <p:childTnLst>
                              <p:par>
                                <p:cTn id="9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14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4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14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4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4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770"/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9" dur="770" fill="hold"/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1" dur="770" fill="hold"/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3" dur="770" fill="hold"/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Знаешь ли т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Плотность янтар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                   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близка к плотности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             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Это  приводит к тому, что янтар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десятилетиями может находиться в   мо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как бы во взвешенном  состоянии, не давя на д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                      </a:t>
            </a: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и не  истираясь о пес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533520" cy="60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819000" cy="571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rot="20988600">
            <a:off x="0" y="990720"/>
            <a:ext cx="5105520" cy="3259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Знаменитый гре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врач Гиппократ отмеч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в своих сочинениях, что дожд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вода легче всякой другой в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Удивительно, что древние гре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отличали дождевую воду по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пло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даже от колодезной и пользов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ею для определения меры емкости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309600">
            <a:off x="4876560" y="1447920"/>
            <a:ext cx="4038480" cy="3733560"/>
          </a:xfrm>
          <a:prstGeom prst="rect">
            <a:avLst/>
          </a:prstGeom>
          <a:gradFill rotWithShape="0">
            <a:gsLst>
              <a:gs pos="0">
                <a:srgbClr val="00dfdf"/>
              </a:gs>
              <a:gs pos="50000">
                <a:srgbClr val="66ffcc">
                  <a:alpha val="98039"/>
                </a:srgbClr>
              </a:gs>
              <a:gs pos="100000">
                <a:srgbClr val="00dfdf"/>
              </a:gs>
            </a:gsLst>
            <a:lin ang="5088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Италии вблизи Неаполя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менитая «собачья» пещ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ее нижней части непреры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ется углекислый га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тность которого в 1,5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ше плотности воздуха.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лется понизу и медл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одит из пеще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беспрепятств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войти в пещеру, для 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 такая прогулка кон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чаль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-360" y="4267080"/>
            <a:ext cx="1981080" cy="18288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5105520"/>
            <a:ext cx="1905120" cy="144756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553080"/>
            <a:ext cx="76201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038120" y="3809880"/>
            <a:ext cx="685800" cy="60984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9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1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3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6324480" y="1371600"/>
            <a:ext cx="2667240" cy="3000240"/>
            <a:chOff x="6324480" y="1371600"/>
            <a:chExt cx="2667240" cy="300024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6324480" y="1371600"/>
              <a:ext cx="2667240" cy="3000240"/>
            </a:xfrm>
            <a:prstGeom prst="rect">
              <a:avLst/>
            </a:prstGeom>
            <a:ln w="38160">
              <a:solidFill>
                <a:srgbClr val="ff6600"/>
              </a:solidFill>
              <a:miter/>
            </a:ln>
          </p:spPr>
        </p:pic>
        <p:sp>
          <p:nvSpPr>
            <p:cNvPr id="163" name=""/>
            <p:cNvSpPr txBox="1"/>
            <p:nvPr/>
          </p:nvSpPr>
          <p:spPr>
            <a:xfrm>
              <a:off x="6324480" y="1371600"/>
              <a:ext cx="2667240" cy="3000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rot="20953200">
            <a:off x="6553080" y="1676160"/>
            <a:ext cx="1524240" cy="98892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705720" y="1523880"/>
            <a:ext cx="1143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?  Плот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тела  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6248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Ученый с мировым именем Иннокенти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думал  способ 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бъема и плотности своего тела</a:t>
            </a:r>
            <a:r>
              <a:rPr b="1" lang="ru-RU" sz="1800" spc="-1" strike="noStrike">
                <a:solidFill>
                  <a:srgbClr val="000000"/>
                </a:solidFill>
                <a:latin typeface="comic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99"/>
                </a:solidFill>
                <a:latin typeface="comic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Comic Sans MS"/>
              </a:rPr>
              <a:t>Воспользуйтесь его методом  и определите объем и плотность своего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mic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Измерьте длину  </a:t>
            </a:r>
            <a:r>
              <a:rPr b="1" i="1" lang="ru-RU" sz="1600" spc="-1" strike="noStrike">
                <a:solidFill>
                  <a:srgbClr val="000000"/>
                </a:solidFill>
                <a:latin typeface="comic"/>
              </a:rPr>
              <a:t>а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и ширину </a:t>
            </a:r>
            <a:r>
              <a:rPr b="1" i="1" lang="ru-RU" sz="1600" spc="-1" strike="noStrike">
                <a:solidFill>
                  <a:srgbClr val="000000"/>
                </a:solidFill>
                <a:latin typeface="comic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ванны в своей кварти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2. Налейте в ванну теплой воды и отметьте карандашом 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уров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3. Погрузитесь в воду и отметьте ее новый уровень. Измерь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высоту подъема воды  </a:t>
            </a:r>
            <a:r>
              <a:rPr b="1" i="1" lang="ru-RU" sz="1600" spc="-1" strike="noStrike">
                <a:solidFill>
                  <a:srgbClr val="000000"/>
                </a:solidFill>
                <a:latin typeface="comic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4. Найдите объем вытесненной воды, а следовательно, и объ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своего тела ( без учета объема головы ), по формуле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comic"/>
              </a:rPr>
              <a:t>V = </a:t>
            </a:r>
            <a:r>
              <a:rPr b="1" i="1" lang="ru-RU" sz="1600" spc="-1" strike="noStrike">
                <a:solidFill>
                  <a:srgbClr val="000000"/>
                </a:solidFill>
                <a:latin typeface="comic"/>
              </a:rPr>
              <a:t>а </a:t>
            </a:r>
            <a:r>
              <a:rPr b="1" i="1" lang="ru-RU" sz="1600" spc="-1" strike="noStrike" baseline="30000">
                <a:solidFill>
                  <a:srgbClr val="000000"/>
                </a:solidFill>
                <a:latin typeface="comic"/>
              </a:rPr>
              <a:t>.</a:t>
            </a:r>
            <a:r>
              <a:rPr b="1" i="1" lang="ru-RU" sz="1600" spc="-1" strike="noStrike">
                <a:solidFill>
                  <a:srgbClr val="000000"/>
                </a:solidFill>
                <a:latin typeface="comic"/>
              </a:rPr>
              <a:t> в </a:t>
            </a:r>
            <a:r>
              <a:rPr b="1" i="1" lang="ru-RU" sz="1600" spc="-1" strike="noStrike" baseline="30000">
                <a:solidFill>
                  <a:srgbClr val="000000"/>
                </a:solidFill>
                <a:latin typeface="comic"/>
              </a:rPr>
              <a:t>.</a:t>
            </a:r>
            <a:r>
              <a:rPr b="1" i="1" lang="ru-RU" sz="1600" spc="-1" strike="noStrike">
                <a:solidFill>
                  <a:srgbClr val="000000"/>
                </a:solidFill>
                <a:latin typeface="comic"/>
              </a:rPr>
              <a:t>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5. Измерьте массу своего тела с помощью медицинских в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omic"/>
              </a:rPr>
              <a:t>6. Найдите плотность своего тела по 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"/>
              </a:rPr>
              <a:t>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"/>
              </a:rPr>
              <a:t>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                                                                                </a:t>
            </a: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 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" spc="-1" strike="noStrike">
                <a:solidFill>
                  <a:srgbClr val="000000"/>
                </a:solidFill>
                <a:latin typeface="comic"/>
              </a:rPr>
              <a:t>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000000"/>
                </a:solidFill>
                <a:latin typeface="comic"/>
              </a:rPr>
              <a:t>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                    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omic"/>
              </a:rPr>
              <a:t>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52480" y="1522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о м а ш н и й   о п ы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286000" y="5334120"/>
                <a:ext cx="990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8001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629400" y="5791320"/>
            <a:ext cx="679320" cy="3538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356960" y="5715000"/>
            <a:ext cx="1573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римеч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77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7" dur="77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9" dur="77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1" dur="77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1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3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5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Желаю Вам успехов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в изучении темы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«Плотность вещества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4141440"/>
            <a:ext cx="1752840" cy="15904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1746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4648320"/>
            <a:ext cx="107928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4724280"/>
            <a:ext cx="1295280" cy="1190880"/>
          </a:xfrm>
          <a:prstGeom prst="flowChartMagneticDrum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2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38880" y="4724280"/>
            <a:ext cx="1295640" cy="1190880"/>
          </a:xfrm>
          <a:prstGeom prst="flowChartMagneticDrum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4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09680" y="228600"/>
            <a:ext cx="51818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кое  бывает 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17220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447920"/>
            <a:ext cx="3124440" cy="1828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Тела разного объ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име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при э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одинаков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447920"/>
            <a:ext cx="3048120" cy="182880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а одинакового объ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е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657600"/>
            <a:ext cx="5105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м встречались такие те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едите при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8880" y="6324480"/>
            <a:ext cx="66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Подумайте, чем можно объяснить такую разницу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673800">
            <a:off x="990360" y="456840"/>
            <a:ext cx="1023840" cy="792000"/>
          </a:xfrm>
          <a:custGeom>
            <a:avLst/>
            <a:gdLst>
              <a:gd name="textAreaLeft" fmla="*/ 137160 w 1023840"/>
              <a:gd name="textAreaRight" fmla="*/ 886680 w 10238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926200">
            <a:off x="7772400" y="380520"/>
            <a:ext cx="863640" cy="86220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0840 h 862200"/>
              <a:gd name="textAreaBottom" fmla="*/ 625320 h 8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4038840" cy="30099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00600" y="3048120"/>
            <a:ext cx="4038480" cy="30099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57" name=""/>
          <p:cNvSpPr txBox="1"/>
          <p:nvPr/>
        </p:nvSpPr>
        <p:spPr>
          <a:xfrm>
            <a:off x="1905120" y="533520"/>
            <a:ext cx="5790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ассуждаем   . .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828800"/>
            <a:ext cx="8610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мотрите внимательно рисунки и сравните массы и плотности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781680" y="6324480"/>
            <a:ext cx="679680" cy="354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82880" y="60958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.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88200" y="60958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.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5"/>
          </p:cNvPr>
          <p:cNvSpPr/>
          <p:nvPr/>
        </p:nvSpPr>
        <p:spPr>
          <a:xfrm>
            <a:off x="7373880" y="63244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роверь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905120" y="380880"/>
            <a:ext cx="586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тность   веще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528720" cy="200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00600" y="3886200"/>
            <a:ext cx="43434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Что это значи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Плотность льда рав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900 кг/м</a:t>
            </a:r>
            <a:r>
              <a:rPr b="1" lang="en-US" sz="2400" spc="-1" strike="noStrike" baseline="30000">
                <a:solidFill>
                  <a:srgbClr val="cc33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; 0,9 г/см</a:t>
            </a:r>
            <a:r>
              <a:rPr b="1" lang="en-US" sz="24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0880" y="4114800"/>
                <a:ext cx="160020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= 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57200" y="5638680"/>
                <a:ext cx="1819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ρ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286000" y="5638680"/>
                <a:ext cx="1062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f>
                      <m:num>
                        <m:r>
                          <m:t xml:space="preserve">г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562720" y="6248520"/>
            <a:ext cx="679320" cy="353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1008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12952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Плотность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показ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чему  равна масса  вещества в  единице  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( в 1 м</a:t>
            </a:r>
            <a:r>
              <a:rPr b="1" lang="en-US" sz="2400" spc="-1" strike="noStrike" baseline="30000">
                <a:solidFill>
                  <a:srgbClr val="80008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или  в 1 см</a:t>
            </a:r>
            <a:r>
              <a:rPr b="1" lang="en-US" sz="2400" spc="-1" strike="noStrike" baseline="30000">
                <a:solidFill>
                  <a:srgbClr val="80008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4114800"/>
            <a:ext cx="1905120" cy="53352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4952880"/>
            <a:ext cx="1905120" cy="762120"/>
          </a:xfrm>
          <a:prstGeom prst="rect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8120" y="4876920"/>
                <a:ext cx="1143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43200" y="4114800"/>
                <a:ext cx="1600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 flipV="1">
            <a:off x="2133720" y="44193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5105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03680" y="6248520"/>
            <a:ext cx="24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Важная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" y="2743200"/>
                <a:ext cx="40384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лотность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асс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объе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100"/>
                            </p:stCondLst>
                            <p:childTnLst>
                              <p:par>
                                <p:cTn id="1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6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46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1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76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96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7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5410080" cy="4307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6840" y="23320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2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76320"/>
            <a:ext cx="2743200" cy="2819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33520" y="304920"/>
                <a:ext cx="16002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= 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00400" y="914400"/>
            <a:ext cx="1295280" cy="3049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ч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5486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762120"/>
            <a:ext cx="5335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267080" y="106668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362320"/>
            <a:ext cx="304560" cy="14475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3581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629400" y="3581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61722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4114800"/>
            <a:ext cx="3809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 с  помощью имею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орудования   опред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тность  вещества, 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тор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готовлен  цилиндр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1828800"/>
            <a:ext cx="43434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entury Gothic"/>
              </a:rPr>
              <a:t>Придумайте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7200" y="1752480"/>
                <a:ext cx="1828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ρ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г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6248520"/>
            <a:ext cx="679320" cy="353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52880" y="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бы определить пло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щества, из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готовлено тело, на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ссу тела  разд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его объ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6248520"/>
            <a:ext cx="2743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дсказка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6324480"/>
            <a:ext cx="23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елайте    опыт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86200" y="44956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8880" y="2286000"/>
            <a:ext cx="5200920" cy="4140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4078440" y="5181480"/>
            <a:ext cx="599760" cy="102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590920" y="3733920"/>
            <a:ext cx="14619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вещество в различных агрегатных состояния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имеет различную плотность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i="1" lang="ru-RU" sz="1600" spc="-1" strike="noStrike">
                <a:solidFill>
                  <a:srgbClr val="cc3300"/>
                </a:solidFill>
                <a:latin typeface="Comic Sans MS"/>
              </a:rPr>
              <a:t>Например:  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плотность льда – 900  кг/м</a:t>
            </a:r>
            <a:r>
              <a:rPr b="1" i="1" lang="ru-RU" sz="1600" spc="-1" strike="noStrike" baseline="30000">
                <a:solidFill>
                  <a:srgbClr val="660033"/>
                </a:solidFill>
                <a:latin typeface="Comic Sans MS"/>
              </a:rPr>
              <a:t>3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воды – 1000 кг/м</a:t>
            </a:r>
            <a:r>
              <a:rPr b="1" i="1" lang="ru-RU" sz="1600" spc="-1" strike="noStrike" baseline="30000">
                <a:solidFill>
                  <a:srgbClr val="660033"/>
                </a:solidFill>
                <a:latin typeface="Comic Sans MS"/>
              </a:rPr>
              <a:t>3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; водяного пара (при 0 </a:t>
            </a:r>
            <a:r>
              <a:rPr b="1" i="1" lang="ru-RU" sz="1600" spc="-1" strike="noStrike" baseline="30000">
                <a:solidFill>
                  <a:srgbClr val="660033"/>
                </a:solidFill>
                <a:latin typeface="Comic Sans MS"/>
              </a:rPr>
              <a:t>о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С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нормальном атмосферном давлении)  - 0,59 кг/м</a:t>
            </a:r>
            <a:r>
              <a:rPr b="1" i="1" lang="ru-RU" sz="1600" spc="-1" strike="noStrike" baseline="30000">
                <a:solidFill>
                  <a:srgbClr val="660033"/>
                </a:solidFill>
                <a:latin typeface="Comic Sans MS"/>
              </a:rPr>
              <a:t>3</a:t>
            </a:r>
            <a:r>
              <a:rPr b="1" i="1" lang="ru-RU" sz="1600" spc="-1" strike="noStrike">
                <a:solidFill>
                  <a:srgbClr val="660033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                     </a:t>
            </a:r>
            <a:r>
              <a:rPr b="1" i="1" lang="ru-RU" sz="1800" spc="-1" strike="noStrike" u="sng">
                <a:solidFill>
                  <a:srgbClr val="0033cc"/>
                </a:solidFill>
                <a:uFillTx/>
                <a:latin typeface="Comic Sans MS"/>
              </a:rPr>
              <a:t>Твердое тело.</a:t>
            </a: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Атомы прочно связаны друг с другом и оч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плотно упакованы. Поэтому вещество, находящее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в твердом  состоянии, имеет достаточно больш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плот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</a:t>
            </a:r>
            <a:r>
              <a:rPr b="1" i="1" lang="ru-RU" sz="1800" spc="-1" strike="noStrike" u="sng">
                <a:solidFill>
                  <a:srgbClr val="0033cc"/>
                </a:solidFill>
                <a:uFillTx/>
                <a:latin typeface="Comic Sans MS"/>
              </a:rPr>
              <a:t>Жидкость</a:t>
            </a:r>
            <a:r>
              <a:rPr b="1" i="1" lang="ru-RU" sz="2400" spc="-1" strike="noStrike" u="sng">
                <a:solidFill>
                  <a:srgbClr val="0033cc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Плотность упаковки атомов и молекул по–прежн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высока. Поэтому плотность вещества не очень силь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отличается  от плотности в твердом состоя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Comic Sans MS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Comic Sans MS"/>
              </a:rPr>
              <a:t>                        </a:t>
            </a:r>
            <a:r>
              <a:rPr b="1" i="1" lang="ru-RU" sz="1800" spc="-1" strike="noStrike" u="sng">
                <a:solidFill>
                  <a:srgbClr val="0033cc"/>
                </a:solidFill>
                <a:uFillTx/>
                <a:latin typeface="Comic Sans MS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Молекулы имеют очень слабую связь друг с другом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удаляются друг от друга на большое расстояние. Плотность упаковки оч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низкая, соответственно, вещество в таком состоянии и обладает небольш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00"/>
                </a:solidFill>
                <a:latin typeface="Comic Sans MS"/>
              </a:rPr>
              <a:t>плотн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62320" y="152280"/>
            <a:ext cx="4724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Оказывается..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0" r="12094" b="0"/>
          <a:stretch/>
        </p:blipFill>
        <p:spPr>
          <a:xfrm>
            <a:off x="200160" y="76320"/>
            <a:ext cx="1095120" cy="175248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219720" y="1752480"/>
            <a:ext cx="2754360" cy="350532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p:transition spd="slow"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1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1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1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1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1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760"/>
                            </p:stCondLst>
                            <p:childTnLst>
                              <p:par>
                                <p:cTn id="3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26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8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171360" y="4200480"/>
            <a:ext cx="13201560" cy="1050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828800" y="0"/>
            <a:ext cx="6019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Подумай  и  ответь   :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16765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308240" cy="1901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47920" y="1843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опрос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409840"/>
            <a:ext cx="456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 кого больше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-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 первоклассника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ли десятиклассник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18432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опрос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2409840"/>
            <a:ext cx="43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а тел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равновешены на ве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отность какого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их  мен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857840" y="5410080"/>
            <a:ext cx="11525040" cy="9172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500"/>
                            </p:stCondLst>
                            <p:childTnLst>
                              <p:par>
                                <p:cTn id="5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000"/>
                            </p:stCondLst>
                            <p:childTnLst>
                              <p:par>
                                <p:cTn id="5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7800"/>
                            </p:stCondLst>
                            <p:childTnLst>
                              <p:par>
                                <p:cTn id="5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500"/>
                            </p:stCondLst>
                            <p:childTnLst>
                              <p:par>
                                <p:cTn id="5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14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00"/>
                            </p:stCondLst>
                            <p:childTnLst>
                              <p:par>
                                <p:cTn id="5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750"/>
                            </p:stCondLst>
                            <p:childTnLst>
                              <p:par>
                                <p:cTn id="5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550"/>
                            </p:stCondLst>
                            <p:childTnLst>
                              <p:par>
                                <p:cTn id="5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057400" y="152280"/>
            <a:ext cx="5410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Реши   задачи 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4495680"/>
            <a:ext cx="2222640" cy="2016360"/>
          </a:xfrm>
          <a:prstGeom prst="cube">
            <a:avLst>
              <a:gd name="adj" fmla="val 25000"/>
            </a:avLst>
          </a:prstGeom>
          <a:solidFill>
            <a:srgbClr val="fbb5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181480"/>
            <a:ext cx="1214280" cy="1214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16002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4038480"/>
            <a:ext cx="1214280" cy="121464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лату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5181480"/>
            <a:ext cx="1214280" cy="1214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038480"/>
            <a:ext cx="1214640" cy="1214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мра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5238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ва кубика- из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золот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lang="en-US" sz="2400" spc="-1" strike="noStrike">
                <a:solidFill>
                  <a:srgbClr val="3366ff"/>
                </a:solidFill>
                <a:latin typeface="Comic Sans MS"/>
              </a:rPr>
              <a:t>серебр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име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динаковую ма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кой из них 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ольший объё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де кубик серебря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где золо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600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и кубика- из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мрам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льда</a:t>
            </a: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lang="ru-RU" sz="2400" spc="-1" strike="noStrike">
                <a:solidFill>
                  <a:srgbClr val="ff6600"/>
                </a:solidFill>
                <a:latin typeface="Comic Sans MS"/>
              </a:rPr>
              <a:t>латун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име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динаковый объ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ой из них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ибольшую массу,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ой наименьшу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4850"/>
                            </p:stCondLst>
                            <p:childTnLst>
                              <p:par>
                                <p:cTn id="6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50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8250"/>
                            </p:stCondLst>
                            <p:childTnLst>
                              <p:par>
                                <p:cTn id="6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9950"/>
                            </p:stCondLst>
                            <p:childTnLst>
                              <p:par>
                                <p:cTn id="6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1550"/>
                            </p:stCondLst>
                            <p:childTnLst>
                              <p:par>
                                <p:cTn id="6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3450"/>
                            </p:stCondLst>
                            <p:childTnLst>
                              <p:par>
                                <p:cTn id="6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450"/>
                            </p:stCondLst>
                            <p:childTnLst>
                              <p:par>
                                <p:cTn id="6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250"/>
                            </p:stCondLst>
                            <p:childTnLst>
                              <p:par>
                                <p:cTn id="7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8700"/>
                            </p:stCondLst>
                            <p:childTnLst>
                              <p:par>
                                <p:cTn id="7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Arial"/>
                <a:ea typeface="Times New Roman"/>
              </a:rPr>
              <a:t>     </a:t>
            </a:r>
            <a:r>
              <a:rPr b="1" lang="en-US" sz="6000" spc="-1" strike="noStrike">
                <a:solidFill>
                  <a:srgbClr val="990000"/>
                </a:solidFill>
                <a:latin typeface="Arial"/>
                <a:ea typeface="Times New Roman"/>
              </a:rPr>
              <a:t>Правильно ли э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 rot="1224000">
            <a:off x="4808880" y="1431000"/>
            <a:ext cx="3135240" cy="1814760"/>
          </a:xfrm>
          <a:prstGeom prst="rect">
            <a:avLst/>
          </a:prstGeom>
          <a:solidFill>
            <a:srgbClr val="ccccff"/>
          </a:soli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Плотность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ртут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600 кг/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а 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ртути – 27200 кг/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loud"/>
          <p:cNvSpPr/>
          <p:nvPr/>
        </p:nvSpPr>
        <p:spPr>
          <a:xfrm rot="20569800">
            <a:off x="151920" y="1294920"/>
            <a:ext cx="4727520" cy="2563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Если от куска арб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усить кусочек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тность оставш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рбуза измен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loud"/>
          <p:cNvSpPr/>
          <p:nvPr/>
        </p:nvSpPr>
        <p:spPr>
          <a:xfrm rot="724200">
            <a:off x="3776400" y="3432240"/>
            <a:ext cx="4798800" cy="23619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 В  литровый сосуд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 вместится 1 кг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 rot="20359800">
            <a:off x="3123720" y="129492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Cloud"/>
          <p:cNvSpPr/>
          <p:nvPr/>
        </p:nvSpPr>
        <p:spPr>
          <a:xfrm rot="405600">
            <a:off x="0" y="3276360"/>
            <a:ext cx="4799160" cy="27842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Образующийся 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д не тонет, а плавает на поверхности воды, т.к. плотность льда меньше плотности вод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loud"/>
          <p:cNvSpPr/>
          <p:nvPr/>
        </p:nvSpPr>
        <p:spPr>
          <a:xfrm rot="20801400">
            <a:off x="7543440" y="3504960"/>
            <a:ext cx="1427040" cy="828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loud"/>
          <p:cNvSpPr/>
          <p:nvPr/>
        </p:nvSpPr>
        <p:spPr>
          <a:xfrm rot="199800">
            <a:off x="3433320" y="5200560"/>
            <a:ext cx="2286000" cy="1327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3809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71640" cy="1859040"/>
          </a:xfrm>
          <a:prstGeom prst="rect">
            <a:avLst/>
          </a:prstGeom>
          <a:ln w="0">
            <a:noFill/>
          </a:ln>
        </p:spPr>
      </p:pic>
      <p:sp>
        <p:nvSpPr>
          <p:cNvPr id="137" name="Cloud"/>
          <p:cNvSpPr/>
          <p:nvPr/>
        </p:nvSpPr>
        <p:spPr>
          <a:xfrm rot="199800">
            <a:off x="2743200" y="2895120"/>
            <a:ext cx="1219320" cy="708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loud"/>
          <p:cNvSpPr/>
          <p:nvPr/>
        </p:nvSpPr>
        <p:spPr>
          <a:xfrm rot="199800">
            <a:off x="6705360" y="5486400"/>
            <a:ext cx="1427040" cy="828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loud"/>
          <p:cNvSpPr/>
          <p:nvPr/>
        </p:nvSpPr>
        <p:spPr>
          <a:xfrm rot="199800">
            <a:off x="990360" y="5486040"/>
            <a:ext cx="1143000" cy="6634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038480" y="5410080"/>
            <a:ext cx="1295640" cy="1001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8325000" y="457200"/>
            <a:ext cx="81900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8153280" y="5867280"/>
            <a:ext cx="819360" cy="723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52280" y="5943600"/>
            <a:ext cx="81936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500"/>
                            </p:stCondLst>
                            <p:childTnLst>
                              <p:par>
                                <p:cTn id="7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500"/>
                            </p:stCondLst>
                            <p:childTnLst>
                              <p:par>
                                <p:cTn id="7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500"/>
                            </p:stCondLst>
                            <p:childTnLst>
                              <p:par>
                                <p:cTn id="7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500"/>
                            </p:stCondLst>
                            <p:childTnLst>
                              <p:par>
                                <p:cTn id="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3-03-12T14:23:57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