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D98-606E-4AF6-ACE8-34F6BBB7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DF3-B3C1-4818-AE17-D470780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77C-8229-4484-A505-48A93177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650-CC96-483D-BF63-EC361C90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C25-7A61-4F7F-8F68-A86F9DF3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A2B-60DC-4DD7-9435-EBEFDE8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ED6-F0D8-42A4-BE7A-BFA1D86C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55E3-6B9B-4AF0-BB85-0B20FBF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BAC-DC65-476A-B9DE-DF8EC707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5D31-D197-4AF7-92A1-E8355411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2DF6-E796-4D67-AD89-9133901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F15-782E-41FF-B3C9-EDB0F62D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4F4-0207-49FE-ADE5-288AC2C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D3D6-AE34-47EF-8405-CE2FE5E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710-433F-4B7E-8055-8AF2A9F7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55B-68FB-4FDC-BA56-80F6A911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D366-86E2-45B5-BA64-22343C24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C53-9D7C-4376-8749-3A6C531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6BD-B174-4B3D-9170-F1C5761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905-DEB1-487A-8008-9C7EE80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727-752F-4158-A738-1926CAC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420-A7AC-49D7-9E19-00937E4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36A-24E3-4680-BADE-91FDA46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B86-025E-45B2-8E1D-28B7D05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033-6A7F-47EE-A898-AF6B6310C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4BA0-5299-4771-9BB8-F599848292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Урман зур байлы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13" descr="clip_image002"/>
          <p:cNvPicPr/>
          <p:nvPr/>
        </p:nvPicPr>
        <p:blipFill>
          <a:blip r:embed="rId1"/>
          <a:stretch/>
        </p:blipFill>
        <p:spPr>
          <a:xfrm>
            <a:off x="838080" y="1676520"/>
            <a:ext cx="3048120" cy="2047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418616"/>
          <p:cNvPicPr/>
          <p:nvPr/>
        </p:nvPicPr>
        <p:blipFill>
          <a:blip r:embed="rId2"/>
          <a:stretch/>
        </p:blipFill>
        <p:spPr>
          <a:xfrm>
            <a:off x="5052960" y="1600200"/>
            <a:ext cx="322920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470b79e698cd"/>
          <p:cNvPicPr/>
          <p:nvPr/>
        </p:nvPicPr>
        <p:blipFill>
          <a:blip r:embed="rId3"/>
          <a:stretch/>
        </p:blipFill>
        <p:spPr>
          <a:xfrm>
            <a:off x="836640" y="3938760"/>
            <a:ext cx="304956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0"/>
          <p:cNvPicPr/>
          <p:nvPr/>
        </p:nvPicPr>
        <p:blipFill>
          <a:blip r:embed="rId4"/>
          <a:stretch/>
        </p:blipFill>
        <p:spPr>
          <a:xfrm>
            <a:off x="5029200" y="3938760"/>
            <a:ext cx="3276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img365"/>
          <p:cNvPicPr/>
          <p:nvPr/>
        </p:nvPicPr>
        <p:blipFill>
          <a:blip r:embed="rId1"/>
          <a:stretch/>
        </p:blipFill>
        <p:spPr>
          <a:xfrm>
            <a:off x="1676520" y="-1260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img370"/>
          <p:cNvPicPr/>
          <p:nvPr/>
        </p:nvPicPr>
        <p:blipFill>
          <a:blip r:embed="rId1"/>
          <a:stretch/>
        </p:blipFill>
        <p:spPr>
          <a:xfrm>
            <a:off x="838080" y="1066680"/>
            <a:ext cx="745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еңдә  тот, дустым !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ман –безнең зур байлыгыбыз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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ман –безнең планетабызның “үпкәләре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Һәр кеше үзеннә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ңгы буыннарга нәрс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лдыруы турынд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йланырга тиеш 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Урманнар республикабыз җирләренең 1/5 өлешен алып тора.Алар – туган ягыбызның бизәге, дым саклаучы, яхшы ял итү урыны. Монда шифалы салкынча саф һава, яфраклар кыштырдавы, кошлар чырчуы тынычландырып, күңелне күтәреп җибә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Урман ачачлар, куаклар, төрле үсемлекләргә, кошларга һәм хайваннарга бай.Татарстаныбызда ылыслы, яфраклы һәм катнаш урманнар бар.Ылыслы урманда чыршы һәм нарат агачлары, мүк, абага, нарат җиләге,кара җиләк, кызыл бөрлегән, кымызлык үсемлек – үләннәре үсә. Яфраклы урманда каен, юкә, өрәнге, имән, миләш агачлары, читләвек, кура җиләге, гөлҗимеш, балан куаклары,энҗе чәчәк, курай үләне, канлы үлән үр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Кеше урманнан башка яши алмый.Ә урман һавасын сулау- үзе бер шифа. Халык: “Үсемлекләр безне ашата - эчертә, киендерә, дәвалый,”- дип әйтә.Чыннан да, күпчелек витаминнар һәм дарулар үсемлекләрдән әзерлән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g363"/>
          <p:cNvPicPr/>
          <p:nvPr/>
        </p:nvPicPr>
        <p:blipFill>
          <a:blip r:embed="rId1"/>
          <a:stretch/>
        </p:blipFill>
        <p:spPr>
          <a:xfrm>
            <a:off x="1905120" y="609480"/>
            <a:ext cx="5105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манның әһәмия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ешеләр өчен   ял итү урын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руханә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җылылык, су, төзү материалы чыганагы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үсемлекләр, хайваннар өчен й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һаваны, сулыкларны,  туфракны саклаучы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манның әһәмия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ман нидән курка 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та, пычкылардан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өхсәтсез ау мылтыкларынна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гыннардан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үп –чар өемнәреннә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img364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img366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img367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533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mg368"/>
          <p:cNvPicPr/>
          <p:nvPr/>
        </p:nvPicPr>
        <p:blipFill>
          <a:blip r:embed="rId2"/>
          <a:stretch/>
        </p:blipFill>
        <p:spPr>
          <a:xfrm>
            <a:off x="4343400" y="914400"/>
            <a:ext cx="41148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3T17:4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