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67D-D40E-439A-91AF-2A83951F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236-A956-4F46-8731-1945D708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A37-F709-4F29-85F4-F343D892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4684-F186-445F-A7F8-2A03CF9C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9167-0D5E-42B0-AADF-DF13D9BF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1BBA-B08D-4195-B32D-B40CA724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3EE4-3F1E-43BF-8B9F-30E09DD8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5A6F-EC99-4189-9E23-0C870626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99C7-54DB-44D2-936F-3BDD6854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A0FA-B5B0-4BE5-8AFA-F0EC2D64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4F98-57AA-42AD-885B-E57879E0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64B-4068-426E-AD56-9DB21C2A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0C2D-5763-4382-85AB-4059CE15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FCEB-5BE6-4A91-858F-DC2D657A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C17C-C286-44AC-8623-0EB02CB2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9E00-0696-45DB-9DC7-EA0942D2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3FEA-88F4-48BC-8B0D-984110B9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718-DF93-4C22-9F17-6940D6D5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9E06-F478-4879-A2A4-A68B5497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59C5-3B24-4905-9207-8C8C490C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949-104C-4DFC-89E2-335B56E3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EFB1-177B-4595-8F5E-C5287406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86FB-5B69-45D2-ACDE-FDDF0794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51C7-83B7-4DC5-9E39-793ABC9E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2318-8501-40E6-9BD0-DF8F6456E7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7643-7AC7-4159-B6A6-C857DCB1D0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Урман зур байлы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13" descr="clip_image002"/>
          <p:cNvPicPr/>
          <p:nvPr/>
        </p:nvPicPr>
        <p:blipFill>
          <a:blip r:embed="rId1"/>
          <a:stretch/>
        </p:blipFill>
        <p:spPr>
          <a:xfrm>
            <a:off x="838080" y="1676520"/>
            <a:ext cx="3048120" cy="2047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418616"/>
          <p:cNvPicPr/>
          <p:nvPr/>
        </p:nvPicPr>
        <p:blipFill>
          <a:blip r:embed="rId2"/>
          <a:stretch/>
        </p:blipFill>
        <p:spPr>
          <a:xfrm>
            <a:off x="5052960" y="1600200"/>
            <a:ext cx="3229200" cy="2185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470b79e698cd"/>
          <p:cNvPicPr/>
          <p:nvPr/>
        </p:nvPicPr>
        <p:blipFill>
          <a:blip r:embed="rId3"/>
          <a:stretch/>
        </p:blipFill>
        <p:spPr>
          <a:xfrm>
            <a:off x="836640" y="3938760"/>
            <a:ext cx="3049560" cy="2187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0"/>
          <p:cNvPicPr/>
          <p:nvPr/>
        </p:nvPicPr>
        <p:blipFill>
          <a:blip r:embed="rId4"/>
          <a:stretch/>
        </p:blipFill>
        <p:spPr>
          <a:xfrm>
            <a:off x="5029200" y="3938760"/>
            <a:ext cx="3276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img365"/>
          <p:cNvPicPr/>
          <p:nvPr/>
        </p:nvPicPr>
        <p:blipFill>
          <a:blip r:embed="rId1"/>
          <a:stretch/>
        </p:blipFill>
        <p:spPr>
          <a:xfrm>
            <a:off x="1676520" y="-1260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img370"/>
          <p:cNvPicPr/>
          <p:nvPr/>
        </p:nvPicPr>
        <p:blipFill>
          <a:blip r:embed="rId1"/>
          <a:stretch/>
        </p:blipFill>
        <p:spPr>
          <a:xfrm>
            <a:off x="838080" y="1066680"/>
            <a:ext cx="7459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еңдә  тот, дустым !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ман –безнең зур байлыгыбыз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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ман –безнең планетабызның “үпкәләре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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Һәр кеше үзеннән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ңгы буыннарга нәрсә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лдыруы турынд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йланырга тиеш 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Урманнар республикабыз җирләренең 1/5 өлешен алып тора.Алар – туган ягыбызның бизәге, дым саклаучы, яхшы ял итү урыны. Монда шифалы салкынча саф һава, яфраклар кыштырдавы, кошлар чырчуы тынычландырып, күңелне күтәреп җибәр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Урман ачачлар, куаклар, төрле үсемлекләргә, кошларга һәм хайваннарга бай.Татарстаныбызда ылыслы, яфраклы һәм катнаш урманнар бар.Ылыслы урманда чыршы һәм нарат агачлары, мүк, абага, нарат җиләге,кара җиләк, кызыл бөрлегән, кымызлык үсемлек – үләннәре үсә. Яфраклы урманда каен, юкә, өрәнге, имән, миләш агачлары, читләвек, кура җиләге, гөлҗимеш, балан куаклары,энҗе чәчәк, курай үләне, канлы үлән үрч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Кеше урманнан башка яши алмый.Ә урман һавасын сулау- үзе бер шифа. Халык: “Үсемлекләр безне ашата - эчертә, киендерә, дәвалый,”- дип әйтә.Чыннан да, күпчелек витаминнар һәм дарулар үсемлекләрдән әзерлән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img363"/>
          <p:cNvPicPr/>
          <p:nvPr/>
        </p:nvPicPr>
        <p:blipFill>
          <a:blip r:embed="rId1"/>
          <a:stretch/>
        </p:blipFill>
        <p:spPr>
          <a:xfrm>
            <a:off x="1905120" y="609480"/>
            <a:ext cx="51051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рманның әһәмия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ешеләр өчен   ял итү урыны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аруханә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җылылык, су, төзү материалы чыганагы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үсемлекләр, хайваннар өчен йо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һаваны, сулыкларны,  туфракны саклаучы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манның әһәмия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рман нидән курка 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лта, пычкылардан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өхсәтсез ау мылтыкларыннан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нгыннардан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үп –чар өемнәреннә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img364"/>
          <p:cNvPicPr/>
          <p:nvPr/>
        </p:nvPicPr>
        <p:blipFill>
          <a:blip r:embed="rId1"/>
          <a:stretch/>
        </p:blipFill>
        <p:spPr>
          <a:xfrm>
            <a:off x="121932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img366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img367"/>
          <p:cNvPicPr/>
          <p:nvPr/>
        </p:nvPicPr>
        <p:blipFill>
          <a:blip r:embed="rId1"/>
          <a:stretch/>
        </p:blipFill>
        <p:spPr>
          <a:xfrm>
            <a:off x="533520" y="914400"/>
            <a:ext cx="3809880" cy="5334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img368"/>
          <p:cNvPicPr/>
          <p:nvPr/>
        </p:nvPicPr>
        <p:blipFill>
          <a:blip r:embed="rId2"/>
          <a:stretch/>
        </p:blipFill>
        <p:spPr>
          <a:xfrm>
            <a:off x="4343400" y="914400"/>
            <a:ext cx="411480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23T17:40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