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732-9BD3-4C59-94A5-3124DE02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356-C5BB-45F0-9F29-180B9E41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5FF-CFE6-4A98-BFED-DA58ED81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684-21ED-4468-B5A5-D9C330C3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40D-3A27-42BE-B451-FDE50009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1F7-3BC0-4E84-9C53-6035EF1C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320-058A-411D-B40A-66DF91DD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FDB-0017-4143-BC4B-AC960C09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475-3F17-4DEA-9914-37BBA2CB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BFC-E906-4DA0-A17A-AF437E8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551-98D0-49E2-87FD-F1666E36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D30-F21A-4917-A551-F57BBE2C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1B6D-DBB6-4581-BBC2-54CBD46EF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773360"/>
            <a:ext cx="8209080" cy="251928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7632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DejaVu Sans Condensed"/>
              </a:rPr>
              <a:t>Музыкотерапия как средство снятия психоэмоционального напряжения и агрессии у до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63640" y="5805000"/>
            <a:ext cx="3457800" cy="792360"/>
          </a:xfrm>
          <a:prstGeom prst="rect">
            <a:avLst/>
          </a:prstGeom>
          <a:noFill/>
          <a:ln w="57240">
            <a:solidFill>
              <a:srgbClr val="663300"/>
            </a:solidFill>
            <a:miter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упление на педсо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.03.201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226836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нова Светлана Рав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ДОУ Детский сад №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1" descr=""/>
          <p:cNvPicPr/>
          <p:nvPr/>
        </p:nvPicPr>
        <p:blipFill>
          <a:blip r:embed="rId1"/>
          <a:stretch/>
        </p:blipFill>
        <p:spPr>
          <a:xfrm>
            <a:off x="1468440" y="738360"/>
            <a:ext cx="6059520" cy="34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068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гкая мелодия – самый лучший утешитель дл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збужденной фантазии и лекарство для мозга»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Шексп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598920" cy="5472000"/>
          </a:xfrm>
          <a:prstGeom prst="rect">
            <a:avLst/>
          </a:prstGeom>
          <a:solidFill>
            <a:srgbClr val="f5a351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ее время отмечается резкий рост числа детей с разными формами нарушений психо-эмоциональной сферы. В дошкольные учреждения приходит всё больше детей с ярко выраженной гиперактивностью, психосоматическими заболе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Eagles_-_ОтельКалифорния_(audiopoisk.com).mp3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6" descr="images.jpeg"/>
          <p:cNvPicPr/>
          <p:nvPr/>
        </p:nvPicPr>
        <p:blipFill>
          <a:blip r:embed="rId2"/>
          <a:stretch/>
        </p:blipFill>
        <p:spPr>
          <a:xfrm>
            <a:off x="423720" y="1700280"/>
            <a:ext cx="454356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9307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узык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3600720" cy="602136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зируя основы психо-коррекционной работы с детьми, учёные отмечают, что в дошкольн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асте одним из наиболее эффективных методов является музыкотерапия. Термин «музыкотерапия» имеет греко-латинское происхождение и в переводе означает «исцеление музыко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765600" y="907920"/>
            <a:ext cx="5132160" cy="5751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96000" y="1268280"/>
            <a:ext cx="3168720" cy="5329440"/>
          </a:xfrm>
          <a:prstGeom prst="rect">
            <a:avLst/>
          </a:prstGeom>
          <a:solidFill>
            <a:srgbClr val="f7b675"/>
          </a:solidFill>
          <a:ln w="5724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хо предназначено не только для того, чтобы слышать, но и чтобы питать энергией разум и т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мозга работают как маленькие батарейки-аккумуляторы. Они заряжаются не путем метаболизма тела, а с помощью энергии зву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24000" y="260280"/>
            <a:ext cx="8362800" cy="720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.Томатис пришел к поразительному открытию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6" descr="images2.jpeg"/>
          <p:cNvPicPr/>
          <p:nvPr/>
        </p:nvPicPr>
        <p:blipFill>
          <a:blip r:embed="rId1"/>
          <a:stretch/>
        </p:blipFill>
        <p:spPr>
          <a:xfrm>
            <a:off x="619200" y="1484280"/>
            <a:ext cx="43657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3708360" cy="79056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DejaVu Sans Condensed"/>
              </a:rPr>
              <a:t>Музыка и физ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3529080" cy="5543640"/>
          </a:xfrm>
          <a:prstGeom prst="rect">
            <a:avLst/>
          </a:prstGeom>
          <a:gradFill rotWithShape="0">
            <a:gsLst>
              <a:gs pos="0">
                <a:srgbClr val="daff8f"/>
              </a:gs>
              <a:gs pos="100000">
                <a:srgbClr val="90a95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3300"/>
            </a:solidFill>
            <a:miter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ным путем удалось установить, что человеческий организм в большинстве случаев «откликается» на музыку, подстраиваясь под ее темп, что сказывается на частоте пульса, дыхании, кровообращении, работе внутренних органов и желез секреции. Поэтому спокойное классическое произведение способно погрузить ребенка в состояние, близкое к медитации, во время которого его организм начинает работать в замедлен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rack0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6" descr="images6.jpeg"/>
          <p:cNvPicPr/>
          <p:nvPr/>
        </p:nvPicPr>
        <p:blipFill>
          <a:blip r:embed="rId2"/>
          <a:stretch/>
        </p:blipFill>
        <p:spPr>
          <a:xfrm>
            <a:off x="3851280" y="476280"/>
            <a:ext cx="5006880" cy="55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9026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360360"/>
          </a:xfrm>
          <a:prstGeom prst="rect">
            <a:avLst/>
          </a:prstGeom>
          <a:gradFill rotWithShape="0">
            <a:gsLst>
              <a:gs pos="0">
                <a:srgbClr val="663012"/>
              </a:gs>
              <a:gs pos="100000">
                <a:srgbClr val="663012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DejaVu Sans Condensed"/>
              </a:rPr>
              <a:t>Формы музыкотера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96000" y="692280"/>
            <a:ext cx="3240000" cy="5905440"/>
          </a:xfrm>
          <a:prstGeom prst="rect">
            <a:avLst/>
          </a:prstGeom>
          <a:solidFill>
            <a:srgbClr val="f5a351"/>
          </a:solidFill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азличают три основные формы музыкотерапи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ивную, активную, интегратив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Рецептивная музык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ассивная) отличается тем, что челокек в процессе музыкотерапевтического сеанса не принимает в нем активного участия, занимая позицию простого слушателя. Ему предлагают прослушать различные музыкальные композиции либо вслушиваться в различные звучания, отвечающие состоянию его психического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ктивные мето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льной терапии основаны на активной работе с музыкальным материалом: инструментальная игра, п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Интегративная музык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яду с музыкой задействует возможности других видов искусства: рисование под музыку, музыкально-подвижные игры, пантомима, пластическая драматизация под музыку, создание стихов, рисунков, рассказов после прослушивания музыки и др. творческие фор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1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6" descr="tumblr_kraa2pyFYp1qzcva6.jpg"/>
          <p:cNvPicPr/>
          <p:nvPr/>
        </p:nvPicPr>
        <p:blipFill>
          <a:blip r:embed="rId2"/>
          <a:stretch/>
        </p:blipFill>
        <p:spPr>
          <a:xfrm>
            <a:off x="212760" y="907920"/>
            <a:ext cx="5371920" cy="554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8467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4316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DejaVu Sans Condensed"/>
              </a:rPr>
              <a:t>Эффект Моц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616360"/>
          </a:xfrm>
          <a:prstGeom prst="rect">
            <a:avLst/>
          </a:prstGeom>
          <a:gradFill rotWithShape="0">
            <a:gsLst>
              <a:gs pos="0">
                <a:srgbClr val="714b25"/>
              </a:gs>
              <a:gs pos="100000">
                <a:srgbClr val="f5a351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многочисленных экспериментов ученые пришли к выводу, что при нервных расстройствах, повышенной возбудимости, склонности к истерикам и капризам наиболее благоприятное воздействие на ребенка оказывает музыка Моцарта. Если проводить сеансы музыкотерапии ежедневно по 20-30 минут, то уже через 7-10 дней малыш начнет вести себя более взвешенно и адекватн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4229280" y="907920"/>
            <a:ext cx="4740120" cy="56167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503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ыхательная музык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292720" y="1125360"/>
            <a:ext cx="3527280" cy="5204520"/>
          </a:xfrm>
          <a:prstGeom prst="rect">
            <a:avLst/>
          </a:prstGeom>
          <a:solidFill>
            <a:srgbClr val="f5a3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ыхательная музыкотерапия, включающая игру на духовых музыкальных инструментах, дыхательную гимнастику под музыку и различные упражнения для развития певческого дыхания, позволяет детям заниматься оздоровлением, не замечая процесса ле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ыхательная музыкотерапия оказывает огромное влияние на эмоциональную сферу, позволяя проводить развивающий эмоциональный тренинг, приводящий к улучшению психофизиологического состояния ребенка. Кроме того, дыхательная музыкотерапия прекрасно снимает стрессы, развивает у детей внешний и внутренний сл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79280" y="1139760"/>
            <a:ext cx="4969080" cy="52419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40720" cy="503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Музыкальная ап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92720" y="1125360"/>
            <a:ext cx="3527280" cy="5204520"/>
          </a:xfrm>
          <a:prstGeom prst="rect">
            <a:avLst/>
          </a:prstGeom>
          <a:solidFill>
            <a:srgbClr val="f5a35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слушивании музыкальных упражнений важно отвлечь ребенка от травмирующих переживаний и помочь ему при помощи музыки увидеть всю красоту мир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Для активизации жизненных сил  для гипоактивных детей музыка М. Равеля «Болер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ля расслабления, снятия раздражительности (для гиперактивных детей) музыка Д. Шостаковича из фильма «Овод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нятие стресса,оптимизация настроения музыка Ж. Бизе «Юношеская симфония», танцевальная музыка из оперетт Р. Штрауса, И Кальм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84360" y="1046160"/>
            <a:ext cx="4032000" cy="53751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2" name="Дмитрий Шостакович, - музыка из фильма Овод (audiopoisk.com).mp3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8015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6:00:28Z</dcterms:created>
  <dc:creator>User</dc:creator>
  <dc:description/>
  <dc:language>en-US</dc:language>
  <cp:lastModifiedBy>Лана</cp:lastModifiedBy>
  <dcterms:modified xsi:type="dcterms:W3CDTF">2013-03-20T13:14:08Z</dcterms:modified>
  <cp:revision>30</cp:revision>
  <dc:subject/>
  <dc:title>Слайд 1</dc:title>
</cp:coreProperties>
</file>