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919-8C0A-499C-B970-420D8998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E50-C3D6-422A-922F-28A45AEF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72F-A868-46DB-85DB-E4CC2976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5FA-A635-4FA4-A7CD-2D095991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2E62-2DDF-48FB-8E7F-963B186C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A487-4E58-4231-AE0F-B7398E68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318D-794F-455A-A833-E55B955D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2BA0-DE53-4F48-900A-A739EACD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359A-ADAB-4A3D-A691-285ADFEE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DA5B-CF3E-4A06-B474-B29BEF48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C35B-0065-4B57-82BC-4B086776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036-D54A-4EB6-B102-2ADB5B4A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5B53-2ED4-443E-A0ED-EEB2E172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B0A7-CA85-455B-A4B6-03E82F6B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2A93-D69C-4C6C-841F-E0C3FACB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2ED-FBAE-44E0-8D70-1625967D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F192-F8F6-43D1-A380-EB063A86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BDC-397C-4D23-BFC7-9F8C8716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277-72D6-4572-9033-2732B956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085-7EC4-4150-9C61-91A40A40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930-6E01-41AD-A4CE-8D421003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ADB-08C0-4D9E-B4DC-23C0D998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C63-ADEB-4D35-A3C6-5129DA0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782-9FFB-41D3-8393-08287D5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7459-F274-4454-A7CB-6DF52F6DCE7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4941-4AFD-42D4-85A3-3882DA6D67B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Форма ванны может заметно отличаться от параллелепипеда, поэтому объем вытесненной воды можно узнать, доливая воду  в ванну до верхней отметки с помощью ведра, бутылки  или другой емкости известного объема. Получится точне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Если хотите учесть и объем головы, измерьте диаметр головы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, считая ее шаром, рассчитайте объе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= 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       d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В этом случае полный объем вашего тела будет  равен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V = a b c+        d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29000" y="43434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 txBox="1"/>
          <p:nvPr/>
        </p:nvSpPr>
        <p:spPr>
          <a:xfrm>
            <a:off x="2057400" y="22860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ч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86200" y="56386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89548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00400" y="4191120"/>
                <a:ext cx="264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5486400"/>
                <a:ext cx="264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8-11-14T15:44:14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