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B2CB-F4DF-4692-BF74-CCC1D107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677-032A-4A67-B144-A9F98255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74E-EB12-4842-B713-F14767A9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E5A-1E2D-49D6-BB9A-246F937D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4A5A-EA92-444A-9B35-63B7D924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3122-3DF7-4691-8FF3-B6A5AAC0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9CD6-EC40-4746-B765-4BF691D6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7C4B-1A51-43AC-86AA-40460670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749F-EA68-489E-A70B-DD172383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C23B-AA98-4DD2-B81B-90AF3582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003A-CCA2-4A74-80F3-C9001DD1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627E-F4AD-40D3-96B0-EF614A0E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0FD6-166C-4F29-8119-E5614943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D374-307B-4477-86F5-D97268B2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9E44-AA69-4F88-B48E-BC0476F1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91F2-6432-4EEB-B9C2-79C44636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597F-30A3-4B4F-8C2F-938FCB23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0CC-0180-48D1-9B60-A503F335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5A8C-96F2-4AFB-AA5D-44F4396F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9B5-ABF3-4EFE-8698-1D0ECEFC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B10D-F42C-40A1-A54F-7224FF59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901-599B-4782-80A3-D30069A9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5C11-125A-47EB-899B-3A5ACBFD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558C-E23D-4288-B611-EDB131A0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A7CE-40D6-4B87-81E5-DCE239CDDA5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9798-01D1-4242-B71B-4EA85C3A9D6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5105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Форма ванны может заметно отличаться от параллелепипеда, поэтому объем вытесненной воды можно узнать, доливая воду  в ванну до верхней отметки с помощью ведра, бутылки  или другой емкости известного объема. Получится точне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Если хотите учесть и объем головы, измерьте диаметр головы </a:t>
            </a:r>
            <a:r>
              <a:rPr b="1" i="1" lang="en-US" sz="18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, считая ее шаром, рассчитайте объем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Schoolbook"/>
              </a:rPr>
              <a:t>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=  </a:t>
            </a:r>
            <a:r>
              <a:rPr b="1" i="1" lang="en-US" sz="1800" spc="-1" strike="noStrike">
                <a:solidFill>
                  <a:srgbClr val="000000"/>
                </a:solidFill>
                <a:latin typeface="Century Schoolbook"/>
              </a:rPr>
              <a:t>       d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В этом случае полный объем вашего тела будет  равен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Schoolbook"/>
              </a:rPr>
              <a:t>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entury Schoolbook"/>
              </a:rPr>
              <a:t>V = a b c+        d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29000" y="43434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 txBox="1"/>
          <p:nvPr/>
        </p:nvSpPr>
        <p:spPr>
          <a:xfrm>
            <a:off x="2057400" y="228600"/>
            <a:ext cx="5029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меча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886200" y="5638680"/>
                <a:ext cx="380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943600" y="2286000"/>
            <a:ext cx="2895480" cy="2867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200400" y="4191120"/>
                <a:ext cx="264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33920" y="5486400"/>
                <a:ext cx="264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08-11-14T15:44:14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