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5FD6-A420-4F32-8784-59C8EEDC3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5B31-0E3C-4DF2-AFC5-FC3644A2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D748-79C9-4049-A734-76AF1D372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E5E6-6645-4FA8-A9A6-4FAD17A7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B76F-0C53-44E1-BCE9-2F0B4A2F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4518-9158-4904-A602-3CFF4917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9989-0C8D-459A-A7E0-D62045B9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B3C1-575D-475B-90E5-6C826A6C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3703-7C38-4609-8609-DD4F9183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703C-967E-461F-9D3D-05B93C56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6173-88B1-4208-80B4-EB2828CD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C2FE-410B-46B7-8CDE-CE6B28B9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9E1D-7CE3-41F4-8A07-104148D32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3535200" cy="26352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076720" y="981000"/>
            <a:ext cx="3605400" cy="268776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43" name=""/>
          <p:cNvSpPr txBox="1"/>
          <p:nvPr/>
        </p:nvSpPr>
        <p:spPr>
          <a:xfrm>
            <a:off x="2268360" y="115920"/>
            <a:ext cx="4248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Impact"/>
              </a:rPr>
              <a:t>Проверь   себ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-3567240" y="3143160"/>
                <a:ext cx="1810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-3567240" y="3851280"/>
                <a:ext cx="19080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-3567240" y="4986360"/>
                <a:ext cx="1810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-3567240" y="5694480"/>
                <a:ext cx="19080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0" y="2996640"/>
            <a:ext cx="9144000" cy="44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Н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entury Schoolbook"/>
                <a:ea typeface="Times New Roman"/>
              </a:rPr>
              <a:t>рисунке 1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видно, что чашка вес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Н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entury Schoolbook"/>
                <a:ea typeface="Times New Roman"/>
              </a:rPr>
              <a:t>рисунке 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идно, что чашки вес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а которой находится тело массой 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аходятся на одном уровне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асполагается ниже, следовательно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следовательно,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ассы тел равны: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асса первого тела больш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m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Century Schoolbook"/>
                <a:ea typeface="Times New Roman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&gt;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m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равных массах объем того те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и равных объемах 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, то тел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еньше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&lt;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чья плотность больше.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ет больше массу, чья плотность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ледовательно, плотность первого тела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ьше. Следовательно, плотность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ьше плотности второго тела.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ого тела больше плотности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торог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3565440" y="3362040"/>
            <a:ext cx="375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3565440" y="5204880"/>
            <a:ext cx="375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5T18:23:28Z</dcterms:created>
  <dc:creator>Bee</dc:creator>
  <dc:description/>
  <dc:language>en-US</dc:language>
  <cp:lastModifiedBy>Home</cp:lastModifiedBy>
  <dcterms:modified xsi:type="dcterms:W3CDTF">2009-03-09T13:06:26Z</dcterms:modified>
  <cp:revision>11</cp:revision>
  <dc:subject/>
  <dc:title>Слайд 1</dc:title>
</cp:coreProperties>
</file>