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8C2-A9B3-4178-949E-DD276E1C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496-8FEF-4AE4-844E-6ADE5D06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016-6FFB-430B-811A-49859636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1CC-C53C-4C14-99DD-9E21D148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D65-9013-45FA-8B92-ECBB0587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753-4678-4B1E-A58C-73E74AF8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013-EFA7-4625-8F2D-CBA8FBE2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9F1-9754-4326-9B58-E5868BA7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286-47F5-45D1-9EA4-04BDB5A1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8EC-A1CE-43FC-89BF-8EC040EC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BC5-CB82-4A09-8EF8-3B46EFA7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BB3-EA34-410D-B994-825C3D66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DC1-BDF4-48DF-8FE5-31F030A52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535200" cy="2635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605400" cy="2687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2268360" y="115920"/>
            <a:ext cx="424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Проверь   себ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-3567240" y="3143160"/>
                <a:ext cx="1810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-3567240" y="3851280"/>
                <a:ext cx="1908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-3567240" y="4986360"/>
                <a:ext cx="1810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-3567240" y="5694480"/>
                <a:ext cx="1908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2996640"/>
            <a:ext cx="914400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  <a:ea typeface="Times New Roman"/>
              </a:rPr>
              <a:t>рисунке 1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видно, что чашка ве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  <a:ea typeface="Times New Roman"/>
              </a:rPr>
              <a:t>рисунке 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идно, что чашки ве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 которой находится тело массой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ходятся на одном уровн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асполагается ниже, следовательно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следовательно,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ссы тел равны: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асса первого тела больш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Century Schoolbook"/>
                <a:ea typeface="Times New Roman"/>
              </a:rPr>
              <a:t>2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авных массах объем того 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 равных объемах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, то те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ьше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чья плотность больше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т больше массу, чья плотность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овательно, плотность первого тела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е. Следовательно, плотность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е плотности второго тела.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тела больше плотности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торог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3565440" y="3362040"/>
            <a:ext cx="37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565440" y="5204880"/>
            <a:ext cx="37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8:23:28Z</dcterms:created>
  <dc:creator>Bee</dc:creator>
  <dc:description/>
  <dc:language>en-US</dc:language>
  <cp:lastModifiedBy>Home</cp:lastModifiedBy>
  <dcterms:modified xsi:type="dcterms:W3CDTF">2009-03-09T13:06:26Z</dcterms:modified>
  <cp:revision>11</cp:revision>
  <dc:subject/>
  <dc:title>Слайд 1</dc:title>
</cp:coreProperties>
</file>