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05D0-4457-40BC-A6E0-AF606B5F7F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8D04-7B17-4267-A238-E39A82FEB47E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508A-5BC2-4E21-A9F9-900E85946129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B50A-2CC0-46ED-AEE3-798471037D76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BB63-63E5-4702-985D-52975C50366A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42F9-8599-4AA7-B31B-9A5236DC95F8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E6C4-C979-4AE2-B81D-9F0DF0BC9A20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BD09-AD56-4D3E-84D6-5BD6E3484620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C3AC-2D40-469E-BBAC-26AE643FA4CD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67AE-CB26-4378-B92D-8E1E74B45047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8AF2-1D77-49F1-ADBA-1C138FD1272D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234E-B4C1-454F-9F8D-D26EB981ED42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3F9E-2B58-4C98-B0D6-D7FE8BF11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1EB6-AE57-4537-85A0-109B2D7F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8478-F754-45A3-9D32-3F132A18F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B3C5-7957-439A-95FE-0455C03AE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8E30-F8BE-410E-AFF9-990C12BE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AB3A-F4D5-4B79-A9C7-820713C3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EAC7-107F-4653-813C-34344D95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16D7-5CAE-4FF6-ACC5-76A26B02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5467-7368-48B5-89D1-D3393C72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10A6-9FE0-42EE-808A-1CCCA6DD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F6E3-5829-42CF-A9E8-3FB7791A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0F19-21FF-4CE0-A7EF-4DC5AD63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FEA4-AC07-41BE-961A-6756374D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6EE8-099C-474D-8138-38715364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62DB-97D9-4F5A-906B-63C689E2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8A8B-A0E3-4730-9D19-CBE220DED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0B43-0437-4B1D-AAB3-3C73CBBA4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79D5-F516-4790-90F5-DAF5011F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23EF-4915-4455-8FD5-58EB2A9A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ACA1-B600-4D97-84B7-302CA72B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0848-C821-4AFF-94F3-E8FA48F0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FD05-06DB-4F94-851E-DBE8E7B4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2784-4F93-451A-9925-13FC2BE9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BF31-B93F-4474-98D0-BFED373A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395B-4A19-4A1B-B605-CF3F6F093F1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026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1027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1028"/>
            <p:cNvSpPr/>
            <p:nvPr/>
          </p:nvSpPr>
          <p:spPr>
            <a:xfrm>
              <a:off x="2133720" y="1643040"/>
              <a:ext cx="1617480" cy="144000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1029"/>
            <p:cNvSpPr/>
            <p:nvPr/>
          </p:nvSpPr>
          <p:spPr>
            <a:xfrm>
              <a:off x="5394240" y="1643040"/>
              <a:ext cx="1617840" cy="1440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1030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1031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1032"/>
              <p:cNvSpPr/>
              <p:nvPr/>
            </p:nvSpPr>
            <p:spPr>
              <a:xfrm>
                <a:off x="2494080" y="473040"/>
                <a:ext cx="2089080" cy="349092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1033"/>
              <p:cNvSpPr/>
              <p:nvPr/>
            </p:nvSpPr>
            <p:spPr>
              <a:xfrm>
                <a:off x="2494080" y="473040"/>
                <a:ext cx="4178160" cy="34452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34"/>
              <p:cNvSpPr/>
              <p:nvPr/>
            </p:nvSpPr>
            <p:spPr>
              <a:xfrm>
                <a:off x="4581360" y="473040"/>
                <a:ext cx="2090880" cy="349092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035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BED9-D95E-482F-987C-2820C7944525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Сложное предложение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57200" y="4928760"/>
            <a:ext cx="7429680" cy="17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реподаватель  Когалымского профессионального училищ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Рахматуллина Зимфира Аскатовн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292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Сложноподчинённое предложение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54100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СПП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77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8" dur="770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0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2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77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9" dur="77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1" dur="77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3" dur="77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991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Одно предложение зависит от другого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6788160"/>
            <a:ext cx="71280" cy="6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3760" bIns="23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468360" y="3141720"/>
            <a:ext cx="2160720" cy="91440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3708360" y="3141720"/>
            <a:ext cx="230364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2918160" y="337500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,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3997440" y="3284640"/>
            <a:ext cx="91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что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468360" y="4941720"/>
            <a:ext cx="801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И так наивна песня зимняя, что грех певицу обижать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AutoShape 9"/>
          <p:cNvSpPr/>
          <p:nvPr/>
        </p:nvSpPr>
        <p:spPr>
          <a:xfrm>
            <a:off x="2556000" y="2205000"/>
            <a:ext cx="1871640" cy="733320"/>
          </a:xfrm>
          <a:custGeom>
            <a:avLst/>
            <a:gdLst>
              <a:gd name="textAreaLeft" fmla="*/ 327600 w 1871640"/>
              <a:gd name="textAreaRight" fmla="*/ 1357200 w 1871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2988720" y="242100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ак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77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770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0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77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9" dur="770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1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3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77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7" dur="770" fill="hold"/>
                                        <p:tgtEl>
                                          <p:spTgt spid="1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9" dur="77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1" dur="77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651640" y="-699480"/>
            <a:ext cx="334008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9" name="Organization Chart 14"/>
          <p:cNvGrpSpPr/>
          <p:nvPr/>
        </p:nvGrpSpPr>
        <p:grpSpPr>
          <a:xfrm>
            <a:off x="108000" y="225360"/>
            <a:ext cx="9035280" cy="5771880"/>
            <a:chOff x="108000" y="225360"/>
            <a:chExt cx="9035280" cy="5771880"/>
          </a:xfrm>
        </p:grpSpPr>
        <p:cxnSp>
          <p:nvCxnSpPr>
            <p:cNvPr id="160" name="_s2052"/>
            <p:cNvCxnSpPr>
              <a:stCxn id="161" idx="0"/>
              <a:endCxn id="162" idx="2"/>
            </p:cNvCxnSpPr>
            <p:nvPr/>
          </p:nvCxnSpPr>
          <p:spPr>
            <a:xfrm flipV="1" rot="16200000">
              <a:off x="5629320" y="1529280"/>
              <a:ext cx="1154880" cy="3162960"/>
            </a:xfrm>
            <a:prstGeom prst="bentConnector3">
              <a:avLst>
                <a:gd name="adj1" fmla="val 20922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63" name="_s2053"/>
            <p:cNvCxnSpPr>
              <a:stCxn id="164" idx="0"/>
              <a:endCxn id="162" idx="2"/>
            </p:cNvCxnSpPr>
            <p:nvPr/>
          </p:nvCxnSpPr>
          <p:spPr>
            <a:xfrm flipV="1">
              <a:off x="4625280" y="2533680"/>
              <a:ext cx="3240" cy="11548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65" name="_s2054"/>
            <p:cNvCxnSpPr>
              <a:stCxn id="166" idx="0"/>
              <a:endCxn id="162" idx="2"/>
            </p:cNvCxnSpPr>
            <p:nvPr/>
          </p:nvCxnSpPr>
          <p:spPr>
            <a:xfrm flipH="1" flipV="1" rot="5400000">
              <a:off x="2466720" y="1529640"/>
              <a:ext cx="1154880" cy="3162960"/>
            </a:xfrm>
            <a:prstGeom prst="bentConnector3">
              <a:avLst>
                <a:gd name="adj1" fmla="val 20922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62" name="_s2055"/>
            <p:cNvSpPr/>
            <p:nvPr/>
          </p:nvSpPr>
          <p:spPr>
            <a:xfrm>
              <a:off x="3270240" y="225360"/>
              <a:ext cx="2710440" cy="2308680"/>
            </a:xfrm>
            <a:prstGeom prst="roundRect">
              <a:avLst>
                <a:gd name="adj" fmla="val 16667"/>
              </a:avLst>
            </a:prstGeom>
            <a:solidFill>
              <a:srgbClr val="cc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aeaea"/>
                  </a:solidFill>
                  <a:latin typeface="Times New Roman"/>
                </a:rPr>
                <a:t>ТИПЫ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aeaea"/>
                  </a:solidFill>
                  <a:latin typeface="Times New Roman"/>
                </a:rPr>
                <a:t>ПРИДАТОЧНЫХ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aeaea"/>
                  </a:solidFill>
                  <a:latin typeface="Times New Roman"/>
                </a:rPr>
                <a:t>ПРЕДЛОЖЕНИЙ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" name="_s2056"/>
            <p:cNvSpPr/>
            <p:nvPr/>
          </p:nvSpPr>
          <p:spPr>
            <a:xfrm>
              <a:off x="108000" y="3688560"/>
              <a:ext cx="2710440" cy="230868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ОПРЕДЕЛИТЕЛЬНЫЕ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" name="_s2057"/>
            <p:cNvSpPr/>
            <p:nvPr/>
          </p:nvSpPr>
          <p:spPr>
            <a:xfrm>
              <a:off x="3270240" y="3688560"/>
              <a:ext cx="2710440" cy="2308680"/>
            </a:xfrm>
            <a:prstGeom prst="roundRect">
              <a:avLst>
                <a:gd name="adj" fmla="val 16667"/>
              </a:avLst>
            </a:prstGeom>
            <a:solidFill>
              <a:srgbClr val="71bb9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ИЗЪЯСНИТЕЛЬНЫЕ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" name="_s2058"/>
            <p:cNvSpPr/>
            <p:nvPr/>
          </p:nvSpPr>
          <p:spPr>
            <a:xfrm>
              <a:off x="6432840" y="3688560"/>
              <a:ext cx="2710440" cy="230868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ОБСТОЯТЕЛЬНЫЕ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47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48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48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48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6913800" cy="14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ОПРЕДЕЛИТЕЛЬНЫЕ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423280" cy="35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Относятся к существительны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Отвечают на вопрос </a:t>
            </a: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какой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исоединяются союзными словами: относительными местоимениями и наречиями </a:t>
            </a: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который, какой, что, где, куда, откуда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971640" y="4797360"/>
            <a:ext cx="7407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Мы отправились к 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Times New Roman"/>
              </a:rPr>
              <a:t>озеру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, где была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расположена база отдыха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4427640" y="4076640"/>
            <a:ext cx="2519280" cy="719280"/>
          </a:xfrm>
          <a:custGeom>
            <a:avLst/>
            <a:gdLst>
              <a:gd name="textAreaLeft" fmla="*/ 440640 w 2519280"/>
              <a:gd name="textAreaRight" fmla="*/ 1826640 w 251928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716360" y="4292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акому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ИЗЪЯСНИТЕЛЬНЫЕ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7726320" cy="27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Относятся к глаголу (часто со значением речи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Отвечают на вопросы </a:t>
            </a: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что, чего, кого, чему, кому, чем, кем, о ком, о чём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951120" y="5316480"/>
            <a:ext cx="69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И тут я </a:t>
            </a:r>
            <a:r>
              <a:rPr b="0" lang="ru-RU" sz="3600" spc="-1" strike="noStrike" u="sng">
                <a:solidFill>
                  <a:srgbClr val="ffffcc"/>
                </a:solidFill>
                <a:uFillTx/>
                <a:latin typeface="Times New Roman"/>
              </a:rPr>
              <a:t>понял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, что успеть к отходу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поезда мне не удастся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2987640" y="4653000"/>
            <a:ext cx="2016000" cy="833400"/>
          </a:xfrm>
          <a:prstGeom prst="pie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494160" y="501336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Что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lu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58920" y="2997360"/>
            <a:ext cx="6480000" cy="79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Times New Roman"/>
              </a:rPr>
              <a:t>Обстоятельственные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3348000" y="115920"/>
            <a:ext cx="1130400" cy="100944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Образ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действия и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степен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476360" y="907920"/>
            <a:ext cx="1079640" cy="100836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ремени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79280" y="2708280"/>
            <a:ext cx="1130400" cy="115236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ричины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6516720" y="4005360"/>
            <a:ext cx="1152360" cy="108108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Уступк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6732720" y="2421000"/>
            <a:ext cx="1152360" cy="105732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Цел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5508720" y="836640"/>
            <a:ext cx="987480" cy="100800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Мест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539640" y="4797360"/>
            <a:ext cx="1130400" cy="107964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Следствия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2556000" y="5445000"/>
            <a:ext cx="1152360" cy="113184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Сравнения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4788000" y="5445000"/>
            <a:ext cx="1152360" cy="105912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Условия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Line 40"/>
          <p:cNvSpPr/>
          <p:nvPr/>
        </p:nvSpPr>
        <p:spPr>
          <a:xfrm flipH="1" flipV="1">
            <a:off x="2484360" y="1989000"/>
            <a:ext cx="1440000" cy="1152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Line 41"/>
          <p:cNvSpPr/>
          <p:nvPr/>
        </p:nvSpPr>
        <p:spPr>
          <a:xfrm flipV="1">
            <a:off x="3924360" y="1197000"/>
            <a:ext cx="71280" cy="1944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Line 42"/>
          <p:cNvSpPr/>
          <p:nvPr/>
        </p:nvSpPr>
        <p:spPr>
          <a:xfrm flipV="1">
            <a:off x="3924360" y="1916280"/>
            <a:ext cx="1942920" cy="1225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Line 44"/>
          <p:cNvSpPr/>
          <p:nvPr/>
        </p:nvSpPr>
        <p:spPr>
          <a:xfrm flipV="1">
            <a:off x="3924360" y="3068280"/>
            <a:ext cx="2663640" cy="73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Line 45"/>
          <p:cNvSpPr/>
          <p:nvPr/>
        </p:nvSpPr>
        <p:spPr>
          <a:xfrm flipH="1" flipV="1">
            <a:off x="1331640" y="3068280"/>
            <a:ext cx="2592360" cy="73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Line 46"/>
          <p:cNvSpPr/>
          <p:nvPr/>
        </p:nvSpPr>
        <p:spPr>
          <a:xfrm flipH="1">
            <a:off x="1763640" y="3716280"/>
            <a:ext cx="2160720" cy="936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Line 47"/>
          <p:cNvSpPr/>
          <p:nvPr/>
        </p:nvSpPr>
        <p:spPr>
          <a:xfrm flipH="1">
            <a:off x="3419640" y="3716280"/>
            <a:ext cx="504720" cy="1584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Line 48"/>
          <p:cNvSpPr/>
          <p:nvPr/>
        </p:nvSpPr>
        <p:spPr>
          <a:xfrm>
            <a:off x="3924360" y="3716280"/>
            <a:ext cx="1655640" cy="1657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Line 49"/>
          <p:cNvSpPr/>
          <p:nvPr/>
        </p:nvSpPr>
        <p:spPr>
          <a:xfrm>
            <a:off x="3924360" y="3716280"/>
            <a:ext cx="2519280" cy="792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Text Box 50"/>
          <p:cNvSpPr/>
          <p:nvPr/>
        </p:nvSpPr>
        <p:spPr>
          <a:xfrm rot="2403600">
            <a:off x="2912400" y="22078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Когда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Text Box 51"/>
          <p:cNvSpPr/>
          <p:nvPr/>
        </p:nvSpPr>
        <p:spPr>
          <a:xfrm rot="5400000">
            <a:off x="3852720" y="220392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Как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Text Box 52"/>
          <p:cNvSpPr/>
          <p:nvPr/>
        </p:nvSpPr>
        <p:spPr>
          <a:xfrm rot="19957200">
            <a:off x="4719960" y="2491920"/>
            <a:ext cx="4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Где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Text Box 53"/>
          <p:cNvSpPr/>
          <p:nvPr/>
        </p:nvSpPr>
        <p:spPr>
          <a:xfrm>
            <a:off x="5223600" y="278136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Зачем?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Text Box 54"/>
          <p:cNvSpPr/>
          <p:nvPr/>
        </p:nvSpPr>
        <p:spPr>
          <a:xfrm rot="1183200">
            <a:off x="5150160" y="3933720"/>
            <a:ext cx="11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Вопреки чему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Text Box 55"/>
          <p:cNvSpPr/>
          <p:nvPr/>
        </p:nvSpPr>
        <p:spPr>
          <a:xfrm rot="2834400">
            <a:off x="4312080" y="448128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При каком условии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Text Box 57"/>
          <p:cNvSpPr/>
          <p:nvPr/>
        </p:nvSpPr>
        <p:spPr>
          <a:xfrm>
            <a:off x="2271600" y="278136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Почему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Text Box 58"/>
          <p:cNvSpPr/>
          <p:nvPr/>
        </p:nvSpPr>
        <p:spPr>
          <a:xfrm rot="20266800">
            <a:off x="1981800" y="3933360"/>
            <a:ext cx="159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Что из этого следует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8434440" cy="619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*С тех пор она старалась всё делать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Times New Roman"/>
              </a:rPr>
              <a:t>так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ff9900"/>
                </a:solidFill>
                <a:latin typeface="Times New Roman"/>
              </a:rPr>
              <a:t>(как?)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чтобы её хвалили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*Нет величия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Times New Roman"/>
              </a:rPr>
              <a:t>там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,  </a:t>
            </a:r>
            <a:r>
              <a:rPr b="0" lang="ru-RU" sz="2800" spc="-1" strike="noStrike">
                <a:solidFill>
                  <a:srgbClr val="ff9900"/>
                </a:solidFill>
                <a:latin typeface="Times New Roman"/>
              </a:rPr>
              <a:t>(где?)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где нет места подвигам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*Не на пользу книги читать,  </a:t>
            </a:r>
            <a:r>
              <a:rPr b="0" lang="ru-RU" sz="2800" spc="-1" strike="noStrike">
                <a:solidFill>
                  <a:srgbClr val="ff9900"/>
                </a:solidFill>
                <a:latin typeface="Times New Roman"/>
              </a:rPr>
              <a:t>(при каком условии?)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коль одни вершки глотать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*Было уже совсем тепло,  </a:t>
            </a:r>
            <a:r>
              <a:rPr b="0" lang="ru-RU" sz="2800" spc="-1" strike="noStrike">
                <a:solidFill>
                  <a:srgbClr val="ff9900"/>
                </a:solidFill>
                <a:latin typeface="Times New Roman"/>
              </a:rPr>
              <a:t>(вопреки чему?)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хотя кругом лежал рыхлый, тяжёлый снег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*Снег становился всё белее и ярче, </a:t>
            </a:r>
            <a:r>
              <a:rPr b="0" lang="ru-RU" sz="2800" spc="-1" strike="noStrike">
                <a:solidFill>
                  <a:srgbClr val="ff9900"/>
                </a:solidFill>
                <a:latin typeface="Times New Roman"/>
              </a:rPr>
              <a:t>(что из этого следует?)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так что ломило глаза, глядя на него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*Он пошёл легко, словно только из милости касался земл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* </a:t>
            </a:r>
            <a:r>
              <a:rPr b="0" lang="ru-RU" sz="2800" spc="-1" strike="noStrike">
                <a:solidFill>
                  <a:srgbClr val="ff9900"/>
                </a:solidFill>
                <a:latin typeface="Times New Roman"/>
              </a:rPr>
              <a:t>(Почему?)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Благодаря тому что лето было жаркое и сухое, понадобилось поливать каждое дерево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6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1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6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1" dur="2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6" dur="2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1" dur="20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6" dur="20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110440" cy="66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ам кажется, что он изменился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рибрежные кусты склоняются над самой водой, точно хотят погладить её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реди дня выпускали в поле корову, чтобы она походила на воле и ей стало лучше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Он подошёл к обрыву, от которого веяло холодом, и смело заглянул вниз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Когда в окнах запылал багровый закатный свет, музыка оборвалась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од вечер Беликов оделся потеплее, хотя на дворе погода была тёплая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За пять часов времени мы не проехали и двадцати вёрст, потому что дорога была скверная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Organization Chart 5"/>
          <p:cNvGrpSpPr/>
          <p:nvPr/>
        </p:nvGrpSpPr>
        <p:grpSpPr>
          <a:xfrm>
            <a:off x="0" y="189000"/>
            <a:ext cx="8433720" cy="6333480"/>
            <a:chOff x="0" y="189000"/>
            <a:chExt cx="8433720" cy="6333480"/>
          </a:xfrm>
        </p:grpSpPr>
        <p:cxnSp>
          <p:nvCxnSpPr>
            <p:cNvPr id="207" name="_s3076"/>
            <p:cNvCxnSpPr>
              <a:stCxn id="208" idx="0"/>
              <a:endCxn id="209" idx="2"/>
            </p:cNvCxnSpPr>
            <p:nvPr/>
          </p:nvCxnSpPr>
          <p:spPr>
            <a:xfrm flipV="1" rot="16200000">
              <a:off x="5059080" y="1879560"/>
              <a:ext cx="1266840" cy="2952360"/>
            </a:xfrm>
            <a:prstGeom prst="bentConnector3">
              <a:avLst>
                <a:gd name="adj1" fmla="val 20920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210" name="_s3077"/>
            <p:cNvCxnSpPr>
              <a:stCxn id="211" idx="0"/>
              <a:endCxn id="209" idx="2"/>
            </p:cNvCxnSpPr>
            <p:nvPr/>
          </p:nvCxnSpPr>
          <p:spPr>
            <a:xfrm flipV="1">
              <a:off x="4216680" y="2722320"/>
              <a:ext cx="3960" cy="126684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212" name="_s3078"/>
            <p:cNvCxnSpPr>
              <a:stCxn id="213" idx="0"/>
              <a:endCxn id="209" idx="2"/>
            </p:cNvCxnSpPr>
            <p:nvPr/>
          </p:nvCxnSpPr>
          <p:spPr>
            <a:xfrm flipH="1" flipV="1" rot="5400000">
              <a:off x="2107440" y="1879560"/>
              <a:ext cx="1266840" cy="2952360"/>
            </a:xfrm>
            <a:prstGeom prst="bentConnector3">
              <a:avLst>
                <a:gd name="adj1" fmla="val 20920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209" name="_s3079"/>
            <p:cNvSpPr/>
            <p:nvPr/>
          </p:nvSpPr>
          <p:spPr>
            <a:xfrm>
              <a:off x="2951640" y="189000"/>
              <a:ext cx="2530080" cy="2533320"/>
            </a:xfrm>
            <a:custGeom>
              <a:avLst/>
              <a:gdLst>
                <a:gd name="textAreaLeft" fmla="*/ 123480 w 2530080"/>
                <a:gd name="textAreaRight" fmla="*/ 2406600 w 2530080"/>
                <a:gd name="textAreaTop" fmla="*/ 123480 h 2533320"/>
                <a:gd name="textAreaBottom" fmla="*/ 2409840 h 2533320"/>
              </a:gdLst>
              <a:ahLst/>
              <a:rect l="textAreaLeft" t="textAreaTop" r="textAreaRight" b="textAreaBottom"/>
              <a:pathLst>
                <a:path w="21600" h="21628">
                  <a:moveTo>
                    <a:pt x="3600" y="0"/>
                  </a:moveTo>
                  <a:arcTo wR="3600" hR="3600" stAng="16200000" swAng="-5400000"/>
                  <a:lnTo>
                    <a:pt x="0" y="18028"/>
                  </a:lnTo>
                  <a:arcTo wR="3600" hR="3600" stAng="10800000" swAng="-5400000"/>
                  <a:lnTo>
                    <a:pt x="18000" y="216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eaeaea"/>
                  </a:solidFill>
                  <a:latin typeface="Times New Roman"/>
                </a:rPr>
                <a:t>Сложноподчинённые</a:t>
              </a:r>
              <a:endParaRPr b="0" lang="en-US" sz="3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eaeaea"/>
                  </a:solidFill>
                  <a:latin typeface="Times New Roman"/>
                </a:rPr>
                <a:t>предложения</a:t>
              </a:r>
              <a:endParaRPr b="0" lang="en-US" sz="3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eaeaea"/>
                  </a:solidFill>
                  <a:latin typeface="Times New Roman"/>
                </a:rPr>
                <a:t>с несколькими</a:t>
              </a:r>
              <a:endParaRPr b="0" lang="en-US" sz="3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eaeaea"/>
                  </a:solidFill>
                  <a:latin typeface="Times New Roman"/>
                </a:rPr>
                <a:t>придаточными</a:t>
              </a:r>
              <a:endParaRPr b="0" lang="en-US" sz="3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" name="_s3080"/>
            <p:cNvSpPr/>
            <p:nvPr/>
          </p:nvSpPr>
          <p:spPr>
            <a:xfrm>
              <a:off x="0" y="3989160"/>
              <a:ext cx="2530080" cy="2533320"/>
            </a:xfrm>
            <a:custGeom>
              <a:avLst/>
              <a:gdLst>
                <a:gd name="textAreaLeft" fmla="*/ 123480 w 2530080"/>
                <a:gd name="textAreaRight" fmla="*/ 2406600 w 2530080"/>
                <a:gd name="textAreaTop" fmla="*/ 123480 h 2533320"/>
                <a:gd name="textAreaBottom" fmla="*/ 2409840 h 2533320"/>
              </a:gdLst>
              <a:ahLst/>
              <a:rect l="textAreaLeft" t="textAreaTop" r="textAreaRight" b="textAreaBottom"/>
              <a:pathLst>
                <a:path w="21600" h="21628">
                  <a:moveTo>
                    <a:pt x="3600" y="0"/>
                  </a:moveTo>
                  <a:arcTo wR="3600" hR="3600" stAng="16200000" swAng="-5400000"/>
                  <a:lnTo>
                    <a:pt x="0" y="18028"/>
                  </a:lnTo>
                  <a:arcTo wR="3600" hR="3600" stAng="10800000" swAng="-5400000"/>
                  <a:lnTo>
                    <a:pt x="18000" y="216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aeaea"/>
                  </a:solidFill>
                  <a:latin typeface="Times New Roman"/>
                </a:rPr>
                <a:t>Последовательное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aeaea"/>
                  </a:solidFill>
                  <a:latin typeface="Times New Roman"/>
                </a:rPr>
                <a:t>подчинение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" name="_s3081"/>
            <p:cNvSpPr/>
            <p:nvPr/>
          </p:nvSpPr>
          <p:spPr>
            <a:xfrm>
              <a:off x="2951640" y="3989160"/>
              <a:ext cx="2530080" cy="2533320"/>
            </a:xfrm>
            <a:custGeom>
              <a:avLst/>
              <a:gdLst>
                <a:gd name="textAreaLeft" fmla="*/ 123480 w 2530080"/>
                <a:gd name="textAreaRight" fmla="*/ 2406600 w 2530080"/>
                <a:gd name="textAreaTop" fmla="*/ 123480 h 2533320"/>
                <a:gd name="textAreaBottom" fmla="*/ 2409840 h 2533320"/>
              </a:gdLst>
              <a:ahLst/>
              <a:rect l="textAreaLeft" t="textAreaTop" r="textAreaRight" b="textAreaBottom"/>
              <a:pathLst>
                <a:path w="21600" h="21628">
                  <a:moveTo>
                    <a:pt x="3600" y="0"/>
                  </a:moveTo>
                  <a:arcTo wR="3600" hR="3600" stAng="16200000" swAng="-5400000"/>
                  <a:lnTo>
                    <a:pt x="0" y="18028"/>
                  </a:lnTo>
                  <a:arcTo wR="3600" hR="3600" stAng="10800000" swAng="-5400000"/>
                  <a:lnTo>
                    <a:pt x="18000" y="216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aeaea"/>
                  </a:solidFill>
                  <a:latin typeface="Times New Roman"/>
                </a:rPr>
                <a:t>Параллельное 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aeaea"/>
                  </a:solidFill>
                  <a:latin typeface="Times New Roman"/>
                </a:rPr>
                <a:t>подчинение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" name="_s3082"/>
            <p:cNvSpPr/>
            <p:nvPr/>
          </p:nvSpPr>
          <p:spPr>
            <a:xfrm>
              <a:off x="5903640" y="3989160"/>
              <a:ext cx="2530080" cy="2533320"/>
            </a:xfrm>
            <a:custGeom>
              <a:avLst/>
              <a:gdLst>
                <a:gd name="textAreaLeft" fmla="*/ 123480 w 2530080"/>
                <a:gd name="textAreaRight" fmla="*/ 2406600 w 2530080"/>
                <a:gd name="textAreaTop" fmla="*/ 123480 h 2533320"/>
                <a:gd name="textAreaBottom" fmla="*/ 2409840 h 2533320"/>
              </a:gdLst>
              <a:ahLst/>
              <a:rect l="textAreaLeft" t="textAreaTop" r="textAreaRight" b="textAreaBottom"/>
              <a:pathLst>
                <a:path w="21600" h="21628">
                  <a:moveTo>
                    <a:pt x="3600" y="0"/>
                  </a:moveTo>
                  <a:arcTo wR="3600" hR="3600" stAng="16200000" swAng="-5400000"/>
                  <a:lnTo>
                    <a:pt x="0" y="18028"/>
                  </a:lnTo>
                  <a:arcTo wR="3600" hR="3600" stAng="10800000" swAng="-5400000"/>
                  <a:lnTo>
                    <a:pt x="18000" y="216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aeaea"/>
                  </a:solidFill>
                  <a:latin typeface="Times New Roman"/>
                </a:rPr>
                <a:t>Однородное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aeaea"/>
                  </a:solidFill>
                  <a:latin typeface="Times New Roman"/>
                </a:rPr>
                <a:t>подчинение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ransition>
    <p:cover dir="l"/>
  </p:transition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6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6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6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6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7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7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7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8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228600"/>
            <a:ext cx="8452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оследовательное подчинение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7510320" cy="24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Он продолжал смотреть в небо, вместо того, чтобы идти в гостиную, откуда слышались голоса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755640" y="4653000"/>
            <a:ext cx="1224000" cy="91440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178000" y="4956120"/>
            <a:ext cx="2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2843280" y="4653000"/>
            <a:ext cx="230508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5292720" y="4869000"/>
            <a:ext cx="3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AutoShape 9"/>
          <p:cNvSpPr/>
          <p:nvPr/>
        </p:nvSpPr>
        <p:spPr>
          <a:xfrm>
            <a:off x="5867280" y="4653000"/>
            <a:ext cx="259236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3061080" y="4797360"/>
            <a:ext cx="138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чтобы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5867280" y="4797360"/>
            <a:ext cx="155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откуда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AutoShape 12"/>
          <p:cNvSpPr/>
          <p:nvPr/>
        </p:nvSpPr>
        <p:spPr>
          <a:xfrm>
            <a:off x="1835280" y="3645000"/>
            <a:ext cx="1657080" cy="733320"/>
          </a:xfrm>
          <a:custGeom>
            <a:avLst/>
            <a:gdLst>
              <a:gd name="textAreaLeft" fmla="*/ 289800 w 1657080"/>
              <a:gd name="textAreaRight" fmla="*/ 1201320 w 16570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AutoShape 13"/>
          <p:cNvSpPr/>
          <p:nvPr/>
        </p:nvSpPr>
        <p:spPr>
          <a:xfrm>
            <a:off x="4356000" y="3645000"/>
            <a:ext cx="1717920" cy="733320"/>
          </a:xfrm>
          <a:custGeom>
            <a:avLst/>
            <a:gdLst>
              <a:gd name="textAreaLeft" fmla="*/ 300600 w 1717920"/>
              <a:gd name="textAreaRight" fmla="*/ 1245600 w 171792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6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8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Organization Chart 5"/>
          <p:cNvGrpSpPr/>
          <p:nvPr/>
        </p:nvGrpSpPr>
        <p:grpSpPr>
          <a:xfrm>
            <a:off x="142920" y="1643040"/>
            <a:ext cx="8286120" cy="4751280"/>
            <a:chOff x="142920" y="1643040"/>
            <a:chExt cx="8286120" cy="4751280"/>
          </a:xfrm>
        </p:grpSpPr>
        <p:cxnSp>
          <p:nvCxnSpPr>
            <p:cNvPr id="112" name="_s1028"/>
            <p:cNvCxnSpPr>
              <a:stCxn id="113" idx="0"/>
              <a:endCxn id="114" idx="2"/>
            </p:cNvCxnSpPr>
            <p:nvPr/>
          </p:nvCxnSpPr>
          <p:spPr>
            <a:xfrm flipV="1" rot="16200000">
              <a:off x="5270760" y="2550240"/>
              <a:ext cx="925560" cy="2910240"/>
            </a:xfrm>
            <a:prstGeom prst="bentConnector3">
              <a:avLst>
                <a:gd name="adj1" fmla="val 11828"/>
              </a:avLst>
            </a:prstGeom>
            <a:ln w="9360">
              <a:solidFill>
                <a:srgbClr val="eaeaea"/>
              </a:solidFill>
              <a:miter/>
            </a:ln>
          </p:spPr>
        </p:cxnSp>
        <p:cxnSp>
          <p:nvCxnSpPr>
            <p:cNvPr id="115" name="_s1029"/>
            <p:cNvCxnSpPr>
              <a:stCxn id="116" idx="0"/>
              <a:endCxn id="114" idx="1"/>
            </p:cNvCxnSpPr>
            <p:nvPr/>
          </p:nvCxnSpPr>
          <p:spPr>
            <a:xfrm flipV="1">
              <a:off x="4278600" y="3542760"/>
              <a:ext cx="3960" cy="950760"/>
            </a:xfrm>
            <a:prstGeom prst="bentConnector2">
              <a:avLst/>
            </a:prstGeom>
            <a:ln w="9360">
              <a:solidFill>
                <a:srgbClr val="eaeaea"/>
              </a:solidFill>
              <a:miter/>
            </a:ln>
          </p:spPr>
        </p:cxnSp>
        <p:cxnSp>
          <p:nvCxnSpPr>
            <p:cNvPr id="117" name="_s1030"/>
            <p:cNvCxnSpPr>
              <a:stCxn id="118" idx="0"/>
              <a:endCxn id="114" idx="0"/>
            </p:cNvCxnSpPr>
            <p:nvPr/>
          </p:nvCxnSpPr>
          <p:spPr>
            <a:xfrm flipH="1" flipV="1" rot="5400000">
              <a:off x="2355840" y="2570400"/>
              <a:ext cx="950760" cy="2895480"/>
            </a:xfrm>
            <a:prstGeom prst="bentConnector3">
              <a:avLst>
                <a:gd name="adj1" fmla="val 11515"/>
              </a:avLst>
            </a:prstGeom>
            <a:ln w="9360">
              <a:solidFill>
                <a:srgbClr val="eaeaea"/>
              </a:solidFill>
              <a:miter/>
            </a:ln>
          </p:spPr>
        </p:cxnSp>
        <p:sp>
          <p:nvSpPr>
            <p:cNvPr id="114" name="_s1031"/>
            <p:cNvSpPr/>
            <p:nvPr/>
          </p:nvSpPr>
          <p:spPr>
            <a:xfrm>
              <a:off x="3038040" y="1643040"/>
              <a:ext cx="2481480" cy="1900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6600"/>
                </a:gs>
                <a:gs pos="50000">
                  <a:srgbClr val="00763b"/>
                </a:gs>
                <a:gs pos="100000">
                  <a:srgbClr val="cc6600"/>
                </a:gs>
              </a:gsLst>
              <a:lin ang="8100000"/>
            </a:gradFill>
            <a:ln w="3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ложное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предложение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_s1032"/>
            <p:cNvSpPr/>
            <p:nvPr/>
          </p:nvSpPr>
          <p:spPr>
            <a:xfrm>
              <a:off x="142920" y="4493880"/>
              <a:ext cx="2481480" cy="1900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00763b"/>
                </a:gs>
                <a:gs pos="100000">
                  <a:srgbClr val="ff9900"/>
                </a:gs>
              </a:gsLst>
              <a:lin ang="8100000"/>
            </a:gradFill>
            <a:ln w="3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Times New Roman"/>
                </a:rPr>
                <a:t>сложносочинённое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_s1033"/>
            <p:cNvSpPr/>
            <p:nvPr/>
          </p:nvSpPr>
          <p:spPr>
            <a:xfrm>
              <a:off x="3038040" y="4493880"/>
              <a:ext cx="2481480" cy="1900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00763b"/>
                </a:gs>
                <a:gs pos="100000">
                  <a:srgbClr val="ff9900"/>
                </a:gs>
              </a:gsLst>
              <a:lin ang="8100000"/>
            </a:gradFill>
            <a:ln w="3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Times New Roman"/>
                </a:rPr>
                <a:t>сложноподчинённое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" name="_s1034"/>
            <p:cNvSpPr/>
            <p:nvPr/>
          </p:nvSpPr>
          <p:spPr>
            <a:xfrm>
              <a:off x="5947560" y="4468680"/>
              <a:ext cx="2481480" cy="1900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00763b"/>
                </a:gs>
                <a:gs pos="100000">
                  <a:srgbClr val="ff9900"/>
                </a:gs>
              </a:gsLst>
              <a:lin ang="8100000"/>
            </a:gradFill>
            <a:ln w="3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Times New Roman"/>
                </a:rPr>
                <a:t>бессоюзное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9" name="WordArt 27"/>
          <p:cNvSpPr txBox="1"/>
          <p:nvPr/>
        </p:nvSpPr>
        <p:spPr>
          <a:xfrm>
            <a:off x="971640" y="620640"/>
            <a:ext cx="7488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ложное предложение</a:t>
            </a:r>
            <a:endParaRPr b="0" lang="en-US" sz="3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WordArt 10"/>
          <p:cNvSpPr txBox="1"/>
          <p:nvPr/>
        </p:nvSpPr>
        <p:spPr>
          <a:xfrm>
            <a:off x="6572160" y="1857240"/>
            <a:ext cx="20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1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WordArt 10"/>
          <p:cNvSpPr txBox="1"/>
          <p:nvPr/>
        </p:nvSpPr>
        <p:spPr>
          <a:xfrm>
            <a:off x="6572160" y="2428920"/>
            <a:ext cx="2086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3608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Запятая на стыке двух союзов не ставится , если второе придаточное предложение нельзя изъять без изменения всего сложного предложения ( в этом случае далее следует вторая часть двойного союза  - ТО, ТАК, НО.)</a:t>
            </a:r>
            <a:br>
              <a:rPr sz="24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Держу пари,  </a:t>
            </a:r>
            <a:r>
              <a:rPr b="0" lang="ru-RU" sz="4000" spc="-1" strike="noStrike" u="sng">
                <a:solidFill>
                  <a:srgbClr val="eaeaea"/>
                </a:solidFill>
                <a:uFillTx/>
                <a:latin typeface="Times New Roman"/>
              </a:rPr>
              <a:t>что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4000" spc="-1" strike="noStrike" u="sng">
                <a:solidFill>
                  <a:srgbClr val="eaeaea"/>
                </a:solidFill>
                <a:uFillTx/>
                <a:latin typeface="Times New Roman"/>
              </a:rPr>
              <a:t>если</a:t>
            </a:r>
            <a:r>
              <a:rPr b="0" lang="ru-RU" sz="32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ы передадите это герцогу, ТО он останется здесь ещё на три года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Горничная была сирота, КОТОРАЯ, ЧТОБЫ кормиться,____ должна была поступить в услужение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97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97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9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4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8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98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99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94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995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996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араллельное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7772400" cy="18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Если бы между добром и злом удалось провести черту, то вышло бы, что часть людей эту черту переступила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AutoShape 4"/>
          <p:cNvSpPr/>
          <p:nvPr/>
        </p:nvSpPr>
        <p:spPr>
          <a:xfrm>
            <a:off x="539640" y="5157720"/>
            <a:ext cx="187164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810000" y="5245200"/>
            <a:ext cx="113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Если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3276720" y="5157720"/>
            <a:ext cx="1511280" cy="91440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AutoShape 7"/>
          <p:cNvSpPr/>
          <p:nvPr/>
        </p:nvSpPr>
        <p:spPr>
          <a:xfrm>
            <a:off x="5724360" y="5157720"/>
            <a:ext cx="216072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5797800" y="5300640"/>
            <a:ext cx="83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что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2609640" y="5316480"/>
            <a:ext cx="2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5003640" y="5373720"/>
            <a:ext cx="1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AutoShape 12"/>
          <p:cNvSpPr/>
          <p:nvPr/>
        </p:nvSpPr>
        <p:spPr>
          <a:xfrm rot="5400000">
            <a:off x="2220480" y="3476520"/>
            <a:ext cx="733320" cy="2079720"/>
          </a:xfrm>
          <a:custGeom>
            <a:avLst/>
            <a:gdLst>
              <a:gd name="textAreaLeft" fmla="*/ 98280 w 733320"/>
              <a:gd name="textAreaRight" fmla="*/ 635040 w 733320"/>
              <a:gd name="textAreaTop" fmla="*/ 363960 h 2079720"/>
              <a:gd name="textAreaBottom" fmla="*/ 1508040 h 207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AutoShape 13"/>
          <p:cNvSpPr/>
          <p:nvPr/>
        </p:nvSpPr>
        <p:spPr>
          <a:xfrm>
            <a:off x="4500720" y="4221000"/>
            <a:ext cx="2087280" cy="733680"/>
          </a:xfrm>
          <a:custGeom>
            <a:avLst/>
            <a:gdLst>
              <a:gd name="textAreaLeft" fmla="*/ 365040 w 2087280"/>
              <a:gd name="textAreaRight" fmla="*/ 1513440 w 20872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5056200" y="54608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1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Однородное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омню, как ребёнком впервые привезла меня мама на свою Родину, как текли слёзы по её счастливому лицу, как долго молчали мы на пригорке с берёзами и ветер ласкал нас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971640" y="5084640"/>
            <a:ext cx="1008000" cy="91440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2033280" y="5316480"/>
            <a:ext cx="2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2411280" y="5013360"/>
            <a:ext cx="129708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2536920" y="5316480"/>
            <a:ext cx="8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как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3852720" y="5229360"/>
            <a:ext cx="2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AutoShape 9"/>
          <p:cNvSpPr/>
          <p:nvPr/>
        </p:nvSpPr>
        <p:spPr>
          <a:xfrm>
            <a:off x="4140360" y="5013360"/>
            <a:ext cx="136836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4286520" y="5300640"/>
            <a:ext cx="8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как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5510160" y="5229360"/>
            <a:ext cx="2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AutoShape 13"/>
          <p:cNvSpPr/>
          <p:nvPr/>
        </p:nvSpPr>
        <p:spPr>
          <a:xfrm>
            <a:off x="5796000" y="5013360"/>
            <a:ext cx="108108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Text Box 14"/>
          <p:cNvSpPr/>
          <p:nvPr/>
        </p:nvSpPr>
        <p:spPr>
          <a:xfrm>
            <a:off x="5869080" y="5300640"/>
            <a:ext cx="8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как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6948360" y="530064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и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AutoShape 17"/>
          <p:cNvSpPr/>
          <p:nvPr/>
        </p:nvSpPr>
        <p:spPr>
          <a:xfrm>
            <a:off x="7524720" y="5013360"/>
            <a:ext cx="100800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Line 23"/>
          <p:cNvSpPr/>
          <p:nvPr/>
        </p:nvSpPr>
        <p:spPr>
          <a:xfrm>
            <a:off x="1476360" y="4653000"/>
            <a:ext cx="66247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Line 24"/>
          <p:cNvSpPr/>
          <p:nvPr/>
        </p:nvSpPr>
        <p:spPr>
          <a:xfrm>
            <a:off x="3059280" y="4653000"/>
            <a:ext cx="0" cy="431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Line 26"/>
          <p:cNvSpPr/>
          <p:nvPr/>
        </p:nvSpPr>
        <p:spPr>
          <a:xfrm>
            <a:off x="1476360" y="465300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Line 28"/>
          <p:cNvSpPr/>
          <p:nvPr/>
        </p:nvSpPr>
        <p:spPr>
          <a:xfrm>
            <a:off x="4859280" y="4653000"/>
            <a:ext cx="0" cy="431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Line 30"/>
          <p:cNvSpPr/>
          <p:nvPr/>
        </p:nvSpPr>
        <p:spPr>
          <a:xfrm>
            <a:off x="6443640" y="4653000"/>
            <a:ext cx="0" cy="504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Line 31"/>
          <p:cNvSpPr/>
          <p:nvPr/>
        </p:nvSpPr>
        <p:spPr>
          <a:xfrm>
            <a:off x="8101080" y="4653000"/>
            <a:ext cx="0" cy="504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Text Box 32"/>
          <p:cNvSpPr/>
          <p:nvPr/>
        </p:nvSpPr>
        <p:spPr>
          <a:xfrm>
            <a:off x="4266000" y="4241880"/>
            <a:ext cx="6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Что?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8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0" dur="8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8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8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8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6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8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Times New Roman"/>
              </a:rPr>
              <a:t>Если однородные придаточные предложения прикрепляются к главному одним и тем же союзом, то </a:t>
            </a:r>
            <a:r>
              <a:rPr b="1" i="1" lang="ru-RU" sz="2800" spc="-1" strike="noStrike">
                <a:solidFill>
                  <a:srgbClr val="ff9900"/>
                </a:solidFill>
                <a:latin typeface="Times New Roman"/>
              </a:rPr>
              <a:t>союз этот может опускаться</a:t>
            </a:r>
            <a:r>
              <a:rPr b="0" lang="ru-RU" sz="28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Шацкий видел, /</a:t>
            </a:r>
            <a:r>
              <a:rPr b="0" lang="ru-RU" sz="3200" spc="-1" strike="noStrike">
                <a:solidFill>
                  <a:srgbClr val="cc6600"/>
                </a:solidFill>
                <a:latin typeface="Times New Roman"/>
              </a:rPr>
              <a:t>как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последняя шлюпка вернулась к пароходу/ и /матросы долго, мешая друг другу, подтягивали её на талях/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Ср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.: Шацкий видел, /</a:t>
            </a:r>
            <a:r>
              <a:rPr b="0" lang="ru-RU" sz="3200" spc="-1" strike="noStrike">
                <a:solidFill>
                  <a:srgbClr val="cc6600"/>
                </a:solidFill>
                <a:latin typeface="Times New Roman"/>
              </a:rPr>
              <a:t>как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последняя шлюпка вернулась к пароходу/ и /</a:t>
            </a:r>
            <a:r>
              <a:rPr b="0" lang="ru-RU" sz="3200" spc="-1" strike="noStrike">
                <a:solidFill>
                  <a:srgbClr val="cc6600"/>
                </a:solidFill>
                <a:latin typeface="Times New Roman"/>
              </a:rPr>
              <a:t>как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матросы долго, мешая друг другу, подтягивали её на талях/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lu"/>
  </p:transition>
  <p:timing>
    <p:tnLst>
      <p:par>
        <p:cTn id="1238" dur="indefinite" restart="never" nodeType="tmRoot">
          <p:childTnLst>
            <p:seq>
              <p:cTn id="1239" dur="indefinite" nodeType="mainSeq">
                <p:childTnLst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4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2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0" dur="2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2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2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Если однородные придаточные связаны одиночным соединительным или разделительным союзом(И, ДА(=И), ИЛИ, ЛИБО) то запятая между придаточными не ставится.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Отец мой говорил, что он не видывал таких хлебов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что нынешний год урожай отличный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Он решительно заявил, что мы должны немедленно убраться из его дома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ИЛИ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что он вызовет милици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0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6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9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ри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</a:rPr>
              <a:t>повторяющихся сочинительных союзах запятая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между однородными придаточными предложениями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</a:rPr>
              <a:t>ставится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*Находясь в госпитале, он вспоминал, как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КАК фашисты напали на них внезапно, И КАК они оказались в окружении, И КАК отряду удалось пробиться к своим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*Трудно было понять, был ЛИ то где-нибудь пожар, ИЛИ же собиралась всходить луна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mb dir="vert"/>
  </p:transition>
  <p:timing>
    <p:tnLst>
      <p:par>
        <p:cTn id="1292" dur="indefinite" restart="never" nodeType="tmRoot">
          <p:childTnLst>
            <p:seq>
              <p:cTn id="1293" dur="indefinite" nodeType="mainSeq">
                <p:childTnLst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9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2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6" dur="500" autoRev="1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337" dur="500" autoRev="1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338" dur="500" autoRev="1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WordArt 9"/>
          <p:cNvSpPr txBox="1"/>
          <p:nvPr/>
        </p:nvSpPr>
        <p:spPr>
          <a:xfrm>
            <a:off x="1500120" y="1000080"/>
            <a:ext cx="7143840" cy="385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WordArt 10"/>
          <p:cNvSpPr txBox="1"/>
          <p:nvPr/>
        </p:nvSpPr>
        <p:spPr>
          <a:xfrm>
            <a:off x="6572160" y="2428920"/>
            <a:ext cx="2086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Список литературы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00040" y="1905120"/>
            <a:ext cx="7934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Русский язык 10-11 классы, Гольцова Н.Г., Шамшин И.В., Мищерина М.А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Русский язык 10-11 классы, Власенков А.И., Рыбченкова Л.М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Чем отличается сложное предложение от простого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38160">
            <a:solidFill>
              <a:srgbClr val="eaeaea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Было ясно и тихо, и дымились трубы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осле грозы всё благоухало и сверкало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1619280" y="3716280"/>
            <a:ext cx="1800360" cy="91440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5292720" y="3716280"/>
            <a:ext cx="1728720" cy="91440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3564000" y="4092480"/>
            <a:ext cx="70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4049640" y="39481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И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1116000" y="3933720"/>
            <a:ext cx="6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1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4645080" y="393372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2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Oval 12"/>
          <p:cNvSpPr/>
          <p:nvPr/>
        </p:nvSpPr>
        <p:spPr>
          <a:xfrm>
            <a:off x="1692360" y="5084640"/>
            <a:ext cx="914400" cy="9144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Oval 13"/>
          <p:cNvSpPr/>
          <p:nvPr/>
        </p:nvSpPr>
        <p:spPr>
          <a:xfrm>
            <a:off x="4067280" y="5084640"/>
            <a:ext cx="914400" cy="9144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186000" y="5124600"/>
            <a:ext cx="45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и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4247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Сложносочинённое предложение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                  ССП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751280"/>
          </a:xfrm>
          <a:prstGeom prst="rect">
            <a:avLst/>
          </a:prstGeom>
          <a:noFill/>
          <a:ln w="3240">
            <a:solidFill>
              <a:srgbClr val="eaeaea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Части предложения не зависят друг от друга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оединяются сочинительными союзами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и, да, но, а, или, либо, зато, однако, то -то, не то - не то, ни - ни, тоже, также, не только – но и, как – так 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Окна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о всех корпусах были ярко освещены, и оттого на   громадном дворе казалось очень темно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1763640" y="5445000"/>
            <a:ext cx="1800360" cy="91440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5076720" y="5445000"/>
            <a:ext cx="1873440" cy="91440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3636720" y="5661000"/>
            <a:ext cx="2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4265280" y="56037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И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15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7772400" cy="630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 сложносочиненных предложениях, как правило, запятая ставится перед всеми союзами, соединяющими их части, в том числе и перед соединительными и разделительными (в отличие от простого предложения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Звёзды уже сверкали остро и холодно, </a:t>
            </a:r>
            <a:r>
              <a:rPr b="0" lang="ru-RU" sz="3200" spc="-1" strike="noStrike" u="sng">
                <a:solidFill>
                  <a:srgbClr val="eaeaea"/>
                </a:solidFill>
                <a:uFillTx/>
                <a:latin typeface="Times New Roman"/>
              </a:rPr>
              <a:t>но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небо на востоке уже стало светлеть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eaeaea"/>
                </a:solidFill>
                <a:uFillTx/>
                <a:latin typeface="Times New Roman"/>
              </a:rPr>
              <a:t>Ни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солнца мне не виден свет, </a:t>
            </a:r>
            <a:r>
              <a:rPr b="0" lang="ru-RU" sz="3200" spc="-1" strike="noStrike" u="sng">
                <a:solidFill>
                  <a:srgbClr val="eaeaea"/>
                </a:solidFill>
                <a:uFillTx/>
                <a:latin typeface="Times New Roman"/>
              </a:rPr>
              <a:t>ни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для корней моих простора нет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Козлевич открыл глушитель, </a:t>
            </a:r>
            <a:r>
              <a:rPr b="0" lang="ru-RU" sz="3200" spc="-1" strike="noStrike" u="sng">
                <a:solidFill>
                  <a:srgbClr val="eaeaea"/>
                </a:solidFill>
                <a:uFillTx/>
                <a:latin typeface="Times New Roman"/>
              </a:rPr>
              <a:t>и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«Антилопа» утопила всех в облаке дыма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1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2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4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4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7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8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9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60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496360" cy="1447560"/>
          </a:xfrm>
          <a:prstGeom prst="rect">
            <a:avLst/>
          </a:prstGeom>
          <a:noFill/>
          <a:ln w="19080">
            <a:solidFill>
              <a:srgbClr val="eaeae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ЗАПЯТАЯ между частями сложносочинённого предложения не ставится, если предложения имеют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8893080" cy="4763880"/>
          </a:xfrm>
          <a:prstGeom prst="rect">
            <a:avLst/>
          </a:prstGeom>
          <a:noFill/>
          <a:ln w="9360">
            <a:solidFill>
              <a:srgbClr val="eaeaea"/>
            </a:solidFill>
            <a:prstDash val="dashDot"/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общий второстепенный член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cc"/>
                </a:solidFill>
                <a:uFillTx/>
                <a:latin typeface="Times New Roman"/>
              </a:rPr>
              <a:t>Вскоре после восхода</a:t>
            </a: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 набежала туча и брызнул короткий дождь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общее придаточное предложение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Уже совсем рассвело и народ стал подниматься, (</a:t>
            </a:r>
            <a:r>
              <a:rPr b="0" i="1" lang="ru-RU" sz="3200" spc="-1" strike="noStrike">
                <a:solidFill>
                  <a:srgbClr val="ffffcc"/>
                </a:solidFill>
                <a:latin typeface="Times New Roman"/>
              </a:rPr>
              <a:t>когда я вернулся в комнату</a:t>
            </a: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общее вводное слово или предложение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cc"/>
                </a:solidFill>
                <a:latin typeface="Times New Roman"/>
              </a:rPr>
              <a:t>По словам охотников</a:t>
            </a: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, зверь в этих лесах вывелся и птица исчезла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6" dur="2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55640" y="549000"/>
            <a:ext cx="7772400" cy="6119640"/>
          </a:xfrm>
          <a:prstGeom prst="rect">
            <a:avLst/>
          </a:prstGeom>
          <a:noFill/>
          <a:ln w="38160">
            <a:solidFill>
              <a:srgbClr val="eaeaea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Если оба самостоятельных предложения, соединенные сочинительным соединительным или разделительным союзом, содержат вопрос, то запятая между ними не ставится. Cледует помнить, что пара </a:t>
            </a: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ли...или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иль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) в сложосочиненном предложении (в отличие от простого) рассматривается как повторяющийся союз, то есть запятая перед </a:t>
            </a: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ставится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Как собака попала сюда и почему дверь не была закрыта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77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6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10920" y="260280"/>
            <a:ext cx="7823160" cy="612144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Если оба самостоятельных предложения, соединенные сочинительным соединительным или разделительным союзом, являются восклицательными (содержат восклицательные частицы), то запятая между ними не ставится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539640" y="4437000"/>
            <a:ext cx="696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aeaea"/>
                </a:solidFill>
                <a:latin typeface="Times New Roman"/>
              </a:rPr>
              <a:t>Как приятно гулять в саду вечером и как удивительно пахнет жасмин!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4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4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228600"/>
            <a:ext cx="8452080" cy="4208400"/>
          </a:xfrm>
          <a:prstGeom prst="rect">
            <a:avLst/>
          </a:prstGeom>
          <a:noFill/>
          <a:ln w="38160">
            <a:solidFill>
              <a:srgbClr val="eaeae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Если оба самостоятельных предложения, соединенные сочинительным соединительным или разделительным союзом, содержат побуждение (сказуемые выражены формой повелительного наклонения), то запятая между ними не ставится</a:t>
            </a: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42560" y="4292280"/>
            <a:ext cx="6913800" cy="30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aeaea"/>
                </a:solidFill>
                <a:latin typeface="Times New Roman"/>
              </a:rPr>
              <a:t>Напиши письмо сам или давай напишем вместе.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77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9" dur="770" fill="hold"/>
                                        <p:tgtEl>
                                          <p:spTgt spid="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1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3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8:15:57Z</dcterms:created>
  <dc:creator>Елена</dc:creator>
  <dc:description/>
  <dc:language>en-US</dc:language>
  <cp:lastModifiedBy>Мастер</cp:lastModifiedBy>
  <dcterms:modified xsi:type="dcterms:W3CDTF">2013-03-23T13:55:25Z</dcterms:modified>
  <cp:revision>14</cp:revision>
  <dc:subject/>
  <dc:title>Сложноподчинённое предлож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