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799-42C1-45F3-BCA7-85FBAD3440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46A0-6CF8-4321-A940-E761E03E087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208-D697-4B6A-8412-C1A7846EC07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5A0-7EBB-41FD-A961-DE4935F7146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7562-D4D3-4573-BAAF-850AFE86885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4BE2-FB47-41DC-9426-8FF7AA629F2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3E08-BE87-41B6-A36E-4F1CCAF7EC5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8C3-AA49-4236-80B1-0352A9EBB3C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03AD-5429-41F0-9B5C-D54F7BD646B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9EAB-7A6A-4B93-95D9-66E2299FD25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8F4A-78A4-46A4-8F16-F864ADEA646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AC8D-279A-4320-AD78-714CB67F81E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4C1-0DCB-443C-8413-08D384D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CE9-3DD6-4DD9-88F8-B060B54A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7E7-E50B-42F2-B3B9-C87B721F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FE4-1284-4146-9AAA-E822A44C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8DA3-3CDA-481B-B5AD-3AA30372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D9F5-19E5-4EB7-B5F6-288C889D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8CBA-E376-41CD-B887-27CEDB85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6B79-3125-4E45-96A4-588A4AB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0FB-492E-414E-8748-E822F149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1884-2E3A-425B-9AAF-B9D91C6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B640-E719-4FC0-9937-F964EA4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3CF-FEA8-4F63-86B4-6A12A647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BE7-FA0C-4EFC-84E4-265BCA2B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D397-6EFA-4EA6-917E-023C479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2408-CA15-4B2D-947B-3C062B65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4F7F-1EA5-46B3-9A0C-115A07E7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3EC7-1B19-48AB-B746-248A2BC0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F2D-7E9D-4F56-B0BD-22E93FD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0A6-A537-410D-B5A4-F51D72C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402-2D03-48A2-917A-2A5B2A8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1B0-8172-40C4-858E-825858F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16D-CFC4-449E-962B-F7F1360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93C-E6C9-49C0-BC41-67DB468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F3B-B962-41C0-A8E8-AAD8269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72D-46CC-4CFE-9DAC-8D97B79695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57AF-F12D-4010-A491-4504F338142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ожное предложе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57200" y="4928760"/>
            <a:ext cx="742968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подаватель  Когалымского профессионального училищ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хматуллина Зимфира Аскатовн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ложноподчинённое предложен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дно предложение зависит от другог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6788160"/>
            <a:ext cx="71280" cy="6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3760" bIns="23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3141720"/>
            <a:ext cx="21607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3708360" y="3141720"/>
            <a:ext cx="230364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918160" y="3375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997440" y="3284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68360" y="4941720"/>
            <a:ext cx="80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 так наивна песня зимняя, что грех певицу обижат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56000" y="2205000"/>
            <a:ext cx="1871640" cy="733320"/>
          </a:xfrm>
          <a:custGeom>
            <a:avLst/>
            <a:gdLst>
              <a:gd name="textAreaLeft" fmla="*/ 327600 w 1871640"/>
              <a:gd name="textAreaRight" fmla="*/ 1357200 w 1871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988720" y="24210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51640" y="-699480"/>
            <a:ext cx="334008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9" name="Organization Chart 14"/>
          <p:cNvGrpSpPr/>
          <p:nvPr/>
        </p:nvGrpSpPr>
        <p:grpSpPr>
          <a:xfrm>
            <a:off x="108000" y="225360"/>
            <a:ext cx="9035280" cy="5771880"/>
            <a:chOff x="108000" y="225360"/>
            <a:chExt cx="9035280" cy="5771880"/>
          </a:xfrm>
        </p:grpSpPr>
        <p:cxnSp>
          <p:nvCxnSpPr>
            <p:cNvPr id="160" name="_s2052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5629320" y="1529280"/>
              <a:ext cx="1154880" cy="316296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3" name="_s2053"/>
            <p:cNvCxnSpPr>
              <a:stCxn id="164" idx="0"/>
              <a:endCxn id="162" idx="2"/>
            </p:cNvCxnSpPr>
            <p:nvPr/>
          </p:nvCxnSpPr>
          <p:spPr>
            <a:xfrm flipV="1">
              <a:off x="4625280" y="2533680"/>
              <a:ext cx="3240" cy="11548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5" name="_s2054"/>
            <p:cNvCxnSpPr>
              <a:stCxn id="166" idx="0"/>
              <a:endCxn id="162" idx="2"/>
            </p:cNvCxnSpPr>
            <p:nvPr/>
          </p:nvCxnSpPr>
          <p:spPr>
            <a:xfrm flipH="1" flipV="1" rot="5400000">
              <a:off x="2466720" y="1529640"/>
              <a:ext cx="1154880" cy="316296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2" name="_s2055"/>
            <p:cNvSpPr/>
            <p:nvPr/>
          </p:nvSpPr>
          <p:spPr>
            <a:xfrm>
              <a:off x="3270240" y="2253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imes New Roman"/>
                </a:rPr>
                <a:t>ТИПЫ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imes New Roman"/>
                </a:rPr>
                <a:t>ПРИДАТОЧНЫХ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imes New Roman"/>
                </a:rPr>
                <a:t>ПРЕДЛОЖЕНИЙ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_s2056"/>
            <p:cNvSpPr/>
            <p:nvPr/>
          </p:nvSpPr>
          <p:spPr>
            <a:xfrm>
              <a:off x="108000" y="36885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ОПРЕДЕЛИТЕЛЬНЫ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_s2057"/>
            <p:cNvSpPr/>
            <p:nvPr/>
          </p:nvSpPr>
          <p:spPr>
            <a:xfrm>
              <a:off x="3270240" y="36885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71bb9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ИЗЪЯСНИТЕЛЬНЫ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6432840" y="3688560"/>
              <a:ext cx="2710440" cy="23086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ОБСТОЯТЕЛЬНЫ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7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691380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ПРЕДЕЛИТЕЛЬ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42328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носятся к существительны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вечают на вопрос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соединяются союзными словами: относительными местоимениями и наречиями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который, какой, что, где, куда, откуд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71640" y="4797360"/>
            <a:ext cx="740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ы отправились к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озеру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, где был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асположена база отдых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427640" y="4076640"/>
            <a:ext cx="2519280" cy="719280"/>
          </a:xfrm>
          <a:custGeom>
            <a:avLst/>
            <a:gdLst>
              <a:gd name="textAreaLeft" fmla="*/ 440640 w 2519280"/>
              <a:gd name="textAreaRight" fmla="*/ 1826640 w 2519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16360" y="429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кому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ИЗЪЯСНИТЕЛЬ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2632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носятся к глаголу (часто со значением речи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вечают на вопросы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что, чего, кого, чему, кому, чем, кем, о ком, о чё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51120" y="5316480"/>
            <a:ext cx="69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 тут я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imes New Roman"/>
              </a:rPr>
              <a:t>понял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, что успеть к отход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оезда мне не удастся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2987640" y="4653000"/>
            <a:ext cx="2016000" cy="833400"/>
          </a:xfrm>
          <a:prstGeom prst="pi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494160" y="5013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то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2997360"/>
            <a:ext cx="64800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Обстоятельствен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115920"/>
            <a:ext cx="1130400" cy="10094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браз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йствия 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тепен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476360" y="907920"/>
            <a:ext cx="107964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79280" y="2708280"/>
            <a:ext cx="113040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ичин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16720" y="4005360"/>
            <a:ext cx="1152360" cy="1081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ступ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732720" y="2421000"/>
            <a:ext cx="1152360" cy="10573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Цел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508720" y="836640"/>
            <a:ext cx="9874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39640" y="4797360"/>
            <a:ext cx="1130400" cy="10796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ледств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556000" y="5445000"/>
            <a:ext cx="1152360" cy="1131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равн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788000" y="5445000"/>
            <a:ext cx="1152360" cy="10591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слов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40"/>
          <p:cNvSpPr/>
          <p:nvPr/>
        </p:nvSpPr>
        <p:spPr>
          <a:xfrm flipH="1" flipV="1">
            <a:off x="2484360" y="1989000"/>
            <a:ext cx="1440000" cy="1152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41"/>
          <p:cNvSpPr/>
          <p:nvPr/>
        </p:nvSpPr>
        <p:spPr>
          <a:xfrm flipV="1">
            <a:off x="3924360" y="1197000"/>
            <a:ext cx="71280" cy="194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42"/>
          <p:cNvSpPr/>
          <p:nvPr/>
        </p:nvSpPr>
        <p:spPr>
          <a:xfrm flipV="1">
            <a:off x="3924360" y="1916280"/>
            <a:ext cx="1942920" cy="1225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44"/>
          <p:cNvSpPr/>
          <p:nvPr/>
        </p:nvSpPr>
        <p:spPr>
          <a:xfrm flipV="1">
            <a:off x="3924360" y="3068280"/>
            <a:ext cx="266364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45"/>
          <p:cNvSpPr/>
          <p:nvPr/>
        </p:nvSpPr>
        <p:spPr>
          <a:xfrm flipH="1" flipV="1">
            <a:off x="1331640" y="3068280"/>
            <a:ext cx="259236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46"/>
          <p:cNvSpPr/>
          <p:nvPr/>
        </p:nvSpPr>
        <p:spPr>
          <a:xfrm flipH="1">
            <a:off x="1763640" y="3716280"/>
            <a:ext cx="2160720" cy="936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47"/>
          <p:cNvSpPr/>
          <p:nvPr/>
        </p:nvSpPr>
        <p:spPr>
          <a:xfrm flipH="1">
            <a:off x="3419640" y="3716280"/>
            <a:ext cx="504720" cy="158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48"/>
          <p:cNvSpPr/>
          <p:nvPr/>
        </p:nvSpPr>
        <p:spPr>
          <a:xfrm>
            <a:off x="3924360" y="3716280"/>
            <a:ext cx="1655640" cy="1657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Line 49"/>
          <p:cNvSpPr/>
          <p:nvPr/>
        </p:nvSpPr>
        <p:spPr>
          <a:xfrm>
            <a:off x="3924360" y="3716280"/>
            <a:ext cx="2519280" cy="7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0"/>
          <p:cNvSpPr/>
          <p:nvPr/>
        </p:nvSpPr>
        <p:spPr>
          <a:xfrm rot="2403600">
            <a:off x="2912400" y="2207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Когда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51"/>
          <p:cNvSpPr/>
          <p:nvPr/>
        </p:nvSpPr>
        <p:spPr>
          <a:xfrm rot="5400000">
            <a:off x="3852720" y="2203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Как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52"/>
          <p:cNvSpPr/>
          <p:nvPr/>
        </p:nvSpPr>
        <p:spPr>
          <a:xfrm rot="19957200">
            <a:off x="4719960" y="249192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Где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5223600" y="2781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Зачем?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54"/>
          <p:cNvSpPr/>
          <p:nvPr/>
        </p:nvSpPr>
        <p:spPr>
          <a:xfrm rot="1183200">
            <a:off x="5150160" y="39337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Вопреки чему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55"/>
          <p:cNvSpPr/>
          <p:nvPr/>
        </p:nvSpPr>
        <p:spPr>
          <a:xfrm rot="2834400">
            <a:off x="4312080" y="448128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При каком условии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2271600" y="27813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58"/>
          <p:cNvSpPr/>
          <p:nvPr/>
        </p:nvSpPr>
        <p:spPr>
          <a:xfrm rot="20266800">
            <a:off x="1981800" y="3933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Что из этого следует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43444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С тех пор она старалась всё делать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так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как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чтобы её хвалил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Нет величия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там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где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де нет места подвига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Не на пользу книги читать,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при каком условии?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ль одни вершки глота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Было уже совсем тепло, 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вопреки чему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хотя кругом лежал рыхлый, тяжёлый сне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Снег становился всё белее и ярче,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что из этого следует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так что ломило глаза, глядя на нег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Он пошёл легко, словно только из милости касался земл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* 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(Почему?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Благодаря тому что лето было жаркое и сухое, понадобилось поливать каждое дерев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11044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м кажется, что он изменился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брежные кусты склоняются над самой водой, точно хотят погладить её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и дня выпускали в поле корову, чтобы она походила на воле и ей стало лучш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 подошёл к обрыву, от которого веяло холодом, и смело заглянул вниз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гда в окнах запылал багровый закатный свет, музыка оборвала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д вечер Беликов оделся потеплее, хотя на дворе погода была тёпла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 пять часов времени мы не проехали и двадцати вёрст, потому что дорога была скверна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Organization Chart 5"/>
          <p:cNvGrpSpPr/>
          <p:nvPr/>
        </p:nvGrpSpPr>
        <p:grpSpPr>
          <a:xfrm>
            <a:off x="0" y="189000"/>
            <a:ext cx="8433720" cy="6333480"/>
            <a:chOff x="0" y="189000"/>
            <a:chExt cx="8433720" cy="6333480"/>
          </a:xfrm>
        </p:grpSpPr>
        <p:cxnSp>
          <p:nvCxnSpPr>
            <p:cNvPr id="207" name="_s3076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059080" y="1879560"/>
              <a:ext cx="1266840" cy="29523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0" name="_s3077"/>
            <p:cNvCxnSpPr>
              <a:stCxn id="211" idx="0"/>
              <a:endCxn id="209" idx="2"/>
            </p:cNvCxnSpPr>
            <p:nvPr/>
          </p:nvCxnSpPr>
          <p:spPr>
            <a:xfrm flipV="1">
              <a:off x="4216680" y="2722320"/>
              <a:ext cx="3960" cy="12668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2" name="_s3078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2107440" y="1879560"/>
              <a:ext cx="1266840" cy="29523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09" name="_s3079"/>
            <p:cNvSpPr/>
            <p:nvPr/>
          </p:nvSpPr>
          <p:spPr>
            <a:xfrm>
              <a:off x="2951640" y="18900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Сложноподчинённые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предложения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с несколькими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eaeaea"/>
                  </a:solidFill>
                  <a:latin typeface="Times New Roman"/>
                </a:rPr>
                <a:t>придаточными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_s3080"/>
            <p:cNvSpPr/>
            <p:nvPr/>
          </p:nvSpPr>
          <p:spPr>
            <a:xfrm>
              <a:off x="0" y="398916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следовательно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дчинени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_s3081"/>
            <p:cNvSpPr/>
            <p:nvPr/>
          </p:nvSpPr>
          <p:spPr>
            <a:xfrm>
              <a:off x="2951640" y="398916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араллельное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дчинени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_s3082"/>
            <p:cNvSpPr/>
            <p:nvPr/>
          </p:nvSpPr>
          <p:spPr>
            <a:xfrm>
              <a:off x="5903640" y="3989160"/>
              <a:ext cx="2530080" cy="2533320"/>
            </a:xfrm>
            <a:custGeom>
              <a:avLst/>
              <a:gdLst>
                <a:gd name="textAreaLeft" fmla="*/ 123480 w 2530080"/>
                <a:gd name="textAreaRight" fmla="*/ 2406600 w 2530080"/>
                <a:gd name="textAreaTop" fmla="*/ 123480 h 2533320"/>
                <a:gd name="textAreaBottom" fmla="*/ 2409840 h 253332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Однородно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Times New Roman"/>
                </a:rPr>
                <a:t>подчинение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cover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8452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следовательное подчине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51032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н продолжал смотреть в небо, вместо того, чтобы идти в гостиную, откуда слышались голос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755640" y="4653000"/>
            <a:ext cx="12240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178000" y="49561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843280" y="4653000"/>
            <a:ext cx="2305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292720" y="4869000"/>
            <a:ext cx="3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867280" y="4653000"/>
            <a:ext cx="259236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061080" y="479736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б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4797360"/>
            <a:ext cx="15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тк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835280" y="364500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4356000" y="3645000"/>
            <a:ext cx="1717920" cy="733320"/>
          </a:xfrm>
          <a:custGeom>
            <a:avLst/>
            <a:gdLst>
              <a:gd name="textAreaLeft" fmla="*/ 300600 w 1717920"/>
              <a:gd name="textAreaRight" fmla="*/ 1245600 w 17179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6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5"/>
          <p:cNvGrpSpPr/>
          <p:nvPr/>
        </p:nvGrpSpPr>
        <p:grpSpPr>
          <a:xfrm>
            <a:off x="142920" y="1643040"/>
            <a:ext cx="8286120" cy="4751280"/>
            <a:chOff x="142920" y="1643040"/>
            <a:chExt cx="8286120" cy="475128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270760" y="2550240"/>
              <a:ext cx="925560" cy="2910240"/>
            </a:xfrm>
            <a:prstGeom prst="bentConnector3">
              <a:avLst>
                <a:gd name="adj1" fmla="val 11828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1"/>
            </p:cNvCxnSpPr>
            <p:nvPr/>
          </p:nvCxnSpPr>
          <p:spPr>
            <a:xfrm flipV="1">
              <a:off x="4278600" y="3542760"/>
              <a:ext cx="3960" cy="950760"/>
            </a:xfrm>
            <a:prstGeom prst="bentConnector2">
              <a:avLst/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0"/>
            </p:cNvCxnSpPr>
            <p:nvPr/>
          </p:nvCxnSpPr>
          <p:spPr>
            <a:xfrm flipH="1" flipV="1" rot="5400000">
              <a:off x="2355840" y="2570400"/>
              <a:ext cx="950760" cy="2895480"/>
            </a:xfrm>
            <a:prstGeom prst="bentConnector3">
              <a:avLst>
                <a:gd name="adj1" fmla="val 11515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038040" y="164304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00763b"/>
                </a:gs>
                <a:gs pos="100000">
                  <a:srgbClr val="cc6600"/>
                </a:gs>
              </a:gsLst>
              <a:lin ang="8100000"/>
            </a:gra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ложно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едлож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142920" y="449388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00763b"/>
                </a:gs>
                <a:gs pos="100000">
                  <a:srgbClr val="ff9900"/>
                </a:gs>
              </a:gsLst>
              <a:lin ang="81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Times New Roman"/>
                </a:rPr>
                <a:t>сложносочинённо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038040" y="449388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00763b"/>
                </a:gs>
                <a:gs pos="100000">
                  <a:srgbClr val="ff9900"/>
                </a:gs>
              </a:gsLst>
              <a:lin ang="81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Times New Roman"/>
                </a:rPr>
                <a:t>сложноподчинённо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5947560" y="4468680"/>
              <a:ext cx="2481480" cy="190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00763b"/>
                </a:gs>
                <a:gs pos="100000">
                  <a:srgbClr val="ff9900"/>
                </a:gs>
              </a:gsLst>
              <a:lin ang="81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Times New Roman"/>
                </a:rPr>
                <a:t>бессоюзно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9" name="WordArt 27"/>
          <p:cNvSpPr txBox="1"/>
          <p:nvPr/>
        </p:nvSpPr>
        <p:spPr>
          <a:xfrm>
            <a:off x="971640" y="620640"/>
            <a:ext cx="74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ожное предложение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6572160" y="185724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6572160" y="2428920"/>
            <a:ext cx="20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360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пятая на стыке двух союзов не ставится , если второе придаточное предложение нельзя изъять без изменения всего сложного предложения ( в этом случае далее следует вторая часть двойного союза  - ТО, ТАК, НО.)</a:t>
            </a:r>
            <a:br>
              <a:rPr sz="24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ержу пари, 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что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если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 передадите это герцогу, ТО он останется здесь ещё на три год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орничная была сирота, КОТОРАЯ, ЧТОБЫ кормиться,____ должна была поступить в услуж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4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араллельное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бы между добром и злом удалось провести черту, то вышло бы, что часть людей эту черту переступил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539640" y="5157720"/>
            <a:ext cx="187164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10000" y="524520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сл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76720" y="5157720"/>
            <a:ext cx="151128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5724360" y="5157720"/>
            <a:ext cx="216072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5797800" y="530064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2609640" y="53164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003640" y="5373720"/>
            <a:ext cx="1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AutoShape 12"/>
          <p:cNvSpPr/>
          <p:nvPr/>
        </p:nvSpPr>
        <p:spPr>
          <a:xfrm rot="5400000">
            <a:off x="2220480" y="3476520"/>
            <a:ext cx="733320" cy="2079720"/>
          </a:xfrm>
          <a:custGeom>
            <a:avLst/>
            <a:gdLst>
              <a:gd name="textAreaLeft" fmla="*/ 98280 w 733320"/>
              <a:gd name="textAreaRight" fmla="*/ 635040 w 733320"/>
              <a:gd name="textAreaTop" fmla="*/ 363960 h 2079720"/>
              <a:gd name="textAreaBottom" fmla="*/ 1508040 h 20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4500720" y="4221000"/>
            <a:ext cx="2087280" cy="73368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056200" y="546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днородное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мню, как ребёнком впервые привезла меня мама на свою Родину, как текли слёзы по её счастливому лицу, как долго молчали мы на пригорке с берёзами и ветер ласкал нас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971640" y="5084640"/>
            <a:ext cx="10080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033280" y="53164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411280" y="5013360"/>
            <a:ext cx="1297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536920" y="53164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852720" y="52293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140360" y="5013360"/>
            <a:ext cx="136836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286520" y="5300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510160" y="52293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5796000" y="5013360"/>
            <a:ext cx="1081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5869080" y="5300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948360" y="53006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7524720" y="5013360"/>
            <a:ext cx="10080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1476360" y="4653000"/>
            <a:ext cx="662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3059280" y="465300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1476360" y="4653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4859280" y="465300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6443640" y="465300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Line 31"/>
          <p:cNvSpPr/>
          <p:nvPr/>
        </p:nvSpPr>
        <p:spPr>
          <a:xfrm>
            <a:off x="8101080" y="465300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4266000" y="42418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Что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Если однородные придаточные предложения прикрепляются к главному одним и тем же союзом, то </a:t>
            </a: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союз этот может опускаться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Шацкий видел, /</a:t>
            </a: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последняя шлюпка вернулась к пароходу/ и /матросы долго, мешая друг другу, подтягивали её на талях/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р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: Шацкий видел, /</a:t>
            </a: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последняя шлюпка вернулась к пароходу/ и /</a:t>
            </a: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как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матросы долго, мешая друг другу, подтягивали её на талях/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Если однородные придаточные связаны одиночным соединительным или разделительным союзом(И, ДА(=И), ИЛИ, ЛИБО) то запятая между придаточными не ставится.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тец мой говорил, что он не видывал таких хлебов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то нынешний год урожай отличны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н решительно заявил, что мы должны немедленно убраться из его дома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ЛИ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он вызовет милиц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повторяющихся сочинительных союзах запятая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между однородными придаточными предложениями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тавится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*Находясь в госпитале, он вспоминал, как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фашисты напали на них внезапно, И КАК они оказались в окружении, И КАК отряду удалось пробиться к свои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*Трудно было понять, был ЛИ то где-нибудь пожар, ИЛИ же собиралась всходить лун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500" autoRev="1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37" dur="500" autoRev="1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38" dur="500" autoRev="1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9"/>
          <p:cNvSpPr txBox="1"/>
          <p:nvPr/>
        </p:nvSpPr>
        <p:spPr>
          <a:xfrm>
            <a:off x="1500120" y="1000080"/>
            <a:ext cx="714384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0"/>
          <p:cNvSpPr txBox="1"/>
          <p:nvPr/>
        </p:nvSpPr>
        <p:spPr>
          <a:xfrm>
            <a:off x="6572160" y="2428920"/>
            <a:ext cx="20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0040" y="1905120"/>
            <a:ext cx="793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усский язык 10-11 классы, Гольцова Н.Г., Шамшин И.В., Мищерина М.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усский язык 10-11 классы, Власенков А.И., Рыбченкова Л.М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Чем отличается сложное предложение от простого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ыло ясно и тихо, и дымились труб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сле грозы всё благоухало и сверкало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619280" y="3716280"/>
            <a:ext cx="180036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292720" y="3716280"/>
            <a:ext cx="17287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64000" y="40924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049640" y="3948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116000" y="393372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1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645080" y="3933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692360" y="5084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4067280" y="5084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186000" y="512460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ожносочинённое предложение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       СС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751280"/>
          </a:xfrm>
          <a:prstGeom prst="rect">
            <a:avLst/>
          </a:prstGeom>
          <a:noFill/>
          <a:ln w="324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асти предложения не зависят друг от друг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единяются сочинительными союзами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и, да, но, а, или, либо, зато, однако, то -то, не то - не то, ни - ни, тоже, также, не только – но и, как – так 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на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о всех корпусах были ярко освещены, и оттого на   громадном дворе казалось очень темн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763640" y="5445000"/>
            <a:ext cx="180036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076720" y="5445000"/>
            <a:ext cx="187344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636720" y="56610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265280" y="56037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77240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 сложносочиненных предложениях, как правило, запятая ставится перед всеми союзами, соединяющими их части, в том числе и перед соединительными и разделительными (в отличие от простого предложения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вёзды уже сверкали остро и холодно,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о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небо на востоке уже стало светлет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солнца мне не виден свет,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для корней моих простора не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злевич открыл глушитель, 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Антилопа» утопила всех в облаке дым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96360" cy="144756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ПЯТАЯ между частями сложносочинённого предложения не ставится, если предложения имеют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93080" cy="4763880"/>
          </a:xfrm>
          <a:prstGeom prst="rect">
            <a:avLst/>
          </a:prstGeom>
          <a:noFill/>
          <a:ln w="9360">
            <a:solidFill>
              <a:srgbClr val="eaeaea"/>
            </a:solidFill>
            <a:prstDash val="dashDot"/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ий второстепенный чле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Вскоре после восхода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набежала туча и брызнул короткий дожд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придаточное предлож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Уже совсем рассвело и народ стал подниматься, (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когда я вернулся в комнату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е вводное слово или предложение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По словам охотников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, зверь в этих лесах вывелся и птица исче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7772400" cy="611964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оба самостоятельных предложения, соединенные сочинительным соединительным или разделительным союзом, содержат вопрос, то запятая между ними не ставится. Cледует помнить, что пара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ли...ил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ил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 в сложосочиненном предложении (в отличие от простого) рассматривается как повторяющийся союз, то есть запятая перед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ставитс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Как собака попала сюда и почему дверь не была закрыт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823160" cy="612144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Если оба самостоятельных предложения, соединенные сочинительным соединительным или разделительным союзом, являются восклицательными (содержат восклицательные частицы), то запятая между ними не ставится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9640" y="4437000"/>
            <a:ext cx="69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Как приятно гулять в саду вечером и как удивительно пахнет жасмин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8452080" cy="42084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Если оба самостоятельных предложения, соединенные сочинительным соединительным или разделительным союзом, содержат побуждение (сказуемые выражены формой повелительного наклонения), то запятая между ними не ставится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691380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Напиши письмо сам или давай напишем вместе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8:15:57Z</dcterms:created>
  <dc:creator>Елена</dc:creator>
  <dc:description/>
  <dc:language>en-US</dc:language>
  <cp:lastModifiedBy>Мастер</cp:lastModifiedBy>
  <dcterms:modified xsi:type="dcterms:W3CDTF">2013-03-23T13:55:25Z</dcterms:modified>
  <cp:revision>14</cp:revision>
  <dc:subject/>
  <dc:title>Сложноподчинённое предлож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