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%D0%BB%D0%BE%D1%81%D1%8F%D1%88.wav" ContentType="audio/x-wav"/>
  <Override PartName="/ppt/media/image5.png" ContentType="image/png"/>
  <Override PartName="/ppt/media/image10.png" ContentType="image/png"/>
  <Override PartName="/ppt/media/taram.wav" ContentType="audio/x-wav"/>
  <Override PartName="/ppt/media/image3.png" ContentType="image/png"/>
  <Override PartName="/ppt/media/laser.wav" ContentType="audio/x-wav"/>
  <Override PartName="/ppt/media/image4.png" ContentType="image/png"/>
  <Override PartName="/ppt/media/%D0%BC%D0%B0%D0%BC%D0%B0.wav" ContentType="audio/x-wav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1AF-A42E-44E7-9C43-E7355C6E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26B-134E-4DDB-A156-4AC00739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079-27E6-4FB4-A780-F7D3B77A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B37-AD6F-45A1-89FC-A1F673B6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782-E332-4FB7-84E5-5679EF61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A4D-FB2A-490C-806A-973E6DD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F93-5FE4-43CD-BB24-AF041EE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876-A659-4A6B-AA3E-EC797476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728-E69A-4DCA-854B-1EBA2B6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87B-E059-447D-85A6-3D6026EE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A34-033E-4B6B-81C3-629C5DF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6E2-9D1C-4E0A-AF28-A3AB834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9C35-D959-4D3C-B3EA-6A9157EEA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audio" Target="../media/&#1083;&#1086;&#1089;&#1103;&#1096;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0.png"/><Relationship Id="rId14" Type="http://schemas.openxmlformats.org/officeDocument/2006/relationships/audio" Target="../media/laser.wav"/><Relationship Id="rId15" Type="http://schemas.openxmlformats.org/officeDocument/2006/relationships/audio" Target="../media/&#1083;&#1086;&#1089;&#1103;&#1096;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taram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&#1084;&#1072;&#1084;&#1072;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taram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&#1084;&#1072;&#1084;&#1072;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laser.wav"/><Relationship Id="rId15" Type="http://schemas.openxmlformats.org/officeDocument/2006/relationships/audio" Target="../media/taram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audio" Target="../media/taram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рок математик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4642920"/>
            <a:ext cx="7201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йцева Инг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714240" y="428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БОУ лицей № 389 «ЦЭ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ировского района 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857160" y="36432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: Делимое. Делитель. Час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1" name="Oval 2"/>
          <p:cNvSpPr/>
          <p:nvPr/>
        </p:nvSpPr>
        <p:spPr>
          <a:xfrm>
            <a:off x="7164360" y="5084640"/>
            <a:ext cx="136836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JA-TSS-01"/>
          <p:cNvPicPr/>
          <p:nvPr/>
        </p:nvPicPr>
        <p:blipFill>
          <a:blip r:embed="rId2"/>
          <a:stretch/>
        </p:blipFill>
        <p:spPr>
          <a:xfrm>
            <a:off x="6969240" y="4292640"/>
            <a:ext cx="2174760" cy="256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faq_char"/>
          <p:cNvPicPr/>
          <p:nvPr/>
        </p:nvPicPr>
        <p:blipFill>
          <a:blip r:embed="rId3"/>
          <a:stretch/>
        </p:blipFill>
        <p:spPr>
          <a:xfrm>
            <a:off x="0" y="4221000"/>
            <a:ext cx="2033640" cy="263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4651_01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2 :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300px-Plastic-Dart"/>
          <p:cNvPicPr/>
          <p:nvPr/>
        </p:nvPicPr>
        <p:blipFill>
          <a:blip r:embed="rId10"/>
          <a:stretch/>
        </p:blipFill>
        <p:spPr>
          <a:xfrm rot="429600">
            <a:off x="6300360" y="5589360"/>
            <a:ext cx="1128960" cy="715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ic_13334_m"/>
          <p:cNvPicPr/>
          <p:nvPr/>
        </p:nvPicPr>
        <p:blipFill>
          <a:blip r:embed="rId11">
            <a:lum bright="6000"/>
          </a:blip>
          <a:stretch/>
        </p:blipFill>
        <p:spPr>
          <a:xfrm rot="9957600">
            <a:off x="538920" y="5660280"/>
            <a:ext cx="1295640" cy="51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4433d5dd_thumb"/>
          <p:cNvPicPr/>
          <p:nvPr/>
        </p:nvPicPr>
        <p:blipFill>
          <a:blip r:embed="rId12"/>
          <a:stretch/>
        </p:blipFill>
        <p:spPr>
          <a:xfrm rot="7201200">
            <a:off x="7950240" y="5450400"/>
            <a:ext cx="600120" cy="116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ZS-SA-004"/>
          <p:cNvPicPr/>
          <p:nvPr/>
        </p:nvPicPr>
        <p:blipFill>
          <a:blip r:embed="rId13"/>
          <a:srcRect l="0" t="47260" r="0" b="30518"/>
          <a:stretch/>
        </p:blipFill>
        <p:spPr>
          <a:xfrm rot="8278800">
            <a:off x="1691640" y="5444640"/>
            <a:ext cx="1152360" cy="31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0.23611 -0.62107 E">
                                      <p:cBhvr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0%BB%D0%BE%D1%81%D1%8F%D1%8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74028 -0.76203 E">
                                      <p:cBhvr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7 L -0.3059 -0.0206 E">
                                      <p:cBhvr>
                                        <p:cTn id="98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41806 -0.3169 E">
                                      <p:cBhvr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6" name="Oval 2"/>
          <p:cNvSpPr/>
          <p:nvPr/>
        </p:nvSpPr>
        <p:spPr>
          <a:xfrm>
            <a:off x="7164360" y="5084640"/>
            <a:ext cx="1368360" cy="7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A-TSS-01"/>
          <p:cNvPicPr/>
          <p:nvPr/>
        </p:nvPicPr>
        <p:blipFill>
          <a:blip r:embed="rId2"/>
          <a:stretch/>
        </p:blipFill>
        <p:spPr>
          <a:xfrm>
            <a:off x="6969240" y="4292640"/>
            <a:ext cx="217476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faq_char"/>
          <p:cNvPicPr/>
          <p:nvPr/>
        </p:nvPicPr>
        <p:blipFill>
          <a:blip r:embed="rId3"/>
          <a:stretch/>
        </p:blipFill>
        <p:spPr>
          <a:xfrm>
            <a:off x="0" y="4221000"/>
            <a:ext cx="2033640" cy="2637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651_01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8 :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30000"/>
              <a:gd name="adj2" fmla="val 4081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300px-Plastic-Dart"/>
          <p:cNvPicPr/>
          <p:nvPr/>
        </p:nvPicPr>
        <p:blipFill>
          <a:blip r:embed="rId10"/>
          <a:stretch/>
        </p:blipFill>
        <p:spPr>
          <a:xfrm rot="429600">
            <a:off x="6300360" y="5589360"/>
            <a:ext cx="1128960" cy="71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pic_13334_m"/>
          <p:cNvPicPr/>
          <p:nvPr/>
        </p:nvPicPr>
        <p:blipFill>
          <a:blip r:embed="rId11">
            <a:lum bright="6000"/>
          </a:blip>
          <a:stretch/>
        </p:blipFill>
        <p:spPr>
          <a:xfrm rot="9957600">
            <a:off x="538920" y="5660280"/>
            <a:ext cx="1295640" cy="515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4433d5dd_thumb"/>
          <p:cNvPicPr/>
          <p:nvPr/>
        </p:nvPicPr>
        <p:blipFill>
          <a:blip r:embed="rId12"/>
          <a:stretch/>
        </p:blipFill>
        <p:spPr>
          <a:xfrm rot="7201200">
            <a:off x="7950240" y="5450400"/>
            <a:ext cx="600120" cy="116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ZS-SA-004"/>
          <p:cNvPicPr/>
          <p:nvPr/>
        </p:nvPicPr>
        <p:blipFill>
          <a:blip r:embed="rId13"/>
          <a:srcRect l="0" t="47260" r="0" b="30518"/>
          <a:stretch/>
        </p:blipFill>
        <p:spPr>
          <a:xfrm rot="8278800">
            <a:off x="1691640" y="5444640"/>
            <a:ext cx="1152360" cy="31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33333E-006 L 0.37795 -0.75764 E">
                                      <p:cBhvr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D0%BB%D0%BE%D1%81%D1%8F%D1%88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21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22" dur="25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9844 -0.38402 E">
                                      <p:cBhvr>
                                        <p:cTn id="124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76459 -0.48495 E">
                                      <p:cBhvr>
                                        <p:cTn id="142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60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-3.7037E-007 L 0.44114 -0.65255 E">
                                      <p:cBhvr>
                                        <p:cTn id="148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46476 -0.28889 E">
                                      <p:cBhvr>
                                        <p:cTn id="16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27639 -0.28519 E">
                                      <p:cBhvr>
                                        <p:cTn id="178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76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0711 -0.68403 E">
                                      <p:cBhvr>
                                        <p:cTn id="184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26007 -0.21528 E">
                                      <p:cBhvr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BC%D0%B0%D0%BC%D0%B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4948 -0.325 E">
                                      <p:cBhvr>
                                        <p:cTn id="20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61493 -0.29584 E">
                                      <p:cBhvr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92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20486 -0.54329 E">
                                      <p:cBhvr>
                                        <p:cTn id="218" dur="1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0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22" dur="250" autoRev="1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66163 -0.35185 E">
                                      <p:cBhvr>
                                        <p:cTn id="230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66233 -0.37986 E">
                                      <p:cBhvr>
                                        <p:cTn id="248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28347"/>
              <a:gd name="adj2" fmla="val 4081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208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0711 -0.68403 E">
                                      <p:cBhvr>
                                        <p:cTn id="254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26007 -0.21528 E">
                                      <p:cBhvr>
                                        <p:cTn id="265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0%BC%D0%B0%D0%BC%D0%B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0" dur="25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272" dur="250" autoRev="1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4948 -0.325 E">
                                      <p:cBhvr>
                                        <p:cTn id="274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61493 -0.29584 E">
                                      <p:cBhvr>
                                        <p:cTn id="282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Юля\Рабочий стол\67886745__211721.gif"/>
          <p:cNvPicPr/>
          <p:nvPr/>
        </p:nvPicPr>
        <p:blipFill>
          <a:blip r:embed="rId2"/>
          <a:stretch/>
        </p:blipFill>
        <p:spPr>
          <a:xfrm>
            <a:off x="1482840" y="857160"/>
            <a:ext cx="5946840" cy="495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14720" y="2071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омпон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стях у мультяш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1428840" y="1868400"/>
            <a:ext cx="7143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Компонент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это составная часть чего-либ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3"/>
          <p:cNvSpPr/>
          <p:nvPr/>
        </p:nvSpPr>
        <p:spPr>
          <a:xfrm>
            <a:off x="8072280" y="628668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1276920" y="414000"/>
            <a:ext cx="6555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Число, которое деля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Calibri"/>
              </a:rPr>
              <a:t>называе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делим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590920" y="32148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2721600">
            <a:off x="2674080" y="4540680"/>
            <a:ext cx="485640" cy="893520"/>
          </a:xfrm>
          <a:prstGeom prst="downArrow">
            <a:avLst>
              <a:gd name="adj1" fmla="val 50000"/>
              <a:gd name="adj2" fmla="val 4599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00120" y="564372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6"/>
          <p:cNvSpPr/>
          <p:nvPr/>
        </p:nvSpPr>
        <p:spPr>
          <a:xfrm>
            <a:off x="7858080" y="6143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790920" y="369360"/>
            <a:ext cx="799884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Число, на которое деля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назыв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делител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590920" y="32148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4500720" y="4500720"/>
            <a:ext cx="485640" cy="861840"/>
          </a:xfrm>
          <a:prstGeom prst="downArrow">
            <a:avLst>
              <a:gd name="adj1" fmla="val 50000"/>
              <a:gd name="adj2" fmla="val 44366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2721600">
            <a:off x="2602080" y="4469760"/>
            <a:ext cx="486000" cy="893880"/>
          </a:xfrm>
          <a:prstGeom prst="downArrow">
            <a:avLst>
              <a:gd name="adj1" fmla="val 50000"/>
              <a:gd name="adj2" fmla="val 45981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000080" y="542916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3786120" y="57862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8"/>
          <p:cNvSpPr/>
          <p:nvPr/>
        </p:nvSpPr>
        <p:spPr>
          <a:xfrm>
            <a:off x="7858080" y="614376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15480"/>
            <a:ext cx="9144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Число, которое получается в результате деления, называ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частн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590920" y="34290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4500720" y="4643280"/>
            <a:ext cx="485640" cy="862200"/>
          </a:xfrm>
          <a:prstGeom prst="downArrow">
            <a:avLst>
              <a:gd name="adj1" fmla="val 50000"/>
              <a:gd name="adj2" fmla="val 4438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 rot="2721600">
            <a:off x="2602440" y="4611960"/>
            <a:ext cx="485640" cy="893880"/>
          </a:xfrm>
          <a:prstGeom prst="downArrow">
            <a:avLst>
              <a:gd name="adj1" fmla="val 50000"/>
              <a:gd name="adj2" fmla="val 46016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 rot="18733800">
            <a:off x="6507720" y="4618800"/>
            <a:ext cx="486000" cy="814320"/>
          </a:xfrm>
          <a:prstGeom prst="downArrow">
            <a:avLst>
              <a:gd name="adj1" fmla="val 50000"/>
              <a:gd name="adj2" fmla="val 41889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100008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3786120" y="592920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642924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10"/>
          <p:cNvSpPr/>
          <p:nvPr/>
        </p:nvSpPr>
        <p:spPr>
          <a:xfrm>
            <a:off x="8072280" y="642924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42960" y="226800"/>
            <a:ext cx="78580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Сам пример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  <a:ea typeface="Calibri"/>
              </a:rPr>
              <a:t>10: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Calibri"/>
              </a:rPr>
              <a:t>также наз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Calibri"/>
              </a:rPr>
              <a:t>частны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590920" y="3429000"/>
            <a:ext cx="39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 : 2 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4500720" y="4643280"/>
            <a:ext cx="485640" cy="862200"/>
          </a:xfrm>
          <a:prstGeom prst="downArrow">
            <a:avLst>
              <a:gd name="adj1" fmla="val 50000"/>
              <a:gd name="adj2" fmla="val 4438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2721600">
            <a:off x="2602440" y="4611960"/>
            <a:ext cx="485640" cy="893880"/>
          </a:xfrm>
          <a:prstGeom prst="downArrow">
            <a:avLst>
              <a:gd name="adj1" fmla="val 50000"/>
              <a:gd name="adj2" fmla="val 46016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8733800">
            <a:off x="6507720" y="4618800"/>
            <a:ext cx="486000" cy="814320"/>
          </a:xfrm>
          <a:prstGeom prst="downArrow">
            <a:avLst>
              <a:gd name="adj1" fmla="val 50000"/>
              <a:gd name="adj2" fmla="val 41889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100008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786120" y="592920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6429240" y="5572080"/>
            <a:ext cx="2357640" cy="64296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ас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авая фигурная скобка 6"/>
          <p:cNvSpPr/>
          <p:nvPr/>
        </p:nvSpPr>
        <p:spPr>
          <a:xfrm rot="16200000">
            <a:off x="3682080" y="2390040"/>
            <a:ext cx="208080" cy="2000160"/>
          </a:xfrm>
          <a:custGeom>
            <a:avLst/>
            <a:gdLst>
              <a:gd name="textAreaLeft" fmla="*/ 0 w 208080"/>
              <a:gd name="textAreaRight" fmla="*/ 75240 w 208080"/>
              <a:gd name="textAreaTop" fmla="*/ 23400 h 2000160"/>
              <a:gd name="textAreaBottom" fmla="*/ 19767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5"/>
                  <a:pt x="10800" y="809"/>
                </a:cubicBezTo>
                <a:lnTo>
                  <a:pt x="10800" y="9991"/>
                </a:lnTo>
                <a:cubicBezTo>
                  <a:pt x="10800" y="10396"/>
                  <a:pt x="16200" y="10800"/>
                  <a:pt x="21600" y="10800"/>
                </a:cubicBezTo>
                <a:cubicBezTo>
                  <a:pt x="16200" y="10800"/>
                  <a:pt x="10800" y="11205"/>
                  <a:pt x="10800" y="11609"/>
                </a:cubicBezTo>
                <a:lnTo>
                  <a:pt x="10800" y="20791"/>
                </a:lnTo>
                <a:cubicBezTo>
                  <a:pt x="10800" y="21196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63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12"/>
          <p:cNvSpPr/>
          <p:nvPr/>
        </p:nvSpPr>
        <p:spPr>
          <a:xfrm>
            <a:off x="8143920" y="6429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98" name="Oval 11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4433d5dd_thumb"/>
          <p:cNvPicPr/>
          <p:nvPr/>
        </p:nvPicPr>
        <p:blipFill>
          <a:blip r:embed="rId13"/>
          <a:stretch/>
        </p:blipFill>
        <p:spPr>
          <a:xfrm rot="7201200">
            <a:off x="7015320" y="5306040"/>
            <a:ext cx="600120" cy="1166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66145 -0.65255 E">
                                      <p:cBhvr>
                                        <p:cTn id="6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0.46476 -0.28889 E">
                                      <p:cBhvr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59931 -0.61088 E">
                                      <p:cBhvr>
                                        <p:cTn id="36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D:\Презентации\abstract-pastel-color-wallpapers-backgrounds-for-powerpo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4651_01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619280" y="404640"/>
            <a:ext cx="5881680" cy="5904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4140360" y="62064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3492360" y="2276640"/>
            <a:ext cx="2159280" cy="2160360"/>
          </a:xfrm>
          <a:prstGeom prst="wedgeEllipseCallout">
            <a:avLst>
              <a:gd name="adj1" fmla="val 1615"/>
              <a:gd name="adj2" fmla="val -31703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564000" y="2852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4356000" y="5229360"/>
            <a:ext cx="86544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6443640" y="2781360"/>
            <a:ext cx="865080" cy="863640"/>
          </a:xfrm>
          <a:prstGeom prst="wedgeEllipseCallout">
            <a:avLst>
              <a:gd name="adj1" fmla="val -19541"/>
              <a:gd name="adj2" fmla="val 10662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1835280" y="2781360"/>
            <a:ext cx="865080" cy="863640"/>
          </a:xfrm>
          <a:prstGeom prst="wedgeEllipseCallout">
            <a:avLst>
              <a:gd name="adj1" fmla="val -19541"/>
              <a:gd name="adj2" fmla="val 27203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4"/>
          <p:cNvSpPr/>
          <p:nvPr/>
        </p:nvSpPr>
        <p:spPr>
          <a:xfrm>
            <a:off x="1476360" y="4797360"/>
            <a:ext cx="216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1171d83264188fd73f859d4a6f0bbf4a"/>
          <p:cNvPicPr/>
          <p:nvPr/>
        </p:nvPicPr>
        <p:blipFill>
          <a:blip r:embed="rId8"/>
          <a:srcRect l="0" t="30199" r="46779" b="0"/>
          <a:stretch/>
        </p:blipFill>
        <p:spPr>
          <a:xfrm>
            <a:off x="0" y="4065480"/>
            <a:ext cx="2382840" cy="2792520"/>
          </a:xfrm>
          <a:prstGeom prst="rect">
            <a:avLst/>
          </a:prstGeom>
          <a:ln w="0">
            <a:noFill/>
          </a:ln>
        </p:spPr>
      </p:pic>
      <p:sp>
        <p:nvSpPr>
          <p:cNvPr id="114" name="Oval 25"/>
          <p:cNvSpPr/>
          <p:nvPr/>
        </p:nvSpPr>
        <p:spPr>
          <a:xfrm>
            <a:off x="7596360" y="5084640"/>
            <a:ext cx="215640" cy="28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1171d83264188fd73f859d4a6f0bbf4a"/>
          <p:cNvPicPr/>
          <p:nvPr/>
        </p:nvPicPr>
        <p:blipFill>
          <a:blip r:embed="rId9"/>
          <a:srcRect l="69296" t="37389" r="0" b="0"/>
          <a:stretch/>
        </p:blipFill>
        <p:spPr>
          <a:xfrm>
            <a:off x="7236000" y="4352760"/>
            <a:ext cx="1374480" cy="2505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ZS-SA-004"/>
          <p:cNvPicPr/>
          <p:nvPr/>
        </p:nvPicPr>
        <p:blipFill>
          <a:blip r:embed="rId10"/>
          <a:srcRect l="0" t="47260" r="0" b="30518"/>
          <a:stretch/>
        </p:blipFill>
        <p:spPr>
          <a:xfrm rot="8278800">
            <a:off x="1834560" y="5084280"/>
            <a:ext cx="1152360" cy="312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300px-Plastic-Dart"/>
          <p:cNvPicPr/>
          <p:nvPr/>
        </p:nvPicPr>
        <p:blipFill>
          <a:blip r:embed="rId11"/>
          <a:stretch/>
        </p:blipFill>
        <p:spPr>
          <a:xfrm rot="429600">
            <a:off x="6516360" y="5229000"/>
            <a:ext cx="1128600" cy="71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pic_13334_m"/>
          <p:cNvPicPr/>
          <p:nvPr/>
        </p:nvPicPr>
        <p:blipFill>
          <a:blip r:embed="rId12">
            <a:lum bright="6000"/>
          </a:blip>
          <a:stretch/>
        </p:blipFill>
        <p:spPr>
          <a:xfrm rot="8955000">
            <a:off x="1761840" y="5152680"/>
            <a:ext cx="1295280" cy="51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4433d5dd_thumb"/>
          <p:cNvPicPr/>
          <p:nvPr/>
        </p:nvPicPr>
        <p:blipFill>
          <a:blip r:embed="rId13"/>
          <a:stretch/>
        </p:blipFill>
        <p:spPr>
          <a:xfrm rot="7201200">
            <a:off x="6712200" y="4897800"/>
            <a:ext cx="600120" cy="116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20486 -0.54329 E">
                                      <p:cBhvr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aram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animMotion origin="layout" path="M -1.66667E-006 1.11111E-006 L 0.39393 -0.20486 E">
                                      <p:cBhvr>
                                        <p:cTn id="5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4 0.02963 L -0.21337 -0.1382 E">
                                      <p:cBhvr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16:20Z</dcterms:created>
  <dc:creator>Zamikt</dc:creator>
  <dc:description/>
  <dc:language>en-US</dc:language>
  <cp:lastModifiedBy>Zamikt</cp:lastModifiedBy>
  <dcterms:modified xsi:type="dcterms:W3CDTF">2012-05-23T13:04:36Z</dcterms:modified>
  <cp:revision>15</cp:revision>
  <dc:subject/>
  <dc:title>Урок математики 2 класс</dc:title>
</cp:coreProperties>
</file>